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518-E065-4FD1-8F2F-0E92DEC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472-D584-4BBC-B856-45A621C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CA2-5E91-47F4-ABF6-52D725E0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367-0916-4E8B-8FF1-895BFFB4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7AC-66CC-4B45-9C02-E346D75D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A999-43F8-492B-B764-08CB060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BBD-98DB-4B40-A97C-ECF5B3C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D8DD-80F0-4458-8763-FB33850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241D-D95B-4BA1-BA3C-5019D110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3545-B6A9-46FC-850E-BB0B38B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3FD-D751-4659-A10F-02D829C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EB1-0222-4A8F-AB42-8A9643E7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4F23-4FD0-4E65-9371-C9820C9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1A82-0364-4AD7-B45F-855E1B6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4A5D-F456-450F-9E56-C8A73AC3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3B10-01AC-47E8-A62A-4FC99224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460-2EB8-418D-A1FE-F2EF433B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F15-C3B9-4564-A8DE-9008180A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927-6F36-44ED-9743-CAC62998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69D-2954-4A0F-9FC4-82D6873C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879-9344-4F3A-9A2A-D3A46CF6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D64-39AB-4235-8775-3AF1DFA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B0A-371E-4AD8-9C27-FBEAEA2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D8F-DB85-47F8-B608-B953805F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2D3-1230-46EC-853D-79436ED29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C3BB-FD5D-45F5-B6DF-6F78609FC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PF IN WEST INCLUDING THE FRONT RANGE OF THE ROCK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DIFFER BY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MMER….SCALE OF THE EVENTS IS VERY SM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IS TIED TO THE MEAN RH AND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VORTS IN WATER VAPOR IMA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MOISTURE SURGES ON SSMI AND GOES PW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WINTER, FORCING AND AREAS OF HEAVY RAIN ARE MUCH MORE DEPENDENT ON OROGRAPH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848120" y="1851120"/>
            <a:ext cx="4148280" cy="43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0520" y="1860480"/>
            <a:ext cx="407484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A 500H AND VORTICITY FORECASTS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E THE TILT OF THE UPPER RIDGE AXIS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611280" y="1922400"/>
            <a:ext cx="3940200" cy="42055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4869000" y="1905120"/>
            <a:ext cx="4092480" cy="42210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04800" y="2135160"/>
            <a:ext cx="1397160" cy="1157400"/>
          </a:xfrm>
          <a:custGeom>
            <a:avLst/>
            <a:gdLst/>
            <a:ahLst/>
            <a:rect l="l" t="t" r="r" b="b"/>
            <a:pathLst>
              <a:path w="880" h="729">
                <a:moveTo>
                  <a:pt x="879" y="0"/>
                </a:moveTo>
                <a:lnTo>
                  <a:pt x="856" y="0"/>
                </a:lnTo>
                <a:lnTo>
                  <a:pt x="839" y="0"/>
                </a:lnTo>
                <a:lnTo>
                  <a:pt x="822" y="0"/>
                </a:lnTo>
                <a:lnTo>
                  <a:pt x="804" y="0"/>
                </a:lnTo>
                <a:lnTo>
                  <a:pt x="787" y="5"/>
                </a:lnTo>
                <a:lnTo>
                  <a:pt x="770" y="17"/>
                </a:lnTo>
                <a:lnTo>
                  <a:pt x="752" y="34"/>
                </a:lnTo>
                <a:lnTo>
                  <a:pt x="735" y="40"/>
                </a:lnTo>
                <a:lnTo>
                  <a:pt x="717" y="52"/>
                </a:lnTo>
                <a:lnTo>
                  <a:pt x="700" y="63"/>
                </a:lnTo>
                <a:lnTo>
                  <a:pt x="683" y="81"/>
                </a:lnTo>
                <a:lnTo>
                  <a:pt x="671" y="98"/>
                </a:lnTo>
                <a:lnTo>
                  <a:pt x="654" y="110"/>
                </a:lnTo>
                <a:lnTo>
                  <a:pt x="637" y="121"/>
                </a:lnTo>
                <a:lnTo>
                  <a:pt x="619" y="138"/>
                </a:lnTo>
                <a:lnTo>
                  <a:pt x="608" y="156"/>
                </a:lnTo>
                <a:lnTo>
                  <a:pt x="596" y="173"/>
                </a:lnTo>
                <a:lnTo>
                  <a:pt x="579" y="190"/>
                </a:lnTo>
                <a:lnTo>
                  <a:pt x="567" y="208"/>
                </a:lnTo>
                <a:lnTo>
                  <a:pt x="561" y="225"/>
                </a:lnTo>
                <a:lnTo>
                  <a:pt x="544" y="237"/>
                </a:lnTo>
                <a:lnTo>
                  <a:pt x="527" y="254"/>
                </a:lnTo>
                <a:lnTo>
                  <a:pt x="515" y="271"/>
                </a:lnTo>
                <a:lnTo>
                  <a:pt x="498" y="283"/>
                </a:lnTo>
                <a:lnTo>
                  <a:pt x="475" y="306"/>
                </a:lnTo>
                <a:lnTo>
                  <a:pt x="463" y="323"/>
                </a:lnTo>
                <a:lnTo>
                  <a:pt x="446" y="347"/>
                </a:lnTo>
                <a:lnTo>
                  <a:pt x="434" y="364"/>
                </a:lnTo>
                <a:lnTo>
                  <a:pt x="423" y="381"/>
                </a:lnTo>
                <a:lnTo>
                  <a:pt x="405" y="399"/>
                </a:lnTo>
                <a:lnTo>
                  <a:pt x="388" y="416"/>
                </a:lnTo>
                <a:lnTo>
                  <a:pt x="376" y="433"/>
                </a:lnTo>
                <a:lnTo>
                  <a:pt x="365" y="451"/>
                </a:lnTo>
                <a:lnTo>
                  <a:pt x="353" y="468"/>
                </a:lnTo>
                <a:lnTo>
                  <a:pt x="336" y="480"/>
                </a:lnTo>
                <a:lnTo>
                  <a:pt x="318" y="491"/>
                </a:lnTo>
                <a:lnTo>
                  <a:pt x="301" y="503"/>
                </a:lnTo>
                <a:lnTo>
                  <a:pt x="284" y="514"/>
                </a:lnTo>
                <a:lnTo>
                  <a:pt x="266" y="532"/>
                </a:lnTo>
                <a:lnTo>
                  <a:pt x="249" y="549"/>
                </a:lnTo>
                <a:lnTo>
                  <a:pt x="232" y="561"/>
                </a:lnTo>
                <a:lnTo>
                  <a:pt x="214" y="572"/>
                </a:lnTo>
                <a:lnTo>
                  <a:pt x="197" y="589"/>
                </a:lnTo>
                <a:lnTo>
                  <a:pt x="180" y="601"/>
                </a:lnTo>
                <a:lnTo>
                  <a:pt x="168" y="618"/>
                </a:lnTo>
                <a:lnTo>
                  <a:pt x="151" y="630"/>
                </a:lnTo>
                <a:lnTo>
                  <a:pt x="133" y="642"/>
                </a:lnTo>
                <a:lnTo>
                  <a:pt x="122" y="659"/>
                </a:lnTo>
                <a:lnTo>
                  <a:pt x="104" y="665"/>
                </a:lnTo>
                <a:lnTo>
                  <a:pt x="87" y="682"/>
                </a:lnTo>
                <a:lnTo>
                  <a:pt x="70" y="688"/>
                </a:lnTo>
                <a:lnTo>
                  <a:pt x="52" y="699"/>
                </a:lnTo>
                <a:lnTo>
                  <a:pt x="35" y="705"/>
                </a:lnTo>
                <a:lnTo>
                  <a:pt x="18" y="711"/>
                </a:lnTo>
                <a:lnTo>
                  <a:pt x="6" y="728"/>
                </a:lnTo>
                <a:lnTo>
                  <a:pt x="0" y="728"/>
                </a:lnTo>
                <a:lnTo>
                  <a:pt x="0" y="72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28960" y="2135160"/>
            <a:ext cx="2535120" cy="1193760"/>
          </a:xfrm>
          <a:custGeom>
            <a:avLst/>
            <a:gdLst/>
            <a:ahLst/>
            <a:rect l="l" t="t" r="r" b="b"/>
            <a:pathLst>
              <a:path w="1597" h="752">
                <a:moveTo>
                  <a:pt x="0" y="0"/>
                </a:moveTo>
                <a:lnTo>
                  <a:pt x="23" y="0"/>
                </a:lnTo>
                <a:lnTo>
                  <a:pt x="40" y="0"/>
                </a:lnTo>
                <a:lnTo>
                  <a:pt x="58" y="5"/>
                </a:lnTo>
                <a:lnTo>
                  <a:pt x="75" y="11"/>
                </a:lnTo>
                <a:lnTo>
                  <a:pt x="92" y="23"/>
                </a:lnTo>
                <a:lnTo>
                  <a:pt x="110" y="34"/>
                </a:lnTo>
                <a:lnTo>
                  <a:pt x="127" y="46"/>
                </a:lnTo>
                <a:lnTo>
                  <a:pt x="168" y="52"/>
                </a:lnTo>
                <a:lnTo>
                  <a:pt x="185" y="57"/>
                </a:lnTo>
                <a:lnTo>
                  <a:pt x="208" y="75"/>
                </a:lnTo>
                <a:lnTo>
                  <a:pt x="225" y="86"/>
                </a:lnTo>
                <a:lnTo>
                  <a:pt x="237" y="104"/>
                </a:lnTo>
                <a:lnTo>
                  <a:pt x="260" y="121"/>
                </a:lnTo>
                <a:lnTo>
                  <a:pt x="277" y="138"/>
                </a:lnTo>
                <a:lnTo>
                  <a:pt x="324" y="156"/>
                </a:lnTo>
                <a:lnTo>
                  <a:pt x="393" y="202"/>
                </a:lnTo>
                <a:lnTo>
                  <a:pt x="399" y="219"/>
                </a:lnTo>
                <a:lnTo>
                  <a:pt x="416" y="225"/>
                </a:lnTo>
                <a:lnTo>
                  <a:pt x="434" y="237"/>
                </a:lnTo>
                <a:lnTo>
                  <a:pt x="451" y="254"/>
                </a:lnTo>
                <a:lnTo>
                  <a:pt x="468" y="260"/>
                </a:lnTo>
                <a:lnTo>
                  <a:pt x="486" y="260"/>
                </a:lnTo>
                <a:lnTo>
                  <a:pt x="503" y="271"/>
                </a:lnTo>
                <a:lnTo>
                  <a:pt x="526" y="277"/>
                </a:lnTo>
                <a:lnTo>
                  <a:pt x="544" y="283"/>
                </a:lnTo>
                <a:lnTo>
                  <a:pt x="561" y="300"/>
                </a:lnTo>
                <a:lnTo>
                  <a:pt x="578" y="312"/>
                </a:lnTo>
                <a:lnTo>
                  <a:pt x="601" y="323"/>
                </a:lnTo>
                <a:lnTo>
                  <a:pt x="619" y="335"/>
                </a:lnTo>
                <a:lnTo>
                  <a:pt x="665" y="352"/>
                </a:lnTo>
                <a:lnTo>
                  <a:pt x="682" y="358"/>
                </a:lnTo>
                <a:lnTo>
                  <a:pt x="723" y="370"/>
                </a:lnTo>
                <a:lnTo>
                  <a:pt x="740" y="381"/>
                </a:lnTo>
                <a:lnTo>
                  <a:pt x="758" y="393"/>
                </a:lnTo>
                <a:lnTo>
                  <a:pt x="781" y="404"/>
                </a:lnTo>
                <a:lnTo>
                  <a:pt x="798" y="422"/>
                </a:lnTo>
                <a:lnTo>
                  <a:pt x="815" y="433"/>
                </a:lnTo>
                <a:lnTo>
                  <a:pt x="833" y="445"/>
                </a:lnTo>
                <a:lnTo>
                  <a:pt x="885" y="468"/>
                </a:lnTo>
                <a:lnTo>
                  <a:pt x="919" y="480"/>
                </a:lnTo>
                <a:lnTo>
                  <a:pt x="989" y="526"/>
                </a:lnTo>
                <a:lnTo>
                  <a:pt x="1006" y="537"/>
                </a:lnTo>
                <a:lnTo>
                  <a:pt x="1024" y="549"/>
                </a:lnTo>
                <a:lnTo>
                  <a:pt x="1047" y="566"/>
                </a:lnTo>
                <a:lnTo>
                  <a:pt x="1064" y="578"/>
                </a:lnTo>
                <a:lnTo>
                  <a:pt x="1087" y="584"/>
                </a:lnTo>
                <a:lnTo>
                  <a:pt x="1105" y="595"/>
                </a:lnTo>
                <a:lnTo>
                  <a:pt x="1151" y="601"/>
                </a:lnTo>
                <a:lnTo>
                  <a:pt x="1168" y="607"/>
                </a:lnTo>
                <a:lnTo>
                  <a:pt x="1203" y="613"/>
                </a:lnTo>
                <a:lnTo>
                  <a:pt x="1220" y="618"/>
                </a:lnTo>
                <a:lnTo>
                  <a:pt x="1238" y="630"/>
                </a:lnTo>
                <a:lnTo>
                  <a:pt x="1284" y="653"/>
                </a:lnTo>
                <a:lnTo>
                  <a:pt x="1319" y="653"/>
                </a:lnTo>
                <a:lnTo>
                  <a:pt x="1336" y="665"/>
                </a:lnTo>
                <a:lnTo>
                  <a:pt x="1376" y="682"/>
                </a:lnTo>
                <a:lnTo>
                  <a:pt x="1411" y="694"/>
                </a:lnTo>
                <a:lnTo>
                  <a:pt x="1434" y="699"/>
                </a:lnTo>
                <a:lnTo>
                  <a:pt x="1452" y="705"/>
                </a:lnTo>
                <a:lnTo>
                  <a:pt x="1469" y="717"/>
                </a:lnTo>
                <a:lnTo>
                  <a:pt x="1486" y="722"/>
                </a:lnTo>
                <a:lnTo>
                  <a:pt x="1533" y="728"/>
                </a:lnTo>
                <a:lnTo>
                  <a:pt x="1550" y="740"/>
                </a:lnTo>
                <a:lnTo>
                  <a:pt x="1567" y="740"/>
                </a:lnTo>
                <a:lnTo>
                  <a:pt x="1590" y="740"/>
                </a:lnTo>
                <a:lnTo>
                  <a:pt x="1596" y="746"/>
                </a:lnTo>
                <a:lnTo>
                  <a:pt x="1596" y="75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91080" y="1905120"/>
            <a:ext cx="863280" cy="1076040"/>
          </a:xfrm>
          <a:custGeom>
            <a:avLst/>
            <a:gdLst/>
            <a:ahLst/>
            <a:rect l="l" t="t" r="r" b="b"/>
            <a:pathLst>
              <a:path w="544" h="678">
                <a:moveTo>
                  <a:pt x="6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0" y="127"/>
                </a:lnTo>
                <a:lnTo>
                  <a:pt x="0" y="145"/>
                </a:lnTo>
                <a:lnTo>
                  <a:pt x="6" y="162"/>
                </a:lnTo>
                <a:lnTo>
                  <a:pt x="6" y="179"/>
                </a:lnTo>
                <a:lnTo>
                  <a:pt x="11" y="197"/>
                </a:lnTo>
                <a:lnTo>
                  <a:pt x="17" y="214"/>
                </a:lnTo>
                <a:lnTo>
                  <a:pt x="23" y="231"/>
                </a:lnTo>
                <a:lnTo>
                  <a:pt x="29" y="249"/>
                </a:lnTo>
                <a:lnTo>
                  <a:pt x="34" y="266"/>
                </a:lnTo>
                <a:lnTo>
                  <a:pt x="40" y="283"/>
                </a:lnTo>
                <a:lnTo>
                  <a:pt x="46" y="301"/>
                </a:lnTo>
                <a:lnTo>
                  <a:pt x="52" y="318"/>
                </a:lnTo>
                <a:lnTo>
                  <a:pt x="63" y="335"/>
                </a:lnTo>
                <a:lnTo>
                  <a:pt x="69" y="353"/>
                </a:lnTo>
                <a:lnTo>
                  <a:pt x="81" y="370"/>
                </a:lnTo>
                <a:lnTo>
                  <a:pt x="86" y="388"/>
                </a:lnTo>
                <a:lnTo>
                  <a:pt x="98" y="405"/>
                </a:lnTo>
                <a:lnTo>
                  <a:pt x="110" y="422"/>
                </a:lnTo>
                <a:lnTo>
                  <a:pt x="121" y="440"/>
                </a:lnTo>
                <a:lnTo>
                  <a:pt x="127" y="457"/>
                </a:lnTo>
                <a:lnTo>
                  <a:pt x="144" y="474"/>
                </a:lnTo>
                <a:lnTo>
                  <a:pt x="162" y="486"/>
                </a:lnTo>
                <a:lnTo>
                  <a:pt x="179" y="503"/>
                </a:lnTo>
                <a:lnTo>
                  <a:pt x="196" y="515"/>
                </a:lnTo>
                <a:lnTo>
                  <a:pt x="214" y="532"/>
                </a:lnTo>
                <a:lnTo>
                  <a:pt x="231" y="549"/>
                </a:lnTo>
                <a:lnTo>
                  <a:pt x="243" y="567"/>
                </a:lnTo>
                <a:lnTo>
                  <a:pt x="260" y="578"/>
                </a:lnTo>
                <a:lnTo>
                  <a:pt x="277" y="584"/>
                </a:lnTo>
                <a:lnTo>
                  <a:pt x="295" y="596"/>
                </a:lnTo>
                <a:lnTo>
                  <a:pt x="312" y="601"/>
                </a:lnTo>
                <a:lnTo>
                  <a:pt x="329" y="613"/>
                </a:lnTo>
                <a:lnTo>
                  <a:pt x="347" y="619"/>
                </a:lnTo>
                <a:lnTo>
                  <a:pt x="364" y="630"/>
                </a:lnTo>
                <a:lnTo>
                  <a:pt x="381" y="636"/>
                </a:lnTo>
                <a:lnTo>
                  <a:pt x="399" y="642"/>
                </a:lnTo>
                <a:lnTo>
                  <a:pt x="416" y="648"/>
                </a:lnTo>
                <a:lnTo>
                  <a:pt x="434" y="654"/>
                </a:lnTo>
                <a:lnTo>
                  <a:pt x="451" y="659"/>
                </a:lnTo>
                <a:lnTo>
                  <a:pt x="474" y="659"/>
                </a:lnTo>
                <a:lnTo>
                  <a:pt x="491" y="665"/>
                </a:lnTo>
                <a:lnTo>
                  <a:pt x="509" y="671"/>
                </a:lnTo>
                <a:lnTo>
                  <a:pt x="526" y="671"/>
                </a:lnTo>
                <a:lnTo>
                  <a:pt x="543" y="6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34040" y="1905120"/>
            <a:ext cx="230040" cy="662040"/>
          </a:xfrm>
          <a:custGeom>
            <a:avLst/>
            <a:gdLst/>
            <a:ahLst/>
            <a:rect l="l" t="t" r="r" b="b"/>
            <a:pathLst>
              <a:path w="145" h="417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5" y="58"/>
                </a:lnTo>
                <a:lnTo>
                  <a:pt x="11" y="75"/>
                </a:lnTo>
                <a:lnTo>
                  <a:pt x="17" y="93"/>
                </a:lnTo>
                <a:lnTo>
                  <a:pt x="17" y="110"/>
                </a:lnTo>
                <a:lnTo>
                  <a:pt x="23" y="127"/>
                </a:lnTo>
                <a:lnTo>
                  <a:pt x="29" y="145"/>
                </a:lnTo>
                <a:lnTo>
                  <a:pt x="34" y="162"/>
                </a:lnTo>
                <a:lnTo>
                  <a:pt x="34" y="179"/>
                </a:lnTo>
                <a:lnTo>
                  <a:pt x="40" y="197"/>
                </a:lnTo>
                <a:lnTo>
                  <a:pt x="46" y="214"/>
                </a:lnTo>
                <a:lnTo>
                  <a:pt x="52" y="231"/>
                </a:lnTo>
                <a:lnTo>
                  <a:pt x="57" y="249"/>
                </a:lnTo>
                <a:lnTo>
                  <a:pt x="57" y="266"/>
                </a:lnTo>
                <a:lnTo>
                  <a:pt x="63" y="301"/>
                </a:lnTo>
                <a:lnTo>
                  <a:pt x="69" y="318"/>
                </a:lnTo>
                <a:lnTo>
                  <a:pt x="75" y="335"/>
                </a:lnTo>
                <a:lnTo>
                  <a:pt x="81" y="353"/>
                </a:lnTo>
                <a:lnTo>
                  <a:pt x="98" y="364"/>
                </a:lnTo>
                <a:lnTo>
                  <a:pt x="110" y="382"/>
                </a:lnTo>
                <a:lnTo>
                  <a:pt x="127" y="393"/>
                </a:lnTo>
                <a:lnTo>
                  <a:pt x="138" y="411"/>
                </a:lnTo>
                <a:lnTo>
                  <a:pt x="144" y="41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89120" y="3154320"/>
            <a:ext cx="1195200" cy="1901880"/>
          </a:xfrm>
          <a:custGeom>
            <a:avLst/>
            <a:gdLst/>
            <a:ahLst/>
            <a:rect l="l" t="t" r="r" b="b"/>
            <a:pathLst>
              <a:path w="753" h="1198">
                <a:moveTo>
                  <a:pt x="752" y="28"/>
                </a:moveTo>
                <a:lnTo>
                  <a:pt x="729" y="28"/>
                </a:lnTo>
                <a:lnTo>
                  <a:pt x="711" y="17"/>
                </a:lnTo>
                <a:lnTo>
                  <a:pt x="694" y="17"/>
                </a:lnTo>
                <a:lnTo>
                  <a:pt x="677" y="17"/>
                </a:lnTo>
                <a:lnTo>
                  <a:pt x="659" y="17"/>
                </a:lnTo>
                <a:lnTo>
                  <a:pt x="636" y="17"/>
                </a:lnTo>
                <a:lnTo>
                  <a:pt x="619" y="17"/>
                </a:lnTo>
                <a:lnTo>
                  <a:pt x="601" y="17"/>
                </a:lnTo>
                <a:lnTo>
                  <a:pt x="578" y="11"/>
                </a:lnTo>
                <a:lnTo>
                  <a:pt x="561" y="11"/>
                </a:lnTo>
                <a:lnTo>
                  <a:pt x="543" y="11"/>
                </a:lnTo>
                <a:lnTo>
                  <a:pt x="526" y="11"/>
                </a:lnTo>
                <a:lnTo>
                  <a:pt x="509" y="5"/>
                </a:lnTo>
                <a:lnTo>
                  <a:pt x="486" y="5"/>
                </a:lnTo>
                <a:lnTo>
                  <a:pt x="468" y="0"/>
                </a:lnTo>
                <a:lnTo>
                  <a:pt x="451" y="0"/>
                </a:lnTo>
                <a:lnTo>
                  <a:pt x="434" y="0"/>
                </a:lnTo>
                <a:lnTo>
                  <a:pt x="416" y="0"/>
                </a:lnTo>
                <a:lnTo>
                  <a:pt x="399" y="0"/>
                </a:lnTo>
                <a:lnTo>
                  <a:pt x="382" y="0"/>
                </a:lnTo>
                <a:lnTo>
                  <a:pt x="364" y="0"/>
                </a:lnTo>
                <a:lnTo>
                  <a:pt x="347" y="0"/>
                </a:lnTo>
                <a:lnTo>
                  <a:pt x="329" y="0"/>
                </a:lnTo>
                <a:lnTo>
                  <a:pt x="312" y="5"/>
                </a:lnTo>
                <a:lnTo>
                  <a:pt x="295" y="11"/>
                </a:lnTo>
                <a:lnTo>
                  <a:pt x="277" y="17"/>
                </a:lnTo>
                <a:lnTo>
                  <a:pt x="260" y="28"/>
                </a:lnTo>
                <a:lnTo>
                  <a:pt x="243" y="40"/>
                </a:lnTo>
                <a:lnTo>
                  <a:pt x="231" y="57"/>
                </a:lnTo>
                <a:lnTo>
                  <a:pt x="220" y="75"/>
                </a:lnTo>
                <a:lnTo>
                  <a:pt x="208" y="92"/>
                </a:lnTo>
                <a:lnTo>
                  <a:pt x="196" y="115"/>
                </a:lnTo>
                <a:lnTo>
                  <a:pt x="191" y="133"/>
                </a:lnTo>
                <a:lnTo>
                  <a:pt x="185" y="150"/>
                </a:lnTo>
                <a:lnTo>
                  <a:pt x="185" y="167"/>
                </a:lnTo>
                <a:lnTo>
                  <a:pt x="185" y="185"/>
                </a:lnTo>
                <a:lnTo>
                  <a:pt x="196" y="202"/>
                </a:lnTo>
                <a:lnTo>
                  <a:pt x="214" y="219"/>
                </a:lnTo>
                <a:lnTo>
                  <a:pt x="231" y="237"/>
                </a:lnTo>
                <a:lnTo>
                  <a:pt x="243" y="254"/>
                </a:lnTo>
                <a:lnTo>
                  <a:pt x="254" y="271"/>
                </a:lnTo>
                <a:lnTo>
                  <a:pt x="260" y="289"/>
                </a:lnTo>
                <a:lnTo>
                  <a:pt x="272" y="306"/>
                </a:lnTo>
                <a:lnTo>
                  <a:pt x="277" y="323"/>
                </a:lnTo>
                <a:lnTo>
                  <a:pt x="295" y="341"/>
                </a:lnTo>
                <a:lnTo>
                  <a:pt x="301" y="358"/>
                </a:lnTo>
                <a:lnTo>
                  <a:pt x="312" y="375"/>
                </a:lnTo>
                <a:lnTo>
                  <a:pt x="318" y="399"/>
                </a:lnTo>
                <a:lnTo>
                  <a:pt x="324" y="416"/>
                </a:lnTo>
                <a:lnTo>
                  <a:pt x="329" y="433"/>
                </a:lnTo>
                <a:lnTo>
                  <a:pt x="329" y="474"/>
                </a:lnTo>
                <a:lnTo>
                  <a:pt x="335" y="491"/>
                </a:lnTo>
                <a:lnTo>
                  <a:pt x="341" y="508"/>
                </a:lnTo>
                <a:lnTo>
                  <a:pt x="341" y="526"/>
                </a:lnTo>
                <a:lnTo>
                  <a:pt x="353" y="543"/>
                </a:lnTo>
                <a:lnTo>
                  <a:pt x="353" y="560"/>
                </a:lnTo>
                <a:lnTo>
                  <a:pt x="353" y="578"/>
                </a:lnTo>
                <a:lnTo>
                  <a:pt x="358" y="595"/>
                </a:lnTo>
                <a:lnTo>
                  <a:pt x="358" y="612"/>
                </a:lnTo>
                <a:lnTo>
                  <a:pt x="358" y="630"/>
                </a:lnTo>
                <a:lnTo>
                  <a:pt x="353" y="647"/>
                </a:lnTo>
                <a:lnTo>
                  <a:pt x="347" y="665"/>
                </a:lnTo>
                <a:lnTo>
                  <a:pt x="347" y="682"/>
                </a:lnTo>
                <a:lnTo>
                  <a:pt x="347" y="717"/>
                </a:lnTo>
                <a:lnTo>
                  <a:pt x="347" y="734"/>
                </a:lnTo>
                <a:lnTo>
                  <a:pt x="347" y="751"/>
                </a:lnTo>
                <a:lnTo>
                  <a:pt x="335" y="769"/>
                </a:lnTo>
                <a:lnTo>
                  <a:pt x="324" y="786"/>
                </a:lnTo>
                <a:lnTo>
                  <a:pt x="318" y="803"/>
                </a:lnTo>
                <a:lnTo>
                  <a:pt x="312" y="821"/>
                </a:lnTo>
                <a:lnTo>
                  <a:pt x="301" y="838"/>
                </a:lnTo>
                <a:lnTo>
                  <a:pt x="295" y="855"/>
                </a:lnTo>
                <a:lnTo>
                  <a:pt x="289" y="873"/>
                </a:lnTo>
                <a:lnTo>
                  <a:pt x="277" y="890"/>
                </a:lnTo>
                <a:lnTo>
                  <a:pt x="266" y="907"/>
                </a:lnTo>
                <a:lnTo>
                  <a:pt x="254" y="925"/>
                </a:lnTo>
                <a:lnTo>
                  <a:pt x="237" y="936"/>
                </a:lnTo>
                <a:lnTo>
                  <a:pt x="220" y="954"/>
                </a:lnTo>
                <a:lnTo>
                  <a:pt x="208" y="971"/>
                </a:lnTo>
                <a:lnTo>
                  <a:pt x="191" y="994"/>
                </a:lnTo>
                <a:lnTo>
                  <a:pt x="179" y="1011"/>
                </a:lnTo>
                <a:lnTo>
                  <a:pt x="162" y="1023"/>
                </a:lnTo>
                <a:lnTo>
                  <a:pt x="144" y="1029"/>
                </a:lnTo>
                <a:lnTo>
                  <a:pt x="127" y="1040"/>
                </a:lnTo>
                <a:lnTo>
                  <a:pt x="110" y="1052"/>
                </a:lnTo>
                <a:lnTo>
                  <a:pt x="92" y="1064"/>
                </a:lnTo>
                <a:lnTo>
                  <a:pt x="75" y="1075"/>
                </a:lnTo>
                <a:lnTo>
                  <a:pt x="58" y="1092"/>
                </a:lnTo>
                <a:lnTo>
                  <a:pt x="52" y="1110"/>
                </a:lnTo>
                <a:lnTo>
                  <a:pt x="46" y="1127"/>
                </a:lnTo>
                <a:lnTo>
                  <a:pt x="40" y="1144"/>
                </a:lnTo>
                <a:lnTo>
                  <a:pt x="23" y="1156"/>
                </a:lnTo>
                <a:lnTo>
                  <a:pt x="17" y="1173"/>
                </a:lnTo>
                <a:lnTo>
                  <a:pt x="6" y="1191"/>
                </a:lnTo>
                <a:lnTo>
                  <a:pt x="0" y="119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36800" y="3198960"/>
            <a:ext cx="1727280" cy="590400"/>
          </a:xfrm>
          <a:custGeom>
            <a:avLst/>
            <a:gdLst/>
            <a:ahLst/>
            <a:rect l="l" t="t" r="r" b="b"/>
            <a:pathLst>
              <a:path w="1088" h="372">
                <a:moveTo>
                  <a:pt x="0" y="0"/>
                </a:moveTo>
                <a:lnTo>
                  <a:pt x="23" y="0"/>
                </a:lnTo>
                <a:lnTo>
                  <a:pt x="35" y="18"/>
                </a:lnTo>
                <a:lnTo>
                  <a:pt x="52" y="18"/>
                </a:lnTo>
                <a:lnTo>
                  <a:pt x="69" y="18"/>
                </a:lnTo>
                <a:lnTo>
                  <a:pt x="87" y="18"/>
                </a:lnTo>
                <a:lnTo>
                  <a:pt x="121" y="24"/>
                </a:lnTo>
                <a:lnTo>
                  <a:pt x="139" y="24"/>
                </a:lnTo>
                <a:lnTo>
                  <a:pt x="156" y="29"/>
                </a:lnTo>
                <a:lnTo>
                  <a:pt x="173" y="35"/>
                </a:lnTo>
                <a:lnTo>
                  <a:pt x="208" y="35"/>
                </a:lnTo>
                <a:lnTo>
                  <a:pt x="243" y="41"/>
                </a:lnTo>
                <a:lnTo>
                  <a:pt x="260" y="47"/>
                </a:lnTo>
                <a:lnTo>
                  <a:pt x="277" y="58"/>
                </a:lnTo>
                <a:lnTo>
                  <a:pt x="295" y="70"/>
                </a:lnTo>
                <a:lnTo>
                  <a:pt x="312" y="81"/>
                </a:lnTo>
                <a:lnTo>
                  <a:pt x="329" y="99"/>
                </a:lnTo>
                <a:lnTo>
                  <a:pt x="347" y="105"/>
                </a:lnTo>
                <a:lnTo>
                  <a:pt x="364" y="116"/>
                </a:lnTo>
                <a:lnTo>
                  <a:pt x="382" y="122"/>
                </a:lnTo>
                <a:lnTo>
                  <a:pt x="405" y="139"/>
                </a:lnTo>
                <a:lnTo>
                  <a:pt x="428" y="151"/>
                </a:lnTo>
                <a:lnTo>
                  <a:pt x="445" y="157"/>
                </a:lnTo>
                <a:lnTo>
                  <a:pt x="463" y="162"/>
                </a:lnTo>
                <a:lnTo>
                  <a:pt x="480" y="174"/>
                </a:lnTo>
                <a:lnTo>
                  <a:pt x="497" y="185"/>
                </a:lnTo>
                <a:lnTo>
                  <a:pt x="515" y="197"/>
                </a:lnTo>
                <a:lnTo>
                  <a:pt x="538" y="209"/>
                </a:lnTo>
                <a:lnTo>
                  <a:pt x="584" y="214"/>
                </a:lnTo>
                <a:lnTo>
                  <a:pt x="630" y="220"/>
                </a:lnTo>
                <a:lnTo>
                  <a:pt x="648" y="226"/>
                </a:lnTo>
                <a:lnTo>
                  <a:pt x="665" y="238"/>
                </a:lnTo>
                <a:lnTo>
                  <a:pt x="682" y="249"/>
                </a:lnTo>
                <a:lnTo>
                  <a:pt x="700" y="261"/>
                </a:lnTo>
                <a:lnTo>
                  <a:pt x="717" y="266"/>
                </a:lnTo>
                <a:lnTo>
                  <a:pt x="734" y="278"/>
                </a:lnTo>
                <a:lnTo>
                  <a:pt x="752" y="290"/>
                </a:lnTo>
                <a:lnTo>
                  <a:pt x="769" y="301"/>
                </a:lnTo>
                <a:lnTo>
                  <a:pt x="786" y="313"/>
                </a:lnTo>
                <a:lnTo>
                  <a:pt x="804" y="318"/>
                </a:lnTo>
                <a:lnTo>
                  <a:pt x="821" y="330"/>
                </a:lnTo>
                <a:lnTo>
                  <a:pt x="838" y="330"/>
                </a:lnTo>
                <a:lnTo>
                  <a:pt x="856" y="330"/>
                </a:lnTo>
                <a:lnTo>
                  <a:pt x="873" y="336"/>
                </a:lnTo>
                <a:lnTo>
                  <a:pt x="891" y="342"/>
                </a:lnTo>
                <a:lnTo>
                  <a:pt x="908" y="353"/>
                </a:lnTo>
                <a:lnTo>
                  <a:pt x="925" y="359"/>
                </a:lnTo>
                <a:lnTo>
                  <a:pt x="948" y="359"/>
                </a:lnTo>
                <a:lnTo>
                  <a:pt x="966" y="359"/>
                </a:lnTo>
                <a:lnTo>
                  <a:pt x="983" y="365"/>
                </a:lnTo>
                <a:lnTo>
                  <a:pt x="1018" y="371"/>
                </a:lnTo>
                <a:lnTo>
                  <a:pt x="1035" y="371"/>
                </a:lnTo>
                <a:lnTo>
                  <a:pt x="1053" y="371"/>
                </a:lnTo>
                <a:lnTo>
                  <a:pt x="1070" y="371"/>
                </a:lnTo>
                <a:lnTo>
                  <a:pt x="1087" y="3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00080" y="5072040"/>
            <a:ext cx="671400" cy="1020960"/>
          </a:xfrm>
          <a:custGeom>
            <a:avLst/>
            <a:gdLst/>
            <a:ahLst/>
            <a:rect l="l" t="t" r="r" b="b"/>
            <a:pathLst>
              <a:path w="423" h="643">
                <a:moveTo>
                  <a:pt x="422" y="0"/>
                </a:moveTo>
                <a:lnTo>
                  <a:pt x="416" y="23"/>
                </a:lnTo>
                <a:lnTo>
                  <a:pt x="411" y="41"/>
                </a:lnTo>
                <a:lnTo>
                  <a:pt x="393" y="52"/>
                </a:lnTo>
                <a:lnTo>
                  <a:pt x="382" y="69"/>
                </a:lnTo>
                <a:lnTo>
                  <a:pt x="364" y="87"/>
                </a:lnTo>
                <a:lnTo>
                  <a:pt x="353" y="104"/>
                </a:lnTo>
                <a:lnTo>
                  <a:pt x="341" y="121"/>
                </a:lnTo>
                <a:lnTo>
                  <a:pt x="335" y="139"/>
                </a:lnTo>
                <a:lnTo>
                  <a:pt x="324" y="156"/>
                </a:lnTo>
                <a:lnTo>
                  <a:pt x="318" y="174"/>
                </a:lnTo>
                <a:lnTo>
                  <a:pt x="312" y="191"/>
                </a:lnTo>
                <a:lnTo>
                  <a:pt x="301" y="214"/>
                </a:lnTo>
                <a:lnTo>
                  <a:pt x="295" y="237"/>
                </a:lnTo>
                <a:lnTo>
                  <a:pt x="289" y="254"/>
                </a:lnTo>
                <a:lnTo>
                  <a:pt x="278" y="272"/>
                </a:lnTo>
                <a:lnTo>
                  <a:pt x="266" y="289"/>
                </a:lnTo>
                <a:lnTo>
                  <a:pt x="260" y="307"/>
                </a:lnTo>
                <a:lnTo>
                  <a:pt x="249" y="324"/>
                </a:lnTo>
                <a:lnTo>
                  <a:pt x="231" y="341"/>
                </a:lnTo>
                <a:lnTo>
                  <a:pt x="220" y="359"/>
                </a:lnTo>
                <a:lnTo>
                  <a:pt x="208" y="382"/>
                </a:lnTo>
                <a:lnTo>
                  <a:pt x="191" y="405"/>
                </a:lnTo>
                <a:lnTo>
                  <a:pt x="179" y="422"/>
                </a:lnTo>
                <a:lnTo>
                  <a:pt x="162" y="434"/>
                </a:lnTo>
                <a:lnTo>
                  <a:pt x="150" y="451"/>
                </a:lnTo>
                <a:lnTo>
                  <a:pt x="133" y="492"/>
                </a:lnTo>
                <a:lnTo>
                  <a:pt x="121" y="509"/>
                </a:lnTo>
                <a:lnTo>
                  <a:pt x="110" y="526"/>
                </a:lnTo>
                <a:lnTo>
                  <a:pt x="93" y="549"/>
                </a:lnTo>
                <a:lnTo>
                  <a:pt x="81" y="567"/>
                </a:lnTo>
                <a:lnTo>
                  <a:pt x="69" y="584"/>
                </a:lnTo>
                <a:lnTo>
                  <a:pt x="52" y="601"/>
                </a:lnTo>
                <a:lnTo>
                  <a:pt x="40" y="619"/>
                </a:lnTo>
                <a:lnTo>
                  <a:pt x="23" y="630"/>
                </a:lnTo>
                <a:lnTo>
                  <a:pt x="6" y="642"/>
                </a:lnTo>
                <a:lnTo>
                  <a:pt x="0" y="6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60600" y="3870360"/>
            <a:ext cx="293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2440" y="3824280"/>
            <a:ext cx="67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89280" y="397656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71560" y="3144960"/>
            <a:ext cx="274680" cy="164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8320" y="3162240"/>
            <a:ext cx="7920" cy="257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38320" y="3336840"/>
            <a:ext cx="265320" cy="101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39920" y="3336840"/>
            <a:ext cx="55440" cy="276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239920" y="3501720"/>
            <a:ext cx="257040" cy="119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2460240" y="3511440"/>
            <a:ext cx="27000" cy="284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468520" y="3639600"/>
            <a:ext cx="220680" cy="147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79840" y="3639960"/>
            <a:ext cx="0" cy="320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671920" y="3759120"/>
            <a:ext cx="2570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74760" y="2100240"/>
            <a:ext cx="23972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CONFLUENT 500 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36800" y="2392200"/>
            <a:ext cx="349560" cy="385920"/>
          </a:xfrm>
          <a:custGeom>
            <a:avLst/>
            <a:gdLst/>
            <a:ahLst/>
            <a:rect l="l" t="t" r="r" b="b"/>
            <a:pathLst>
              <a:path w="220" h="243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34" y="57"/>
                </a:lnTo>
                <a:lnTo>
                  <a:pt x="46" y="75"/>
                </a:lnTo>
                <a:lnTo>
                  <a:pt x="57" y="92"/>
                </a:lnTo>
                <a:lnTo>
                  <a:pt x="69" y="109"/>
                </a:lnTo>
                <a:lnTo>
                  <a:pt x="86" y="121"/>
                </a:lnTo>
                <a:lnTo>
                  <a:pt x="98" y="138"/>
                </a:lnTo>
                <a:lnTo>
                  <a:pt x="115" y="156"/>
                </a:lnTo>
                <a:lnTo>
                  <a:pt x="127" y="173"/>
                </a:lnTo>
                <a:lnTo>
                  <a:pt x="144" y="190"/>
                </a:lnTo>
                <a:lnTo>
                  <a:pt x="162" y="208"/>
                </a:lnTo>
                <a:lnTo>
                  <a:pt x="179" y="214"/>
                </a:lnTo>
                <a:lnTo>
                  <a:pt x="191" y="231"/>
                </a:lnTo>
                <a:lnTo>
                  <a:pt x="208" y="242"/>
                </a:lnTo>
                <a:lnTo>
                  <a:pt x="219" y="2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36880" y="2584440"/>
            <a:ext cx="351000" cy="212760"/>
          </a:xfrm>
          <a:custGeom>
            <a:avLst/>
            <a:gdLst/>
            <a:ahLst/>
            <a:rect l="l" t="t" r="r" b="b"/>
            <a:pathLst>
              <a:path w="221" h="134">
                <a:moveTo>
                  <a:pt x="0" y="0"/>
                </a:moveTo>
                <a:lnTo>
                  <a:pt x="24" y="17"/>
                </a:lnTo>
                <a:lnTo>
                  <a:pt x="41" y="29"/>
                </a:lnTo>
                <a:lnTo>
                  <a:pt x="52" y="46"/>
                </a:lnTo>
                <a:lnTo>
                  <a:pt x="70" y="58"/>
                </a:lnTo>
                <a:lnTo>
                  <a:pt x="87" y="69"/>
                </a:lnTo>
                <a:lnTo>
                  <a:pt x="105" y="75"/>
                </a:lnTo>
                <a:lnTo>
                  <a:pt x="122" y="87"/>
                </a:lnTo>
                <a:lnTo>
                  <a:pt x="139" y="104"/>
                </a:lnTo>
                <a:lnTo>
                  <a:pt x="157" y="110"/>
                </a:lnTo>
                <a:lnTo>
                  <a:pt x="174" y="121"/>
                </a:lnTo>
                <a:lnTo>
                  <a:pt x="191" y="127"/>
                </a:lnTo>
                <a:lnTo>
                  <a:pt x="209" y="127"/>
                </a:lnTo>
                <a:lnTo>
                  <a:pt x="220" y="1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74760" y="21812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0"/>
                </a:moveTo>
                <a:lnTo>
                  <a:pt x="23" y="11"/>
                </a:lnTo>
                <a:lnTo>
                  <a:pt x="41" y="17"/>
                </a:lnTo>
                <a:lnTo>
                  <a:pt x="58" y="23"/>
                </a:lnTo>
                <a:lnTo>
                  <a:pt x="81" y="28"/>
                </a:lnTo>
                <a:lnTo>
                  <a:pt x="87" y="3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220000">
            <a:off x="1339560" y="3648240"/>
            <a:ext cx="2690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NEGATIVE TILTING RIDGE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38760" y="1812960"/>
            <a:ext cx="41958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04040" y="333072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84840" y="1895400"/>
            <a:ext cx="1331640" cy="2654280"/>
          </a:xfrm>
          <a:custGeom>
            <a:avLst/>
            <a:gdLst/>
            <a:ahLst/>
            <a:rect l="l" t="t" r="r" b="b"/>
            <a:pathLst>
              <a:path w="839" h="1672">
                <a:moveTo>
                  <a:pt x="838" y="0"/>
                </a:moveTo>
                <a:lnTo>
                  <a:pt x="815" y="12"/>
                </a:lnTo>
                <a:lnTo>
                  <a:pt x="809" y="29"/>
                </a:lnTo>
                <a:lnTo>
                  <a:pt x="792" y="41"/>
                </a:lnTo>
                <a:lnTo>
                  <a:pt x="786" y="58"/>
                </a:lnTo>
                <a:lnTo>
                  <a:pt x="769" y="75"/>
                </a:lnTo>
                <a:lnTo>
                  <a:pt x="752" y="99"/>
                </a:lnTo>
                <a:lnTo>
                  <a:pt x="734" y="116"/>
                </a:lnTo>
                <a:lnTo>
                  <a:pt x="717" y="133"/>
                </a:lnTo>
                <a:lnTo>
                  <a:pt x="700" y="151"/>
                </a:lnTo>
                <a:lnTo>
                  <a:pt x="688" y="168"/>
                </a:lnTo>
                <a:lnTo>
                  <a:pt x="676" y="185"/>
                </a:lnTo>
                <a:lnTo>
                  <a:pt x="665" y="203"/>
                </a:lnTo>
                <a:lnTo>
                  <a:pt x="659" y="220"/>
                </a:lnTo>
                <a:lnTo>
                  <a:pt x="653" y="237"/>
                </a:lnTo>
                <a:lnTo>
                  <a:pt x="636" y="255"/>
                </a:lnTo>
                <a:lnTo>
                  <a:pt x="624" y="272"/>
                </a:lnTo>
                <a:lnTo>
                  <a:pt x="613" y="289"/>
                </a:lnTo>
                <a:lnTo>
                  <a:pt x="601" y="307"/>
                </a:lnTo>
                <a:lnTo>
                  <a:pt x="595" y="324"/>
                </a:lnTo>
                <a:lnTo>
                  <a:pt x="584" y="341"/>
                </a:lnTo>
                <a:lnTo>
                  <a:pt x="572" y="359"/>
                </a:lnTo>
                <a:lnTo>
                  <a:pt x="561" y="376"/>
                </a:lnTo>
                <a:lnTo>
                  <a:pt x="549" y="394"/>
                </a:lnTo>
                <a:lnTo>
                  <a:pt x="538" y="411"/>
                </a:lnTo>
                <a:lnTo>
                  <a:pt x="532" y="428"/>
                </a:lnTo>
                <a:lnTo>
                  <a:pt x="520" y="446"/>
                </a:lnTo>
                <a:lnTo>
                  <a:pt x="509" y="463"/>
                </a:lnTo>
                <a:lnTo>
                  <a:pt x="497" y="480"/>
                </a:lnTo>
                <a:lnTo>
                  <a:pt x="491" y="498"/>
                </a:lnTo>
                <a:lnTo>
                  <a:pt x="480" y="515"/>
                </a:lnTo>
                <a:lnTo>
                  <a:pt x="468" y="532"/>
                </a:lnTo>
                <a:lnTo>
                  <a:pt x="451" y="555"/>
                </a:lnTo>
                <a:lnTo>
                  <a:pt x="445" y="573"/>
                </a:lnTo>
                <a:lnTo>
                  <a:pt x="428" y="590"/>
                </a:lnTo>
                <a:lnTo>
                  <a:pt x="422" y="607"/>
                </a:lnTo>
                <a:lnTo>
                  <a:pt x="410" y="625"/>
                </a:lnTo>
                <a:lnTo>
                  <a:pt x="399" y="642"/>
                </a:lnTo>
                <a:lnTo>
                  <a:pt x="381" y="654"/>
                </a:lnTo>
                <a:lnTo>
                  <a:pt x="376" y="671"/>
                </a:lnTo>
                <a:lnTo>
                  <a:pt x="364" y="688"/>
                </a:lnTo>
                <a:lnTo>
                  <a:pt x="352" y="706"/>
                </a:lnTo>
                <a:lnTo>
                  <a:pt x="335" y="723"/>
                </a:lnTo>
                <a:lnTo>
                  <a:pt x="324" y="740"/>
                </a:lnTo>
                <a:lnTo>
                  <a:pt x="306" y="758"/>
                </a:lnTo>
                <a:lnTo>
                  <a:pt x="300" y="775"/>
                </a:lnTo>
                <a:lnTo>
                  <a:pt x="289" y="793"/>
                </a:lnTo>
                <a:lnTo>
                  <a:pt x="283" y="816"/>
                </a:lnTo>
                <a:lnTo>
                  <a:pt x="272" y="833"/>
                </a:lnTo>
                <a:lnTo>
                  <a:pt x="272" y="850"/>
                </a:lnTo>
                <a:lnTo>
                  <a:pt x="260" y="868"/>
                </a:lnTo>
                <a:lnTo>
                  <a:pt x="243" y="879"/>
                </a:lnTo>
                <a:lnTo>
                  <a:pt x="237" y="897"/>
                </a:lnTo>
                <a:lnTo>
                  <a:pt x="231" y="914"/>
                </a:lnTo>
                <a:lnTo>
                  <a:pt x="225" y="931"/>
                </a:lnTo>
                <a:lnTo>
                  <a:pt x="225" y="949"/>
                </a:lnTo>
                <a:lnTo>
                  <a:pt x="225" y="972"/>
                </a:lnTo>
                <a:lnTo>
                  <a:pt x="225" y="989"/>
                </a:lnTo>
                <a:lnTo>
                  <a:pt x="231" y="1006"/>
                </a:lnTo>
                <a:lnTo>
                  <a:pt x="237" y="1030"/>
                </a:lnTo>
                <a:lnTo>
                  <a:pt x="237" y="1047"/>
                </a:lnTo>
                <a:lnTo>
                  <a:pt x="248" y="1064"/>
                </a:lnTo>
                <a:lnTo>
                  <a:pt x="254" y="1082"/>
                </a:lnTo>
                <a:lnTo>
                  <a:pt x="266" y="1099"/>
                </a:lnTo>
                <a:lnTo>
                  <a:pt x="277" y="1116"/>
                </a:lnTo>
                <a:lnTo>
                  <a:pt x="277" y="1134"/>
                </a:lnTo>
                <a:lnTo>
                  <a:pt x="277" y="1157"/>
                </a:lnTo>
                <a:lnTo>
                  <a:pt x="283" y="1174"/>
                </a:lnTo>
                <a:lnTo>
                  <a:pt x="283" y="1192"/>
                </a:lnTo>
                <a:lnTo>
                  <a:pt x="283" y="1209"/>
                </a:lnTo>
                <a:lnTo>
                  <a:pt x="283" y="1226"/>
                </a:lnTo>
                <a:lnTo>
                  <a:pt x="283" y="1244"/>
                </a:lnTo>
                <a:lnTo>
                  <a:pt x="283" y="1261"/>
                </a:lnTo>
                <a:lnTo>
                  <a:pt x="283" y="1296"/>
                </a:lnTo>
                <a:lnTo>
                  <a:pt x="277" y="1377"/>
                </a:lnTo>
                <a:lnTo>
                  <a:pt x="272" y="1394"/>
                </a:lnTo>
                <a:lnTo>
                  <a:pt x="266" y="1411"/>
                </a:lnTo>
                <a:lnTo>
                  <a:pt x="254" y="1429"/>
                </a:lnTo>
                <a:lnTo>
                  <a:pt x="237" y="1452"/>
                </a:lnTo>
                <a:lnTo>
                  <a:pt x="231" y="1469"/>
                </a:lnTo>
                <a:lnTo>
                  <a:pt x="219" y="1486"/>
                </a:lnTo>
                <a:lnTo>
                  <a:pt x="214" y="1504"/>
                </a:lnTo>
                <a:lnTo>
                  <a:pt x="202" y="1521"/>
                </a:lnTo>
                <a:lnTo>
                  <a:pt x="162" y="1562"/>
                </a:lnTo>
                <a:lnTo>
                  <a:pt x="127" y="1619"/>
                </a:lnTo>
                <a:lnTo>
                  <a:pt x="110" y="1631"/>
                </a:lnTo>
                <a:lnTo>
                  <a:pt x="92" y="1643"/>
                </a:lnTo>
                <a:lnTo>
                  <a:pt x="75" y="1648"/>
                </a:lnTo>
                <a:lnTo>
                  <a:pt x="58" y="1660"/>
                </a:lnTo>
                <a:lnTo>
                  <a:pt x="40" y="1660"/>
                </a:lnTo>
                <a:lnTo>
                  <a:pt x="23" y="1666"/>
                </a:lnTo>
                <a:lnTo>
                  <a:pt x="5" y="1671"/>
                </a:lnTo>
                <a:lnTo>
                  <a:pt x="0" y="16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15320" y="1895400"/>
            <a:ext cx="1993680" cy="1305000"/>
          </a:xfrm>
          <a:custGeom>
            <a:avLst/>
            <a:gdLst/>
            <a:ahLst/>
            <a:rect l="l" t="t" r="r" b="b"/>
            <a:pathLst>
              <a:path w="1256" h="822">
                <a:moveTo>
                  <a:pt x="0" y="0"/>
                </a:moveTo>
                <a:lnTo>
                  <a:pt x="5" y="23"/>
                </a:lnTo>
                <a:lnTo>
                  <a:pt x="17" y="41"/>
                </a:lnTo>
                <a:lnTo>
                  <a:pt x="34" y="52"/>
                </a:lnTo>
                <a:lnTo>
                  <a:pt x="52" y="70"/>
                </a:lnTo>
                <a:lnTo>
                  <a:pt x="63" y="87"/>
                </a:lnTo>
                <a:lnTo>
                  <a:pt x="69" y="104"/>
                </a:lnTo>
                <a:lnTo>
                  <a:pt x="86" y="122"/>
                </a:lnTo>
                <a:lnTo>
                  <a:pt x="98" y="145"/>
                </a:lnTo>
                <a:lnTo>
                  <a:pt x="115" y="156"/>
                </a:lnTo>
                <a:lnTo>
                  <a:pt x="133" y="168"/>
                </a:lnTo>
                <a:lnTo>
                  <a:pt x="150" y="174"/>
                </a:lnTo>
                <a:lnTo>
                  <a:pt x="167" y="180"/>
                </a:lnTo>
                <a:lnTo>
                  <a:pt x="185" y="185"/>
                </a:lnTo>
                <a:lnTo>
                  <a:pt x="202" y="191"/>
                </a:lnTo>
                <a:lnTo>
                  <a:pt x="248" y="208"/>
                </a:lnTo>
                <a:lnTo>
                  <a:pt x="266" y="232"/>
                </a:lnTo>
                <a:lnTo>
                  <a:pt x="283" y="243"/>
                </a:lnTo>
                <a:lnTo>
                  <a:pt x="300" y="249"/>
                </a:lnTo>
                <a:lnTo>
                  <a:pt x="318" y="255"/>
                </a:lnTo>
                <a:lnTo>
                  <a:pt x="335" y="266"/>
                </a:lnTo>
                <a:lnTo>
                  <a:pt x="352" y="284"/>
                </a:lnTo>
                <a:lnTo>
                  <a:pt x="370" y="295"/>
                </a:lnTo>
                <a:lnTo>
                  <a:pt x="387" y="301"/>
                </a:lnTo>
                <a:lnTo>
                  <a:pt x="404" y="313"/>
                </a:lnTo>
                <a:lnTo>
                  <a:pt x="416" y="330"/>
                </a:lnTo>
                <a:lnTo>
                  <a:pt x="433" y="341"/>
                </a:lnTo>
                <a:lnTo>
                  <a:pt x="451" y="347"/>
                </a:lnTo>
                <a:lnTo>
                  <a:pt x="468" y="359"/>
                </a:lnTo>
                <a:lnTo>
                  <a:pt x="485" y="365"/>
                </a:lnTo>
                <a:lnTo>
                  <a:pt x="520" y="370"/>
                </a:lnTo>
                <a:lnTo>
                  <a:pt x="543" y="388"/>
                </a:lnTo>
                <a:lnTo>
                  <a:pt x="555" y="405"/>
                </a:lnTo>
                <a:lnTo>
                  <a:pt x="566" y="422"/>
                </a:lnTo>
                <a:lnTo>
                  <a:pt x="584" y="434"/>
                </a:lnTo>
                <a:lnTo>
                  <a:pt x="607" y="451"/>
                </a:lnTo>
                <a:lnTo>
                  <a:pt x="624" y="469"/>
                </a:lnTo>
                <a:lnTo>
                  <a:pt x="636" y="492"/>
                </a:lnTo>
                <a:lnTo>
                  <a:pt x="653" y="503"/>
                </a:lnTo>
                <a:lnTo>
                  <a:pt x="671" y="521"/>
                </a:lnTo>
                <a:lnTo>
                  <a:pt x="688" y="538"/>
                </a:lnTo>
                <a:lnTo>
                  <a:pt x="705" y="550"/>
                </a:lnTo>
                <a:lnTo>
                  <a:pt x="723" y="567"/>
                </a:lnTo>
                <a:lnTo>
                  <a:pt x="740" y="590"/>
                </a:lnTo>
                <a:lnTo>
                  <a:pt x="786" y="602"/>
                </a:lnTo>
                <a:lnTo>
                  <a:pt x="804" y="607"/>
                </a:lnTo>
                <a:lnTo>
                  <a:pt x="821" y="625"/>
                </a:lnTo>
                <a:lnTo>
                  <a:pt x="844" y="642"/>
                </a:lnTo>
                <a:lnTo>
                  <a:pt x="861" y="654"/>
                </a:lnTo>
                <a:lnTo>
                  <a:pt x="879" y="665"/>
                </a:lnTo>
                <a:lnTo>
                  <a:pt x="913" y="700"/>
                </a:lnTo>
                <a:lnTo>
                  <a:pt x="931" y="712"/>
                </a:lnTo>
                <a:lnTo>
                  <a:pt x="948" y="717"/>
                </a:lnTo>
                <a:lnTo>
                  <a:pt x="966" y="717"/>
                </a:lnTo>
                <a:lnTo>
                  <a:pt x="983" y="729"/>
                </a:lnTo>
                <a:lnTo>
                  <a:pt x="1000" y="740"/>
                </a:lnTo>
                <a:lnTo>
                  <a:pt x="1035" y="752"/>
                </a:lnTo>
                <a:lnTo>
                  <a:pt x="1058" y="764"/>
                </a:lnTo>
                <a:lnTo>
                  <a:pt x="1075" y="764"/>
                </a:lnTo>
                <a:lnTo>
                  <a:pt x="1093" y="775"/>
                </a:lnTo>
                <a:lnTo>
                  <a:pt x="1197" y="810"/>
                </a:lnTo>
                <a:lnTo>
                  <a:pt x="1255" y="816"/>
                </a:lnTo>
                <a:lnTo>
                  <a:pt x="1249" y="8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207200" y="3025800"/>
            <a:ext cx="1736640" cy="514440"/>
          </a:xfrm>
          <a:custGeom>
            <a:avLst/>
            <a:gdLst/>
            <a:ahLst/>
            <a:rect l="l" t="t" r="r" b="b"/>
            <a:pathLst>
              <a:path w="1094" h="324">
                <a:moveTo>
                  <a:pt x="0" y="40"/>
                </a:moveTo>
                <a:lnTo>
                  <a:pt x="23" y="23"/>
                </a:lnTo>
                <a:lnTo>
                  <a:pt x="41" y="23"/>
                </a:lnTo>
                <a:lnTo>
                  <a:pt x="58" y="17"/>
                </a:lnTo>
                <a:lnTo>
                  <a:pt x="75" y="11"/>
                </a:lnTo>
                <a:lnTo>
                  <a:pt x="93" y="11"/>
                </a:lnTo>
                <a:lnTo>
                  <a:pt x="110" y="5"/>
                </a:lnTo>
                <a:lnTo>
                  <a:pt x="127" y="0"/>
                </a:lnTo>
                <a:lnTo>
                  <a:pt x="145" y="0"/>
                </a:lnTo>
                <a:lnTo>
                  <a:pt x="162" y="0"/>
                </a:lnTo>
                <a:lnTo>
                  <a:pt x="179" y="0"/>
                </a:lnTo>
                <a:lnTo>
                  <a:pt x="214" y="0"/>
                </a:lnTo>
                <a:lnTo>
                  <a:pt x="231" y="0"/>
                </a:lnTo>
                <a:lnTo>
                  <a:pt x="249" y="0"/>
                </a:lnTo>
                <a:lnTo>
                  <a:pt x="266" y="0"/>
                </a:lnTo>
                <a:lnTo>
                  <a:pt x="283" y="5"/>
                </a:lnTo>
                <a:lnTo>
                  <a:pt x="330" y="17"/>
                </a:lnTo>
                <a:lnTo>
                  <a:pt x="347" y="28"/>
                </a:lnTo>
                <a:lnTo>
                  <a:pt x="364" y="34"/>
                </a:lnTo>
                <a:lnTo>
                  <a:pt x="382" y="40"/>
                </a:lnTo>
                <a:lnTo>
                  <a:pt x="405" y="52"/>
                </a:lnTo>
                <a:lnTo>
                  <a:pt x="422" y="57"/>
                </a:lnTo>
                <a:lnTo>
                  <a:pt x="440" y="63"/>
                </a:lnTo>
                <a:lnTo>
                  <a:pt x="463" y="75"/>
                </a:lnTo>
                <a:lnTo>
                  <a:pt x="480" y="81"/>
                </a:lnTo>
                <a:lnTo>
                  <a:pt x="497" y="86"/>
                </a:lnTo>
                <a:lnTo>
                  <a:pt x="515" y="98"/>
                </a:lnTo>
                <a:lnTo>
                  <a:pt x="532" y="109"/>
                </a:lnTo>
                <a:lnTo>
                  <a:pt x="555" y="127"/>
                </a:lnTo>
                <a:lnTo>
                  <a:pt x="573" y="138"/>
                </a:lnTo>
                <a:lnTo>
                  <a:pt x="590" y="150"/>
                </a:lnTo>
                <a:lnTo>
                  <a:pt x="625" y="161"/>
                </a:lnTo>
                <a:lnTo>
                  <a:pt x="642" y="173"/>
                </a:lnTo>
                <a:lnTo>
                  <a:pt x="659" y="185"/>
                </a:lnTo>
                <a:lnTo>
                  <a:pt x="677" y="190"/>
                </a:lnTo>
                <a:lnTo>
                  <a:pt x="694" y="196"/>
                </a:lnTo>
                <a:lnTo>
                  <a:pt x="711" y="214"/>
                </a:lnTo>
                <a:lnTo>
                  <a:pt x="729" y="225"/>
                </a:lnTo>
                <a:lnTo>
                  <a:pt x="746" y="231"/>
                </a:lnTo>
                <a:lnTo>
                  <a:pt x="764" y="242"/>
                </a:lnTo>
                <a:lnTo>
                  <a:pt x="781" y="242"/>
                </a:lnTo>
                <a:lnTo>
                  <a:pt x="821" y="248"/>
                </a:lnTo>
                <a:lnTo>
                  <a:pt x="856" y="248"/>
                </a:lnTo>
                <a:lnTo>
                  <a:pt x="873" y="254"/>
                </a:lnTo>
                <a:lnTo>
                  <a:pt x="891" y="266"/>
                </a:lnTo>
                <a:lnTo>
                  <a:pt x="908" y="283"/>
                </a:lnTo>
                <a:lnTo>
                  <a:pt x="925" y="289"/>
                </a:lnTo>
                <a:lnTo>
                  <a:pt x="943" y="289"/>
                </a:lnTo>
                <a:lnTo>
                  <a:pt x="960" y="289"/>
                </a:lnTo>
                <a:lnTo>
                  <a:pt x="978" y="289"/>
                </a:lnTo>
                <a:lnTo>
                  <a:pt x="995" y="300"/>
                </a:lnTo>
                <a:lnTo>
                  <a:pt x="1012" y="306"/>
                </a:lnTo>
                <a:lnTo>
                  <a:pt x="1030" y="318"/>
                </a:lnTo>
                <a:lnTo>
                  <a:pt x="1047" y="323"/>
                </a:lnTo>
                <a:lnTo>
                  <a:pt x="1070" y="323"/>
                </a:lnTo>
                <a:lnTo>
                  <a:pt x="1093" y="3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29480" y="3079800"/>
            <a:ext cx="1388880" cy="2122560"/>
          </a:xfrm>
          <a:custGeom>
            <a:avLst/>
            <a:gdLst/>
            <a:ahLst/>
            <a:rect l="l" t="t" r="r" b="b"/>
            <a:pathLst>
              <a:path w="875" h="1337">
                <a:moveTo>
                  <a:pt x="874" y="0"/>
                </a:moveTo>
                <a:lnTo>
                  <a:pt x="851" y="0"/>
                </a:lnTo>
                <a:lnTo>
                  <a:pt x="833" y="12"/>
                </a:lnTo>
                <a:lnTo>
                  <a:pt x="822" y="29"/>
                </a:lnTo>
                <a:lnTo>
                  <a:pt x="804" y="47"/>
                </a:lnTo>
                <a:lnTo>
                  <a:pt x="799" y="64"/>
                </a:lnTo>
                <a:lnTo>
                  <a:pt x="793" y="81"/>
                </a:lnTo>
                <a:lnTo>
                  <a:pt x="793" y="99"/>
                </a:lnTo>
                <a:lnTo>
                  <a:pt x="781" y="116"/>
                </a:lnTo>
                <a:lnTo>
                  <a:pt x="770" y="133"/>
                </a:lnTo>
                <a:lnTo>
                  <a:pt x="764" y="151"/>
                </a:lnTo>
                <a:lnTo>
                  <a:pt x="758" y="168"/>
                </a:lnTo>
                <a:lnTo>
                  <a:pt x="747" y="185"/>
                </a:lnTo>
                <a:lnTo>
                  <a:pt x="741" y="203"/>
                </a:lnTo>
                <a:lnTo>
                  <a:pt x="735" y="220"/>
                </a:lnTo>
                <a:lnTo>
                  <a:pt x="729" y="237"/>
                </a:lnTo>
                <a:lnTo>
                  <a:pt x="718" y="255"/>
                </a:lnTo>
                <a:lnTo>
                  <a:pt x="706" y="272"/>
                </a:lnTo>
                <a:lnTo>
                  <a:pt x="700" y="289"/>
                </a:lnTo>
                <a:lnTo>
                  <a:pt x="695" y="307"/>
                </a:lnTo>
                <a:lnTo>
                  <a:pt x="683" y="324"/>
                </a:lnTo>
                <a:lnTo>
                  <a:pt x="677" y="341"/>
                </a:lnTo>
                <a:lnTo>
                  <a:pt x="666" y="359"/>
                </a:lnTo>
                <a:lnTo>
                  <a:pt x="654" y="376"/>
                </a:lnTo>
                <a:lnTo>
                  <a:pt x="642" y="393"/>
                </a:lnTo>
                <a:lnTo>
                  <a:pt x="631" y="411"/>
                </a:lnTo>
                <a:lnTo>
                  <a:pt x="619" y="428"/>
                </a:lnTo>
                <a:lnTo>
                  <a:pt x="614" y="451"/>
                </a:lnTo>
                <a:lnTo>
                  <a:pt x="602" y="469"/>
                </a:lnTo>
                <a:lnTo>
                  <a:pt x="590" y="486"/>
                </a:lnTo>
                <a:lnTo>
                  <a:pt x="573" y="498"/>
                </a:lnTo>
                <a:lnTo>
                  <a:pt x="561" y="515"/>
                </a:lnTo>
                <a:lnTo>
                  <a:pt x="550" y="532"/>
                </a:lnTo>
                <a:lnTo>
                  <a:pt x="533" y="550"/>
                </a:lnTo>
                <a:lnTo>
                  <a:pt x="515" y="561"/>
                </a:lnTo>
                <a:lnTo>
                  <a:pt x="498" y="573"/>
                </a:lnTo>
                <a:lnTo>
                  <a:pt x="481" y="579"/>
                </a:lnTo>
                <a:lnTo>
                  <a:pt x="463" y="596"/>
                </a:lnTo>
                <a:lnTo>
                  <a:pt x="446" y="613"/>
                </a:lnTo>
                <a:lnTo>
                  <a:pt x="428" y="625"/>
                </a:lnTo>
                <a:lnTo>
                  <a:pt x="411" y="631"/>
                </a:lnTo>
                <a:lnTo>
                  <a:pt x="394" y="636"/>
                </a:lnTo>
                <a:lnTo>
                  <a:pt x="376" y="648"/>
                </a:lnTo>
                <a:lnTo>
                  <a:pt x="359" y="654"/>
                </a:lnTo>
                <a:lnTo>
                  <a:pt x="342" y="665"/>
                </a:lnTo>
                <a:lnTo>
                  <a:pt x="324" y="671"/>
                </a:lnTo>
                <a:lnTo>
                  <a:pt x="307" y="677"/>
                </a:lnTo>
                <a:lnTo>
                  <a:pt x="290" y="688"/>
                </a:lnTo>
                <a:lnTo>
                  <a:pt x="272" y="694"/>
                </a:lnTo>
                <a:lnTo>
                  <a:pt x="266" y="712"/>
                </a:lnTo>
                <a:lnTo>
                  <a:pt x="261" y="729"/>
                </a:lnTo>
                <a:lnTo>
                  <a:pt x="243" y="746"/>
                </a:lnTo>
                <a:lnTo>
                  <a:pt x="232" y="764"/>
                </a:lnTo>
                <a:lnTo>
                  <a:pt x="220" y="781"/>
                </a:lnTo>
                <a:lnTo>
                  <a:pt x="209" y="798"/>
                </a:lnTo>
                <a:lnTo>
                  <a:pt x="203" y="816"/>
                </a:lnTo>
                <a:lnTo>
                  <a:pt x="191" y="833"/>
                </a:lnTo>
                <a:lnTo>
                  <a:pt x="191" y="850"/>
                </a:lnTo>
                <a:lnTo>
                  <a:pt x="186" y="868"/>
                </a:lnTo>
                <a:lnTo>
                  <a:pt x="180" y="891"/>
                </a:lnTo>
                <a:lnTo>
                  <a:pt x="174" y="908"/>
                </a:lnTo>
                <a:lnTo>
                  <a:pt x="174" y="925"/>
                </a:lnTo>
                <a:lnTo>
                  <a:pt x="162" y="966"/>
                </a:lnTo>
                <a:lnTo>
                  <a:pt x="162" y="983"/>
                </a:lnTo>
                <a:lnTo>
                  <a:pt x="162" y="1001"/>
                </a:lnTo>
                <a:lnTo>
                  <a:pt x="157" y="1018"/>
                </a:lnTo>
                <a:lnTo>
                  <a:pt x="151" y="1035"/>
                </a:lnTo>
                <a:lnTo>
                  <a:pt x="139" y="1053"/>
                </a:lnTo>
                <a:lnTo>
                  <a:pt x="133" y="1070"/>
                </a:lnTo>
                <a:lnTo>
                  <a:pt x="128" y="1087"/>
                </a:lnTo>
                <a:lnTo>
                  <a:pt x="128" y="1105"/>
                </a:lnTo>
                <a:lnTo>
                  <a:pt x="122" y="1122"/>
                </a:lnTo>
                <a:lnTo>
                  <a:pt x="116" y="1139"/>
                </a:lnTo>
                <a:lnTo>
                  <a:pt x="110" y="1157"/>
                </a:lnTo>
                <a:lnTo>
                  <a:pt x="105" y="1174"/>
                </a:lnTo>
                <a:lnTo>
                  <a:pt x="99" y="1191"/>
                </a:lnTo>
                <a:lnTo>
                  <a:pt x="93" y="1215"/>
                </a:lnTo>
                <a:lnTo>
                  <a:pt x="76" y="1232"/>
                </a:lnTo>
                <a:lnTo>
                  <a:pt x="64" y="1249"/>
                </a:lnTo>
                <a:lnTo>
                  <a:pt x="52" y="1267"/>
                </a:lnTo>
                <a:lnTo>
                  <a:pt x="41" y="1284"/>
                </a:lnTo>
                <a:lnTo>
                  <a:pt x="24" y="1301"/>
                </a:lnTo>
                <a:lnTo>
                  <a:pt x="12" y="1319"/>
                </a:lnTo>
                <a:lnTo>
                  <a:pt x="0" y="13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5120" y="5181480"/>
            <a:ext cx="965160" cy="819360"/>
          </a:xfrm>
          <a:custGeom>
            <a:avLst/>
            <a:gdLst/>
            <a:ahLst/>
            <a:rect l="l" t="t" r="r" b="b"/>
            <a:pathLst>
              <a:path w="608" h="516">
                <a:moveTo>
                  <a:pt x="607" y="0"/>
                </a:moveTo>
                <a:lnTo>
                  <a:pt x="584" y="12"/>
                </a:lnTo>
                <a:lnTo>
                  <a:pt x="567" y="29"/>
                </a:lnTo>
                <a:lnTo>
                  <a:pt x="561" y="47"/>
                </a:lnTo>
                <a:lnTo>
                  <a:pt x="549" y="64"/>
                </a:lnTo>
                <a:lnTo>
                  <a:pt x="538" y="81"/>
                </a:lnTo>
                <a:lnTo>
                  <a:pt x="526" y="99"/>
                </a:lnTo>
                <a:lnTo>
                  <a:pt x="515" y="116"/>
                </a:lnTo>
                <a:lnTo>
                  <a:pt x="503" y="133"/>
                </a:lnTo>
                <a:lnTo>
                  <a:pt x="492" y="151"/>
                </a:lnTo>
                <a:lnTo>
                  <a:pt x="474" y="162"/>
                </a:lnTo>
                <a:lnTo>
                  <a:pt x="457" y="180"/>
                </a:lnTo>
                <a:lnTo>
                  <a:pt x="445" y="197"/>
                </a:lnTo>
                <a:lnTo>
                  <a:pt x="434" y="214"/>
                </a:lnTo>
                <a:lnTo>
                  <a:pt x="422" y="232"/>
                </a:lnTo>
                <a:lnTo>
                  <a:pt x="411" y="255"/>
                </a:lnTo>
                <a:lnTo>
                  <a:pt x="399" y="272"/>
                </a:lnTo>
                <a:lnTo>
                  <a:pt x="382" y="284"/>
                </a:lnTo>
                <a:lnTo>
                  <a:pt x="364" y="295"/>
                </a:lnTo>
                <a:lnTo>
                  <a:pt x="347" y="307"/>
                </a:lnTo>
                <a:lnTo>
                  <a:pt x="330" y="318"/>
                </a:lnTo>
                <a:lnTo>
                  <a:pt x="312" y="330"/>
                </a:lnTo>
                <a:lnTo>
                  <a:pt x="289" y="347"/>
                </a:lnTo>
                <a:lnTo>
                  <a:pt x="272" y="359"/>
                </a:lnTo>
                <a:lnTo>
                  <a:pt x="254" y="371"/>
                </a:lnTo>
                <a:lnTo>
                  <a:pt x="237" y="382"/>
                </a:lnTo>
                <a:lnTo>
                  <a:pt x="225" y="399"/>
                </a:lnTo>
                <a:lnTo>
                  <a:pt x="208" y="411"/>
                </a:lnTo>
                <a:lnTo>
                  <a:pt x="197" y="428"/>
                </a:lnTo>
                <a:lnTo>
                  <a:pt x="179" y="440"/>
                </a:lnTo>
                <a:lnTo>
                  <a:pt x="162" y="451"/>
                </a:lnTo>
                <a:lnTo>
                  <a:pt x="127" y="451"/>
                </a:lnTo>
                <a:lnTo>
                  <a:pt x="104" y="457"/>
                </a:lnTo>
                <a:lnTo>
                  <a:pt x="87" y="469"/>
                </a:lnTo>
                <a:lnTo>
                  <a:pt x="69" y="480"/>
                </a:lnTo>
                <a:lnTo>
                  <a:pt x="52" y="492"/>
                </a:lnTo>
                <a:lnTo>
                  <a:pt x="35" y="504"/>
                </a:lnTo>
                <a:lnTo>
                  <a:pt x="17" y="509"/>
                </a:lnTo>
                <a:lnTo>
                  <a:pt x="0" y="515"/>
                </a:lnTo>
                <a:lnTo>
                  <a:pt x="23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3880" y="1932120"/>
            <a:ext cx="588960" cy="865080"/>
          </a:xfrm>
          <a:custGeom>
            <a:avLst/>
            <a:gdLst/>
            <a:ahLst/>
            <a:rect l="l" t="t" r="r" b="b"/>
            <a:pathLst>
              <a:path w="371" h="545">
                <a:moveTo>
                  <a:pt x="370" y="0"/>
                </a:moveTo>
                <a:lnTo>
                  <a:pt x="370" y="24"/>
                </a:lnTo>
                <a:lnTo>
                  <a:pt x="370" y="41"/>
                </a:lnTo>
                <a:lnTo>
                  <a:pt x="370" y="64"/>
                </a:lnTo>
                <a:lnTo>
                  <a:pt x="358" y="87"/>
                </a:lnTo>
                <a:lnTo>
                  <a:pt x="341" y="105"/>
                </a:lnTo>
                <a:lnTo>
                  <a:pt x="324" y="122"/>
                </a:lnTo>
                <a:lnTo>
                  <a:pt x="318" y="139"/>
                </a:lnTo>
                <a:lnTo>
                  <a:pt x="312" y="162"/>
                </a:lnTo>
                <a:lnTo>
                  <a:pt x="301" y="185"/>
                </a:lnTo>
                <a:lnTo>
                  <a:pt x="289" y="203"/>
                </a:lnTo>
                <a:lnTo>
                  <a:pt x="272" y="243"/>
                </a:lnTo>
                <a:lnTo>
                  <a:pt x="266" y="290"/>
                </a:lnTo>
                <a:lnTo>
                  <a:pt x="249" y="307"/>
                </a:lnTo>
                <a:lnTo>
                  <a:pt x="231" y="324"/>
                </a:lnTo>
                <a:lnTo>
                  <a:pt x="214" y="330"/>
                </a:lnTo>
                <a:lnTo>
                  <a:pt x="196" y="353"/>
                </a:lnTo>
                <a:lnTo>
                  <a:pt x="162" y="388"/>
                </a:lnTo>
                <a:lnTo>
                  <a:pt x="156" y="405"/>
                </a:lnTo>
                <a:lnTo>
                  <a:pt x="139" y="417"/>
                </a:lnTo>
                <a:lnTo>
                  <a:pt x="121" y="428"/>
                </a:lnTo>
                <a:lnTo>
                  <a:pt x="104" y="446"/>
                </a:lnTo>
                <a:lnTo>
                  <a:pt x="87" y="457"/>
                </a:lnTo>
                <a:lnTo>
                  <a:pt x="69" y="469"/>
                </a:lnTo>
                <a:lnTo>
                  <a:pt x="52" y="480"/>
                </a:lnTo>
                <a:lnTo>
                  <a:pt x="40" y="498"/>
                </a:lnTo>
                <a:lnTo>
                  <a:pt x="29" y="515"/>
                </a:lnTo>
                <a:lnTo>
                  <a:pt x="11" y="532"/>
                </a:lnTo>
                <a:lnTo>
                  <a:pt x="0" y="54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3880" y="1932120"/>
            <a:ext cx="222120" cy="360360"/>
          </a:xfrm>
          <a:custGeom>
            <a:avLst/>
            <a:gdLst/>
            <a:ahLst/>
            <a:rect l="l" t="t" r="r" b="b"/>
            <a:pathLst>
              <a:path w="140" h="227">
                <a:moveTo>
                  <a:pt x="139" y="0"/>
                </a:moveTo>
                <a:lnTo>
                  <a:pt x="133" y="24"/>
                </a:lnTo>
                <a:lnTo>
                  <a:pt x="127" y="41"/>
                </a:lnTo>
                <a:lnTo>
                  <a:pt x="116" y="58"/>
                </a:lnTo>
                <a:lnTo>
                  <a:pt x="104" y="76"/>
                </a:lnTo>
                <a:lnTo>
                  <a:pt x="87" y="93"/>
                </a:lnTo>
                <a:lnTo>
                  <a:pt x="81" y="110"/>
                </a:lnTo>
                <a:lnTo>
                  <a:pt x="69" y="128"/>
                </a:lnTo>
                <a:lnTo>
                  <a:pt x="58" y="145"/>
                </a:lnTo>
                <a:lnTo>
                  <a:pt x="46" y="162"/>
                </a:lnTo>
                <a:lnTo>
                  <a:pt x="35" y="180"/>
                </a:lnTo>
                <a:lnTo>
                  <a:pt x="17" y="197"/>
                </a:lnTo>
                <a:lnTo>
                  <a:pt x="0" y="209"/>
                </a:lnTo>
                <a:lnTo>
                  <a:pt x="6" y="22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65760" y="1895400"/>
            <a:ext cx="809640" cy="819360"/>
          </a:xfrm>
          <a:custGeom>
            <a:avLst/>
            <a:gdLst/>
            <a:ahLst/>
            <a:rect l="l" t="t" r="r" b="b"/>
            <a:pathLst>
              <a:path w="510" h="516">
                <a:moveTo>
                  <a:pt x="509" y="0"/>
                </a:moveTo>
                <a:lnTo>
                  <a:pt x="486" y="6"/>
                </a:lnTo>
                <a:lnTo>
                  <a:pt x="480" y="23"/>
                </a:lnTo>
                <a:lnTo>
                  <a:pt x="469" y="41"/>
                </a:lnTo>
                <a:lnTo>
                  <a:pt x="463" y="58"/>
                </a:lnTo>
                <a:lnTo>
                  <a:pt x="457" y="75"/>
                </a:lnTo>
                <a:lnTo>
                  <a:pt x="445" y="93"/>
                </a:lnTo>
                <a:lnTo>
                  <a:pt x="434" y="110"/>
                </a:lnTo>
                <a:lnTo>
                  <a:pt x="417" y="122"/>
                </a:lnTo>
                <a:lnTo>
                  <a:pt x="399" y="145"/>
                </a:lnTo>
                <a:lnTo>
                  <a:pt x="382" y="162"/>
                </a:lnTo>
                <a:lnTo>
                  <a:pt x="364" y="180"/>
                </a:lnTo>
                <a:lnTo>
                  <a:pt x="353" y="197"/>
                </a:lnTo>
                <a:lnTo>
                  <a:pt x="336" y="214"/>
                </a:lnTo>
                <a:lnTo>
                  <a:pt x="318" y="232"/>
                </a:lnTo>
                <a:lnTo>
                  <a:pt x="301" y="249"/>
                </a:lnTo>
                <a:lnTo>
                  <a:pt x="289" y="266"/>
                </a:lnTo>
                <a:lnTo>
                  <a:pt x="278" y="284"/>
                </a:lnTo>
                <a:lnTo>
                  <a:pt x="260" y="295"/>
                </a:lnTo>
                <a:lnTo>
                  <a:pt x="249" y="313"/>
                </a:lnTo>
                <a:lnTo>
                  <a:pt x="226" y="330"/>
                </a:lnTo>
                <a:lnTo>
                  <a:pt x="208" y="341"/>
                </a:lnTo>
                <a:lnTo>
                  <a:pt x="191" y="353"/>
                </a:lnTo>
                <a:lnTo>
                  <a:pt x="179" y="370"/>
                </a:lnTo>
                <a:lnTo>
                  <a:pt x="162" y="388"/>
                </a:lnTo>
                <a:lnTo>
                  <a:pt x="150" y="405"/>
                </a:lnTo>
                <a:lnTo>
                  <a:pt x="133" y="422"/>
                </a:lnTo>
                <a:lnTo>
                  <a:pt x="116" y="434"/>
                </a:lnTo>
                <a:lnTo>
                  <a:pt x="98" y="446"/>
                </a:lnTo>
                <a:lnTo>
                  <a:pt x="81" y="463"/>
                </a:lnTo>
                <a:lnTo>
                  <a:pt x="64" y="474"/>
                </a:lnTo>
                <a:lnTo>
                  <a:pt x="46" y="486"/>
                </a:lnTo>
                <a:lnTo>
                  <a:pt x="29" y="498"/>
                </a:lnTo>
                <a:lnTo>
                  <a:pt x="12" y="515"/>
                </a:lnTo>
                <a:lnTo>
                  <a:pt x="0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5120" y="1905120"/>
            <a:ext cx="378000" cy="350640"/>
          </a:xfrm>
          <a:custGeom>
            <a:avLst/>
            <a:gdLst/>
            <a:ahLst/>
            <a:rect l="l" t="t" r="r" b="b"/>
            <a:pathLst>
              <a:path w="238" h="221">
                <a:moveTo>
                  <a:pt x="237" y="0"/>
                </a:moveTo>
                <a:lnTo>
                  <a:pt x="214" y="6"/>
                </a:lnTo>
                <a:lnTo>
                  <a:pt x="214" y="23"/>
                </a:lnTo>
                <a:lnTo>
                  <a:pt x="202" y="41"/>
                </a:lnTo>
                <a:lnTo>
                  <a:pt x="191" y="58"/>
                </a:lnTo>
                <a:lnTo>
                  <a:pt x="173" y="75"/>
                </a:lnTo>
                <a:lnTo>
                  <a:pt x="162" y="93"/>
                </a:lnTo>
                <a:lnTo>
                  <a:pt x="144" y="104"/>
                </a:lnTo>
                <a:lnTo>
                  <a:pt x="127" y="116"/>
                </a:lnTo>
                <a:lnTo>
                  <a:pt x="116" y="133"/>
                </a:lnTo>
                <a:lnTo>
                  <a:pt x="98" y="145"/>
                </a:lnTo>
                <a:lnTo>
                  <a:pt x="87" y="162"/>
                </a:lnTo>
                <a:lnTo>
                  <a:pt x="69" y="174"/>
                </a:lnTo>
                <a:lnTo>
                  <a:pt x="52" y="185"/>
                </a:lnTo>
                <a:lnTo>
                  <a:pt x="40" y="202"/>
                </a:lnTo>
                <a:lnTo>
                  <a:pt x="23" y="214"/>
                </a:lnTo>
                <a:lnTo>
                  <a:pt x="6" y="220"/>
                </a:lnTo>
                <a:lnTo>
                  <a:pt x="0" y="2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759880" y="1924200"/>
            <a:ext cx="183960" cy="469800"/>
          </a:xfrm>
          <a:custGeom>
            <a:avLst/>
            <a:gdLst/>
            <a:ahLst/>
            <a:rect l="l" t="t" r="r" b="b"/>
            <a:pathLst>
              <a:path w="116" h="296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23" y="57"/>
                </a:lnTo>
                <a:lnTo>
                  <a:pt x="28" y="75"/>
                </a:lnTo>
                <a:lnTo>
                  <a:pt x="28" y="92"/>
                </a:lnTo>
                <a:lnTo>
                  <a:pt x="34" y="110"/>
                </a:lnTo>
                <a:lnTo>
                  <a:pt x="40" y="127"/>
                </a:lnTo>
                <a:lnTo>
                  <a:pt x="46" y="144"/>
                </a:lnTo>
                <a:lnTo>
                  <a:pt x="63" y="190"/>
                </a:lnTo>
                <a:lnTo>
                  <a:pt x="81" y="208"/>
                </a:lnTo>
                <a:lnTo>
                  <a:pt x="86" y="225"/>
                </a:lnTo>
                <a:lnTo>
                  <a:pt x="98" y="243"/>
                </a:lnTo>
                <a:lnTo>
                  <a:pt x="98" y="260"/>
                </a:lnTo>
                <a:lnTo>
                  <a:pt x="109" y="277"/>
                </a:lnTo>
                <a:lnTo>
                  <a:pt x="115" y="295"/>
                </a:lnTo>
                <a:lnTo>
                  <a:pt x="115" y="28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5960" y="577044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51360" y="576576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213600" y="1241280"/>
            <a:ext cx="2851200" cy="29340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65760" y="2346480"/>
            <a:ext cx="2278080" cy="1377720"/>
          </a:xfrm>
          <a:custGeom>
            <a:avLst/>
            <a:gdLst/>
            <a:ahLst/>
            <a:rect l="l" t="t" r="r" b="b"/>
            <a:pathLst>
              <a:path w="1435" h="868">
                <a:moveTo>
                  <a:pt x="1307" y="422"/>
                </a:moveTo>
                <a:lnTo>
                  <a:pt x="1255" y="422"/>
                </a:lnTo>
                <a:lnTo>
                  <a:pt x="1238" y="422"/>
                </a:lnTo>
                <a:lnTo>
                  <a:pt x="1197" y="422"/>
                </a:lnTo>
                <a:lnTo>
                  <a:pt x="1174" y="422"/>
                </a:lnTo>
                <a:lnTo>
                  <a:pt x="1133" y="445"/>
                </a:lnTo>
                <a:lnTo>
                  <a:pt x="1116" y="456"/>
                </a:lnTo>
                <a:lnTo>
                  <a:pt x="1070" y="468"/>
                </a:lnTo>
                <a:lnTo>
                  <a:pt x="1047" y="485"/>
                </a:lnTo>
                <a:lnTo>
                  <a:pt x="1012" y="497"/>
                </a:lnTo>
                <a:lnTo>
                  <a:pt x="966" y="532"/>
                </a:lnTo>
                <a:lnTo>
                  <a:pt x="931" y="566"/>
                </a:lnTo>
                <a:lnTo>
                  <a:pt x="914" y="578"/>
                </a:lnTo>
                <a:lnTo>
                  <a:pt x="891" y="636"/>
                </a:lnTo>
                <a:lnTo>
                  <a:pt x="844" y="694"/>
                </a:lnTo>
                <a:lnTo>
                  <a:pt x="798" y="740"/>
                </a:lnTo>
                <a:lnTo>
                  <a:pt x="786" y="757"/>
                </a:lnTo>
                <a:lnTo>
                  <a:pt x="775" y="792"/>
                </a:lnTo>
                <a:lnTo>
                  <a:pt x="752" y="815"/>
                </a:lnTo>
                <a:lnTo>
                  <a:pt x="734" y="832"/>
                </a:lnTo>
                <a:lnTo>
                  <a:pt x="688" y="850"/>
                </a:lnTo>
                <a:lnTo>
                  <a:pt x="665" y="861"/>
                </a:lnTo>
                <a:lnTo>
                  <a:pt x="648" y="867"/>
                </a:lnTo>
                <a:lnTo>
                  <a:pt x="630" y="867"/>
                </a:lnTo>
                <a:lnTo>
                  <a:pt x="607" y="867"/>
                </a:lnTo>
                <a:lnTo>
                  <a:pt x="590" y="867"/>
                </a:lnTo>
                <a:lnTo>
                  <a:pt x="532" y="867"/>
                </a:lnTo>
                <a:lnTo>
                  <a:pt x="474" y="867"/>
                </a:lnTo>
                <a:lnTo>
                  <a:pt x="439" y="867"/>
                </a:lnTo>
                <a:lnTo>
                  <a:pt x="416" y="867"/>
                </a:lnTo>
                <a:lnTo>
                  <a:pt x="382" y="861"/>
                </a:lnTo>
                <a:lnTo>
                  <a:pt x="329" y="821"/>
                </a:lnTo>
                <a:lnTo>
                  <a:pt x="295" y="809"/>
                </a:lnTo>
                <a:lnTo>
                  <a:pt x="277" y="792"/>
                </a:lnTo>
                <a:lnTo>
                  <a:pt x="266" y="757"/>
                </a:lnTo>
                <a:lnTo>
                  <a:pt x="243" y="740"/>
                </a:lnTo>
                <a:lnTo>
                  <a:pt x="208" y="705"/>
                </a:lnTo>
                <a:lnTo>
                  <a:pt x="196" y="682"/>
                </a:lnTo>
                <a:lnTo>
                  <a:pt x="173" y="665"/>
                </a:lnTo>
                <a:lnTo>
                  <a:pt x="150" y="618"/>
                </a:lnTo>
                <a:lnTo>
                  <a:pt x="92" y="572"/>
                </a:lnTo>
                <a:lnTo>
                  <a:pt x="75" y="555"/>
                </a:lnTo>
                <a:lnTo>
                  <a:pt x="58" y="532"/>
                </a:lnTo>
                <a:lnTo>
                  <a:pt x="40" y="514"/>
                </a:lnTo>
                <a:lnTo>
                  <a:pt x="29" y="497"/>
                </a:lnTo>
                <a:lnTo>
                  <a:pt x="17" y="480"/>
                </a:lnTo>
                <a:lnTo>
                  <a:pt x="6" y="462"/>
                </a:lnTo>
                <a:lnTo>
                  <a:pt x="0" y="445"/>
                </a:lnTo>
                <a:lnTo>
                  <a:pt x="0" y="399"/>
                </a:lnTo>
                <a:lnTo>
                  <a:pt x="0" y="376"/>
                </a:lnTo>
                <a:lnTo>
                  <a:pt x="0" y="358"/>
                </a:lnTo>
                <a:lnTo>
                  <a:pt x="0" y="341"/>
                </a:lnTo>
                <a:lnTo>
                  <a:pt x="0" y="323"/>
                </a:lnTo>
                <a:lnTo>
                  <a:pt x="0" y="300"/>
                </a:lnTo>
                <a:lnTo>
                  <a:pt x="11" y="283"/>
                </a:lnTo>
                <a:lnTo>
                  <a:pt x="17" y="266"/>
                </a:lnTo>
                <a:lnTo>
                  <a:pt x="29" y="248"/>
                </a:lnTo>
                <a:lnTo>
                  <a:pt x="40" y="231"/>
                </a:lnTo>
                <a:lnTo>
                  <a:pt x="58" y="214"/>
                </a:lnTo>
                <a:lnTo>
                  <a:pt x="69" y="196"/>
                </a:lnTo>
                <a:lnTo>
                  <a:pt x="87" y="179"/>
                </a:lnTo>
                <a:lnTo>
                  <a:pt x="98" y="162"/>
                </a:lnTo>
                <a:lnTo>
                  <a:pt x="121" y="144"/>
                </a:lnTo>
                <a:lnTo>
                  <a:pt x="139" y="133"/>
                </a:lnTo>
                <a:lnTo>
                  <a:pt x="156" y="115"/>
                </a:lnTo>
                <a:lnTo>
                  <a:pt x="173" y="104"/>
                </a:lnTo>
                <a:lnTo>
                  <a:pt x="191" y="92"/>
                </a:lnTo>
                <a:lnTo>
                  <a:pt x="208" y="75"/>
                </a:lnTo>
                <a:lnTo>
                  <a:pt x="231" y="63"/>
                </a:lnTo>
                <a:lnTo>
                  <a:pt x="248" y="52"/>
                </a:lnTo>
                <a:lnTo>
                  <a:pt x="272" y="34"/>
                </a:lnTo>
                <a:lnTo>
                  <a:pt x="289" y="29"/>
                </a:lnTo>
                <a:lnTo>
                  <a:pt x="306" y="17"/>
                </a:lnTo>
                <a:lnTo>
                  <a:pt x="324" y="11"/>
                </a:lnTo>
                <a:lnTo>
                  <a:pt x="341" y="5"/>
                </a:lnTo>
                <a:lnTo>
                  <a:pt x="358" y="5"/>
                </a:lnTo>
                <a:lnTo>
                  <a:pt x="376" y="0"/>
                </a:lnTo>
                <a:lnTo>
                  <a:pt x="422" y="0"/>
                </a:lnTo>
                <a:lnTo>
                  <a:pt x="439" y="0"/>
                </a:lnTo>
                <a:lnTo>
                  <a:pt x="463" y="0"/>
                </a:lnTo>
                <a:lnTo>
                  <a:pt x="503" y="0"/>
                </a:lnTo>
                <a:lnTo>
                  <a:pt x="526" y="0"/>
                </a:lnTo>
                <a:lnTo>
                  <a:pt x="549" y="0"/>
                </a:lnTo>
                <a:lnTo>
                  <a:pt x="572" y="0"/>
                </a:lnTo>
                <a:lnTo>
                  <a:pt x="596" y="5"/>
                </a:lnTo>
                <a:lnTo>
                  <a:pt x="613" y="11"/>
                </a:lnTo>
                <a:lnTo>
                  <a:pt x="630" y="11"/>
                </a:lnTo>
                <a:lnTo>
                  <a:pt x="653" y="11"/>
                </a:lnTo>
                <a:lnTo>
                  <a:pt x="677" y="11"/>
                </a:lnTo>
                <a:lnTo>
                  <a:pt x="711" y="11"/>
                </a:lnTo>
                <a:lnTo>
                  <a:pt x="729" y="11"/>
                </a:lnTo>
                <a:lnTo>
                  <a:pt x="775" y="11"/>
                </a:lnTo>
                <a:lnTo>
                  <a:pt x="810" y="17"/>
                </a:lnTo>
                <a:lnTo>
                  <a:pt x="827" y="17"/>
                </a:lnTo>
                <a:lnTo>
                  <a:pt x="850" y="17"/>
                </a:lnTo>
                <a:lnTo>
                  <a:pt x="873" y="17"/>
                </a:lnTo>
                <a:lnTo>
                  <a:pt x="896" y="17"/>
                </a:lnTo>
                <a:lnTo>
                  <a:pt x="931" y="11"/>
                </a:lnTo>
                <a:lnTo>
                  <a:pt x="948" y="11"/>
                </a:lnTo>
                <a:lnTo>
                  <a:pt x="966" y="11"/>
                </a:lnTo>
                <a:lnTo>
                  <a:pt x="983" y="11"/>
                </a:lnTo>
                <a:lnTo>
                  <a:pt x="1000" y="11"/>
                </a:lnTo>
                <a:lnTo>
                  <a:pt x="1052" y="11"/>
                </a:lnTo>
                <a:lnTo>
                  <a:pt x="1099" y="11"/>
                </a:lnTo>
                <a:lnTo>
                  <a:pt x="1116" y="11"/>
                </a:lnTo>
                <a:lnTo>
                  <a:pt x="1151" y="23"/>
                </a:lnTo>
                <a:lnTo>
                  <a:pt x="1168" y="29"/>
                </a:lnTo>
                <a:lnTo>
                  <a:pt x="1214" y="52"/>
                </a:lnTo>
                <a:lnTo>
                  <a:pt x="1284" y="75"/>
                </a:lnTo>
                <a:lnTo>
                  <a:pt x="1319" y="81"/>
                </a:lnTo>
                <a:lnTo>
                  <a:pt x="1342" y="92"/>
                </a:lnTo>
                <a:lnTo>
                  <a:pt x="1376" y="104"/>
                </a:lnTo>
                <a:lnTo>
                  <a:pt x="1394" y="121"/>
                </a:lnTo>
                <a:lnTo>
                  <a:pt x="1411" y="133"/>
                </a:lnTo>
                <a:lnTo>
                  <a:pt x="1423" y="150"/>
                </a:lnTo>
                <a:lnTo>
                  <a:pt x="1434" y="167"/>
                </a:lnTo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495600" y="1231920"/>
            <a:ext cx="2565360" cy="29433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19600" y="2492280"/>
            <a:ext cx="341280" cy="561960"/>
          </a:xfrm>
          <a:custGeom>
            <a:avLst/>
            <a:gdLst/>
            <a:ahLst/>
            <a:rect l="l" t="t" r="r" b="b"/>
            <a:pathLst>
              <a:path w="215" h="354">
                <a:moveTo>
                  <a:pt x="5" y="185"/>
                </a:moveTo>
                <a:lnTo>
                  <a:pt x="5" y="156"/>
                </a:lnTo>
                <a:lnTo>
                  <a:pt x="5" y="139"/>
                </a:lnTo>
                <a:lnTo>
                  <a:pt x="5" y="122"/>
                </a:lnTo>
                <a:lnTo>
                  <a:pt x="5" y="98"/>
                </a:lnTo>
                <a:lnTo>
                  <a:pt x="5" y="81"/>
                </a:lnTo>
                <a:lnTo>
                  <a:pt x="5" y="58"/>
                </a:lnTo>
                <a:lnTo>
                  <a:pt x="5" y="41"/>
                </a:lnTo>
                <a:lnTo>
                  <a:pt x="52" y="29"/>
                </a:lnTo>
                <a:lnTo>
                  <a:pt x="69" y="18"/>
                </a:lnTo>
                <a:lnTo>
                  <a:pt x="86" y="0"/>
                </a:lnTo>
                <a:lnTo>
                  <a:pt x="104" y="0"/>
                </a:lnTo>
                <a:lnTo>
                  <a:pt x="127" y="0"/>
                </a:lnTo>
                <a:lnTo>
                  <a:pt x="144" y="0"/>
                </a:lnTo>
                <a:lnTo>
                  <a:pt x="162" y="0"/>
                </a:lnTo>
                <a:lnTo>
                  <a:pt x="179" y="0"/>
                </a:lnTo>
                <a:lnTo>
                  <a:pt x="196" y="12"/>
                </a:lnTo>
                <a:lnTo>
                  <a:pt x="196" y="29"/>
                </a:lnTo>
                <a:lnTo>
                  <a:pt x="202" y="46"/>
                </a:lnTo>
                <a:lnTo>
                  <a:pt x="208" y="64"/>
                </a:lnTo>
                <a:lnTo>
                  <a:pt x="208" y="81"/>
                </a:lnTo>
                <a:lnTo>
                  <a:pt x="208" y="116"/>
                </a:lnTo>
                <a:lnTo>
                  <a:pt x="208" y="133"/>
                </a:lnTo>
                <a:lnTo>
                  <a:pt x="208" y="179"/>
                </a:lnTo>
                <a:lnTo>
                  <a:pt x="214" y="226"/>
                </a:lnTo>
                <a:lnTo>
                  <a:pt x="214" y="272"/>
                </a:lnTo>
                <a:lnTo>
                  <a:pt x="214" y="330"/>
                </a:lnTo>
                <a:lnTo>
                  <a:pt x="214" y="347"/>
                </a:lnTo>
                <a:lnTo>
                  <a:pt x="191" y="347"/>
                </a:lnTo>
                <a:lnTo>
                  <a:pt x="167" y="353"/>
                </a:lnTo>
                <a:lnTo>
                  <a:pt x="150" y="353"/>
                </a:lnTo>
                <a:lnTo>
                  <a:pt x="104" y="353"/>
                </a:lnTo>
                <a:lnTo>
                  <a:pt x="81" y="330"/>
                </a:lnTo>
                <a:lnTo>
                  <a:pt x="69" y="307"/>
                </a:lnTo>
                <a:lnTo>
                  <a:pt x="63" y="284"/>
                </a:lnTo>
                <a:lnTo>
                  <a:pt x="52" y="266"/>
                </a:lnTo>
                <a:lnTo>
                  <a:pt x="40" y="243"/>
                </a:lnTo>
                <a:lnTo>
                  <a:pt x="29" y="226"/>
                </a:lnTo>
                <a:lnTo>
                  <a:pt x="29" y="208"/>
                </a:lnTo>
                <a:lnTo>
                  <a:pt x="5" y="185"/>
                </a:lnTo>
                <a:lnTo>
                  <a:pt x="11" y="162"/>
                </a:lnTo>
                <a:lnTo>
                  <a:pt x="11" y="145"/>
                </a:lnTo>
                <a:lnTo>
                  <a:pt x="0" y="122"/>
                </a:lnTo>
                <a:lnTo>
                  <a:pt x="0" y="104"/>
                </a:lnTo>
                <a:lnTo>
                  <a:pt x="0" y="70"/>
                </a:lnTo>
                <a:lnTo>
                  <a:pt x="0" y="64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19680" y="2014560"/>
            <a:ext cx="1093680" cy="1388880"/>
          </a:xfrm>
          <a:custGeom>
            <a:avLst/>
            <a:gdLst/>
            <a:ahLst/>
            <a:rect l="l" t="t" r="r" b="b"/>
            <a:pathLst>
              <a:path w="689" h="875">
                <a:moveTo>
                  <a:pt x="671" y="874"/>
                </a:moveTo>
                <a:lnTo>
                  <a:pt x="654" y="851"/>
                </a:lnTo>
                <a:lnTo>
                  <a:pt x="631" y="839"/>
                </a:lnTo>
                <a:lnTo>
                  <a:pt x="613" y="833"/>
                </a:lnTo>
                <a:lnTo>
                  <a:pt x="579" y="822"/>
                </a:lnTo>
                <a:lnTo>
                  <a:pt x="561" y="816"/>
                </a:lnTo>
                <a:lnTo>
                  <a:pt x="515" y="798"/>
                </a:lnTo>
                <a:lnTo>
                  <a:pt x="498" y="787"/>
                </a:lnTo>
                <a:lnTo>
                  <a:pt x="486" y="752"/>
                </a:lnTo>
                <a:lnTo>
                  <a:pt x="440" y="718"/>
                </a:lnTo>
                <a:lnTo>
                  <a:pt x="370" y="706"/>
                </a:lnTo>
                <a:lnTo>
                  <a:pt x="370" y="689"/>
                </a:lnTo>
                <a:lnTo>
                  <a:pt x="353" y="683"/>
                </a:lnTo>
                <a:lnTo>
                  <a:pt x="347" y="665"/>
                </a:lnTo>
                <a:lnTo>
                  <a:pt x="336" y="648"/>
                </a:lnTo>
                <a:lnTo>
                  <a:pt x="318" y="631"/>
                </a:lnTo>
                <a:lnTo>
                  <a:pt x="272" y="596"/>
                </a:lnTo>
                <a:lnTo>
                  <a:pt x="266" y="561"/>
                </a:lnTo>
                <a:lnTo>
                  <a:pt x="255" y="544"/>
                </a:lnTo>
                <a:lnTo>
                  <a:pt x="237" y="538"/>
                </a:lnTo>
                <a:lnTo>
                  <a:pt x="220" y="521"/>
                </a:lnTo>
                <a:lnTo>
                  <a:pt x="203" y="515"/>
                </a:lnTo>
                <a:lnTo>
                  <a:pt x="191" y="498"/>
                </a:lnTo>
                <a:lnTo>
                  <a:pt x="179" y="475"/>
                </a:lnTo>
                <a:lnTo>
                  <a:pt x="174" y="457"/>
                </a:lnTo>
                <a:lnTo>
                  <a:pt x="162" y="440"/>
                </a:lnTo>
                <a:lnTo>
                  <a:pt x="145" y="428"/>
                </a:lnTo>
                <a:lnTo>
                  <a:pt x="127" y="405"/>
                </a:lnTo>
                <a:lnTo>
                  <a:pt x="110" y="394"/>
                </a:lnTo>
                <a:lnTo>
                  <a:pt x="99" y="376"/>
                </a:lnTo>
                <a:lnTo>
                  <a:pt x="87" y="359"/>
                </a:lnTo>
                <a:lnTo>
                  <a:pt x="81" y="342"/>
                </a:lnTo>
                <a:lnTo>
                  <a:pt x="70" y="295"/>
                </a:lnTo>
                <a:lnTo>
                  <a:pt x="58" y="272"/>
                </a:lnTo>
                <a:lnTo>
                  <a:pt x="52" y="249"/>
                </a:lnTo>
                <a:lnTo>
                  <a:pt x="41" y="232"/>
                </a:lnTo>
                <a:lnTo>
                  <a:pt x="35" y="209"/>
                </a:lnTo>
                <a:lnTo>
                  <a:pt x="29" y="191"/>
                </a:lnTo>
                <a:lnTo>
                  <a:pt x="18" y="174"/>
                </a:lnTo>
                <a:lnTo>
                  <a:pt x="6" y="128"/>
                </a:lnTo>
                <a:lnTo>
                  <a:pt x="0" y="110"/>
                </a:lnTo>
                <a:lnTo>
                  <a:pt x="0" y="70"/>
                </a:lnTo>
                <a:lnTo>
                  <a:pt x="0" y="53"/>
                </a:lnTo>
                <a:lnTo>
                  <a:pt x="0" y="35"/>
                </a:lnTo>
                <a:lnTo>
                  <a:pt x="18" y="18"/>
                </a:lnTo>
                <a:lnTo>
                  <a:pt x="35" y="6"/>
                </a:lnTo>
                <a:lnTo>
                  <a:pt x="58" y="0"/>
                </a:lnTo>
                <a:lnTo>
                  <a:pt x="104" y="0"/>
                </a:lnTo>
                <a:lnTo>
                  <a:pt x="122" y="0"/>
                </a:lnTo>
                <a:lnTo>
                  <a:pt x="156" y="0"/>
                </a:lnTo>
                <a:lnTo>
                  <a:pt x="174" y="0"/>
                </a:lnTo>
                <a:lnTo>
                  <a:pt x="232" y="0"/>
                </a:lnTo>
                <a:lnTo>
                  <a:pt x="313" y="12"/>
                </a:lnTo>
                <a:lnTo>
                  <a:pt x="405" y="18"/>
                </a:lnTo>
                <a:lnTo>
                  <a:pt x="451" y="35"/>
                </a:lnTo>
                <a:lnTo>
                  <a:pt x="474" y="53"/>
                </a:lnTo>
                <a:lnTo>
                  <a:pt x="492" y="70"/>
                </a:lnTo>
                <a:lnTo>
                  <a:pt x="509" y="128"/>
                </a:lnTo>
                <a:lnTo>
                  <a:pt x="521" y="145"/>
                </a:lnTo>
                <a:lnTo>
                  <a:pt x="532" y="186"/>
                </a:lnTo>
                <a:lnTo>
                  <a:pt x="544" y="203"/>
                </a:lnTo>
                <a:lnTo>
                  <a:pt x="550" y="220"/>
                </a:lnTo>
                <a:lnTo>
                  <a:pt x="561" y="238"/>
                </a:lnTo>
                <a:lnTo>
                  <a:pt x="579" y="249"/>
                </a:lnTo>
                <a:lnTo>
                  <a:pt x="619" y="272"/>
                </a:lnTo>
                <a:lnTo>
                  <a:pt x="642" y="284"/>
                </a:lnTo>
                <a:lnTo>
                  <a:pt x="660" y="290"/>
                </a:lnTo>
                <a:lnTo>
                  <a:pt x="677" y="301"/>
                </a:lnTo>
                <a:lnTo>
                  <a:pt x="688" y="319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BSERVED MAPS VALID 00Z JULY 29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861840" y="3243240"/>
            <a:ext cx="147960" cy="222120"/>
            <a:chOff x="861840" y="3243240"/>
            <a:chExt cx="147960" cy="222120"/>
          </a:xfrm>
        </p:grpSpPr>
        <p:sp>
          <p:nvSpPr>
            <p:cNvPr id="895" name=""/>
            <p:cNvSpPr/>
            <p:nvPr/>
          </p:nvSpPr>
          <p:spPr>
            <a:xfrm rot="5400000">
              <a:off x="850320" y="3257280"/>
              <a:ext cx="130320" cy="1018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17640" y="3341520"/>
              <a:ext cx="92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1840" y="3338640"/>
              <a:ext cx="82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93600" y="1308240"/>
            <a:ext cx="3002040" cy="2627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06200" y="1273320"/>
            <a:ext cx="3183120" cy="288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3840" y="199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98360" y="2003400"/>
            <a:ext cx="108000" cy="189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6360" y="1969920"/>
            <a:ext cx="934920" cy="5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41280" y="2011320"/>
            <a:ext cx="8668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0200" y="1265400"/>
            <a:ext cx="25560" cy="73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608120" y="1328760"/>
            <a:ext cx="136044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00240" y="2028960"/>
            <a:ext cx="125280" cy="13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133720" y="2306160"/>
            <a:ext cx="97632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3280" y="3343320"/>
            <a:ext cx="103356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265400" y="3366720"/>
            <a:ext cx="129348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568600" y="3333240"/>
            <a:ext cx="52560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49400" y="3375000"/>
            <a:ext cx="2700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949400" y="3517920"/>
            <a:ext cx="8002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73440" y="3517920"/>
            <a:ext cx="698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7080" y="1747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8200" y="1752480"/>
            <a:ext cx="716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46080" y="1384200"/>
            <a:ext cx="730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2040" y="2154240"/>
            <a:ext cx="7308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1720" y="2579760"/>
            <a:ext cx="666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79600" y="2911320"/>
            <a:ext cx="712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9760" y="2368440"/>
            <a:ext cx="698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09720" y="23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00360" y="1427040"/>
            <a:ext cx="6660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27120" y="198288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85680" y="260496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25840" y="254628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63520" y="3548160"/>
            <a:ext cx="684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01600" y="32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39760" y="192420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95600" y="17146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98640" y="168588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2536920"/>
            <a:ext cx="6696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8560" y="3681360"/>
            <a:ext cx="730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08440" y="2689200"/>
            <a:ext cx="745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93880" y="209088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16016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95600" y="23972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65320" y="1746360"/>
            <a:ext cx="47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1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14720" y="23605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" y="198108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47880" y="148752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73200" y="283680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74800" y="2311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751040" y="2619360"/>
            <a:ext cx="2142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57320" y="2633760"/>
            <a:ext cx="76320" cy="169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92160" y="2633760"/>
            <a:ext cx="9216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43200" y="1454040"/>
            <a:ext cx="2300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241720" y="2545920"/>
            <a:ext cx="22536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59080" y="2411280"/>
            <a:ext cx="107640" cy="96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49200" y="2736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1579680"/>
            <a:ext cx="36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520" y="19670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080" y="2425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00480" y="24670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16320" y="2344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70080" y="2924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3800" y="17175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0200" y="122400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1560" y="22287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66760" y="23493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82840" y="2573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566720" y="21114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74640" y="22525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51120" y="2212920"/>
            <a:ext cx="222120" cy="109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0920" y="2222640"/>
            <a:ext cx="12564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33480" y="22305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66760" y="2306520"/>
            <a:ext cx="3348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51000" y="17971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08080" y="2243160"/>
            <a:ext cx="50760" cy="50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41480" y="1717560"/>
            <a:ext cx="20808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49560" y="1838160"/>
            <a:ext cx="7920" cy="119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92320" y="1820880"/>
            <a:ext cx="792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86040" y="197640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49400" y="2021040"/>
            <a:ext cx="176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125800" y="2011320"/>
            <a:ext cx="6480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8840" y="2028960"/>
            <a:ext cx="41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22520" y="195912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21000" y="17827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51240" y="1957320"/>
            <a:ext cx="257040" cy="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31800" y="2960640"/>
            <a:ext cx="1177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499760" y="3143160"/>
            <a:ext cx="13356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141560" y="3096720"/>
            <a:ext cx="15696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2400" y="3102120"/>
            <a:ext cx="125280" cy="122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0280" y="2625840"/>
            <a:ext cx="2156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772920" y="2507760"/>
            <a:ext cx="27000" cy="12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9400" y="24224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9400" y="263844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11240" y="25923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97040" y="25509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19160" y="2610000"/>
            <a:ext cx="57240" cy="1126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458720" y="2500200"/>
            <a:ext cx="99720" cy="158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09600" y="1965240"/>
            <a:ext cx="23832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57200" y="2090880"/>
            <a:ext cx="842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298520" y="2082960"/>
            <a:ext cx="76320" cy="10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47760" y="185436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17680" y="1925640"/>
            <a:ext cx="82440" cy="730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63680" y="2201760"/>
            <a:ext cx="47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47760" y="273204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09680" y="273528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95440" y="27320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77880" y="287172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2943360"/>
            <a:ext cx="84240" cy="712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92200" y="3862440"/>
            <a:ext cx="1573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451240" y="4051440"/>
            <a:ext cx="1094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433240" y="3989520"/>
            <a:ext cx="41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007640" y="3591000"/>
            <a:ext cx="182520" cy="17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82720" y="3654360"/>
            <a:ext cx="150840" cy="1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58680" y="3648240"/>
            <a:ext cx="10656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51240" y="2550960"/>
            <a:ext cx="82440" cy="185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84280" y="2563920"/>
            <a:ext cx="320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30320" y="24066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0320" y="25430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73000" y="173988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87400" y="1890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155680" y="193680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40080" y="19558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35200" y="2000160"/>
            <a:ext cx="108000" cy="1144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00360" y="1957320"/>
            <a:ext cx="106200" cy="15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51160" y="22780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35160" y="209232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25800" y="223344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400480" y="2266920"/>
            <a:ext cx="2505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25840" y="2276640"/>
            <a:ext cx="5220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98600" y="2095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61960" y="152244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463760" y="16398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1040" y="1758960"/>
            <a:ext cx="17460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876320" y="1812960"/>
            <a:ext cx="6480" cy="55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90840" y="178740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840" y="154944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66720" y="141768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44760" y="12873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066760" y="1488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050920" y="1501920"/>
            <a:ext cx="22320" cy="160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16080" y="3598560"/>
            <a:ext cx="125640" cy="11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47920" y="38098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06600" y="333072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73480" y="2998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71720" y="3630600"/>
            <a:ext cx="135000" cy="187200"/>
            <a:chOff x="1971720" y="3630600"/>
            <a:chExt cx="135000" cy="187200"/>
          </a:xfrm>
        </p:grpSpPr>
        <p:sp>
          <p:nvSpPr>
            <p:cNvPr id="1039" name=""/>
            <p:cNvSpPr/>
            <p:nvPr/>
          </p:nvSpPr>
          <p:spPr>
            <a:xfrm rot="5400000">
              <a:off x="1971360" y="3641760"/>
              <a:ext cx="98280" cy="75960"/>
            </a:xfrm>
            <a:prstGeom prst="rtTriangle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21040" y="3711600"/>
              <a:ext cx="85680" cy="1062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71720" y="3706920"/>
              <a:ext cx="7920" cy="88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158920" y="318600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467080" y="3319560"/>
            <a:ext cx="22680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84520" y="3313080"/>
            <a:ext cx="889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16080" y="28274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3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16320" y="3032280"/>
            <a:ext cx="249120" cy="3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57520" y="3056040"/>
            <a:ext cx="79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2521080"/>
            <a:ext cx="365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949480" y="2673000"/>
            <a:ext cx="209520" cy="4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68720" y="2658960"/>
            <a:ext cx="223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49000" y="2179800"/>
            <a:ext cx="158760" cy="214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440" y="2306520"/>
            <a:ext cx="168120" cy="8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4240" y="1216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280" y="1789200"/>
            <a:ext cx="172800" cy="142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15840" y="1900080"/>
            <a:ext cx="792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73080" y="13446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1230480"/>
            <a:ext cx="46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33640" y="1422360"/>
            <a:ext cx="6660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657520" y="2490480"/>
            <a:ext cx="23508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17680" y="3611520"/>
            <a:ext cx="47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3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0760" y="34797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007720" y="3677760"/>
            <a:ext cx="34920" cy="55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97040" y="347832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00000" y="3330720"/>
            <a:ext cx="37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82520" y="1782720"/>
            <a:ext cx="12384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440" y="1860480"/>
            <a:ext cx="2556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1320" y="3003480"/>
            <a:ext cx="36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92320" y="364968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5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00120" y="1336680"/>
            <a:ext cx="1427400" cy="836640"/>
          </a:xfrm>
          <a:custGeom>
            <a:avLst/>
            <a:gdLst/>
            <a:ahLst/>
            <a:rect l="l" t="t" r="r" b="b"/>
            <a:pathLst>
              <a:path w="899" h="527">
                <a:moveTo>
                  <a:pt x="898" y="465"/>
                </a:moveTo>
                <a:lnTo>
                  <a:pt x="878" y="465"/>
                </a:lnTo>
                <a:lnTo>
                  <a:pt x="864" y="465"/>
                </a:lnTo>
                <a:lnTo>
                  <a:pt x="835" y="469"/>
                </a:lnTo>
                <a:lnTo>
                  <a:pt x="805" y="475"/>
                </a:lnTo>
                <a:lnTo>
                  <a:pt x="786" y="480"/>
                </a:lnTo>
                <a:lnTo>
                  <a:pt x="772" y="485"/>
                </a:lnTo>
                <a:lnTo>
                  <a:pt x="757" y="490"/>
                </a:lnTo>
                <a:lnTo>
                  <a:pt x="718" y="495"/>
                </a:lnTo>
                <a:lnTo>
                  <a:pt x="704" y="500"/>
                </a:lnTo>
                <a:lnTo>
                  <a:pt x="689" y="505"/>
                </a:lnTo>
                <a:lnTo>
                  <a:pt x="674" y="511"/>
                </a:lnTo>
                <a:lnTo>
                  <a:pt x="655" y="511"/>
                </a:lnTo>
                <a:lnTo>
                  <a:pt x="636" y="516"/>
                </a:lnTo>
                <a:lnTo>
                  <a:pt x="602" y="520"/>
                </a:lnTo>
                <a:lnTo>
                  <a:pt x="563" y="526"/>
                </a:lnTo>
                <a:lnTo>
                  <a:pt x="519" y="526"/>
                </a:lnTo>
                <a:lnTo>
                  <a:pt x="490" y="526"/>
                </a:lnTo>
                <a:lnTo>
                  <a:pt x="475" y="526"/>
                </a:lnTo>
                <a:lnTo>
                  <a:pt x="446" y="526"/>
                </a:lnTo>
                <a:lnTo>
                  <a:pt x="402" y="526"/>
                </a:lnTo>
                <a:lnTo>
                  <a:pt x="383" y="516"/>
                </a:lnTo>
                <a:lnTo>
                  <a:pt x="369" y="505"/>
                </a:lnTo>
                <a:lnTo>
                  <a:pt x="339" y="500"/>
                </a:lnTo>
                <a:lnTo>
                  <a:pt x="320" y="490"/>
                </a:lnTo>
                <a:lnTo>
                  <a:pt x="306" y="480"/>
                </a:lnTo>
                <a:lnTo>
                  <a:pt x="287" y="460"/>
                </a:lnTo>
                <a:lnTo>
                  <a:pt x="257" y="449"/>
                </a:lnTo>
                <a:lnTo>
                  <a:pt x="243" y="440"/>
                </a:lnTo>
                <a:lnTo>
                  <a:pt x="233" y="424"/>
                </a:lnTo>
                <a:lnTo>
                  <a:pt x="223" y="409"/>
                </a:lnTo>
                <a:lnTo>
                  <a:pt x="214" y="374"/>
                </a:lnTo>
                <a:lnTo>
                  <a:pt x="203" y="358"/>
                </a:lnTo>
                <a:lnTo>
                  <a:pt x="194" y="338"/>
                </a:lnTo>
                <a:lnTo>
                  <a:pt x="165" y="308"/>
                </a:lnTo>
                <a:lnTo>
                  <a:pt x="151" y="287"/>
                </a:lnTo>
                <a:lnTo>
                  <a:pt x="140" y="273"/>
                </a:lnTo>
                <a:lnTo>
                  <a:pt x="130" y="258"/>
                </a:lnTo>
                <a:lnTo>
                  <a:pt x="121" y="242"/>
                </a:lnTo>
                <a:lnTo>
                  <a:pt x="107" y="227"/>
                </a:lnTo>
                <a:lnTo>
                  <a:pt x="97" y="212"/>
                </a:lnTo>
                <a:lnTo>
                  <a:pt x="87" y="191"/>
                </a:lnTo>
                <a:lnTo>
                  <a:pt x="83" y="176"/>
                </a:lnTo>
                <a:lnTo>
                  <a:pt x="73" y="161"/>
                </a:lnTo>
                <a:lnTo>
                  <a:pt x="67" y="141"/>
                </a:lnTo>
                <a:lnTo>
                  <a:pt x="63" y="126"/>
                </a:lnTo>
                <a:lnTo>
                  <a:pt x="58" y="111"/>
                </a:lnTo>
                <a:lnTo>
                  <a:pt x="53" y="91"/>
                </a:lnTo>
                <a:lnTo>
                  <a:pt x="48" y="75"/>
                </a:lnTo>
                <a:lnTo>
                  <a:pt x="43" y="60"/>
                </a:lnTo>
                <a:lnTo>
                  <a:pt x="39" y="45"/>
                </a:lnTo>
                <a:lnTo>
                  <a:pt x="39" y="29"/>
                </a:lnTo>
                <a:lnTo>
                  <a:pt x="29" y="9"/>
                </a:lnTo>
                <a:lnTo>
                  <a:pt x="19" y="9"/>
                </a:lnTo>
                <a:lnTo>
                  <a:pt x="5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9440" y="2189160"/>
            <a:ext cx="2884680" cy="1825560"/>
          </a:xfrm>
          <a:custGeom>
            <a:avLst/>
            <a:gdLst/>
            <a:ahLst/>
            <a:rect l="l" t="t" r="r" b="b"/>
            <a:pathLst>
              <a:path w="1817" h="1150">
                <a:moveTo>
                  <a:pt x="1816" y="724"/>
                </a:moveTo>
                <a:lnTo>
                  <a:pt x="1790" y="719"/>
                </a:lnTo>
                <a:lnTo>
                  <a:pt x="1770" y="719"/>
                </a:lnTo>
                <a:lnTo>
                  <a:pt x="1739" y="719"/>
                </a:lnTo>
                <a:lnTo>
                  <a:pt x="1725" y="719"/>
                </a:lnTo>
                <a:lnTo>
                  <a:pt x="1694" y="719"/>
                </a:lnTo>
                <a:lnTo>
                  <a:pt x="1679" y="719"/>
                </a:lnTo>
                <a:lnTo>
                  <a:pt x="1628" y="724"/>
                </a:lnTo>
                <a:lnTo>
                  <a:pt x="1608" y="728"/>
                </a:lnTo>
                <a:lnTo>
                  <a:pt x="1593" y="728"/>
                </a:lnTo>
                <a:lnTo>
                  <a:pt x="1563" y="733"/>
                </a:lnTo>
                <a:lnTo>
                  <a:pt x="1548" y="733"/>
                </a:lnTo>
                <a:lnTo>
                  <a:pt x="1532" y="733"/>
                </a:lnTo>
                <a:lnTo>
                  <a:pt x="1502" y="733"/>
                </a:lnTo>
                <a:lnTo>
                  <a:pt x="1487" y="733"/>
                </a:lnTo>
                <a:lnTo>
                  <a:pt x="1466" y="733"/>
                </a:lnTo>
                <a:lnTo>
                  <a:pt x="1446" y="733"/>
                </a:lnTo>
                <a:lnTo>
                  <a:pt x="1410" y="733"/>
                </a:lnTo>
                <a:lnTo>
                  <a:pt x="1390" y="739"/>
                </a:lnTo>
                <a:lnTo>
                  <a:pt x="1370" y="744"/>
                </a:lnTo>
                <a:lnTo>
                  <a:pt x="1330" y="748"/>
                </a:lnTo>
                <a:lnTo>
                  <a:pt x="1299" y="748"/>
                </a:lnTo>
                <a:lnTo>
                  <a:pt x="1270" y="753"/>
                </a:lnTo>
                <a:lnTo>
                  <a:pt x="1219" y="758"/>
                </a:lnTo>
                <a:lnTo>
                  <a:pt x="1203" y="768"/>
                </a:lnTo>
                <a:lnTo>
                  <a:pt x="1183" y="777"/>
                </a:lnTo>
                <a:lnTo>
                  <a:pt x="1168" y="782"/>
                </a:lnTo>
                <a:lnTo>
                  <a:pt x="1148" y="796"/>
                </a:lnTo>
                <a:lnTo>
                  <a:pt x="1132" y="806"/>
                </a:lnTo>
                <a:lnTo>
                  <a:pt x="1117" y="815"/>
                </a:lnTo>
                <a:lnTo>
                  <a:pt x="1107" y="830"/>
                </a:lnTo>
                <a:lnTo>
                  <a:pt x="1092" y="845"/>
                </a:lnTo>
                <a:lnTo>
                  <a:pt x="1061" y="855"/>
                </a:lnTo>
                <a:lnTo>
                  <a:pt x="1052" y="869"/>
                </a:lnTo>
                <a:lnTo>
                  <a:pt x="1036" y="879"/>
                </a:lnTo>
                <a:lnTo>
                  <a:pt x="996" y="898"/>
                </a:lnTo>
                <a:lnTo>
                  <a:pt x="965" y="907"/>
                </a:lnTo>
                <a:lnTo>
                  <a:pt x="945" y="917"/>
                </a:lnTo>
                <a:lnTo>
                  <a:pt x="915" y="926"/>
                </a:lnTo>
                <a:lnTo>
                  <a:pt x="895" y="941"/>
                </a:lnTo>
                <a:lnTo>
                  <a:pt x="874" y="956"/>
                </a:lnTo>
                <a:lnTo>
                  <a:pt x="845" y="985"/>
                </a:lnTo>
                <a:lnTo>
                  <a:pt x="814" y="994"/>
                </a:lnTo>
                <a:lnTo>
                  <a:pt x="803" y="1023"/>
                </a:lnTo>
                <a:lnTo>
                  <a:pt x="789" y="1037"/>
                </a:lnTo>
                <a:lnTo>
                  <a:pt x="768" y="1077"/>
                </a:lnTo>
                <a:lnTo>
                  <a:pt x="754" y="1091"/>
                </a:lnTo>
                <a:lnTo>
                  <a:pt x="723" y="1101"/>
                </a:lnTo>
                <a:lnTo>
                  <a:pt x="707" y="1115"/>
                </a:lnTo>
                <a:lnTo>
                  <a:pt x="692" y="1129"/>
                </a:lnTo>
                <a:lnTo>
                  <a:pt x="677" y="1134"/>
                </a:lnTo>
                <a:lnTo>
                  <a:pt x="657" y="1139"/>
                </a:lnTo>
                <a:lnTo>
                  <a:pt x="642" y="1144"/>
                </a:lnTo>
                <a:lnTo>
                  <a:pt x="627" y="1144"/>
                </a:lnTo>
                <a:lnTo>
                  <a:pt x="571" y="1144"/>
                </a:lnTo>
                <a:lnTo>
                  <a:pt x="530" y="1149"/>
                </a:lnTo>
                <a:lnTo>
                  <a:pt x="516" y="1149"/>
                </a:lnTo>
                <a:lnTo>
                  <a:pt x="474" y="1149"/>
                </a:lnTo>
                <a:lnTo>
                  <a:pt x="445" y="1149"/>
                </a:lnTo>
                <a:lnTo>
                  <a:pt x="429" y="1149"/>
                </a:lnTo>
                <a:lnTo>
                  <a:pt x="399" y="1144"/>
                </a:lnTo>
                <a:lnTo>
                  <a:pt x="384" y="1134"/>
                </a:lnTo>
                <a:lnTo>
                  <a:pt x="349" y="1120"/>
                </a:lnTo>
                <a:lnTo>
                  <a:pt x="313" y="1105"/>
                </a:lnTo>
                <a:lnTo>
                  <a:pt x="272" y="1091"/>
                </a:lnTo>
                <a:lnTo>
                  <a:pt x="252" y="1077"/>
                </a:lnTo>
                <a:lnTo>
                  <a:pt x="237" y="1062"/>
                </a:lnTo>
                <a:lnTo>
                  <a:pt x="222" y="1047"/>
                </a:lnTo>
                <a:lnTo>
                  <a:pt x="202" y="1028"/>
                </a:lnTo>
                <a:lnTo>
                  <a:pt x="187" y="1009"/>
                </a:lnTo>
                <a:lnTo>
                  <a:pt x="176" y="994"/>
                </a:lnTo>
                <a:lnTo>
                  <a:pt x="171" y="980"/>
                </a:lnTo>
                <a:lnTo>
                  <a:pt x="161" y="966"/>
                </a:lnTo>
                <a:lnTo>
                  <a:pt x="146" y="951"/>
                </a:lnTo>
                <a:lnTo>
                  <a:pt x="136" y="917"/>
                </a:lnTo>
                <a:lnTo>
                  <a:pt x="136" y="903"/>
                </a:lnTo>
                <a:lnTo>
                  <a:pt x="125" y="888"/>
                </a:lnTo>
                <a:lnTo>
                  <a:pt x="121" y="869"/>
                </a:lnTo>
                <a:lnTo>
                  <a:pt x="111" y="840"/>
                </a:lnTo>
                <a:lnTo>
                  <a:pt x="100" y="825"/>
                </a:lnTo>
                <a:lnTo>
                  <a:pt x="96" y="806"/>
                </a:lnTo>
                <a:lnTo>
                  <a:pt x="90" y="792"/>
                </a:lnTo>
                <a:lnTo>
                  <a:pt x="85" y="777"/>
                </a:lnTo>
                <a:lnTo>
                  <a:pt x="80" y="748"/>
                </a:lnTo>
                <a:lnTo>
                  <a:pt x="80" y="733"/>
                </a:lnTo>
                <a:lnTo>
                  <a:pt x="75" y="714"/>
                </a:lnTo>
                <a:lnTo>
                  <a:pt x="75" y="695"/>
                </a:lnTo>
                <a:lnTo>
                  <a:pt x="75" y="666"/>
                </a:lnTo>
                <a:lnTo>
                  <a:pt x="75" y="652"/>
                </a:lnTo>
                <a:lnTo>
                  <a:pt x="75" y="637"/>
                </a:lnTo>
                <a:lnTo>
                  <a:pt x="75" y="622"/>
                </a:lnTo>
                <a:lnTo>
                  <a:pt x="75" y="608"/>
                </a:lnTo>
                <a:lnTo>
                  <a:pt x="75" y="570"/>
                </a:lnTo>
                <a:lnTo>
                  <a:pt x="80" y="555"/>
                </a:lnTo>
                <a:lnTo>
                  <a:pt x="80" y="541"/>
                </a:lnTo>
                <a:lnTo>
                  <a:pt x="90" y="521"/>
                </a:lnTo>
                <a:lnTo>
                  <a:pt x="100" y="502"/>
                </a:lnTo>
                <a:lnTo>
                  <a:pt x="105" y="487"/>
                </a:lnTo>
                <a:lnTo>
                  <a:pt x="111" y="473"/>
                </a:lnTo>
                <a:lnTo>
                  <a:pt x="121" y="459"/>
                </a:lnTo>
                <a:lnTo>
                  <a:pt x="131" y="444"/>
                </a:lnTo>
                <a:lnTo>
                  <a:pt x="141" y="430"/>
                </a:lnTo>
                <a:lnTo>
                  <a:pt x="146" y="415"/>
                </a:lnTo>
                <a:lnTo>
                  <a:pt x="156" y="400"/>
                </a:lnTo>
                <a:lnTo>
                  <a:pt x="161" y="386"/>
                </a:lnTo>
                <a:lnTo>
                  <a:pt x="167" y="367"/>
                </a:lnTo>
                <a:lnTo>
                  <a:pt x="167" y="348"/>
                </a:lnTo>
                <a:lnTo>
                  <a:pt x="167" y="308"/>
                </a:lnTo>
                <a:lnTo>
                  <a:pt x="171" y="294"/>
                </a:lnTo>
                <a:lnTo>
                  <a:pt x="171" y="280"/>
                </a:lnTo>
                <a:lnTo>
                  <a:pt x="171" y="265"/>
                </a:lnTo>
                <a:lnTo>
                  <a:pt x="171" y="246"/>
                </a:lnTo>
                <a:lnTo>
                  <a:pt x="171" y="232"/>
                </a:lnTo>
                <a:lnTo>
                  <a:pt x="171" y="217"/>
                </a:lnTo>
                <a:lnTo>
                  <a:pt x="171" y="197"/>
                </a:lnTo>
                <a:lnTo>
                  <a:pt x="171" y="183"/>
                </a:lnTo>
                <a:lnTo>
                  <a:pt x="171" y="164"/>
                </a:lnTo>
                <a:lnTo>
                  <a:pt x="167" y="149"/>
                </a:lnTo>
                <a:lnTo>
                  <a:pt x="167" y="135"/>
                </a:lnTo>
                <a:lnTo>
                  <a:pt x="151" y="121"/>
                </a:lnTo>
                <a:lnTo>
                  <a:pt x="141" y="106"/>
                </a:lnTo>
                <a:lnTo>
                  <a:pt x="125" y="91"/>
                </a:lnTo>
                <a:lnTo>
                  <a:pt x="111" y="77"/>
                </a:lnTo>
                <a:lnTo>
                  <a:pt x="96" y="62"/>
                </a:lnTo>
                <a:lnTo>
                  <a:pt x="60" y="48"/>
                </a:lnTo>
                <a:lnTo>
                  <a:pt x="45" y="38"/>
                </a:lnTo>
                <a:lnTo>
                  <a:pt x="29" y="24"/>
                </a:lnTo>
                <a:lnTo>
                  <a:pt x="14" y="1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09880" y="1892160"/>
            <a:ext cx="4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3062160"/>
            <a:ext cx="4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3525840" y="1293840"/>
            <a:ext cx="2322360" cy="283356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4"/>
          <a:stretch/>
        </p:blipFill>
        <p:spPr>
          <a:xfrm>
            <a:off x="6243480" y="1290600"/>
            <a:ext cx="2735280" cy="28544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90360" y="416232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11360" y="4195800"/>
            <a:ext cx="20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5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83360" y="41590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50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81640" y="1116360"/>
            <a:ext cx="3012120" cy="245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680000">
            <a:off x="4599720" y="3052440"/>
            <a:ext cx="133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OUNDARY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0360" y="245592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40000">
            <a:off x="7177320" y="2704680"/>
            <a:ext cx="1001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74800" y="4762440"/>
            <a:ext cx="67244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THESE MAPS WHAT CAN BE INFERRED ABOUT THE PRECIPITATION EFFICIENCY OF ANY CELLS THAT FOR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05080" y="5559480"/>
            <a:ext cx="66992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WHAT ABOUT THE LCL AND THE PROBABLE DEPTH OF THE WARM LAYER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12800" y="4619520"/>
            <a:ext cx="1171440" cy="189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49320" y="4856040"/>
            <a:ext cx="271440" cy="244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55800" y="516744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52560" y="5475240"/>
            <a:ext cx="271440" cy="24444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50760" y="578340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63720" y="610092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424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DELS’ 12-36 HR FORECAST OF ACCUMULATED PRECIPITATIO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008000" y="1654200"/>
            <a:ext cx="2041560" cy="2887560"/>
            <a:chOff x="1008000" y="1654200"/>
            <a:chExt cx="2041560" cy="2887560"/>
          </a:xfrm>
        </p:grpSpPr>
        <p:sp>
          <p:nvSpPr>
            <p:cNvPr id="1092" name=""/>
            <p:cNvSpPr/>
            <p:nvPr/>
          </p:nvSpPr>
          <p:spPr>
            <a:xfrm>
              <a:off x="1008000" y="1654200"/>
              <a:ext cx="2024280" cy="28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3680" y="1657440"/>
              <a:ext cx="1685880" cy="2865240"/>
            </a:xfrm>
            <a:custGeom>
              <a:avLst/>
              <a:gdLst/>
              <a:ahLst/>
              <a:rect l="l" t="t" r="r" b="b"/>
              <a:pathLst>
                <a:path w="1062" h="1805">
                  <a:moveTo>
                    <a:pt x="46" y="0"/>
                  </a:moveTo>
                  <a:lnTo>
                    <a:pt x="70" y="18"/>
                  </a:lnTo>
                  <a:lnTo>
                    <a:pt x="88" y="23"/>
                  </a:lnTo>
                  <a:lnTo>
                    <a:pt x="105" y="23"/>
                  </a:lnTo>
                  <a:lnTo>
                    <a:pt x="123" y="23"/>
                  </a:lnTo>
                  <a:lnTo>
                    <a:pt x="140" y="23"/>
                  </a:lnTo>
                  <a:lnTo>
                    <a:pt x="164" y="23"/>
                  </a:lnTo>
                  <a:lnTo>
                    <a:pt x="181" y="23"/>
                  </a:lnTo>
                  <a:lnTo>
                    <a:pt x="193" y="41"/>
                  </a:lnTo>
                  <a:lnTo>
                    <a:pt x="193" y="59"/>
                  </a:lnTo>
                  <a:lnTo>
                    <a:pt x="193" y="76"/>
                  </a:lnTo>
                  <a:lnTo>
                    <a:pt x="199" y="95"/>
                  </a:lnTo>
                  <a:lnTo>
                    <a:pt x="205" y="112"/>
                  </a:lnTo>
                  <a:lnTo>
                    <a:pt x="210" y="129"/>
                  </a:lnTo>
                  <a:lnTo>
                    <a:pt x="216" y="154"/>
                  </a:lnTo>
                  <a:lnTo>
                    <a:pt x="222" y="171"/>
                  </a:lnTo>
                  <a:lnTo>
                    <a:pt x="235" y="189"/>
                  </a:lnTo>
                  <a:lnTo>
                    <a:pt x="246" y="207"/>
                  </a:lnTo>
                  <a:lnTo>
                    <a:pt x="252" y="224"/>
                  </a:lnTo>
                  <a:lnTo>
                    <a:pt x="258" y="242"/>
                  </a:lnTo>
                  <a:lnTo>
                    <a:pt x="275" y="254"/>
                  </a:lnTo>
                  <a:lnTo>
                    <a:pt x="287" y="272"/>
                  </a:lnTo>
                  <a:lnTo>
                    <a:pt x="305" y="278"/>
                  </a:lnTo>
                  <a:lnTo>
                    <a:pt x="322" y="284"/>
                  </a:lnTo>
                  <a:lnTo>
                    <a:pt x="340" y="284"/>
                  </a:lnTo>
                  <a:lnTo>
                    <a:pt x="357" y="265"/>
                  </a:lnTo>
                  <a:lnTo>
                    <a:pt x="374" y="254"/>
                  </a:lnTo>
                  <a:lnTo>
                    <a:pt x="387" y="237"/>
                  </a:lnTo>
                  <a:lnTo>
                    <a:pt x="404" y="224"/>
                  </a:lnTo>
                  <a:lnTo>
                    <a:pt x="427" y="212"/>
                  </a:lnTo>
                  <a:lnTo>
                    <a:pt x="439" y="195"/>
                  </a:lnTo>
                  <a:lnTo>
                    <a:pt x="457" y="189"/>
                  </a:lnTo>
                  <a:lnTo>
                    <a:pt x="463" y="207"/>
                  </a:lnTo>
                  <a:lnTo>
                    <a:pt x="480" y="218"/>
                  </a:lnTo>
                  <a:lnTo>
                    <a:pt x="480" y="237"/>
                  </a:lnTo>
                  <a:lnTo>
                    <a:pt x="480" y="254"/>
                  </a:lnTo>
                  <a:lnTo>
                    <a:pt x="480" y="272"/>
                  </a:lnTo>
                  <a:lnTo>
                    <a:pt x="469" y="290"/>
                  </a:lnTo>
                  <a:lnTo>
                    <a:pt x="463" y="307"/>
                  </a:lnTo>
                  <a:lnTo>
                    <a:pt x="445" y="313"/>
                  </a:lnTo>
                  <a:lnTo>
                    <a:pt x="427" y="319"/>
                  </a:lnTo>
                  <a:lnTo>
                    <a:pt x="410" y="325"/>
                  </a:lnTo>
                  <a:lnTo>
                    <a:pt x="393" y="325"/>
                  </a:lnTo>
                  <a:lnTo>
                    <a:pt x="374" y="325"/>
                  </a:lnTo>
                  <a:lnTo>
                    <a:pt x="357" y="331"/>
                  </a:lnTo>
                  <a:lnTo>
                    <a:pt x="340" y="343"/>
                  </a:lnTo>
                  <a:lnTo>
                    <a:pt x="328" y="361"/>
                  </a:lnTo>
                  <a:lnTo>
                    <a:pt x="317" y="378"/>
                  </a:lnTo>
                  <a:lnTo>
                    <a:pt x="298" y="396"/>
                  </a:lnTo>
                  <a:lnTo>
                    <a:pt x="292" y="414"/>
                  </a:lnTo>
                  <a:lnTo>
                    <a:pt x="287" y="431"/>
                  </a:lnTo>
                  <a:lnTo>
                    <a:pt x="275" y="449"/>
                  </a:lnTo>
                  <a:lnTo>
                    <a:pt x="269" y="497"/>
                  </a:lnTo>
                  <a:lnTo>
                    <a:pt x="269" y="514"/>
                  </a:lnTo>
                  <a:lnTo>
                    <a:pt x="263" y="532"/>
                  </a:lnTo>
                  <a:lnTo>
                    <a:pt x="258" y="550"/>
                  </a:lnTo>
                  <a:lnTo>
                    <a:pt x="252" y="567"/>
                  </a:lnTo>
                  <a:lnTo>
                    <a:pt x="246" y="585"/>
                  </a:lnTo>
                  <a:lnTo>
                    <a:pt x="235" y="603"/>
                  </a:lnTo>
                  <a:lnTo>
                    <a:pt x="229" y="620"/>
                  </a:lnTo>
                  <a:lnTo>
                    <a:pt x="216" y="639"/>
                  </a:lnTo>
                  <a:lnTo>
                    <a:pt x="210" y="656"/>
                  </a:lnTo>
                  <a:lnTo>
                    <a:pt x="193" y="680"/>
                  </a:lnTo>
                  <a:lnTo>
                    <a:pt x="187" y="698"/>
                  </a:lnTo>
                  <a:lnTo>
                    <a:pt x="176" y="715"/>
                  </a:lnTo>
                  <a:lnTo>
                    <a:pt x="170" y="733"/>
                  </a:lnTo>
                  <a:lnTo>
                    <a:pt x="158" y="751"/>
                  </a:lnTo>
                  <a:lnTo>
                    <a:pt x="146" y="769"/>
                  </a:lnTo>
                  <a:lnTo>
                    <a:pt x="134" y="786"/>
                  </a:lnTo>
                  <a:lnTo>
                    <a:pt x="123" y="809"/>
                  </a:lnTo>
                  <a:lnTo>
                    <a:pt x="111" y="828"/>
                  </a:lnTo>
                  <a:lnTo>
                    <a:pt x="100" y="845"/>
                  </a:lnTo>
                  <a:lnTo>
                    <a:pt x="94" y="863"/>
                  </a:lnTo>
                  <a:lnTo>
                    <a:pt x="88" y="881"/>
                  </a:lnTo>
                  <a:lnTo>
                    <a:pt x="76" y="898"/>
                  </a:lnTo>
                  <a:lnTo>
                    <a:pt x="76" y="917"/>
                  </a:lnTo>
                  <a:lnTo>
                    <a:pt x="76" y="958"/>
                  </a:lnTo>
                  <a:lnTo>
                    <a:pt x="76" y="975"/>
                  </a:lnTo>
                  <a:lnTo>
                    <a:pt x="76" y="994"/>
                  </a:lnTo>
                  <a:lnTo>
                    <a:pt x="76" y="1011"/>
                  </a:lnTo>
                  <a:lnTo>
                    <a:pt x="76" y="1058"/>
                  </a:lnTo>
                  <a:lnTo>
                    <a:pt x="70" y="1076"/>
                  </a:lnTo>
                  <a:lnTo>
                    <a:pt x="64" y="1094"/>
                  </a:lnTo>
                  <a:lnTo>
                    <a:pt x="64" y="1111"/>
                  </a:lnTo>
                  <a:lnTo>
                    <a:pt x="64" y="1130"/>
                  </a:lnTo>
                  <a:lnTo>
                    <a:pt x="64" y="1147"/>
                  </a:lnTo>
                  <a:lnTo>
                    <a:pt x="58" y="1170"/>
                  </a:lnTo>
                  <a:lnTo>
                    <a:pt x="58" y="1194"/>
                  </a:lnTo>
                  <a:lnTo>
                    <a:pt x="52" y="1212"/>
                  </a:lnTo>
                  <a:lnTo>
                    <a:pt x="52" y="1230"/>
                  </a:lnTo>
                  <a:lnTo>
                    <a:pt x="46" y="1253"/>
                  </a:lnTo>
                  <a:lnTo>
                    <a:pt x="46" y="1271"/>
                  </a:lnTo>
                  <a:lnTo>
                    <a:pt x="46" y="1289"/>
                  </a:lnTo>
                  <a:lnTo>
                    <a:pt x="46" y="1306"/>
                  </a:lnTo>
                  <a:lnTo>
                    <a:pt x="46" y="1330"/>
                  </a:lnTo>
                  <a:lnTo>
                    <a:pt x="46" y="1348"/>
                  </a:lnTo>
                  <a:lnTo>
                    <a:pt x="46" y="1366"/>
                  </a:lnTo>
                  <a:lnTo>
                    <a:pt x="46" y="1383"/>
                  </a:lnTo>
                  <a:lnTo>
                    <a:pt x="41" y="1425"/>
                  </a:lnTo>
                  <a:lnTo>
                    <a:pt x="35" y="1442"/>
                  </a:lnTo>
                  <a:lnTo>
                    <a:pt x="29" y="1461"/>
                  </a:lnTo>
                  <a:lnTo>
                    <a:pt x="29" y="1478"/>
                  </a:lnTo>
                  <a:lnTo>
                    <a:pt x="23" y="1496"/>
                  </a:lnTo>
                  <a:lnTo>
                    <a:pt x="23" y="1514"/>
                  </a:lnTo>
                  <a:lnTo>
                    <a:pt x="18" y="1538"/>
                  </a:lnTo>
                  <a:lnTo>
                    <a:pt x="18" y="1579"/>
                  </a:lnTo>
                  <a:lnTo>
                    <a:pt x="12" y="1597"/>
                  </a:lnTo>
                  <a:lnTo>
                    <a:pt x="6" y="1614"/>
                  </a:lnTo>
                  <a:lnTo>
                    <a:pt x="6" y="1667"/>
                  </a:lnTo>
                  <a:lnTo>
                    <a:pt x="0" y="1685"/>
                  </a:lnTo>
                  <a:lnTo>
                    <a:pt x="0" y="1703"/>
                  </a:lnTo>
                  <a:lnTo>
                    <a:pt x="0" y="1721"/>
                  </a:lnTo>
                  <a:lnTo>
                    <a:pt x="0" y="1738"/>
                  </a:lnTo>
                  <a:lnTo>
                    <a:pt x="0" y="1756"/>
                  </a:lnTo>
                  <a:lnTo>
                    <a:pt x="0" y="1791"/>
                  </a:lnTo>
                  <a:lnTo>
                    <a:pt x="18" y="1797"/>
                  </a:lnTo>
                  <a:lnTo>
                    <a:pt x="35" y="1797"/>
                  </a:lnTo>
                  <a:lnTo>
                    <a:pt x="82" y="1804"/>
                  </a:lnTo>
                  <a:lnTo>
                    <a:pt x="100" y="1804"/>
                  </a:lnTo>
                  <a:lnTo>
                    <a:pt x="164" y="1804"/>
                  </a:lnTo>
                  <a:lnTo>
                    <a:pt x="128" y="1804"/>
                  </a:lnTo>
                  <a:lnTo>
                    <a:pt x="117" y="1786"/>
                  </a:lnTo>
                  <a:lnTo>
                    <a:pt x="117" y="1768"/>
                  </a:lnTo>
                  <a:lnTo>
                    <a:pt x="117" y="1750"/>
                  </a:lnTo>
                  <a:lnTo>
                    <a:pt x="117" y="1733"/>
                  </a:lnTo>
                  <a:lnTo>
                    <a:pt x="117" y="1708"/>
                  </a:lnTo>
                  <a:lnTo>
                    <a:pt x="123" y="1691"/>
                  </a:lnTo>
                  <a:lnTo>
                    <a:pt x="128" y="1674"/>
                  </a:lnTo>
                  <a:lnTo>
                    <a:pt x="140" y="1655"/>
                  </a:lnTo>
                  <a:lnTo>
                    <a:pt x="158" y="1650"/>
                  </a:lnTo>
                  <a:lnTo>
                    <a:pt x="181" y="1638"/>
                  </a:lnTo>
                  <a:lnTo>
                    <a:pt x="216" y="1632"/>
                  </a:lnTo>
                  <a:lnTo>
                    <a:pt x="235" y="1626"/>
                  </a:lnTo>
                  <a:lnTo>
                    <a:pt x="252" y="1614"/>
                  </a:lnTo>
                  <a:lnTo>
                    <a:pt x="275" y="1597"/>
                  </a:lnTo>
                  <a:lnTo>
                    <a:pt x="292" y="1585"/>
                  </a:lnTo>
                  <a:lnTo>
                    <a:pt x="311" y="1572"/>
                  </a:lnTo>
                  <a:lnTo>
                    <a:pt x="334" y="1555"/>
                  </a:lnTo>
                  <a:lnTo>
                    <a:pt x="351" y="1538"/>
                  </a:lnTo>
                  <a:lnTo>
                    <a:pt x="369" y="1525"/>
                  </a:lnTo>
                  <a:lnTo>
                    <a:pt x="387" y="1514"/>
                  </a:lnTo>
                  <a:lnTo>
                    <a:pt x="404" y="1502"/>
                  </a:lnTo>
                  <a:lnTo>
                    <a:pt x="422" y="1484"/>
                  </a:lnTo>
                  <a:lnTo>
                    <a:pt x="439" y="1478"/>
                  </a:lnTo>
                  <a:lnTo>
                    <a:pt x="457" y="1472"/>
                  </a:lnTo>
                  <a:lnTo>
                    <a:pt x="475" y="1461"/>
                  </a:lnTo>
                  <a:lnTo>
                    <a:pt x="492" y="1455"/>
                  </a:lnTo>
                  <a:lnTo>
                    <a:pt x="509" y="1442"/>
                  </a:lnTo>
                  <a:lnTo>
                    <a:pt x="527" y="1442"/>
                  </a:lnTo>
                  <a:lnTo>
                    <a:pt x="545" y="1431"/>
                  </a:lnTo>
                  <a:lnTo>
                    <a:pt x="562" y="1425"/>
                  </a:lnTo>
                  <a:lnTo>
                    <a:pt x="580" y="1413"/>
                  </a:lnTo>
                  <a:lnTo>
                    <a:pt x="597" y="1402"/>
                  </a:lnTo>
                  <a:lnTo>
                    <a:pt x="616" y="1383"/>
                  </a:lnTo>
                  <a:lnTo>
                    <a:pt x="627" y="1366"/>
                  </a:lnTo>
                  <a:lnTo>
                    <a:pt x="644" y="1354"/>
                  </a:lnTo>
                  <a:lnTo>
                    <a:pt x="662" y="1342"/>
                  </a:lnTo>
                  <a:lnTo>
                    <a:pt x="673" y="1325"/>
                  </a:lnTo>
                  <a:lnTo>
                    <a:pt x="692" y="1313"/>
                  </a:lnTo>
                  <a:lnTo>
                    <a:pt x="703" y="1295"/>
                  </a:lnTo>
                  <a:lnTo>
                    <a:pt x="721" y="1277"/>
                  </a:lnTo>
                  <a:lnTo>
                    <a:pt x="726" y="1259"/>
                  </a:lnTo>
                  <a:lnTo>
                    <a:pt x="744" y="1242"/>
                  </a:lnTo>
                  <a:lnTo>
                    <a:pt x="755" y="1224"/>
                  </a:lnTo>
                  <a:lnTo>
                    <a:pt x="774" y="1212"/>
                  </a:lnTo>
                  <a:lnTo>
                    <a:pt x="785" y="1194"/>
                  </a:lnTo>
                  <a:lnTo>
                    <a:pt x="803" y="1189"/>
                  </a:lnTo>
                  <a:lnTo>
                    <a:pt x="820" y="1189"/>
                  </a:lnTo>
                  <a:lnTo>
                    <a:pt x="844" y="1177"/>
                  </a:lnTo>
                  <a:lnTo>
                    <a:pt x="861" y="1164"/>
                  </a:lnTo>
                  <a:lnTo>
                    <a:pt x="879" y="1164"/>
                  </a:lnTo>
                  <a:lnTo>
                    <a:pt x="926" y="1164"/>
                  </a:lnTo>
                  <a:lnTo>
                    <a:pt x="943" y="1170"/>
                  </a:lnTo>
                  <a:lnTo>
                    <a:pt x="961" y="1177"/>
                  </a:lnTo>
                  <a:lnTo>
                    <a:pt x="978" y="1183"/>
                  </a:lnTo>
                  <a:lnTo>
                    <a:pt x="996" y="1194"/>
                  </a:lnTo>
                  <a:lnTo>
                    <a:pt x="1049" y="1206"/>
                  </a:lnTo>
                  <a:lnTo>
                    <a:pt x="1061" y="1189"/>
                  </a:lnTo>
                  <a:lnTo>
                    <a:pt x="1061" y="1164"/>
                  </a:lnTo>
                  <a:lnTo>
                    <a:pt x="1061" y="1147"/>
                  </a:lnTo>
                  <a:lnTo>
                    <a:pt x="1061" y="1123"/>
                  </a:lnTo>
                  <a:lnTo>
                    <a:pt x="1061" y="1081"/>
                  </a:lnTo>
                  <a:lnTo>
                    <a:pt x="1061" y="1064"/>
                  </a:lnTo>
                  <a:lnTo>
                    <a:pt x="1037" y="1053"/>
                  </a:lnTo>
                  <a:lnTo>
                    <a:pt x="1020" y="1047"/>
                  </a:lnTo>
                  <a:lnTo>
                    <a:pt x="1002" y="1047"/>
                  </a:lnTo>
                  <a:lnTo>
                    <a:pt x="984" y="1047"/>
                  </a:lnTo>
                  <a:lnTo>
                    <a:pt x="967" y="1047"/>
                  </a:lnTo>
                  <a:lnTo>
                    <a:pt x="949" y="1034"/>
                  </a:lnTo>
                  <a:lnTo>
                    <a:pt x="926" y="1028"/>
                  </a:lnTo>
                  <a:lnTo>
                    <a:pt x="879" y="1023"/>
                  </a:lnTo>
                  <a:lnTo>
                    <a:pt x="861" y="1017"/>
                  </a:lnTo>
                  <a:lnTo>
                    <a:pt x="844" y="1005"/>
                  </a:lnTo>
                  <a:lnTo>
                    <a:pt x="838" y="987"/>
                  </a:lnTo>
                  <a:lnTo>
                    <a:pt x="820" y="970"/>
                  </a:lnTo>
                  <a:lnTo>
                    <a:pt x="808" y="945"/>
                  </a:lnTo>
                  <a:lnTo>
                    <a:pt x="803" y="928"/>
                  </a:lnTo>
                  <a:lnTo>
                    <a:pt x="797" y="911"/>
                  </a:lnTo>
                  <a:lnTo>
                    <a:pt x="797" y="875"/>
                  </a:lnTo>
                  <a:lnTo>
                    <a:pt x="791" y="858"/>
                  </a:lnTo>
                  <a:lnTo>
                    <a:pt x="785" y="839"/>
                  </a:lnTo>
                  <a:lnTo>
                    <a:pt x="785" y="822"/>
                  </a:lnTo>
                  <a:lnTo>
                    <a:pt x="785" y="804"/>
                  </a:lnTo>
                  <a:lnTo>
                    <a:pt x="791" y="786"/>
                  </a:lnTo>
                  <a:lnTo>
                    <a:pt x="797" y="739"/>
                  </a:lnTo>
                  <a:lnTo>
                    <a:pt x="808" y="722"/>
                  </a:lnTo>
                  <a:lnTo>
                    <a:pt x="826" y="715"/>
                  </a:lnTo>
                  <a:lnTo>
                    <a:pt x="879" y="709"/>
                  </a:lnTo>
                  <a:lnTo>
                    <a:pt x="902" y="698"/>
                  </a:lnTo>
                  <a:lnTo>
                    <a:pt x="920" y="680"/>
                  </a:lnTo>
                  <a:lnTo>
                    <a:pt x="943" y="668"/>
                  </a:lnTo>
                  <a:lnTo>
                    <a:pt x="984" y="609"/>
                  </a:lnTo>
                  <a:lnTo>
                    <a:pt x="996" y="591"/>
                  </a:lnTo>
                  <a:lnTo>
                    <a:pt x="996" y="550"/>
                  </a:lnTo>
                  <a:lnTo>
                    <a:pt x="978" y="526"/>
                  </a:lnTo>
                  <a:lnTo>
                    <a:pt x="961" y="520"/>
                  </a:lnTo>
                  <a:lnTo>
                    <a:pt x="943" y="497"/>
                  </a:lnTo>
                  <a:lnTo>
                    <a:pt x="908" y="490"/>
                  </a:lnTo>
                  <a:lnTo>
                    <a:pt x="861" y="455"/>
                  </a:lnTo>
                  <a:lnTo>
                    <a:pt x="850" y="420"/>
                  </a:lnTo>
                  <a:lnTo>
                    <a:pt x="838" y="401"/>
                  </a:lnTo>
                  <a:lnTo>
                    <a:pt x="826" y="384"/>
                  </a:lnTo>
                  <a:lnTo>
                    <a:pt x="808" y="343"/>
                  </a:lnTo>
                  <a:lnTo>
                    <a:pt x="791" y="295"/>
                  </a:lnTo>
                  <a:lnTo>
                    <a:pt x="774" y="278"/>
                  </a:lnTo>
                  <a:lnTo>
                    <a:pt x="755" y="237"/>
                  </a:lnTo>
                  <a:lnTo>
                    <a:pt x="744" y="189"/>
                  </a:lnTo>
                  <a:lnTo>
                    <a:pt x="697" y="142"/>
                  </a:lnTo>
                  <a:lnTo>
                    <a:pt x="662" y="106"/>
                  </a:lnTo>
                  <a:lnTo>
                    <a:pt x="656" y="88"/>
                  </a:lnTo>
                  <a:lnTo>
                    <a:pt x="650" y="71"/>
                  </a:lnTo>
                  <a:lnTo>
                    <a:pt x="644" y="53"/>
                  </a:lnTo>
                  <a:lnTo>
                    <a:pt x="639" y="35"/>
                  </a:lnTo>
                  <a:lnTo>
                    <a:pt x="633" y="18"/>
                  </a:lnTo>
                  <a:lnTo>
                    <a:pt x="627" y="0"/>
                  </a:lnTo>
                  <a:lnTo>
                    <a:pt x="603" y="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06680" y="2079720"/>
              <a:ext cx="1117440" cy="1812960"/>
            </a:xfrm>
            <a:custGeom>
              <a:avLst/>
              <a:gdLst/>
              <a:ahLst/>
              <a:rect l="l" t="t" r="r" b="b"/>
              <a:pathLst>
                <a:path w="704" h="1142">
                  <a:moveTo>
                    <a:pt x="456" y="12"/>
                  </a:moveTo>
                  <a:lnTo>
                    <a:pt x="486" y="24"/>
                  </a:lnTo>
                  <a:lnTo>
                    <a:pt x="503" y="35"/>
                  </a:lnTo>
                  <a:lnTo>
                    <a:pt x="509" y="53"/>
                  </a:lnTo>
                  <a:lnTo>
                    <a:pt x="526" y="65"/>
                  </a:lnTo>
                  <a:lnTo>
                    <a:pt x="532" y="82"/>
                  </a:lnTo>
                  <a:lnTo>
                    <a:pt x="550" y="95"/>
                  </a:lnTo>
                  <a:lnTo>
                    <a:pt x="568" y="112"/>
                  </a:lnTo>
                  <a:lnTo>
                    <a:pt x="585" y="124"/>
                  </a:lnTo>
                  <a:lnTo>
                    <a:pt x="602" y="142"/>
                  </a:lnTo>
                  <a:lnTo>
                    <a:pt x="620" y="160"/>
                  </a:lnTo>
                  <a:lnTo>
                    <a:pt x="632" y="177"/>
                  </a:lnTo>
                  <a:lnTo>
                    <a:pt x="644" y="195"/>
                  </a:lnTo>
                  <a:lnTo>
                    <a:pt x="650" y="213"/>
                  </a:lnTo>
                  <a:lnTo>
                    <a:pt x="667" y="231"/>
                  </a:lnTo>
                  <a:lnTo>
                    <a:pt x="679" y="248"/>
                  </a:lnTo>
                  <a:lnTo>
                    <a:pt x="684" y="266"/>
                  </a:lnTo>
                  <a:lnTo>
                    <a:pt x="696" y="284"/>
                  </a:lnTo>
                  <a:lnTo>
                    <a:pt x="703" y="301"/>
                  </a:lnTo>
                  <a:lnTo>
                    <a:pt x="703" y="320"/>
                  </a:lnTo>
                  <a:lnTo>
                    <a:pt x="703" y="337"/>
                  </a:lnTo>
                  <a:lnTo>
                    <a:pt x="703" y="354"/>
                  </a:lnTo>
                  <a:lnTo>
                    <a:pt x="703" y="373"/>
                  </a:lnTo>
                  <a:lnTo>
                    <a:pt x="684" y="396"/>
                  </a:lnTo>
                  <a:lnTo>
                    <a:pt x="673" y="414"/>
                  </a:lnTo>
                  <a:lnTo>
                    <a:pt x="655" y="432"/>
                  </a:lnTo>
                  <a:lnTo>
                    <a:pt x="638" y="449"/>
                  </a:lnTo>
                  <a:lnTo>
                    <a:pt x="626" y="467"/>
                  </a:lnTo>
                  <a:lnTo>
                    <a:pt x="614" y="490"/>
                  </a:lnTo>
                  <a:lnTo>
                    <a:pt x="602" y="509"/>
                  </a:lnTo>
                  <a:lnTo>
                    <a:pt x="591" y="526"/>
                  </a:lnTo>
                  <a:lnTo>
                    <a:pt x="585" y="543"/>
                  </a:lnTo>
                  <a:lnTo>
                    <a:pt x="579" y="562"/>
                  </a:lnTo>
                  <a:lnTo>
                    <a:pt x="568" y="579"/>
                  </a:lnTo>
                  <a:lnTo>
                    <a:pt x="562" y="597"/>
                  </a:lnTo>
                  <a:lnTo>
                    <a:pt x="556" y="615"/>
                  </a:lnTo>
                  <a:lnTo>
                    <a:pt x="556" y="632"/>
                  </a:lnTo>
                  <a:lnTo>
                    <a:pt x="550" y="651"/>
                  </a:lnTo>
                  <a:lnTo>
                    <a:pt x="550" y="668"/>
                  </a:lnTo>
                  <a:lnTo>
                    <a:pt x="543" y="686"/>
                  </a:lnTo>
                  <a:lnTo>
                    <a:pt x="538" y="709"/>
                  </a:lnTo>
                  <a:lnTo>
                    <a:pt x="532" y="727"/>
                  </a:lnTo>
                  <a:lnTo>
                    <a:pt x="532" y="745"/>
                  </a:lnTo>
                  <a:lnTo>
                    <a:pt x="526" y="762"/>
                  </a:lnTo>
                  <a:lnTo>
                    <a:pt x="520" y="781"/>
                  </a:lnTo>
                  <a:lnTo>
                    <a:pt x="515" y="798"/>
                  </a:lnTo>
                  <a:lnTo>
                    <a:pt x="509" y="815"/>
                  </a:lnTo>
                  <a:lnTo>
                    <a:pt x="503" y="840"/>
                  </a:lnTo>
                  <a:lnTo>
                    <a:pt x="497" y="857"/>
                  </a:lnTo>
                  <a:lnTo>
                    <a:pt x="486" y="875"/>
                  </a:lnTo>
                  <a:lnTo>
                    <a:pt x="474" y="893"/>
                  </a:lnTo>
                  <a:lnTo>
                    <a:pt x="456" y="910"/>
                  </a:lnTo>
                  <a:lnTo>
                    <a:pt x="444" y="928"/>
                  </a:lnTo>
                  <a:lnTo>
                    <a:pt x="438" y="946"/>
                  </a:lnTo>
                  <a:lnTo>
                    <a:pt x="421" y="964"/>
                  </a:lnTo>
                  <a:lnTo>
                    <a:pt x="404" y="981"/>
                  </a:lnTo>
                  <a:lnTo>
                    <a:pt x="392" y="999"/>
                  </a:lnTo>
                  <a:lnTo>
                    <a:pt x="380" y="1017"/>
                  </a:lnTo>
                  <a:lnTo>
                    <a:pt x="362" y="1034"/>
                  </a:lnTo>
                  <a:lnTo>
                    <a:pt x="351" y="1053"/>
                  </a:lnTo>
                  <a:lnTo>
                    <a:pt x="333" y="1070"/>
                  </a:lnTo>
                  <a:lnTo>
                    <a:pt x="316" y="1082"/>
                  </a:lnTo>
                  <a:lnTo>
                    <a:pt x="298" y="1087"/>
                  </a:lnTo>
                  <a:lnTo>
                    <a:pt x="280" y="1100"/>
                  </a:lnTo>
                  <a:lnTo>
                    <a:pt x="263" y="1106"/>
                  </a:lnTo>
                  <a:lnTo>
                    <a:pt x="240" y="1117"/>
                  </a:lnTo>
                  <a:lnTo>
                    <a:pt x="221" y="1129"/>
                  </a:lnTo>
                  <a:lnTo>
                    <a:pt x="204" y="1135"/>
                  </a:lnTo>
                  <a:lnTo>
                    <a:pt x="187" y="1141"/>
                  </a:lnTo>
                  <a:lnTo>
                    <a:pt x="169" y="1141"/>
                  </a:lnTo>
                  <a:lnTo>
                    <a:pt x="151" y="1141"/>
                  </a:lnTo>
                  <a:lnTo>
                    <a:pt x="134" y="1141"/>
                  </a:lnTo>
                  <a:lnTo>
                    <a:pt x="110" y="1129"/>
                  </a:lnTo>
                  <a:lnTo>
                    <a:pt x="93" y="1117"/>
                  </a:lnTo>
                  <a:lnTo>
                    <a:pt x="87" y="1100"/>
                  </a:lnTo>
                  <a:lnTo>
                    <a:pt x="75" y="1082"/>
                  </a:lnTo>
                  <a:lnTo>
                    <a:pt x="57" y="1064"/>
                  </a:lnTo>
                  <a:lnTo>
                    <a:pt x="52" y="1040"/>
                  </a:lnTo>
                  <a:lnTo>
                    <a:pt x="40" y="1023"/>
                  </a:lnTo>
                  <a:lnTo>
                    <a:pt x="34" y="1005"/>
                  </a:lnTo>
                  <a:lnTo>
                    <a:pt x="23" y="981"/>
                  </a:lnTo>
                  <a:lnTo>
                    <a:pt x="17" y="964"/>
                  </a:lnTo>
                  <a:lnTo>
                    <a:pt x="11" y="946"/>
                  </a:lnTo>
                  <a:lnTo>
                    <a:pt x="11" y="928"/>
                  </a:lnTo>
                  <a:lnTo>
                    <a:pt x="5" y="904"/>
                  </a:lnTo>
                  <a:lnTo>
                    <a:pt x="5" y="887"/>
                  </a:lnTo>
                  <a:lnTo>
                    <a:pt x="5" y="863"/>
                  </a:lnTo>
                  <a:lnTo>
                    <a:pt x="0" y="840"/>
                  </a:lnTo>
                  <a:lnTo>
                    <a:pt x="0" y="822"/>
                  </a:lnTo>
                  <a:lnTo>
                    <a:pt x="0" y="804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0" y="751"/>
                  </a:lnTo>
                  <a:lnTo>
                    <a:pt x="0" y="733"/>
                  </a:lnTo>
                  <a:lnTo>
                    <a:pt x="0" y="715"/>
                  </a:lnTo>
                  <a:lnTo>
                    <a:pt x="0" y="698"/>
                  </a:lnTo>
                  <a:lnTo>
                    <a:pt x="0" y="679"/>
                  </a:lnTo>
                  <a:lnTo>
                    <a:pt x="0" y="662"/>
                  </a:lnTo>
                  <a:lnTo>
                    <a:pt x="0" y="645"/>
                  </a:lnTo>
                  <a:lnTo>
                    <a:pt x="0" y="626"/>
                  </a:lnTo>
                  <a:lnTo>
                    <a:pt x="11" y="609"/>
                  </a:lnTo>
                  <a:lnTo>
                    <a:pt x="28" y="597"/>
                  </a:lnTo>
                  <a:lnTo>
                    <a:pt x="40" y="579"/>
                  </a:lnTo>
                  <a:lnTo>
                    <a:pt x="46" y="562"/>
                  </a:lnTo>
                  <a:lnTo>
                    <a:pt x="57" y="543"/>
                  </a:lnTo>
                  <a:lnTo>
                    <a:pt x="75" y="526"/>
                  </a:lnTo>
                  <a:lnTo>
                    <a:pt x="82" y="509"/>
                  </a:lnTo>
                  <a:lnTo>
                    <a:pt x="87" y="490"/>
                  </a:lnTo>
                  <a:lnTo>
                    <a:pt x="87" y="473"/>
                  </a:lnTo>
                  <a:lnTo>
                    <a:pt x="93" y="455"/>
                  </a:lnTo>
                  <a:lnTo>
                    <a:pt x="93" y="437"/>
                  </a:lnTo>
                  <a:lnTo>
                    <a:pt x="93" y="420"/>
                  </a:lnTo>
                  <a:lnTo>
                    <a:pt x="99" y="396"/>
                  </a:lnTo>
                  <a:lnTo>
                    <a:pt x="105" y="379"/>
                  </a:lnTo>
                  <a:lnTo>
                    <a:pt x="105" y="360"/>
                  </a:lnTo>
                  <a:lnTo>
                    <a:pt x="110" y="343"/>
                  </a:lnTo>
                  <a:lnTo>
                    <a:pt x="122" y="325"/>
                  </a:lnTo>
                  <a:lnTo>
                    <a:pt x="128" y="307"/>
                  </a:lnTo>
                  <a:lnTo>
                    <a:pt x="139" y="290"/>
                  </a:lnTo>
                  <a:lnTo>
                    <a:pt x="151" y="271"/>
                  </a:lnTo>
                  <a:lnTo>
                    <a:pt x="164" y="254"/>
                  </a:lnTo>
                  <a:lnTo>
                    <a:pt x="169" y="237"/>
                  </a:lnTo>
                  <a:lnTo>
                    <a:pt x="175" y="218"/>
                  </a:lnTo>
                  <a:lnTo>
                    <a:pt x="181" y="201"/>
                  </a:lnTo>
                  <a:lnTo>
                    <a:pt x="192" y="184"/>
                  </a:lnTo>
                  <a:lnTo>
                    <a:pt x="210" y="165"/>
                  </a:lnTo>
                  <a:lnTo>
                    <a:pt x="221" y="148"/>
                  </a:lnTo>
                  <a:lnTo>
                    <a:pt x="240" y="130"/>
                  </a:lnTo>
                  <a:lnTo>
                    <a:pt x="257" y="118"/>
                  </a:lnTo>
                  <a:lnTo>
                    <a:pt x="274" y="107"/>
                  </a:lnTo>
                  <a:lnTo>
                    <a:pt x="292" y="101"/>
                  </a:lnTo>
                  <a:lnTo>
                    <a:pt x="309" y="88"/>
                  </a:lnTo>
                  <a:lnTo>
                    <a:pt x="327" y="77"/>
                  </a:lnTo>
                  <a:lnTo>
                    <a:pt x="345" y="59"/>
                  </a:lnTo>
                  <a:lnTo>
                    <a:pt x="368" y="35"/>
                  </a:lnTo>
                  <a:lnTo>
                    <a:pt x="392" y="18"/>
                  </a:lnTo>
                  <a:lnTo>
                    <a:pt x="409" y="6"/>
                  </a:lnTo>
                  <a:lnTo>
                    <a:pt x="427" y="0"/>
                  </a:lnTo>
                  <a:lnTo>
                    <a:pt x="433" y="0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27280" y="2268360"/>
              <a:ext cx="857160" cy="1306800"/>
            </a:xfrm>
            <a:custGeom>
              <a:avLst/>
              <a:gdLst/>
              <a:ahLst/>
              <a:rect l="l" t="t" r="r" b="b"/>
              <a:pathLst>
                <a:path w="540" h="823">
                  <a:moveTo>
                    <a:pt x="263" y="23"/>
                  </a:moveTo>
                  <a:lnTo>
                    <a:pt x="286" y="17"/>
                  </a:lnTo>
                  <a:lnTo>
                    <a:pt x="304" y="12"/>
                  </a:lnTo>
                  <a:lnTo>
                    <a:pt x="322" y="6"/>
                  </a:lnTo>
                  <a:lnTo>
                    <a:pt x="339" y="6"/>
                  </a:lnTo>
                  <a:lnTo>
                    <a:pt x="357" y="0"/>
                  </a:lnTo>
                  <a:lnTo>
                    <a:pt x="374" y="0"/>
                  </a:lnTo>
                  <a:lnTo>
                    <a:pt x="392" y="6"/>
                  </a:lnTo>
                  <a:lnTo>
                    <a:pt x="404" y="23"/>
                  </a:lnTo>
                  <a:lnTo>
                    <a:pt x="421" y="29"/>
                  </a:lnTo>
                  <a:lnTo>
                    <a:pt x="433" y="47"/>
                  </a:lnTo>
                  <a:lnTo>
                    <a:pt x="450" y="59"/>
                  </a:lnTo>
                  <a:lnTo>
                    <a:pt x="474" y="76"/>
                  </a:lnTo>
                  <a:lnTo>
                    <a:pt x="509" y="88"/>
                  </a:lnTo>
                  <a:lnTo>
                    <a:pt x="521" y="106"/>
                  </a:lnTo>
                  <a:lnTo>
                    <a:pt x="532" y="124"/>
                  </a:lnTo>
                  <a:lnTo>
                    <a:pt x="539" y="142"/>
                  </a:lnTo>
                  <a:lnTo>
                    <a:pt x="539" y="159"/>
                  </a:lnTo>
                  <a:lnTo>
                    <a:pt x="539" y="177"/>
                  </a:lnTo>
                  <a:lnTo>
                    <a:pt x="539" y="195"/>
                  </a:lnTo>
                  <a:lnTo>
                    <a:pt x="539" y="212"/>
                  </a:lnTo>
                  <a:lnTo>
                    <a:pt x="539" y="231"/>
                  </a:lnTo>
                  <a:lnTo>
                    <a:pt x="526" y="248"/>
                  </a:lnTo>
                  <a:lnTo>
                    <a:pt x="515" y="271"/>
                  </a:lnTo>
                  <a:lnTo>
                    <a:pt x="497" y="289"/>
                  </a:lnTo>
                  <a:lnTo>
                    <a:pt x="486" y="307"/>
                  </a:lnTo>
                  <a:lnTo>
                    <a:pt x="480" y="325"/>
                  </a:lnTo>
                  <a:lnTo>
                    <a:pt x="468" y="348"/>
                  </a:lnTo>
                  <a:lnTo>
                    <a:pt x="456" y="367"/>
                  </a:lnTo>
                  <a:lnTo>
                    <a:pt x="439" y="390"/>
                  </a:lnTo>
                  <a:lnTo>
                    <a:pt x="433" y="407"/>
                  </a:lnTo>
                  <a:lnTo>
                    <a:pt x="421" y="425"/>
                  </a:lnTo>
                  <a:lnTo>
                    <a:pt x="415" y="443"/>
                  </a:lnTo>
                  <a:lnTo>
                    <a:pt x="410" y="467"/>
                  </a:lnTo>
                  <a:lnTo>
                    <a:pt x="404" y="484"/>
                  </a:lnTo>
                  <a:lnTo>
                    <a:pt x="398" y="503"/>
                  </a:lnTo>
                  <a:lnTo>
                    <a:pt x="387" y="520"/>
                  </a:lnTo>
                  <a:lnTo>
                    <a:pt x="380" y="543"/>
                  </a:lnTo>
                  <a:lnTo>
                    <a:pt x="368" y="585"/>
                  </a:lnTo>
                  <a:lnTo>
                    <a:pt x="362" y="603"/>
                  </a:lnTo>
                  <a:lnTo>
                    <a:pt x="357" y="620"/>
                  </a:lnTo>
                  <a:lnTo>
                    <a:pt x="345" y="644"/>
                  </a:lnTo>
                  <a:lnTo>
                    <a:pt x="339" y="662"/>
                  </a:lnTo>
                  <a:lnTo>
                    <a:pt x="333" y="679"/>
                  </a:lnTo>
                  <a:lnTo>
                    <a:pt x="328" y="697"/>
                  </a:lnTo>
                  <a:lnTo>
                    <a:pt x="310" y="715"/>
                  </a:lnTo>
                  <a:lnTo>
                    <a:pt x="292" y="739"/>
                  </a:lnTo>
                  <a:lnTo>
                    <a:pt x="280" y="756"/>
                  </a:lnTo>
                  <a:lnTo>
                    <a:pt x="263" y="774"/>
                  </a:lnTo>
                  <a:lnTo>
                    <a:pt x="251" y="792"/>
                  </a:lnTo>
                  <a:lnTo>
                    <a:pt x="234" y="798"/>
                  </a:lnTo>
                  <a:lnTo>
                    <a:pt x="216" y="809"/>
                  </a:lnTo>
                  <a:lnTo>
                    <a:pt x="198" y="815"/>
                  </a:lnTo>
                  <a:lnTo>
                    <a:pt x="181" y="815"/>
                  </a:lnTo>
                  <a:lnTo>
                    <a:pt x="164" y="822"/>
                  </a:lnTo>
                  <a:lnTo>
                    <a:pt x="140" y="822"/>
                  </a:lnTo>
                  <a:lnTo>
                    <a:pt x="122" y="822"/>
                  </a:lnTo>
                  <a:lnTo>
                    <a:pt x="105" y="822"/>
                  </a:lnTo>
                  <a:lnTo>
                    <a:pt x="88" y="809"/>
                  </a:lnTo>
                  <a:lnTo>
                    <a:pt x="69" y="792"/>
                  </a:lnTo>
                  <a:lnTo>
                    <a:pt x="58" y="774"/>
                  </a:lnTo>
                  <a:lnTo>
                    <a:pt x="46" y="756"/>
                  </a:lnTo>
                  <a:lnTo>
                    <a:pt x="34" y="739"/>
                  </a:lnTo>
                  <a:lnTo>
                    <a:pt x="29" y="721"/>
                  </a:lnTo>
                  <a:lnTo>
                    <a:pt x="23" y="703"/>
                  </a:lnTo>
                  <a:lnTo>
                    <a:pt x="17" y="686"/>
                  </a:lnTo>
                  <a:lnTo>
                    <a:pt x="11" y="668"/>
                  </a:lnTo>
                  <a:lnTo>
                    <a:pt x="6" y="650"/>
                  </a:lnTo>
                  <a:lnTo>
                    <a:pt x="0" y="632"/>
                  </a:lnTo>
                  <a:lnTo>
                    <a:pt x="0" y="614"/>
                  </a:lnTo>
                  <a:lnTo>
                    <a:pt x="0" y="597"/>
                  </a:lnTo>
                  <a:lnTo>
                    <a:pt x="0" y="579"/>
                  </a:lnTo>
                  <a:lnTo>
                    <a:pt x="0" y="561"/>
                  </a:lnTo>
                  <a:lnTo>
                    <a:pt x="0" y="543"/>
                  </a:lnTo>
                  <a:lnTo>
                    <a:pt x="11" y="520"/>
                  </a:lnTo>
                  <a:lnTo>
                    <a:pt x="23" y="503"/>
                  </a:lnTo>
                  <a:lnTo>
                    <a:pt x="34" y="484"/>
                  </a:lnTo>
                  <a:lnTo>
                    <a:pt x="40" y="467"/>
                  </a:lnTo>
                  <a:lnTo>
                    <a:pt x="52" y="449"/>
                  </a:lnTo>
                  <a:lnTo>
                    <a:pt x="58" y="431"/>
                  </a:lnTo>
                  <a:lnTo>
                    <a:pt x="63" y="414"/>
                  </a:lnTo>
                  <a:lnTo>
                    <a:pt x="69" y="396"/>
                  </a:lnTo>
                  <a:lnTo>
                    <a:pt x="75" y="378"/>
                  </a:lnTo>
                  <a:lnTo>
                    <a:pt x="75" y="360"/>
                  </a:lnTo>
                  <a:lnTo>
                    <a:pt x="75" y="342"/>
                  </a:lnTo>
                  <a:lnTo>
                    <a:pt x="82" y="325"/>
                  </a:lnTo>
                  <a:lnTo>
                    <a:pt x="82" y="301"/>
                  </a:lnTo>
                  <a:lnTo>
                    <a:pt x="88" y="284"/>
                  </a:lnTo>
                  <a:lnTo>
                    <a:pt x="88" y="265"/>
                  </a:lnTo>
                  <a:lnTo>
                    <a:pt x="93" y="248"/>
                  </a:lnTo>
                  <a:lnTo>
                    <a:pt x="99" y="231"/>
                  </a:lnTo>
                  <a:lnTo>
                    <a:pt x="105" y="212"/>
                  </a:lnTo>
                  <a:lnTo>
                    <a:pt x="111" y="195"/>
                  </a:lnTo>
                  <a:lnTo>
                    <a:pt x="122" y="177"/>
                  </a:lnTo>
                  <a:lnTo>
                    <a:pt x="128" y="159"/>
                  </a:lnTo>
                  <a:lnTo>
                    <a:pt x="134" y="142"/>
                  </a:lnTo>
                  <a:lnTo>
                    <a:pt x="151" y="129"/>
                  </a:lnTo>
                  <a:lnTo>
                    <a:pt x="158" y="112"/>
                  </a:lnTo>
                  <a:lnTo>
                    <a:pt x="175" y="95"/>
                  </a:lnTo>
                  <a:lnTo>
                    <a:pt x="181" y="76"/>
                  </a:lnTo>
                  <a:lnTo>
                    <a:pt x="198" y="59"/>
                  </a:lnTo>
                  <a:lnTo>
                    <a:pt x="216" y="47"/>
                  </a:lnTo>
                  <a:lnTo>
                    <a:pt x="234" y="41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2416320" y="1666800"/>
              <a:ext cx="15696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98760" y="2268360"/>
              <a:ext cx="52236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787480" y="2943360"/>
              <a:ext cx="120960" cy="132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08440" y="3300480"/>
              <a:ext cx="10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36920" y="4238640"/>
              <a:ext cx="49356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4280" y="4116240"/>
              <a:ext cx="77292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509920" y="4238640"/>
              <a:ext cx="792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28880" y="3984480"/>
              <a:ext cx="74448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1017360" y="2662200"/>
              <a:ext cx="244440" cy="12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47600" y="2614680"/>
              <a:ext cx="2224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27200" y="4398840"/>
              <a:ext cx="49392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47880" y="16574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81" y="35"/>
                  </a:moveTo>
                  <a:lnTo>
                    <a:pt x="94" y="59"/>
                  </a:lnTo>
                  <a:lnTo>
                    <a:pt x="94" y="76"/>
                  </a:lnTo>
                  <a:lnTo>
                    <a:pt x="94" y="94"/>
                  </a:lnTo>
                  <a:lnTo>
                    <a:pt x="94" y="112"/>
                  </a:lnTo>
                  <a:lnTo>
                    <a:pt x="87" y="129"/>
                  </a:lnTo>
                  <a:lnTo>
                    <a:pt x="81" y="148"/>
                  </a:lnTo>
                  <a:lnTo>
                    <a:pt x="64" y="148"/>
                  </a:lnTo>
                  <a:lnTo>
                    <a:pt x="46" y="148"/>
                  </a:lnTo>
                  <a:lnTo>
                    <a:pt x="29" y="148"/>
                  </a:lnTo>
                  <a:lnTo>
                    <a:pt x="17" y="129"/>
                  </a:lnTo>
                  <a:lnTo>
                    <a:pt x="6" y="112"/>
                  </a:lnTo>
                  <a:lnTo>
                    <a:pt x="6" y="94"/>
                  </a:lnTo>
                  <a:lnTo>
                    <a:pt x="6" y="76"/>
                  </a:lnTo>
                  <a:lnTo>
                    <a:pt x="6" y="59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81" y="35"/>
                  </a:lnTo>
                  <a:lnTo>
                    <a:pt x="81" y="35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68480" y="2484360"/>
              <a:ext cx="382680" cy="733680"/>
            </a:xfrm>
            <a:custGeom>
              <a:avLst/>
              <a:gdLst/>
              <a:ahLst/>
              <a:rect l="l" t="t" r="r" b="b"/>
              <a:pathLst>
                <a:path w="241" h="462">
                  <a:moveTo>
                    <a:pt x="111" y="23"/>
                  </a:moveTo>
                  <a:lnTo>
                    <a:pt x="134" y="0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7" y="0"/>
                  </a:lnTo>
                  <a:lnTo>
                    <a:pt x="210" y="0"/>
                  </a:lnTo>
                  <a:lnTo>
                    <a:pt x="228" y="12"/>
                  </a:lnTo>
                  <a:lnTo>
                    <a:pt x="234" y="35"/>
                  </a:lnTo>
                  <a:lnTo>
                    <a:pt x="240" y="53"/>
                  </a:lnTo>
                  <a:lnTo>
                    <a:pt x="240" y="70"/>
                  </a:lnTo>
                  <a:lnTo>
                    <a:pt x="240" y="88"/>
                  </a:lnTo>
                  <a:lnTo>
                    <a:pt x="240" y="106"/>
                  </a:lnTo>
                  <a:lnTo>
                    <a:pt x="234" y="124"/>
                  </a:lnTo>
                  <a:lnTo>
                    <a:pt x="228" y="142"/>
                  </a:lnTo>
                  <a:lnTo>
                    <a:pt x="210" y="159"/>
                  </a:lnTo>
                  <a:lnTo>
                    <a:pt x="205" y="177"/>
                  </a:lnTo>
                  <a:lnTo>
                    <a:pt x="199" y="195"/>
                  </a:lnTo>
                  <a:lnTo>
                    <a:pt x="193" y="212"/>
                  </a:lnTo>
                  <a:lnTo>
                    <a:pt x="181" y="236"/>
                  </a:lnTo>
                  <a:lnTo>
                    <a:pt x="176" y="254"/>
                  </a:lnTo>
                  <a:lnTo>
                    <a:pt x="164" y="271"/>
                  </a:lnTo>
                  <a:lnTo>
                    <a:pt x="157" y="295"/>
                  </a:lnTo>
                  <a:lnTo>
                    <a:pt x="146" y="318"/>
                  </a:lnTo>
                  <a:lnTo>
                    <a:pt x="140" y="337"/>
                  </a:lnTo>
                  <a:lnTo>
                    <a:pt x="134" y="354"/>
                  </a:lnTo>
                  <a:lnTo>
                    <a:pt x="128" y="401"/>
                  </a:lnTo>
                  <a:lnTo>
                    <a:pt x="128" y="420"/>
                  </a:lnTo>
                  <a:lnTo>
                    <a:pt x="123" y="443"/>
                  </a:lnTo>
                  <a:lnTo>
                    <a:pt x="105" y="454"/>
                  </a:lnTo>
                  <a:lnTo>
                    <a:pt x="88" y="461"/>
                  </a:lnTo>
                  <a:lnTo>
                    <a:pt x="70" y="461"/>
                  </a:lnTo>
                  <a:lnTo>
                    <a:pt x="52" y="461"/>
                  </a:lnTo>
                  <a:lnTo>
                    <a:pt x="35" y="454"/>
                  </a:lnTo>
                  <a:lnTo>
                    <a:pt x="23" y="437"/>
                  </a:lnTo>
                  <a:lnTo>
                    <a:pt x="6" y="420"/>
                  </a:lnTo>
                  <a:lnTo>
                    <a:pt x="6" y="401"/>
                  </a:lnTo>
                  <a:lnTo>
                    <a:pt x="6" y="384"/>
                  </a:lnTo>
                  <a:lnTo>
                    <a:pt x="6" y="366"/>
                  </a:lnTo>
                  <a:lnTo>
                    <a:pt x="6" y="348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278"/>
                  </a:lnTo>
                  <a:lnTo>
                    <a:pt x="0" y="254"/>
                  </a:lnTo>
                  <a:lnTo>
                    <a:pt x="6" y="236"/>
                  </a:lnTo>
                  <a:lnTo>
                    <a:pt x="6" y="218"/>
                  </a:lnTo>
                  <a:lnTo>
                    <a:pt x="12" y="201"/>
                  </a:lnTo>
                  <a:lnTo>
                    <a:pt x="23" y="182"/>
                  </a:lnTo>
                  <a:lnTo>
                    <a:pt x="29" y="165"/>
                  </a:lnTo>
                  <a:lnTo>
                    <a:pt x="35" y="148"/>
                  </a:lnTo>
                  <a:lnTo>
                    <a:pt x="41" y="129"/>
                  </a:lnTo>
                  <a:lnTo>
                    <a:pt x="46" y="112"/>
                  </a:lnTo>
                  <a:lnTo>
                    <a:pt x="58" y="95"/>
                  </a:lnTo>
                  <a:lnTo>
                    <a:pt x="70" y="70"/>
                  </a:lnTo>
                  <a:lnTo>
                    <a:pt x="82" y="53"/>
                  </a:lnTo>
                  <a:lnTo>
                    <a:pt x="88" y="4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17880" y="2851200"/>
              <a:ext cx="7905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70080" y="2681280"/>
              <a:ext cx="9032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633840" y="1657440"/>
            <a:ext cx="2060640" cy="2921040"/>
            <a:chOff x="3633840" y="1657440"/>
            <a:chExt cx="2060640" cy="2921040"/>
          </a:xfrm>
        </p:grpSpPr>
        <p:sp>
          <p:nvSpPr>
            <p:cNvPr id="1112" name=""/>
            <p:cNvSpPr/>
            <p:nvPr/>
          </p:nvSpPr>
          <p:spPr>
            <a:xfrm>
              <a:off x="3639960" y="1673280"/>
              <a:ext cx="2054520" cy="28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2920" y="1657440"/>
              <a:ext cx="2030400" cy="2297160"/>
            </a:xfrm>
            <a:custGeom>
              <a:avLst/>
              <a:gdLst/>
              <a:ahLst/>
              <a:rect l="l" t="t" r="r" b="b"/>
              <a:pathLst>
                <a:path w="1279" h="1447">
                  <a:moveTo>
                    <a:pt x="196" y="1446"/>
                  </a:moveTo>
                  <a:lnTo>
                    <a:pt x="196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208" y="1370"/>
                  </a:lnTo>
                  <a:lnTo>
                    <a:pt x="208" y="1353"/>
                  </a:lnTo>
                  <a:lnTo>
                    <a:pt x="202" y="1336"/>
                  </a:lnTo>
                  <a:lnTo>
                    <a:pt x="196" y="1318"/>
                  </a:lnTo>
                  <a:lnTo>
                    <a:pt x="196" y="1301"/>
                  </a:lnTo>
                  <a:lnTo>
                    <a:pt x="179" y="1284"/>
                  </a:lnTo>
                  <a:lnTo>
                    <a:pt x="167" y="1266"/>
                  </a:lnTo>
                  <a:lnTo>
                    <a:pt x="156" y="1249"/>
                  </a:lnTo>
                  <a:lnTo>
                    <a:pt x="144" y="1232"/>
                  </a:lnTo>
                  <a:lnTo>
                    <a:pt x="138" y="1214"/>
                  </a:lnTo>
                  <a:lnTo>
                    <a:pt x="121" y="1203"/>
                  </a:lnTo>
                  <a:lnTo>
                    <a:pt x="110" y="1185"/>
                  </a:lnTo>
                  <a:lnTo>
                    <a:pt x="98" y="1168"/>
                  </a:lnTo>
                  <a:lnTo>
                    <a:pt x="86" y="1151"/>
                  </a:lnTo>
                  <a:lnTo>
                    <a:pt x="69" y="1127"/>
                  </a:lnTo>
                  <a:lnTo>
                    <a:pt x="86" y="1116"/>
                  </a:lnTo>
                  <a:lnTo>
                    <a:pt x="127" y="1116"/>
                  </a:lnTo>
                  <a:lnTo>
                    <a:pt x="150" y="1104"/>
                  </a:lnTo>
                  <a:lnTo>
                    <a:pt x="167" y="1087"/>
                  </a:lnTo>
                  <a:lnTo>
                    <a:pt x="185" y="1075"/>
                  </a:lnTo>
                  <a:lnTo>
                    <a:pt x="191" y="1058"/>
                  </a:lnTo>
                  <a:lnTo>
                    <a:pt x="196" y="1041"/>
                  </a:lnTo>
                  <a:lnTo>
                    <a:pt x="208" y="1023"/>
                  </a:lnTo>
                  <a:lnTo>
                    <a:pt x="214" y="1006"/>
                  </a:lnTo>
                  <a:lnTo>
                    <a:pt x="219" y="989"/>
                  </a:lnTo>
                  <a:lnTo>
                    <a:pt x="231" y="971"/>
                  </a:lnTo>
                  <a:lnTo>
                    <a:pt x="237" y="954"/>
                  </a:lnTo>
                  <a:lnTo>
                    <a:pt x="243" y="937"/>
                  </a:lnTo>
                  <a:lnTo>
                    <a:pt x="248" y="919"/>
                  </a:lnTo>
                  <a:lnTo>
                    <a:pt x="254" y="902"/>
                  </a:lnTo>
                  <a:lnTo>
                    <a:pt x="260" y="885"/>
                  </a:lnTo>
                  <a:lnTo>
                    <a:pt x="266" y="861"/>
                  </a:lnTo>
                  <a:lnTo>
                    <a:pt x="266" y="844"/>
                  </a:lnTo>
                  <a:lnTo>
                    <a:pt x="260" y="827"/>
                  </a:lnTo>
                  <a:lnTo>
                    <a:pt x="248" y="809"/>
                  </a:lnTo>
                  <a:lnTo>
                    <a:pt x="231" y="798"/>
                  </a:lnTo>
                  <a:lnTo>
                    <a:pt x="225" y="781"/>
                  </a:lnTo>
                  <a:lnTo>
                    <a:pt x="208" y="769"/>
                  </a:lnTo>
                  <a:lnTo>
                    <a:pt x="191" y="717"/>
                  </a:lnTo>
                  <a:lnTo>
                    <a:pt x="185" y="700"/>
                  </a:lnTo>
                  <a:lnTo>
                    <a:pt x="173" y="682"/>
                  </a:lnTo>
                  <a:lnTo>
                    <a:pt x="162" y="665"/>
                  </a:lnTo>
                  <a:lnTo>
                    <a:pt x="156" y="630"/>
                  </a:lnTo>
                  <a:lnTo>
                    <a:pt x="144" y="613"/>
                  </a:lnTo>
                  <a:lnTo>
                    <a:pt x="127" y="601"/>
                  </a:lnTo>
                  <a:lnTo>
                    <a:pt x="110" y="590"/>
                  </a:lnTo>
                  <a:lnTo>
                    <a:pt x="92" y="578"/>
                  </a:lnTo>
                  <a:lnTo>
                    <a:pt x="75" y="567"/>
                  </a:lnTo>
                  <a:lnTo>
                    <a:pt x="69" y="549"/>
                  </a:lnTo>
                  <a:lnTo>
                    <a:pt x="52" y="543"/>
                  </a:lnTo>
                  <a:lnTo>
                    <a:pt x="40" y="526"/>
                  </a:lnTo>
                  <a:lnTo>
                    <a:pt x="29" y="509"/>
                  </a:lnTo>
                  <a:lnTo>
                    <a:pt x="29" y="491"/>
                  </a:lnTo>
                  <a:lnTo>
                    <a:pt x="23" y="451"/>
                  </a:lnTo>
                  <a:lnTo>
                    <a:pt x="17" y="434"/>
                  </a:lnTo>
                  <a:lnTo>
                    <a:pt x="17" y="416"/>
                  </a:lnTo>
                  <a:lnTo>
                    <a:pt x="17" y="399"/>
                  </a:lnTo>
                  <a:lnTo>
                    <a:pt x="17" y="382"/>
                  </a:lnTo>
                  <a:lnTo>
                    <a:pt x="17" y="364"/>
                  </a:lnTo>
                  <a:lnTo>
                    <a:pt x="17" y="341"/>
                  </a:lnTo>
                  <a:lnTo>
                    <a:pt x="17" y="324"/>
                  </a:lnTo>
                  <a:lnTo>
                    <a:pt x="17" y="306"/>
                  </a:lnTo>
                  <a:lnTo>
                    <a:pt x="17" y="283"/>
                  </a:lnTo>
                  <a:lnTo>
                    <a:pt x="17" y="266"/>
                  </a:lnTo>
                  <a:lnTo>
                    <a:pt x="23" y="249"/>
                  </a:lnTo>
                  <a:lnTo>
                    <a:pt x="23" y="231"/>
                  </a:lnTo>
                  <a:lnTo>
                    <a:pt x="23" y="214"/>
                  </a:lnTo>
                  <a:lnTo>
                    <a:pt x="23" y="196"/>
                  </a:lnTo>
                  <a:lnTo>
                    <a:pt x="17" y="179"/>
                  </a:lnTo>
                  <a:lnTo>
                    <a:pt x="17" y="162"/>
                  </a:lnTo>
                  <a:lnTo>
                    <a:pt x="17" y="116"/>
                  </a:lnTo>
                  <a:lnTo>
                    <a:pt x="11" y="98"/>
                  </a:lnTo>
                  <a:lnTo>
                    <a:pt x="5" y="81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7" y="29"/>
                  </a:lnTo>
                  <a:lnTo>
                    <a:pt x="34" y="17"/>
                  </a:lnTo>
                  <a:lnTo>
                    <a:pt x="75" y="17"/>
                  </a:lnTo>
                  <a:lnTo>
                    <a:pt x="92" y="17"/>
                  </a:lnTo>
                  <a:lnTo>
                    <a:pt x="110" y="11"/>
                  </a:lnTo>
                  <a:lnTo>
                    <a:pt x="144" y="11"/>
                  </a:lnTo>
                  <a:lnTo>
                    <a:pt x="167" y="11"/>
                  </a:lnTo>
                  <a:lnTo>
                    <a:pt x="185" y="11"/>
                  </a:lnTo>
                  <a:lnTo>
                    <a:pt x="237" y="11"/>
                  </a:lnTo>
                  <a:lnTo>
                    <a:pt x="254" y="11"/>
                  </a:lnTo>
                  <a:lnTo>
                    <a:pt x="277" y="11"/>
                  </a:lnTo>
                  <a:lnTo>
                    <a:pt x="335" y="11"/>
                  </a:lnTo>
                  <a:lnTo>
                    <a:pt x="370" y="11"/>
                  </a:lnTo>
                  <a:lnTo>
                    <a:pt x="387" y="11"/>
                  </a:lnTo>
                  <a:lnTo>
                    <a:pt x="405" y="11"/>
                  </a:lnTo>
                  <a:lnTo>
                    <a:pt x="451" y="11"/>
                  </a:lnTo>
                  <a:lnTo>
                    <a:pt x="474" y="11"/>
                  </a:lnTo>
                  <a:lnTo>
                    <a:pt x="491" y="11"/>
                  </a:lnTo>
                  <a:lnTo>
                    <a:pt x="509" y="11"/>
                  </a:lnTo>
                  <a:lnTo>
                    <a:pt x="543" y="11"/>
                  </a:lnTo>
                  <a:lnTo>
                    <a:pt x="566" y="11"/>
                  </a:lnTo>
                  <a:lnTo>
                    <a:pt x="590" y="6"/>
                  </a:lnTo>
                  <a:lnTo>
                    <a:pt x="624" y="6"/>
                  </a:lnTo>
                  <a:lnTo>
                    <a:pt x="647" y="6"/>
                  </a:lnTo>
                  <a:lnTo>
                    <a:pt x="665" y="6"/>
                  </a:lnTo>
                  <a:lnTo>
                    <a:pt x="682" y="6"/>
                  </a:lnTo>
                  <a:lnTo>
                    <a:pt x="700" y="6"/>
                  </a:lnTo>
                  <a:lnTo>
                    <a:pt x="717" y="6"/>
                  </a:lnTo>
                  <a:lnTo>
                    <a:pt x="763" y="0"/>
                  </a:lnTo>
                  <a:lnTo>
                    <a:pt x="786" y="0"/>
                  </a:lnTo>
                  <a:lnTo>
                    <a:pt x="833" y="0"/>
                  </a:lnTo>
                  <a:lnTo>
                    <a:pt x="850" y="0"/>
                  </a:lnTo>
                  <a:lnTo>
                    <a:pt x="861" y="17"/>
                  </a:lnTo>
                  <a:lnTo>
                    <a:pt x="879" y="29"/>
                  </a:lnTo>
                  <a:lnTo>
                    <a:pt x="890" y="52"/>
                  </a:lnTo>
                  <a:lnTo>
                    <a:pt x="908" y="58"/>
                  </a:lnTo>
                  <a:lnTo>
                    <a:pt x="919" y="75"/>
                  </a:lnTo>
                  <a:lnTo>
                    <a:pt x="937" y="92"/>
                  </a:lnTo>
                  <a:lnTo>
                    <a:pt x="954" y="104"/>
                  </a:lnTo>
                  <a:lnTo>
                    <a:pt x="971" y="116"/>
                  </a:lnTo>
                  <a:lnTo>
                    <a:pt x="983" y="133"/>
                  </a:lnTo>
                  <a:lnTo>
                    <a:pt x="1000" y="150"/>
                  </a:lnTo>
                  <a:lnTo>
                    <a:pt x="1018" y="162"/>
                  </a:lnTo>
                  <a:lnTo>
                    <a:pt x="1035" y="173"/>
                  </a:lnTo>
                  <a:lnTo>
                    <a:pt x="1041" y="191"/>
                  </a:lnTo>
                  <a:lnTo>
                    <a:pt x="1047" y="208"/>
                  </a:lnTo>
                  <a:lnTo>
                    <a:pt x="1064" y="225"/>
                  </a:lnTo>
                  <a:lnTo>
                    <a:pt x="1075" y="243"/>
                  </a:lnTo>
                  <a:lnTo>
                    <a:pt x="1081" y="260"/>
                  </a:lnTo>
                  <a:lnTo>
                    <a:pt x="1093" y="277"/>
                  </a:lnTo>
                  <a:lnTo>
                    <a:pt x="1099" y="295"/>
                  </a:lnTo>
                  <a:lnTo>
                    <a:pt x="1104" y="312"/>
                  </a:lnTo>
                  <a:lnTo>
                    <a:pt x="1110" y="329"/>
                  </a:lnTo>
                  <a:lnTo>
                    <a:pt x="1116" y="347"/>
                  </a:lnTo>
                  <a:lnTo>
                    <a:pt x="1128" y="364"/>
                  </a:lnTo>
                  <a:lnTo>
                    <a:pt x="1133" y="382"/>
                  </a:lnTo>
                  <a:lnTo>
                    <a:pt x="1139" y="399"/>
                  </a:lnTo>
                  <a:lnTo>
                    <a:pt x="1145" y="416"/>
                  </a:lnTo>
                  <a:lnTo>
                    <a:pt x="1156" y="434"/>
                  </a:lnTo>
                  <a:lnTo>
                    <a:pt x="1156" y="451"/>
                  </a:lnTo>
                  <a:lnTo>
                    <a:pt x="1168" y="468"/>
                  </a:lnTo>
                  <a:lnTo>
                    <a:pt x="1185" y="491"/>
                  </a:lnTo>
                  <a:lnTo>
                    <a:pt x="1191" y="509"/>
                  </a:lnTo>
                  <a:lnTo>
                    <a:pt x="1197" y="526"/>
                  </a:lnTo>
                  <a:lnTo>
                    <a:pt x="1203" y="543"/>
                  </a:lnTo>
                  <a:lnTo>
                    <a:pt x="1209" y="590"/>
                  </a:lnTo>
                  <a:lnTo>
                    <a:pt x="1214" y="607"/>
                  </a:lnTo>
                  <a:lnTo>
                    <a:pt x="1220" y="624"/>
                  </a:lnTo>
                  <a:lnTo>
                    <a:pt x="1226" y="642"/>
                  </a:lnTo>
                  <a:lnTo>
                    <a:pt x="1232" y="659"/>
                  </a:lnTo>
                  <a:lnTo>
                    <a:pt x="1243" y="676"/>
                  </a:lnTo>
                  <a:lnTo>
                    <a:pt x="1249" y="694"/>
                  </a:lnTo>
                  <a:lnTo>
                    <a:pt x="1261" y="711"/>
                  </a:lnTo>
                  <a:lnTo>
                    <a:pt x="1266" y="728"/>
                  </a:lnTo>
                  <a:lnTo>
                    <a:pt x="1266" y="746"/>
                  </a:lnTo>
                  <a:lnTo>
                    <a:pt x="1272" y="763"/>
                  </a:lnTo>
                  <a:lnTo>
                    <a:pt x="1278" y="781"/>
                  </a:lnTo>
                  <a:lnTo>
                    <a:pt x="1278" y="798"/>
                  </a:lnTo>
                  <a:lnTo>
                    <a:pt x="1278" y="833"/>
                  </a:lnTo>
                  <a:lnTo>
                    <a:pt x="1278" y="850"/>
                  </a:lnTo>
                  <a:lnTo>
                    <a:pt x="1278" y="867"/>
                  </a:lnTo>
                  <a:lnTo>
                    <a:pt x="1278" y="885"/>
                  </a:lnTo>
                  <a:lnTo>
                    <a:pt x="1278" y="908"/>
                  </a:lnTo>
                  <a:lnTo>
                    <a:pt x="1278" y="931"/>
                  </a:lnTo>
                  <a:lnTo>
                    <a:pt x="1278" y="948"/>
                  </a:lnTo>
                  <a:lnTo>
                    <a:pt x="1278" y="971"/>
                  </a:lnTo>
                  <a:lnTo>
                    <a:pt x="1278" y="989"/>
                  </a:lnTo>
                  <a:lnTo>
                    <a:pt x="1278" y="1006"/>
                  </a:lnTo>
                  <a:lnTo>
                    <a:pt x="1278" y="1023"/>
                  </a:lnTo>
                  <a:lnTo>
                    <a:pt x="1278" y="1041"/>
                  </a:lnTo>
                  <a:lnTo>
                    <a:pt x="1278" y="1058"/>
                  </a:lnTo>
                  <a:lnTo>
                    <a:pt x="1278" y="1075"/>
                  </a:lnTo>
                  <a:lnTo>
                    <a:pt x="1278" y="1110"/>
                  </a:lnTo>
                  <a:lnTo>
                    <a:pt x="1278" y="1127"/>
                  </a:lnTo>
                  <a:lnTo>
                    <a:pt x="1272" y="1145"/>
                  </a:lnTo>
                  <a:lnTo>
                    <a:pt x="1255" y="1145"/>
                  </a:lnTo>
                  <a:lnTo>
                    <a:pt x="1232" y="1151"/>
                  </a:lnTo>
                  <a:lnTo>
                    <a:pt x="1214" y="1133"/>
                  </a:lnTo>
                  <a:lnTo>
                    <a:pt x="1203" y="1116"/>
                  </a:lnTo>
                  <a:lnTo>
                    <a:pt x="1185" y="1099"/>
                  </a:lnTo>
                  <a:lnTo>
                    <a:pt x="1168" y="1081"/>
                  </a:lnTo>
                  <a:lnTo>
                    <a:pt x="1151" y="1058"/>
                  </a:lnTo>
                  <a:lnTo>
                    <a:pt x="1139" y="1041"/>
                  </a:lnTo>
                  <a:lnTo>
                    <a:pt x="1128" y="1023"/>
                  </a:lnTo>
                  <a:lnTo>
                    <a:pt x="1116" y="1006"/>
                  </a:lnTo>
                  <a:lnTo>
                    <a:pt x="1110" y="989"/>
                  </a:lnTo>
                  <a:lnTo>
                    <a:pt x="1099" y="971"/>
                  </a:lnTo>
                  <a:lnTo>
                    <a:pt x="1081" y="954"/>
                  </a:lnTo>
                  <a:lnTo>
                    <a:pt x="1064" y="942"/>
                  </a:lnTo>
                  <a:lnTo>
                    <a:pt x="1047" y="931"/>
                  </a:lnTo>
                  <a:lnTo>
                    <a:pt x="1029" y="925"/>
                  </a:lnTo>
                  <a:lnTo>
                    <a:pt x="1012" y="919"/>
                  </a:lnTo>
                  <a:lnTo>
                    <a:pt x="995" y="908"/>
                  </a:lnTo>
                  <a:lnTo>
                    <a:pt x="971" y="902"/>
                  </a:lnTo>
                  <a:lnTo>
                    <a:pt x="954" y="890"/>
                  </a:lnTo>
                  <a:lnTo>
                    <a:pt x="937" y="879"/>
                  </a:lnTo>
                  <a:lnTo>
                    <a:pt x="919" y="879"/>
                  </a:lnTo>
                  <a:lnTo>
                    <a:pt x="896" y="873"/>
                  </a:lnTo>
                  <a:lnTo>
                    <a:pt x="873" y="867"/>
                  </a:lnTo>
                  <a:lnTo>
                    <a:pt x="850" y="867"/>
                  </a:lnTo>
                  <a:lnTo>
                    <a:pt x="833" y="867"/>
                  </a:lnTo>
                  <a:lnTo>
                    <a:pt x="815" y="867"/>
                  </a:lnTo>
                  <a:lnTo>
                    <a:pt x="798" y="879"/>
                  </a:lnTo>
                  <a:lnTo>
                    <a:pt x="781" y="890"/>
                  </a:lnTo>
                  <a:lnTo>
                    <a:pt x="775" y="908"/>
                  </a:lnTo>
                  <a:lnTo>
                    <a:pt x="757" y="925"/>
                  </a:lnTo>
                  <a:lnTo>
                    <a:pt x="746" y="942"/>
                  </a:lnTo>
                  <a:lnTo>
                    <a:pt x="734" y="960"/>
                  </a:lnTo>
                  <a:lnTo>
                    <a:pt x="723" y="977"/>
                  </a:lnTo>
                  <a:lnTo>
                    <a:pt x="705" y="994"/>
                  </a:lnTo>
                  <a:lnTo>
                    <a:pt x="688" y="1012"/>
                  </a:lnTo>
                  <a:lnTo>
                    <a:pt x="671" y="1029"/>
                  </a:lnTo>
                  <a:lnTo>
                    <a:pt x="659" y="1047"/>
                  </a:lnTo>
                  <a:lnTo>
                    <a:pt x="647" y="1064"/>
                  </a:lnTo>
                  <a:lnTo>
                    <a:pt x="630" y="1081"/>
                  </a:lnTo>
                  <a:lnTo>
                    <a:pt x="613" y="1099"/>
                  </a:lnTo>
                  <a:lnTo>
                    <a:pt x="595" y="1116"/>
                  </a:lnTo>
                  <a:lnTo>
                    <a:pt x="584" y="1133"/>
                  </a:lnTo>
                  <a:lnTo>
                    <a:pt x="561" y="1145"/>
                  </a:lnTo>
                  <a:lnTo>
                    <a:pt x="538" y="1162"/>
                  </a:lnTo>
                  <a:lnTo>
                    <a:pt x="520" y="1180"/>
                  </a:lnTo>
                  <a:lnTo>
                    <a:pt x="503" y="1191"/>
                  </a:lnTo>
                  <a:lnTo>
                    <a:pt x="480" y="1208"/>
                  </a:lnTo>
                  <a:lnTo>
                    <a:pt x="433" y="1226"/>
                  </a:lnTo>
                  <a:lnTo>
                    <a:pt x="422" y="1243"/>
                  </a:lnTo>
                  <a:lnTo>
                    <a:pt x="405" y="1260"/>
                  </a:lnTo>
                  <a:lnTo>
                    <a:pt x="393" y="1278"/>
                  </a:lnTo>
                  <a:lnTo>
                    <a:pt x="376" y="1295"/>
                  </a:lnTo>
                  <a:lnTo>
                    <a:pt x="358" y="1307"/>
                  </a:lnTo>
                  <a:lnTo>
                    <a:pt x="347" y="1324"/>
                  </a:lnTo>
                  <a:lnTo>
                    <a:pt x="300" y="1347"/>
                  </a:lnTo>
                  <a:lnTo>
                    <a:pt x="277" y="1365"/>
                  </a:lnTo>
                  <a:lnTo>
                    <a:pt x="260" y="1388"/>
                  </a:lnTo>
                  <a:lnTo>
                    <a:pt x="243" y="1399"/>
                  </a:lnTo>
                  <a:lnTo>
                    <a:pt x="231" y="1417"/>
                  </a:lnTo>
                  <a:lnTo>
                    <a:pt x="196" y="1446"/>
                  </a:lnTo>
                  <a:lnTo>
                    <a:pt x="202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196" y="1370"/>
                  </a:lnTo>
                  <a:lnTo>
                    <a:pt x="196" y="1353"/>
                  </a:lnTo>
                  <a:lnTo>
                    <a:pt x="196" y="1336"/>
                  </a:lnTo>
                  <a:lnTo>
                    <a:pt x="196" y="1324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53000" y="1657440"/>
              <a:ext cx="1792080" cy="2884320"/>
            </a:xfrm>
            <a:custGeom>
              <a:avLst/>
              <a:gdLst/>
              <a:ahLst/>
              <a:rect l="l" t="t" r="r" b="b"/>
              <a:pathLst>
                <a:path w="1129" h="1817">
                  <a:moveTo>
                    <a:pt x="671" y="0"/>
                  </a:moveTo>
                  <a:lnTo>
                    <a:pt x="694" y="17"/>
                  </a:lnTo>
                  <a:lnTo>
                    <a:pt x="706" y="35"/>
                  </a:lnTo>
                  <a:lnTo>
                    <a:pt x="723" y="46"/>
                  </a:lnTo>
                  <a:lnTo>
                    <a:pt x="741" y="63"/>
                  </a:lnTo>
                  <a:lnTo>
                    <a:pt x="758" y="75"/>
                  </a:lnTo>
                  <a:lnTo>
                    <a:pt x="775" y="92"/>
                  </a:lnTo>
                  <a:lnTo>
                    <a:pt x="787" y="110"/>
                  </a:lnTo>
                  <a:lnTo>
                    <a:pt x="804" y="116"/>
                  </a:lnTo>
                  <a:lnTo>
                    <a:pt x="822" y="127"/>
                  </a:lnTo>
                  <a:lnTo>
                    <a:pt x="839" y="139"/>
                  </a:lnTo>
                  <a:lnTo>
                    <a:pt x="851" y="156"/>
                  </a:lnTo>
                  <a:lnTo>
                    <a:pt x="868" y="162"/>
                  </a:lnTo>
                  <a:lnTo>
                    <a:pt x="885" y="173"/>
                  </a:lnTo>
                  <a:lnTo>
                    <a:pt x="897" y="191"/>
                  </a:lnTo>
                  <a:lnTo>
                    <a:pt x="914" y="202"/>
                  </a:lnTo>
                  <a:lnTo>
                    <a:pt x="932" y="220"/>
                  </a:lnTo>
                  <a:lnTo>
                    <a:pt x="943" y="237"/>
                  </a:lnTo>
                  <a:lnTo>
                    <a:pt x="960" y="254"/>
                  </a:lnTo>
                  <a:lnTo>
                    <a:pt x="972" y="272"/>
                  </a:lnTo>
                  <a:lnTo>
                    <a:pt x="978" y="289"/>
                  </a:lnTo>
                  <a:lnTo>
                    <a:pt x="995" y="306"/>
                  </a:lnTo>
                  <a:lnTo>
                    <a:pt x="1001" y="324"/>
                  </a:lnTo>
                  <a:lnTo>
                    <a:pt x="1012" y="347"/>
                  </a:lnTo>
                  <a:lnTo>
                    <a:pt x="1018" y="364"/>
                  </a:lnTo>
                  <a:lnTo>
                    <a:pt x="1024" y="382"/>
                  </a:lnTo>
                  <a:lnTo>
                    <a:pt x="1036" y="405"/>
                  </a:lnTo>
                  <a:lnTo>
                    <a:pt x="1041" y="422"/>
                  </a:lnTo>
                  <a:lnTo>
                    <a:pt x="1053" y="439"/>
                  </a:lnTo>
                  <a:lnTo>
                    <a:pt x="1059" y="457"/>
                  </a:lnTo>
                  <a:lnTo>
                    <a:pt x="1065" y="474"/>
                  </a:lnTo>
                  <a:lnTo>
                    <a:pt x="1070" y="491"/>
                  </a:lnTo>
                  <a:lnTo>
                    <a:pt x="1076" y="509"/>
                  </a:lnTo>
                  <a:lnTo>
                    <a:pt x="1082" y="532"/>
                  </a:lnTo>
                  <a:lnTo>
                    <a:pt x="1088" y="555"/>
                  </a:lnTo>
                  <a:lnTo>
                    <a:pt x="1093" y="572"/>
                  </a:lnTo>
                  <a:lnTo>
                    <a:pt x="1099" y="590"/>
                  </a:lnTo>
                  <a:lnTo>
                    <a:pt x="1105" y="630"/>
                  </a:lnTo>
                  <a:lnTo>
                    <a:pt x="1111" y="648"/>
                  </a:lnTo>
                  <a:lnTo>
                    <a:pt x="1117" y="665"/>
                  </a:lnTo>
                  <a:lnTo>
                    <a:pt x="1128" y="688"/>
                  </a:lnTo>
                  <a:lnTo>
                    <a:pt x="1128" y="711"/>
                  </a:lnTo>
                  <a:lnTo>
                    <a:pt x="1128" y="728"/>
                  </a:lnTo>
                  <a:lnTo>
                    <a:pt x="1128" y="752"/>
                  </a:lnTo>
                  <a:lnTo>
                    <a:pt x="1128" y="769"/>
                  </a:lnTo>
                  <a:lnTo>
                    <a:pt x="1117" y="786"/>
                  </a:lnTo>
                  <a:lnTo>
                    <a:pt x="1099" y="792"/>
                  </a:lnTo>
                  <a:lnTo>
                    <a:pt x="1082" y="804"/>
                  </a:lnTo>
                  <a:lnTo>
                    <a:pt x="1065" y="809"/>
                  </a:lnTo>
                  <a:lnTo>
                    <a:pt x="1047" y="815"/>
                  </a:lnTo>
                  <a:lnTo>
                    <a:pt x="1030" y="821"/>
                  </a:lnTo>
                  <a:lnTo>
                    <a:pt x="1012" y="821"/>
                  </a:lnTo>
                  <a:lnTo>
                    <a:pt x="995" y="827"/>
                  </a:lnTo>
                  <a:lnTo>
                    <a:pt x="978" y="827"/>
                  </a:lnTo>
                  <a:lnTo>
                    <a:pt x="960" y="827"/>
                  </a:lnTo>
                  <a:lnTo>
                    <a:pt x="943" y="827"/>
                  </a:lnTo>
                  <a:lnTo>
                    <a:pt x="926" y="827"/>
                  </a:lnTo>
                  <a:lnTo>
                    <a:pt x="908" y="827"/>
                  </a:lnTo>
                  <a:lnTo>
                    <a:pt x="891" y="827"/>
                  </a:lnTo>
                  <a:lnTo>
                    <a:pt x="868" y="827"/>
                  </a:lnTo>
                  <a:lnTo>
                    <a:pt x="851" y="821"/>
                  </a:lnTo>
                  <a:lnTo>
                    <a:pt x="833" y="821"/>
                  </a:lnTo>
                  <a:lnTo>
                    <a:pt x="816" y="815"/>
                  </a:lnTo>
                  <a:lnTo>
                    <a:pt x="798" y="815"/>
                  </a:lnTo>
                  <a:lnTo>
                    <a:pt x="781" y="809"/>
                  </a:lnTo>
                  <a:lnTo>
                    <a:pt x="764" y="809"/>
                  </a:lnTo>
                  <a:lnTo>
                    <a:pt x="746" y="804"/>
                  </a:lnTo>
                  <a:lnTo>
                    <a:pt x="729" y="804"/>
                  </a:lnTo>
                  <a:lnTo>
                    <a:pt x="706" y="804"/>
                  </a:lnTo>
                  <a:lnTo>
                    <a:pt x="689" y="804"/>
                  </a:lnTo>
                  <a:lnTo>
                    <a:pt x="671" y="809"/>
                  </a:lnTo>
                  <a:lnTo>
                    <a:pt x="660" y="827"/>
                  </a:lnTo>
                  <a:lnTo>
                    <a:pt x="637" y="838"/>
                  </a:lnTo>
                  <a:lnTo>
                    <a:pt x="625" y="856"/>
                  </a:lnTo>
                  <a:lnTo>
                    <a:pt x="613" y="873"/>
                  </a:lnTo>
                  <a:lnTo>
                    <a:pt x="596" y="890"/>
                  </a:lnTo>
                  <a:lnTo>
                    <a:pt x="590" y="908"/>
                  </a:lnTo>
                  <a:lnTo>
                    <a:pt x="590" y="925"/>
                  </a:lnTo>
                  <a:lnTo>
                    <a:pt x="584" y="948"/>
                  </a:lnTo>
                  <a:lnTo>
                    <a:pt x="584" y="966"/>
                  </a:lnTo>
                  <a:lnTo>
                    <a:pt x="584" y="983"/>
                  </a:lnTo>
                  <a:lnTo>
                    <a:pt x="584" y="1000"/>
                  </a:lnTo>
                  <a:lnTo>
                    <a:pt x="584" y="1018"/>
                  </a:lnTo>
                  <a:lnTo>
                    <a:pt x="579" y="1064"/>
                  </a:lnTo>
                  <a:lnTo>
                    <a:pt x="579" y="1099"/>
                  </a:lnTo>
                  <a:lnTo>
                    <a:pt x="579" y="1116"/>
                  </a:lnTo>
                  <a:lnTo>
                    <a:pt x="579" y="1133"/>
                  </a:lnTo>
                  <a:lnTo>
                    <a:pt x="579" y="1151"/>
                  </a:lnTo>
                  <a:lnTo>
                    <a:pt x="579" y="1168"/>
                  </a:lnTo>
                  <a:lnTo>
                    <a:pt x="573" y="1191"/>
                  </a:lnTo>
                  <a:lnTo>
                    <a:pt x="567" y="1208"/>
                  </a:lnTo>
                  <a:lnTo>
                    <a:pt x="561" y="1226"/>
                  </a:lnTo>
                  <a:lnTo>
                    <a:pt x="556" y="1243"/>
                  </a:lnTo>
                  <a:lnTo>
                    <a:pt x="550" y="1266"/>
                  </a:lnTo>
                  <a:lnTo>
                    <a:pt x="544" y="1284"/>
                  </a:lnTo>
                  <a:lnTo>
                    <a:pt x="532" y="1301"/>
                  </a:lnTo>
                  <a:lnTo>
                    <a:pt x="521" y="1324"/>
                  </a:lnTo>
                  <a:lnTo>
                    <a:pt x="509" y="1370"/>
                  </a:lnTo>
                  <a:lnTo>
                    <a:pt x="503" y="1388"/>
                  </a:lnTo>
                  <a:lnTo>
                    <a:pt x="503" y="1405"/>
                  </a:lnTo>
                  <a:lnTo>
                    <a:pt x="503" y="1422"/>
                  </a:lnTo>
                  <a:lnTo>
                    <a:pt x="503" y="1440"/>
                  </a:lnTo>
                  <a:lnTo>
                    <a:pt x="509" y="1463"/>
                  </a:lnTo>
                  <a:lnTo>
                    <a:pt x="515" y="1521"/>
                  </a:lnTo>
                  <a:lnTo>
                    <a:pt x="498" y="1515"/>
                  </a:lnTo>
                  <a:lnTo>
                    <a:pt x="451" y="1509"/>
                  </a:lnTo>
                  <a:lnTo>
                    <a:pt x="428" y="1503"/>
                  </a:lnTo>
                  <a:lnTo>
                    <a:pt x="411" y="1509"/>
                  </a:lnTo>
                  <a:lnTo>
                    <a:pt x="394" y="1521"/>
                  </a:lnTo>
                  <a:lnTo>
                    <a:pt x="382" y="1538"/>
                  </a:lnTo>
                  <a:lnTo>
                    <a:pt x="365" y="1561"/>
                  </a:lnTo>
                  <a:lnTo>
                    <a:pt x="353" y="1584"/>
                  </a:lnTo>
                  <a:lnTo>
                    <a:pt x="342" y="1631"/>
                  </a:lnTo>
                  <a:lnTo>
                    <a:pt x="336" y="1654"/>
                  </a:lnTo>
                  <a:lnTo>
                    <a:pt x="330" y="1671"/>
                  </a:lnTo>
                  <a:lnTo>
                    <a:pt x="324" y="1688"/>
                  </a:lnTo>
                  <a:lnTo>
                    <a:pt x="318" y="1706"/>
                  </a:lnTo>
                  <a:lnTo>
                    <a:pt x="307" y="1729"/>
                  </a:lnTo>
                  <a:lnTo>
                    <a:pt x="289" y="1746"/>
                  </a:lnTo>
                  <a:lnTo>
                    <a:pt x="272" y="1758"/>
                  </a:lnTo>
                  <a:lnTo>
                    <a:pt x="255" y="1769"/>
                  </a:lnTo>
                  <a:lnTo>
                    <a:pt x="232" y="1769"/>
                  </a:lnTo>
                  <a:lnTo>
                    <a:pt x="214" y="1769"/>
                  </a:lnTo>
                  <a:lnTo>
                    <a:pt x="180" y="1775"/>
                  </a:lnTo>
                  <a:lnTo>
                    <a:pt x="145" y="1787"/>
                  </a:lnTo>
                  <a:lnTo>
                    <a:pt x="128" y="1787"/>
                  </a:lnTo>
                  <a:lnTo>
                    <a:pt x="110" y="1792"/>
                  </a:lnTo>
                  <a:lnTo>
                    <a:pt x="87" y="1804"/>
                  </a:lnTo>
                  <a:lnTo>
                    <a:pt x="70" y="1816"/>
                  </a:lnTo>
                  <a:lnTo>
                    <a:pt x="52" y="1816"/>
                  </a:lnTo>
                  <a:lnTo>
                    <a:pt x="29" y="1816"/>
                  </a:lnTo>
                  <a:lnTo>
                    <a:pt x="29" y="1798"/>
                  </a:lnTo>
                  <a:lnTo>
                    <a:pt x="12" y="1787"/>
                  </a:lnTo>
                  <a:lnTo>
                    <a:pt x="12" y="1769"/>
                  </a:lnTo>
                  <a:lnTo>
                    <a:pt x="12" y="1752"/>
                  </a:lnTo>
                  <a:lnTo>
                    <a:pt x="12" y="1735"/>
                  </a:lnTo>
                  <a:lnTo>
                    <a:pt x="12" y="1712"/>
                  </a:lnTo>
                  <a:lnTo>
                    <a:pt x="12" y="1688"/>
                  </a:lnTo>
                  <a:lnTo>
                    <a:pt x="12" y="1671"/>
                  </a:lnTo>
                  <a:lnTo>
                    <a:pt x="12" y="1648"/>
                  </a:lnTo>
                  <a:lnTo>
                    <a:pt x="12" y="1613"/>
                  </a:lnTo>
                  <a:lnTo>
                    <a:pt x="12" y="1596"/>
                  </a:lnTo>
                  <a:lnTo>
                    <a:pt x="29" y="1584"/>
                  </a:lnTo>
                  <a:lnTo>
                    <a:pt x="47" y="1573"/>
                  </a:lnTo>
                  <a:lnTo>
                    <a:pt x="64" y="1561"/>
                  </a:lnTo>
                  <a:lnTo>
                    <a:pt x="81" y="1555"/>
                  </a:lnTo>
                  <a:lnTo>
                    <a:pt x="128" y="1538"/>
                  </a:lnTo>
                  <a:lnTo>
                    <a:pt x="145" y="1526"/>
                  </a:lnTo>
                  <a:lnTo>
                    <a:pt x="168" y="1515"/>
                  </a:lnTo>
                  <a:lnTo>
                    <a:pt x="191" y="1498"/>
                  </a:lnTo>
                  <a:lnTo>
                    <a:pt x="214" y="1480"/>
                  </a:lnTo>
                  <a:lnTo>
                    <a:pt x="232" y="1457"/>
                  </a:lnTo>
                  <a:lnTo>
                    <a:pt x="243" y="1440"/>
                  </a:lnTo>
                  <a:lnTo>
                    <a:pt x="261" y="1422"/>
                  </a:lnTo>
                  <a:lnTo>
                    <a:pt x="266" y="1399"/>
                  </a:lnTo>
                  <a:lnTo>
                    <a:pt x="278" y="1382"/>
                  </a:lnTo>
                  <a:lnTo>
                    <a:pt x="284" y="1365"/>
                  </a:lnTo>
                  <a:lnTo>
                    <a:pt x="295" y="1347"/>
                  </a:lnTo>
                  <a:lnTo>
                    <a:pt x="301" y="1330"/>
                  </a:lnTo>
                  <a:lnTo>
                    <a:pt x="313" y="1313"/>
                  </a:lnTo>
                  <a:lnTo>
                    <a:pt x="318" y="1278"/>
                  </a:lnTo>
                  <a:lnTo>
                    <a:pt x="324" y="1237"/>
                  </a:lnTo>
                  <a:lnTo>
                    <a:pt x="330" y="1191"/>
                  </a:lnTo>
                  <a:lnTo>
                    <a:pt x="336" y="1174"/>
                  </a:lnTo>
                  <a:lnTo>
                    <a:pt x="336" y="1156"/>
                  </a:lnTo>
                  <a:lnTo>
                    <a:pt x="342" y="1139"/>
                  </a:lnTo>
                  <a:lnTo>
                    <a:pt x="353" y="1116"/>
                  </a:lnTo>
                  <a:lnTo>
                    <a:pt x="359" y="1093"/>
                  </a:lnTo>
                  <a:lnTo>
                    <a:pt x="365" y="1075"/>
                  </a:lnTo>
                  <a:lnTo>
                    <a:pt x="376" y="1052"/>
                  </a:lnTo>
                  <a:lnTo>
                    <a:pt x="382" y="1029"/>
                  </a:lnTo>
                  <a:lnTo>
                    <a:pt x="388" y="1012"/>
                  </a:lnTo>
                  <a:lnTo>
                    <a:pt x="394" y="994"/>
                  </a:lnTo>
                  <a:lnTo>
                    <a:pt x="399" y="977"/>
                  </a:lnTo>
                  <a:lnTo>
                    <a:pt x="399" y="960"/>
                  </a:lnTo>
                  <a:lnTo>
                    <a:pt x="399" y="942"/>
                  </a:lnTo>
                  <a:lnTo>
                    <a:pt x="405" y="885"/>
                  </a:lnTo>
                  <a:lnTo>
                    <a:pt x="405" y="838"/>
                  </a:lnTo>
                  <a:lnTo>
                    <a:pt x="405" y="821"/>
                  </a:lnTo>
                  <a:lnTo>
                    <a:pt x="399" y="804"/>
                  </a:lnTo>
                  <a:lnTo>
                    <a:pt x="382" y="746"/>
                  </a:lnTo>
                  <a:lnTo>
                    <a:pt x="365" y="746"/>
                  </a:lnTo>
                  <a:lnTo>
                    <a:pt x="313" y="746"/>
                  </a:lnTo>
                  <a:lnTo>
                    <a:pt x="295" y="740"/>
                  </a:lnTo>
                  <a:lnTo>
                    <a:pt x="272" y="717"/>
                  </a:lnTo>
                  <a:lnTo>
                    <a:pt x="214" y="711"/>
                  </a:lnTo>
                  <a:lnTo>
                    <a:pt x="203" y="694"/>
                  </a:lnTo>
                  <a:lnTo>
                    <a:pt x="203" y="676"/>
                  </a:lnTo>
                  <a:lnTo>
                    <a:pt x="203" y="659"/>
                  </a:lnTo>
                  <a:lnTo>
                    <a:pt x="203" y="642"/>
                  </a:lnTo>
                  <a:lnTo>
                    <a:pt x="203" y="624"/>
                  </a:lnTo>
                  <a:lnTo>
                    <a:pt x="203" y="607"/>
                  </a:lnTo>
                  <a:lnTo>
                    <a:pt x="203" y="567"/>
                  </a:lnTo>
                  <a:lnTo>
                    <a:pt x="203" y="486"/>
                  </a:lnTo>
                  <a:lnTo>
                    <a:pt x="185" y="474"/>
                  </a:lnTo>
                  <a:lnTo>
                    <a:pt x="139" y="474"/>
                  </a:lnTo>
                  <a:lnTo>
                    <a:pt x="116" y="474"/>
                  </a:lnTo>
                  <a:lnTo>
                    <a:pt x="93" y="462"/>
                  </a:lnTo>
                  <a:lnTo>
                    <a:pt x="93" y="445"/>
                  </a:lnTo>
                  <a:lnTo>
                    <a:pt x="99" y="428"/>
                  </a:lnTo>
                  <a:lnTo>
                    <a:pt x="116" y="416"/>
                  </a:lnTo>
                  <a:lnTo>
                    <a:pt x="133" y="405"/>
                  </a:lnTo>
                  <a:lnTo>
                    <a:pt x="151" y="393"/>
                  </a:lnTo>
                  <a:lnTo>
                    <a:pt x="174" y="382"/>
                  </a:lnTo>
                  <a:lnTo>
                    <a:pt x="191" y="376"/>
                  </a:lnTo>
                  <a:lnTo>
                    <a:pt x="237" y="364"/>
                  </a:lnTo>
                  <a:lnTo>
                    <a:pt x="255" y="353"/>
                  </a:lnTo>
                  <a:lnTo>
                    <a:pt x="272" y="341"/>
                  </a:lnTo>
                  <a:lnTo>
                    <a:pt x="278" y="324"/>
                  </a:lnTo>
                  <a:lnTo>
                    <a:pt x="284" y="306"/>
                  </a:lnTo>
                  <a:lnTo>
                    <a:pt x="284" y="254"/>
                  </a:lnTo>
                  <a:lnTo>
                    <a:pt x="289" y="231"/>
                  </a:lnTo>
                  <a:lnTo>
                    <a:pt x="272" y="225"/>
                  </a:lnTo>
                  <a:lnTo>
                    <a:pt x="255" y="214"/>
                  </a:lnTo>
                  <a:lnTo>
                    <a:pt x="232" y="202"/>
                  </a:lnTo>
                  <a:lnTo>
                    <a:pt x="185" y="191"/>
                  </a:lnTo>
                  <a:lnTo>
                    <a:pt x="139" y="185"/>
                  </a:lnTo>
                  <a:lnTo>
                    <a:pt x="104" y="173"/>
                  </a:lnTo>
                  <a:lnTo>
                    <a:pt x="87" y="173"/>
                  </a:lnTo>
                  <a:lnTo>
                    <a:pt x="70" y="162"/>
                  </a:lnTo>
                  <a:lnTo>
                    <a:pt x="52" y="150"/>
                  </a:lnTo>
                  <a:lnTo>
                    <a:pt x="35" y="144"/>
                  </a:lnTo>
                  <a:lnTo>
                    <a:pt x="18" y="139"/>
                  </a:lnTo>
                  <a:lnTo>
                    <a:pt x="18" y="121"/>
                  </a:lnTo>
                  <a:lnTo>
                    <a:pt x="12" y="104"/>
                  </a:lnTo>
                  <a:lnTo>
                    <a:pt x="6" y="58"/>
                  </a:lnTo>
                  <a:lnTo>
                    <a:pt x="0" y="40"/>
                  </a:lnTo>
                  <a:lnTo>
                    <a:pt x="18" y="29"/>
                  </a:lnTo>
                  <a:lnTo>
                    <a:pt x="35" y="23"/>
                  </a:lnTo>
                  <a:lnTo>
                    <a:pt x="52" y="17"/>
                  </a:lnTo>
                  <a:lnTo>
                    <a:pt x="70" y="17"/>
                  </a:lnTo>
                  <a:lnTo>
                    <a:pt x="87" y="11"/>
                  </a:lnTo>
                  <a:lnTo>
                    <a:pt x="110" y="11"/>
                  </a:lnTo>
                  <a:lnTo>
                    <a:pt x="145" y="11"/>
                  </a:lnTo>
                  <a:lnTo>
                    <a:pt x="168" y="11"/>
                  </a:lnTo>
                  <a:lnTo>
                    <a:pt x="185" y="11"/>
                  </a:lnTo>
                  <a:lnTo>
                    <a:pt x="203" y="11"/>
                  </a:lnTo>
                  <a:lnTo>
                    <a:pt x="226" y="6"/>
                  </a:lnTo>
                  <a:lnTo>
                    <a:pt x="243" y="6"/>
                  </a:lnTo>
                  <a:lnTo>
                    <a:pt x="261" y="6"/>
                  </a:lnTo>
                  <a:lnTo>
                    <a:pt x="284" y="6"/>
                  </a:lnTo>
                  <a:lnTo>
                    <a:pt x="301" y="6"/>
                  </a:lnTo>
                  <a:lnTo>
                    <a:pt x="318" y="6"/>
                  </a:lnTo>
                  <a:lnTo>
                    <a:pt x="336" y="6"/>
                  </a:lnTo>
                  <a:lnTo>
                    <a:pt x="353" y="6"/>
                  </a:lnTo>
                  <a:lnTo>
                    <a:pt x="370" y="6"/>
                  </a:lnTo>
                  <a:lnTo>
                    <a:pt x="388" y="6"/>
                  </a:lnTo>
                  <a:lnTo>
                    <a:pt x="405" y="6"/>
                  </a:lnTo>
                  <a:lnTo>
                    <a:pt x="423" y="6"/>
                  </a:lnTo>
                  <a:lnTo>
                    <a:pt x="469" y="6"/>
                  </a:lnTo>
                  <a:lnTo>
                    <a:pt x="486" y="6"/>
                  </a:lnTo>
                  <a:lnTo>
                    <a:pt x="509" y="6"/>
                  </a:lnTo>
                  <a:lnTo>
                    <a:pt x="527" y="6"/>
                  </a:lnTo>
                  <a:lnTo>
                    <a:pt x="544" y="6"/>
                  </a:lnTo>
                  <a:lnTo>
                    <a:pt x="567" y="6"/>
                  </a:lnTo>
                  <a:lnTo>
                    <a:pt x="584" y="6"/>
                  </a:lnTo>
                  <a:lnTo>
                    <a:pt x="642" y="6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49800" y="1803240"/>
              <a:ext cx="1149120" cy="1040040"/>
            </a:xfrm>
            <a:custGeom>
              <a:avLst/>
              <a:gdLst/>
              <a:ahLst/>
              <a:rect l="l" t="t" r="r" b="b"/>
              <a:pathLst>
                <a:path w="724" h="655">
                  <a:moveTo>
                    <a:pt x="23" y="12"/>
                  </a:moveTo>
                  <a:lnTo>
                    <a:pt x="75" y="6"/>
                  </a:lnTo>
                  <a:lnTo>
                    <a:pt x="92" y="6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67" y="0"/>
                  </a:lnTo>
                  <a:lnTo>
                    <a:pt x="185" y="0"/>
                  </a:lnTo>
                  <a:lnTo>
                    <a:pt x="219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1" y="6"/>
                  </a:lnTo>
                  <a:lnTo>
                    <a:pt x="324" y="12"/>
                  </a:lnTo>
                  <a:lnTo>
                    <a:pt x="358" y="18"/>
                  </a:lnTo>
                  <a:lnTo>
                    <a:pt x="405" y="29"/>
                  </a:lnTo>
                  <a:lnTo>
                    <a:pt x="422" y="41"/>
                  </a:lnTo>
                  <a:lnTo>
                    <a:pt x="439" y="52"/>
                  </a:lnTo>
                  <a:lnTo>
                    <a:pt x="485" y="76"/>
                  </a:lnTo>
                  <a:lnTo>
                    <a:pt x="491" y="93"/>
                  </a:lnTo>
                  <a:lnTo>
                    <a:pt x="509" y="104"/>
                  </a:lnTo>
                  <a:lnTo>
                    <a:pt x="520" y="122"/>
                  </a:lnTo>
                  <a:lnTo>
                    <a:pt x="538" y="139"/>
                  </a:lnTo>
                  <a:lnTo>
                    <a:pt x="549" y="157"/>
                  </a:lnTo>
                  <a:lnTo>
                    <a:pt x="566" y="180"/>
                  </a:lnTo>
                  <a:lnTo>
                    <a:pt x="584" y="191"/>
                  </a:lnTo>
                  <a:lnTo>
                    <a:pt x="595" y="209"/>
                  </a:lnTo>
                  <a:lnTo>
                    <a:pt x="613" y="226"/>
                  </a:lnTo>
                  <a:lnTo>
                    <a:pt x="624" y="243"/>
                  </a:lnTo>
                  <a:lnTo>
                    <a:pt x="636" y="261"/>
                  </a:lnTo>
                  <a:lnTo>
                    <a:pt x="647" y="278"/>
                  </a:lnTo>
                  <a:lnTo>
                    <a:pt x="659" y="295"/>
                  </a:lnTo>
                  <a:lnTo>
                    <a:pt x="665" y="313"/>
                  </a:lnTo>
                  <a:lnTo>
                    <a:pt x="671" y="330"/>
                  </a:lnTo>
                  <a:lnTo>
                    <a:pt x="682" y="347"/>
                  </a:lnTo>
                  <a:lnTo>
                    <a:pt x="688" y="365"/>
                  </a:lnTo>
                  <a:lnTo>
                    <a:pt x="688" y="382"/>
                  </a:lnTo>
                  <a:lnTo>
                    <a:pt x="699" y="399"/>
                  </a:lnTo>
                  <a:lnTo>
                    <a:pt x="705" y="417"/>
                  </a:lnTo>
                  <a:lnTo>
                    <a:pt x="711" y="434"/>
                  </a:lnTo>
                  <a:lnTo>
                    <a:pt x="717" y="475"/>
                  </a:lnTo>
                  <a:lnTo>
                    <a:pt x="717" y="492"/>
                  </a:lnTo>
                  <a:lnTo>
                    <a:pt x="723" y="509"/>
                  </a:lnTo>
                  <a:lnTo>
                    <a:pt x="723" y="527"/>
                  </a:lnTo>
                  <a:lnTo>
                    <a:pt x="723" y="544"/>
                  </a:lnTo>
                  <a:lnTo>
                    <a:pt x="723" y="561"/>
                  </a:lnTo>
                  <a:lnTo>
                    <a:pt x="723" y="579"/>
                  </a:lnTo>
                  <a:lnTo>
                    <a:pt x="723" y="602"/>
                  </a:lnTo>
                  <a:lnTo>
                    <a:pt x="723" y="625"/>
                  </a:lnTo>
                  <a:lnTo>
                    <a:pt x="705" y="631"/>
                  </a:lnTo>
                  <a:lnTo>
                    <a:pt x="688" y="636"/>
                  </a:lnTo>
                  <a:lnTo>
                    <a:pt x="671" y="642"/>
                  </a:lnTo>
                  <a:lnTo>
                    <a:pt x="653" y="642"/>
                  </a:lnTo>
                  <a:lnTo>
                    <a:pt x="636" y="642"/>
                  </a:lnTo>
                  <a:lnTo>
                    <a:pt x="619" y="648"/>
                  </a:lnTo>
                  <a:lnTo>
                    <a:pt x="595" y="654"/>
                  </a:lnTo>
                  <a:lnTo>
                    <a:pt x="555" y="654"/>
                  </a:lnTo>
                  <a:lnTo>
                    <a:pt x="538" y="654"/>
                  </a:lnTo>
                  <a:lnTo>
                    <a:pt x="520" y="654"/>
                  </a:lnTo>
                  <a:lnTo>
                    <a:pt x="503" y="654"/>
                  </a:lnTo>
                  <a:lnTo>
                    <a:pt x="468" y="654"/>
                  </a:lnTo>
                  <a:lnTo>
                    <a:pt x="451" y="654"/>
                  </a:lnTo>
                  <a:lnTo>
                    <a:pt x="410" y="654"/>
                  </a:lnTo>
                  <a:lnTo>
                    <a:pt x="376" y="654"/>
                  </a:lnTo>
                  <a:lnTo>
                    <a:pt x="358" y="648"/>
                  </a:lnTo>
                  <a:lnTo>
                    <a:pt x="335" y="642"/>
                  </a:lnTo>
                  <a:lnTo>
                    <a:pt x="312" y="631"/>
                  </a:lnTo>
                  <a:lnTo>
                    <a:pt x="277" y="625"/>
                  </a:lnTo>
                  <a:lnTo>
                    <a:pt x="260" y="608"/>
                  </a:lnTo>
                  <a:lnTo>
                    <a:pt x="225" y="602"/>
                  </a:lnTo>
                  <a:lnTo>
                    <a:pt x="214" y="584"/>
                  </a:lnTo>
                  <a:lnTo>
                    <a:pt x="202" y="567"/>
                  </a:lnTo>
                  <a:lnTo>
                    <a:pt x="185" y="550"/>
                  </a:lnTo>
                  <a:lnTo>
                    <a:pt x="173" y="532"/>
                  </a:lnTo>
                  <a:lnTo>
                    <a:pt x="167" y="515"/>
                  </a:lnTo>
                  <a:lnTo>
                    <a:pt x="156" y="498"/>
                  </a:lnTo>
                  <a:lnTo>
                    <a:pt x="150" y="480"/>
                  </a:lnTo>
                  <a:lnTo>
                    <a:pt x="138" y="463"/>
                  </a:lnTo>
                  <a:lnTo>
                    <a:pt x="133" y="446"/>
                  </a:lnTo>
                  <a:lnTo>
                    <a:pt x="127" y="428"/>
                  </a:lnTo>
                  <a:lnTo>
                    <a:pt x="127" y="411"/>
                  </a:lnTo>
                  <a:lnTo>
                    <a:pt x="121" y="394"/>
                  </a:lnTo>
                  <a:lnTo>
                    <a:pt x="115" y="376"/>
                  </a:lnTo>
                  <a:lnTo>
                    <a:pt x="115" y="359"/>
                  </a:lnTo>
                  <a:lnTo>
                    <a:pt x="110" y="342"/>
                  </a:lnTo>
                  <a:lnTo>
                    <a:pt x="110" y="324"/>
                  </a:lnTo>
                  <a:lnTo>
                    <a:pt x="110" y="307"/>
                  </a:lnTo>
                  <a:lnTo>
                    <a:pt x="104" y="290"/>
                  </a:lnTo>
                  <a:lnTo>
                    <a:pt x="104" y="272"/>
                  </a:lnTo>
                  <a:lnTo>
                    <a:pt x="98" y="255"/>
                  </a:lnTo>
                  <a:lnTo>
                    <a:pt x="98" y="237"/>
                  </a:lnTo>
                  <a:lnTo>
                    <a:pt x="98" y="220"/>
                  </a:lnTo>
                  <a:lnTo>
                    <a:pt x="98" y="197"/>
                  </a:lnTo>
                  <a:lnTo>
                    <a:pt x="92" y="180"/>
                  </a:lnTo>
                  <a:lnTo>
                    <a:pt x="92" y="162"/>
                  </a:lnTo>
                  <a:lnTo>
                    <a:pt x="86" y="145"/>
                  </a:lnTo>
                  <a:lnTo>
                    <a:pt x="69" y="128"/>
                  </a:lnTo>
                  <a:lnTo>
                    <a:pt x="52" y="110"/>
                  </a:lnTo>
                  <a:lnTo>
                    <a:pt x="46" y="93"/>
                  </a:lnTo>
                  <a:lnTo>
                    <a:pt x="29" y="76"/>
                  </a:lnTo>
                  <a:lnTo>
                    <a:pt x="17" y="58"/>
                  </a:lnTo>
                  <a:lnTo>
                    <a:pt x="5" y="41"/>
                  </a:lnTo>
                  <a:lnTo>
                    <a:pt x="0" y="2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9920" y="2006640"/>
              <a:ext cx="690480" cy="708120"/>
            </a:xfrm>
            <a:custGeom>
              <a:avLst/>
              <a:gdLst/>
              <a:ahLst/>
              <a:rect l="l" t="t" r="r" b="b"/>
              <a:pathLst>
                <a:path w="435" h="446">
                  <a:moveTo>
                    <a:pt x="98" y="5"/>
                  </a:moveTo>
                  <a:lnTo>
                    <a:pt x="121" y="0"/>
                  </a:lnTo>
                  <a:lnTo>
                    <a:pt x="139" y="0"/>
                  </a:lnTo>
                  <a:lnTo>
                    <a:pt x="162" y="0"/>
                  </a:lnTo>
                  <a:lnTo>
                    <a:pt x="179" y="0"/>
                  </a:lnTo>
                  <a:lnTo>
                    <a:pt x="197" y="5"/>
                  </a:lnTo>
                  <a:lnTo>
                    <a:pt x="214" y="11"/>
                  </a:lnTo>
                  <a:lnTo>
                    <a:pt x="231" y="23"/>
                  </a:lnTo>
                  <a:lnTo>
                    <a:pt x="249" y="34"/>
                  </a:lnTo>
                  <a:lnTo>
                    <a:pt x="260" y="52"/>
                  </a:lnTo>
                  <a:lnTo>
                    <a:pt x="277" y="63"/>
                  </a:lnTo>
                  <a:lnTo>
                    <a:pt x="295" y="75"/>
                  </a:lnTo>
                  <a:lnTo>
                    <a:pt x="312" y="86"/>
                  </a:lnTo>
                  <a:lnTo>
                    <a:pt x="330" y="104"/>
                  </a:lnTo>
                  <a:lnTo>
                    <a:pt x="347" y="115"/>
                  </a:lnTo>
                  <a:lnTo>
                    <a:pt x="358" y="133"/>
                  </a:lnTo>
                  <a:lnTo>
                    <a:pt x="376" y="144"/>
                  </a:lnTo>
                  <a:lnTo>
                    <a:pt x="387" y="162"/>
                  </a:lnTo>
                  <a:lnTo>
                    <a:pt x="399" y="179"/>
                  </a:lnTo>
                  <a:lnTo>
                    <a:pt x="405" y="196"/>
                  </a:lnTo>
                  <a:lnTo>
                    <a:pt x="411" y="214"/>
                  </a:lnTo>
                  <a:lnTo>
                    <a:pt x="422" y="231"/>
                  </a:lnTo>
                  <a:lnTo>
                    <a:pt x="428" y="248"/>
                  </a:lnTo>
                  <a:lnTo>
                    <a:pt x="434" y="266"/>
                  </a:lnTo>
                  <a:lnTo>
                    <a:pt x="434" y="283"/>
                  </a:lnTo>
                  <a:lnTo>
                    <a:pt x="434" y="300"/>
                  </a:lnTo>
                  <a:lnTo>
                    <a:pt x="434" y="318"/>
                  </a:lnTo>
                  <a:lnTo>
                    <a:pt x="434" y="335"/>
                  </a:lnTo>
                  <a:lnTo>
                    <a:pt x="434" y="352"/>
                  </a:lnTo>
                  <a:lnTo>
                    <a:pt x="434" y="370"/>
                  </a:lnTo>
                  <a:lnTo>
                    <a:pt x="434" y="387"/>
                  </a:lnTo>
                  <a:lnTo>
                    <a:pt x="428" y="404"/>
                  </a:lnTo>
                  <a:lnTo>
                    <a:pt x="416" y="422"/>
                  </a:lnTo>
                  <a:lnTo>
                    <a:pt x="399" y="433"/>
                  </a:lnTo>
                  <a:lnTo>
                    <a:pt x="376" y="439"/>
                  </a:lnTo>
                  <a:lnTo>
                    <a:pt x="358" y="445"/>
                  </a:lnTo>
                  <a:lnTo>
                    <a:pt x="341" y="445"/>
                  </a:lnTo>
                  <a:lnTo>
                    <a:pt x="324" y="445"/>
                  </a:lnTo>
                  <a:lnTo>
                    <a:pt x="283" y="445"/>
                  </a:lnTo>
                  <a:lnTo>
                    <a:pt x="266" y="439"/>
                  </a:lnTo>
                  <a:lnTo>
                    <a:pt x="249" y="428"/>
                  </a:lnTo>
                  <a:lnTo>
                    <a:pt x="231" y="416"/>
                  </a:lnTo>
                  <a:lnTo>
                    <a:pt x="214" y="404"/>
                  </a:lnTo>
                  <a:lnTo>
                    <a:pt x="197" y="393"/>
                  </a:lnTo>
                  <a:lnTo>
                    <a:pt x="179" y="381"/>
                  </a:lnTo>
                  <a:lnTo>
                    <a:pt x="156" y="364"/>
                  </a:lnTo>
                  <a:lnTo>
                    <a:pt x="139" y="347"/>
                  </a:lnTo>
                  <a:lnTo>
                    <a:pt x="121" y="329"/>
                  </a:lnTo>
                  <a:lnTo>
                    <a:pt x="110" y="312"/>
                  </a:lnTo>
                  <a:lnTo>
                    <a:pt x="92" y="295"/>
                  </a:lnTo>
                  <a:lnTo>
                    <a:pt x="75" y="283"/>
                  </a:lnTo>
                  <a:lnTo>
                    <a:pt x="63" y="266"/>
                  </a:lnTo>
                  <a:lnTo>
                    <a:pt x="52" y="248"/>
                  </a:lnTo>
                  <a:lnTo>
                    <a:pt x="35" y="225"/>
                  </a:lnTo>
                  <a:lnTo>
                    <a:pt x="23" y="202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0" y="150"/>
                  </a:lnTo>
                  <a:lnTo>
                    <a:pt x="0" y="133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11" y="63"/>
                  </a:lnTo>
                  <a:lnTo>
                    <a:pt x="29" y="57"/>
                  </a:lnTo>
                  <a:lnTo>
                    <a:pt x="40" y="40"/>
                  </a:lnTo>
                  <a:lnTo>
                    <a:pt x="58" y="34"/>
                  </a:lnTo>
                  <a:lnTo>
                    <a:pt x="75" y="29"/>
                  </a:lnTo>
                  <a:lnTo>
                    <a:pt x="98" y="5"/>
                  </a:lnTo>
                  <a:lnTo>
                    <a:pt x="98" y="5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33840" y="3052800"/>
              <a:ext cx="1360440" cy="1525680"/>
            </a:xfrm>
            <a:custGeom>
              <a:avLst/>
              <a:gdLst/>
              <a:ahLst/>
              <a:rect l="l" t="t" r="r" b="b"/>
              <a:pathLst>
                <a:path w="857" h="961">
                  <a:moveTo>
                    <a:pt x="821" y="0"/>
                  </a:moveTo>
                  <a:lnTo>
                    <a:pt x="798" y="0"/>
                  </a:lnTo>
                  <a:lnTo>
                    <a:pt x="781" y="11"/>
                  </a:lnTo>
                  <a:lnTo>
                    <a:pt x="775" y="29"/>
                  </a:lnTo>
                  <a:lnTo>
                    <a:pt x="764" y="46"/>
                  </a:lnTo>
                  <a:lnTo>
                    <a:pt x="758" y="63"/>
                  </a:lnTo>
                  <a:lnTo>
                    <a:pt x="746" y="81"/>
                  </a:lnTo>
                  <a:lnTo>
                    <a:pt x="740" y="98"/>
                  </a:lnTo>
                  <a:lnTo>
                    <a:pt x="740" y="115"/>
                  </a:lnTo>
                  <a:lnTo>
                    <a:pt x="740" y="133"/>
                  </a:lnTo>
                  <a:lnTo>
                    <a:pt x="740" y="179"/>
                  </a:lnTo>
                  <a:lnTo>
                    <a:pt x="740" y="196"/>
                  </a:lnTo>
                  <a:lnTo>
                    <a:pt x="740" y="214"/>
                  </a:lnTo>
                  <a:lnTo>
                    <a:pt x="746" y="237"/>
                  </a:lnTo>
                  <a:lnTo>
                    <a:pt x="758" y="254"/>
                  </a:lnTo>
                  <a:lnTo>
                    <a:pt x="769" y="272"/>
                  </a:lnTo>
                  <a:lnTo>
                    <a:pt x="787" y="283"/>
                  </a:lnTo>
                  <a:lnTo>
                    <a:pt x="793" y="301"/>
                  </a:lnTo>
                  <a:lnTo>
                    <a:pt x="804" y="324"/>
                  </a:lnTo>
                  <a:lnTo>
                    <a:pt x="810" y="341"/>
                  </a:lnTo>
                  <a:lnTo>
                    <a:pt x="816" y="364"/>
                  </a:lnTo>
                  <a:lnTo>
                    <a:pt x="827" y="381"/>
                  </a:lnTo>
                  <a:lnTo>
                    <a:pt x="833" y="399"/>
                  </a:lnTo>
                  <a:lnTo>
                    <a:pt x="839" y="422"/>
                  </a:lnTo>
                  <a:lnTo>
                    <a:pt x="845" y="439"/>
                  </a:lnTo>
                  <a:lnTo>
                    <a:pt x="845" y="457"/>
                  </a:lnTo>
                  <a:lnTo>
                    <a:pt x="845" y="474"/>
                  </a:lnTo>
                  <a:lnTo>
                    <a:pt x="850" y="491"/>
                  </a:lnTo>
                  <a:lnTo>
                    <a:pt x="850" y="509"/>
                  </a:lnTo>
                  <a:lnTo>
                    <a:pt x="856" y="555"/>
                  </a:lnTo>
                  <a:lnTo>
                    <a:pt x="856" y="578"/>
                  </a:lnTo>
                  <a:lnTo>
                    <a:pt x="856" y="595"/>
                  </a:lnTo>
                  <a:lnTo>
                    <a:pt x="856" y="613"/>
                  </a:lnTo>
                  <a:lnTo>
                    <a:pt x="856" y="630"/>
                  </a:lnTo>
                  <a:lnTo>
                    <a:pt x="856" y="647"/>
                  </a:lnTo>
                  <a:lnTo>
                    <a:pt x="833" y="653"/>
                  </a:lnTo>
                  <a:lnTo>
                    <a:pt x="798" y="665"/>
                  </a:lnTo>
                  <a:lnTo>
                    <a:pt x="781" y="676"/>
                  </a:lnTo>
                  <a:lnTo>
                    <a:pt x="764" y="694"/>
                  </a:lnTo>
                  <a:lnTo>
                    <a:pt x="746" y="734"/>
                  </a:lnTo>
                  <a:lnTo>
                    <a:pt x="729" y="752"/>
                  </a:lnTo>
                  <a:lnTo>
                    <a:pt x="717" y="769"/>
                  </a:lnTo>
                  <a:lnTo>
                    <a:pt x="706" y="786"/>
                  </a:lnTo>
                  <a:lnTo>
                    <a:pt x="688" y="798"/>
                  </a:lnTo>
                  <a:lnTo>
                    <a:pt x="671" y="815"/>
                  </a:lnTo>
                  <a:lnTo>
                    <a:pt x="648" y="833"/>
                  </a:lnTo>
                  <a:lnTo>
                    <a:pt x="607" y="856"/>
                  </a:lnTo>
                  <a:lnTo>
                    <a:pt x="590" y="867"/>
                  </a:lnTo>
                  <a:lnTo>
                    <a:pt x="567" y="879"/>
                  </a:lnTo>
                  <a:lnTo>
                    <a:pt x="555" y="896"/>
                  </a:lnTo>
                  <a:lnTo>
                    <a:pt x="538" y="902"/>
                  </a:lnTo>
                  <a:lnTo>
                    <a:pt x="521" y="913"/>
                  </a:lnTo>
                  <a:lnTo>
                    <a:pt x="503" y="925"/>
                  </a:lnTo>
                  <a:lnTo>
                    <a:pt x="457" y="931"/>
                  </a:lnTo>
                  <a:lnTo>
                    <a:pt x="440" y="937"/>
                  </a:lnTo>
                  <a:lnTo>
                    <a:pt x="422" y="937"/>
                  </a:lnTo>
                  <a:lnTo>
                    <a:pt x="399" y="937"/>
                  </a:lnTo>
                  <a:lnTo>
                    <a:pt x="376" y="954"/>
                  </a:lnTo>
                  <a:lnTo>
                    <a:pt x="359" y="960"/>
                  </a:lnTo>
                  <a:lnTo>
                    <a:pt x="341" y="960"/>
                  </a:lnTo>
                  <a:lnTo>
                    <a:pt x="324" y="960"/>
                  </a:lnTo>
                  <a:lnTo>
                    <a:pt x="278" y="960"/>
                  </a:lnTo>
                  <a:lnTo>
                    <a:pt x="260" y="960"/>
                  </a:lnTo>
                  <a:lnTo>
                    <a:pt x="243" y="960"/>
                  </a:lnTo>
                  <a:lnTo>
                    <a:pt x="226" y="960"/>
                  </a:lnTo>
                  <a:lnTo>
                    <a:pt x="208" y="960"/>
                  </a:lnTo>
                  <a:lnTo>
                    <a:pt x="191" y="960"/>
                  </a:lnTo>
                  <a:lnTo>
                    <a:pt x="168" y="960"/>
                  </a:lnTo>
                  <a:lnTo>
                    <a:pt x="150" y="960"/>
                  </a:lnTo>
                  <a:lnTo>
                    <a:pt x="133" y="960"/>
                  </a:lnTo>
                  <a:lnTo>
                    <a:pt x="116" y="960"/>
                  </a:lnTo>
                  <a:lnTo>
                    <a:pt x="98" y="960"/>
                  </a:lnTo>
                  <a:lnTo>
                    <a:pt x="81" y="960"/>
                  </a:lnTo>
                  <a:lnTo>
                    <a:pt x="64" y="960"/>
                  </a:lnTo>
                  <a:lnTo>
                    <a:pt x="46" y="960"/>
                  </a:lnTo>
                  <a:lnTo>
                    <a:pt x="29" y="960"/>
                  </a:lnTo>
                  <a:lnTo>
                    <a:pt x="29" y="942"/>
                  </a:lnTo>
                  <a:lnTo>
                    <a:pt x="23" y="885"/>
                  </a:lnTo>
                  <a:lnTo>
                    <a:pt x="17" y="867"/>
                  </a:lnTo>
                  <a:lnTo>
                    <a:pt x="12" y="850"/>
                  </a:lnTo>
                  <a:lnTo>
                    <a:pt x="6" y="833"/>
                  </a:lnTo>
                  <a:lnTo>
                    <a:pt x="6" y="815"/>
                  </a:lnTo>
                  <a:lnTo>
                    <a:pt x="6" y="792"/>
                  </a:lnTo>
                  <a:lnTo>
                    <a:pt x="6" y="752"/>
                  </a:lnTo>
                  <a:lnTo>
                    <a:pt x="0" y="734"/>
                  </a:lnTo>
                  <a:lnTo>
                    <a:pt x="0" y="717"/>
                  </a:lnTo>
                  <a:lnTo>
                    <a:pt x="0" y="700"/>
                  </a:lnTo>
                  <a:lnTo>
                    <a:pt x="0" y="682"/>
                  </a:lnTo>
                  <a:lnTo>
                    <a:pt x="0" y="665"/>
                  </a:lnTo>
                  <a:lnTo>
                    <a:pt x="17" y="665"/>
                  </a:lnTo>
                  <a:lnTo>
                    <a:pt x="35" y="659"/>
                  </a:lnTo>
                  <a:lnTo>
                    <a:pt x="52" y="647"/>
                  </a:lnTo>
                  <a:lnTo>
                    <a:pt x="69" y="636"/>
                  </a:lnTo>
                  <a:lnTo>
                    <a:pt x="87" y="624"/>
                  </a:lnTo>
                  <a:lnTo>
                    <a:pt x="104" y="619"/>
                  </a:lnTo>
                  <a:lnTo>
                    <a:pt x="122" y="607"/>
                  </a:lnTo>
                  <a:lnTo>
                    <a:pt x="139" y="595"/>
                  </a:lnTo>
                  <a:lnTo>
                    <a:pt x="156" y="584"/>
                  </a:lnTo>
                  <a:lnTo>
                    <a:pt x="168" y="567"/>
                  </a:lnTo>
                  <a:lnTo>
                    <a:pt x="179" y="572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89280" y="2693880"/>
              <a:ext cx="91764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79920" y="2878200"/>
              <a:ext cx="8082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2200" y="2308320"/>
              <a:ext cx="569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5295960" y="2979720"/>
              <a:ext cx="92160" cy="130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9040" y="3300480"/>
              <a:ext cx="23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9000" y="4035600"/>
              <a:ext cx="8985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60840" y="4208400"/>
              <a:ext cx="103824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029200" y="4438800"/>
              <a:ext cx="514440" cy="4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011200" y="427356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688920" y="2722680"/>
              <a:ext cx="119160" cy="71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9920" y="3666960"/>
              <a:ext cx="193680" cy="746280"/>
            </a:xfrm>
            <a:custGeom>
              <a:avLst/>
              <a:gdLst/>
              <a:ahLst/>
              <a:rect l="l" t="t" r="r" b="b"/>
              <a:pathLst>
                <a:path w="122" h="470">
                  <a:moveTo>
                    <a:pt x="69" y="411"/>
                  </a:moveTo>
                  <a:lnTo>
                    <a:pt x="69" y="388"/>
                  </a:lnTo>
                  <a:lnTo>
                    <a:pt x="69" y="370"/>
                  </a:lnTo>
                  <a:lnTo>
                    <a:pt x="58" y="353"/>
                  </a:lnTo>
                  <a:lnTo>
                    <a:pt x="40" y="341"/>
                  </a:lnTo>
                  <a:lnTo>
                    <a:pt x="23" y="336"/>
                  </a:lnTo>
                  <a:lnTo>
                    <a:pt x="5" y="318"/>
                  </a:lnTo>
                  <a:lnTo>
                    <a:pt x="5" y="301"/>
                  </a:lnTo>
                  <a:lnTo>
                    <a:pt x="0" y="284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32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9"/>
                  </a:lnTo>
                  <a:lnTo>
                    <a:pt x="11" y="122"/>
                  </a:lnTo>
                  <a:lnTo>
                    <a:pt x="17" y="104"/>
                  </a:lnTo>
                  <a:lnTo>
                    <a:pt x="34" y="93"/>
                  </a:lnTo>
                  <a:lnTo>
                    <a:pt x="46" y="75"/>
                  </a:lnTo>
                  <a:lnTo>
                    <a:pt x="63" y="64"/>
                  </a:lnTo>
                  <a:lnTo>
                    <a:pt x="75" y="47"/>
                  </a:lnTo>
                  <a:lnTo>
                    <a:pt x="86" y="29"/>
                  </a:lnTo>
                  <a:lnTo>
                    <a:pt x="92" y="12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110" y="35"/>
                  </a:lnTo>
                  <a:lnTo>
                    <a:pt x="110" y="52"/>
                  </a:lnTo>
                  <a:lnTo>
                    <a:pt x="110" y="70"/>
                  </a:lnTo>
                  <a:lnTo>
                    <a:pt x="110" y="87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110" y="145"/>
                  </a:lnTo>
                  <a:lnTo>
                    <a:pt x="110" y="162"/>
                  </a:lnTo>
                  <a:lnTo>
                    <a:pt x="110" y="180"/>
                  </a:lnTo>
                  <a:lnTo>
                    <a:pt x="110" y="197"/>
                  </a:lnTo>
                  <a:lnTo>
                    <a:pt x="110" y="214"/>
                  </a:lnTo>
                  <a:lnTo>
                    <a:pt x="110" y="232"/>
                  </a:lnTo>
                  <a:lnTo>
                    <a:pt x="110" y="249"/>
                  </a:lnTo>
                  <a:lnTo>
                    <a:pt x="110" y="272"/>
                  </a:lnTo>
                  <a:lnTo>
                    <a:pt x="115" y="289"/>
                  </a:lnTo>
                  <a:lnTo>
                    <a:pt x="115" y="313"/>
                  </a:lnTo>
                  <a:lnTo>
                    <a:pt x="121" y="330"/>
                  </a:lnTo>
                  <a:lnTo>
                    <a:pt x="121" y="347"/>
                  </a:lnTo>
                  <a:lnTo>
                    <a:pt x="121" y="365"/>
                  </a:lnTo>
                  <a:lnTo>
                    <a:pt x="121" y="382"/>
                  </a:lnTo>
                  <a:lnTo>
                    <a:pt x="121" y="399"/>
                  </a:lnTo>
                  <a:lnTo>
                    <a:pt x="115" y="417"/>
                  </a:lnTo>
                  <a:lnTo>
                    <a:pt x="110" y="463"/>
                  </a:lnTo>
                  <a:lnTo>
                    <a:pt x="98" y="469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72080" y="3768840"/>
              <a:ext cx="110880" cy="7452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0" y="11"/>
                  </a:moveTo>
                  <a:lnTo>
                    <a:pt x="23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69" y="17"/>
                  </a:lnTo>
                  <a:lnTo>
                    <a:pt x="69" y="35"/>
                  </a:lnTo>
                  <a:lnTo>
                    <a:pt x="52" y="40"/>
                  </a:lnTo>
                  <a:lnTo>
                    <a:pt x="29" y="46"/>
                  </a:lnTo>
                  <a:lnTo>
                    <a:pt x="11" y="46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54520" y="1730520"/>
              <a:ext cx="120600" cy="8388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75" y="0"/>
                  </a:moveTo>
                  <a:lnTo>
                    <a:pt x="69" y="23"/>
                  </a:lnTo>
                  <a:lnTo>
                    <a:pt x="58" y="41"/>
                  </a:lnTo>
                  <a:lnTo>
                    <a:pt x="40" y="46"/>
                  </a:lnTo>
                  <a:lnTo>
                    <a:pt x="23" y="52"/>
                  </a:lnTo>
                  <a:lnTo>
                    <a:pt x="11" y="35"/>
                  </a:lnTo>
                  <a:lnTo>
                    <a:pt x="0" y="17"/>
                  </a:lnTo>
                  <a:lnTo>
                    <a:pt x="17" y="6"/>
                  </a:lnTo>
                  <a:lnTo>
                    <a:pt x="35" y="0"/>
                  </a:lnTo>
                  <a:lnTo>
                    <a:pt x="52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35440" y="21351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35" y="0"/>
                  </a:moveTo>
                  <a:lnTo>
                    <a:pt x="58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3" y="11"/>
                  </a:lnTo>
                  <a:lnTo>
                    <a:pt x="151" y="23"/>
                  </a:lnTo>
                  <a:lnTo>
                    <a:pt x="168" y="34"/>
                  </a:lnTo>
                  <a:lnTo>
                    <a:pt x="179" y="52"/>
                  </a:lnTo>
                  <a:lnTo>
                    <a:pt x="197" y="63"/>
                  </a:lnTo>
                  <a:lnTo>
                    <a:pt x="214" y="81"/>
                  </a:lnTo>
                  <a:lnTo>
                    <a:pt x="232" y="98"/>
                  </a:lnTo>
                  <a:lnTo>
                    <a:pt x="243" y="121"/>
                  </a:lnTo>
                  <a:lnTo>
                    <a:pt x="249" y="138"/>
                  </a:lnTo>
                  <a:lnTo>
                    <a:pt x="255" y="156"/>
                  </a:lnTo>
                  <a:lnTo>
                    <a:pt x="260" y="173"/>
                  </a:lnTo>
                  <a:lnTo>
                    <a:pt x="266" y="190"/>
                  </a:lnTo>
                  <a:lnTo>
                    <a:pt x="266" y="208"/>
                  </a:lnTo>
                  <a:lnTo>
                    <a:pt x="266" y="225"/>
                  </a:lnTo>
                  <a:lnTo>
                    <a:pt x="260" y="242"/>
                  </a:lnTo>
                  <a:lnTo>
                    <a:pt x="243" y="248"/>
                  </a:lnTo>
                  <a:lnTo>
                    <a:pt x="226" y="248"/>
                  </a:lnTo>
                  <a:lnTo>
                    <a:pt x="208" y="248"/>
                  </a:lnTo>
                  <a:lnTo>
                    <a:pt x="191" y="248"/>
                  </a:lnTo>
                  <a:lnTo>
                    <a:pt x="174" y="248"/>
                  </a:lnTo>
                  <a:lnTo>
                    <a:pt x="156" y="248"/>
                  </a:lnTo>
                  <a:lnTo>
                    <a:pt x="139" y="242"/>
                  </a:lnTo>
                  <a:lnTo>
                    <a:pt x="116" y="225"/>
                  </a:lnTo>
                  <a:lnTo>
                    <a:pt x="93" y="208"/>
                  </a:lnTo>
                  <a:lnTo>
                    <a:pt x="75" y="196"/>
                  </a:lnTo>
                  <a:lnTo>
                    <a:pt x="58" y="185"/>
                  </a:lnTo>
                  <a:lnTo>
                    <a:pt x="46" y="167"/>
                  </a:lnTo>
                  <a:lnTo>
                    <a:pt x="35" y="150"/>
                  </a:lnTo>
                  <a:lnTo>
                    <a:pt x="18" y="133"/>
                  </a:lnTo>
                  <a:lnTo>
                    <a:pt x="12" y="115"/>
                  </a:lnTo>
                  <a:lnTo>
                    <a:pt x="6" y="92"/>
                  </a:lnTo>
                  <a:lnTo>
                    <a:pt x="6" y="75"/>
                  </a:lnTo>
                  <a:lnTo>
                    <a:pt x="0" y="57"/>
                  </a:lnTo>
                  <a:lnTo>
                    <a:pt x="0" y="40"/>
                  </a:lnTo>
                  <a:lnTo>
                    <a:pt x="18" y="28"/>
                  </a:lnTo>
                  <a:lnTo>
                    <a:pt x="35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86160" y="3263760"/>
              <a:ext cx="3938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929120" y="1674720"/>
              <a:ext cx="146160" cy="124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270480" y="1674720"/>
            <a:ext cx="1957680" cy="2922840"/>
            <a:chOff x="6270480" y="1674720"/>
            <a:chExt cx="1957680" cy="2922840"/>
          </a:xfrm>
        </p:grpSpPr>
        <p:sp>
          <p:nvSpPr>
            <p:cNvPr id="1135" name=""/>
            <p:cNvSpPr/>
            <p:nvPr/>
          </p:nvSpPr>
          <p:spPr>
            <a:xfrm>
              <a:off x="6296040" y="1674720"/>
              <a:ext cx="1897200" cy="290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99360" y="1906560"/>
              <a:ext cx="799920" cy="681120"/>
            </a:xfrm>
            <a:custGeom>
              <a:avLst/>
              <a:gdLst/>
              <a:ahLst/>
              <a:rect l="l" t="t" r="r" b="b"/>
              <a:pathLst>
                <a:path w="504" h="429">
                  <a:moveTo>
                    <a:pt x="58" y="64"/>
                  </a:moveTo>
                  <a:lnTo>
                    <a:pt x="81" y="52"/>
                  </a:lnTo>
                  <a:lnTo>
                    <a:pt x="99" y="46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56" y="40"/>
                  </a:lnTo>
                  <a:lnTo>
                    <a:pt x="180" y="40"/>
                  </a:lnTo>
                  <a:lnTo>
                    <a:pt x="197" y="46"/>
                  </a:lnTo>
                  <a:lnTo>
                    <a:pt x="214" y="52"/>
                  </a:lnTo>
                  <a:lnTo>
                    <a:pt x="232" y="52"/>
                  </a:lnTo>
                  <a:lnTo>
                    <a:pt x="249" y="52"/>
                  </a:lnTo>
                  <a:lnTo>
                    <a:pt x="266" y="52"/>
                  </a:lnTo>
                  <a:lnTo>
                    <a:pt x="284" y="52"/>
                  </a:lnTo>
                  <a:lnTo>
                    <a:pt x="301" y="52"/>
                  </a:lnTo>
                  <a:lnTo>
                    <a:pt x="318" y="40"/>
                  </a:lnTo>
                  <a:lnTo>
                    <a:pt x="336" y="29"/>
                  </a:lnTo>
                  <a:lnTo>
                    <a:pt x="353" y="17"/>
                  </a:lnTo>
                  <a:lnTo>
                    <a:pt x="370" y="6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92" y="6"/>
                  </a:lnTo>
                  <a:lnTo>
                    <a:pt x="498" y="23"/>
                  </a:lnTo>
                  <a:lnTo>
                    <a:pt x="503" y="40"/>
                  </a:lnTo>
                  <a:lnTo>
                    <a:pt x="503" y="58"/>
                  </a:lnTo>
                  <a:lnTo>
                    <a:pt x="503" y="75"/>
                  </a:lnTo>
                  <a:lnTo>
                    <a:pt x="503" y="92"/>
                  </a:lnTo>
                  <a:lnTo>
                    <a:pt x="503" y="110"/>
                  </a:lnTo>
                  <a:lnTo>
                    <a:pt x="503" y="127"/>
                  </a:lnTo>
                  <a:lnTo>
                    <a:pt x="503" y="144"/>
                  </a:lnTo>
                  <a:lnTo>
                    <a:pt x="503" y="168"/>
                  </a:lnTo>
                  <a:lnTo>
                    <a:pt x="503" y="202"/>
                  </a:lnTo>
                  <a:lnTo>
                    <a:pt x="503" y="220"/>
                  </a:lnTo>
                  <a:lnTo>
                    <a:pt x="503" y="243"/>
                  </a:lnTo>
                  <a:lnTo>
                    <a:pt x="498" y="260"/>
                  </a:lnTo>
                  <a:lnTo>
                    <a:pt x="492" y="277"/>
                  </a:lnTo>
                  <a:lnTo>
                    <a:pt x="486" y="295"/>
                  </a:lnTo>
                  <a:lnTo>
                    <a:pt x="480" y="312"/>
                  </a:lnTo>
                  <a:lnTo>
                    <a:pt x="469" y="353"/>
                  </a:lnTo>
                  <a:lnTo>
                    <a:pt x="463" y="399"/>
                  </a:lnTo>
                  <a:lnTo>
                    <a:pt x="451" y="416"/>
                  </a:lnTo>
                  <a:lnTo>
                    <a:pt x="434" y="416"/>
                  </a:lnTo>
                  <a:lnTo>
                    <a:pt x="417" y="422"/>
                  </a:lnTo>
                  <a:lnTo>
                    <a:pt x="399" y="422"/>
                  </a:lnTo>
                  <a:lnTo>
                    <a:pt x="382" y="428"/>
                  </a:lnTo>
                  <a:lnTo>
                    <a:pt x="324" y="428"/>
                  </a:lnTo>
                  <a:lnTo>
                    <a:pt x="289" y="428"/>
                  </a:lnTo>
                  <a:lnTo>
                    <a:pt x="272" y="428"/>
                  </a:lnTo>
                  <a:lnTo>
                    <a:pt x="255" y="428"/>
                  </a:lnTo>
                  <a:lnTo>
                    <a:pt x="208" y="428"/>
                  </a:lnTo>
                  <a:lnTo>
                    <a:pt x="185" y="410"/>
                  </a:lnTo>
                  <a:lnTo>
                    <a:pt x="174" y="393"/>
                  </a:lnTo>
                  <a:lnTo>
                    <a:pt x="156" y="382"/>
                  </a:lnTo>
                  <a:lnTo>
                    <a:pt x="139" y="364"/>
                  </a:lnTo>
                  <a:lnTo>
                    <a:pt x="122" y="353"/>
                  </a:lnTo>
                  <a:lnTo>
                    <a:pt x="110" y="335"/>
                  </a:lnTo>
                  <a:lnTo>
                    <a:pt x="93" y="324"/>
                  </a:lnTo>
                  <a:lnTo>
                    <a:pt x="75" y="312"/>
                  </a:lnTo>
                  <a:lnTo>
                    <a:pt x="58" y="295"/>
                  </a:lnTo>
                  <a:lnTo>
                    <a:pt x="41" y="283"/>
                  </a:lnTo>
                  <a:lnTo>
                    <a:pt x="29" y="266"/>
                  </a:lnTo>
                  <a:lnTo>
                    <a:pt x="18" y="249"/>
                  </a:lnTo>
                  <a:lnTo>
                    <a:pt x="6" y="231"/>
                  </a:lnTo>
                  <a:lnTo>
                    <a:pt x="6" y="214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18" y="92"/>
                  </a:lnTo>
                  <a:lnTo>
                    <a:pt x="35" y="81"/>
                  </a:lnTo>
                  <a:lnTo>
                    <a:pt x="58" y="64"/>
                  </a:lnTo>
                  <a:lnTo>
                    <a:pt x="81" y="52"/>
                  </a:lnTo>
                  <a:lnTo>
                    <a:pt x="104" y="46"/>
                  </a:lnTo>
                  <a:lnTo>
                    <a:pt x="122" y="40"/>
                  </a:lnTo>
                  <a:lnTo>
                    <a:pt x="127" y="4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10240" y="2044800"/>
              <a:ext cx="552600" cy="441360"/>
            </a:xfrm>
            <a:custGeom>
              <a:avLst/>
              <a:gdLst/>
              <a:ahLst/>
              <a:rect l="l" t="t" r="r" b="b"/>
              <a:pathLst>
                <a:path w="348" h="278">
                  <a:moveTo>
                    <a:pt x="0" y="121"/>
                  </a:moveTo>
                  <a:lnTo>
                    <a:pt x="11" y="98"/>
                  </a:lnTo>
                  <a:lnTo>
                    <a:pt x="11" y="81"/>
                  </a:lnTo>
                  <a:lnTo>
                    <a:pt x="11" y="63"/>
                  </a:lnTo>
                  <a:lnTo>
                    <a:pt x="17" y="46"/>
                  </a:lnTo>
                  <a:lnTo>
                    <a:pt x="34" y="40"/>
                  </a:lnTo>
                  <a:lnTo>
                    <a:pt x="52" y="29"/>
                  </a:lnTo>
                  <a:lnTo>
                    <a:pt x="69" y="29"/>
                  </a:lnTo>
                  <a:lnTo>
                    <a:pt x="86" y="29"/>
                  </a:lnTo>
                  <a:lnTo>
                    <a:pt x="104" y="34"/>
                  </a:lnTo>
                  <a:lnTo>
                    <a:pt x="121" y="40"/>
                  </a:lnTo>
                  <a:lnTo>
                    <a:pt x="138" y="40"/>
                  </a:lnTo>
                  <a:lnTo>
                    <a:pt x="156" y="40"/>
                  </a:lnTo>
                  <a:lnTo>
                    <a:pt x="173" y="40"/>
                  </a:lnTo>
                  <a:lnTo>
                    <a:pt x="190" y="40"/>
                  </a:lnTo>
                  <a:lnTo>
                    <a:pt x="208" y="40"/>
                  </a:lnTo>
                  <a:lnTo>
                    <a:pt x="225" y="29"/>
                  </a:lnTo>
                  <a:lnTo>
                    <a:pt x="243" y="11"/>
                  </a:lnTo>
                  <a:lnTo>
                    <a:pt x="266" y="5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18" y="0"/>
                  </a:lnTo>
                  <a:lnTo>
                    <a:pt x="335" y="5"/>
                  </a:lnTo>
                  <a:lnTo>
                    <a:pt x="347" y="23"/>
                  </a:lnTo>
                  <a:lnTo>
                    <a:pt x="347" y="40"/>
                  </a:lnTo>
                  <a:lnTo>
                    <a:pt x="347" y="57"/>
                  </a:lnTo>
                  <a:lnTo>
                    <a:pt x="347" y="75"/>
                  </a:lnTo>
                  <a:lnTo>
                    <a:pt x="347" y="98"/>
                  </a:lnTo>
                  <a:lnTo>
                    <a:pt x="347" y="115"/>
                  </a:lnTo>
                  <a:lnTo>
                    <a:pt x="347" y="133"/>
                  </a:lnTo>
                  <a:lnTo>
                    <a:pt x="347" y="150"/>
                  </a:lnTo>
                  <a:lnTo>
                    <a:pt x="347" y="167"/>
                  </a:lnTo>
                  <a:lnTo>
                    <a:pt x="347" y="185"/>
                  </a:lnTo>
                  <a:lnTo>
                    <a:pt x="347" y="202"/>
                  </a:lnTo>
                  <a:lnTo>
                    <a:pt x="347" y="219"/>
                  </a:lnTo>
                  <a:lnTo>
                    <a:pt x="335" y="237"/>
                  </a:lnTo>
                  <a:lnTo>
                    <a:pt x="324" y="254"/>
                  </a:lnTo>
                  <a:lnTo>
                    <a:pt x="306" y="266"/>
                  </a:lnTo>
                  <a:lnTo>
                    <a:pt x="289" y="271"/>
                  </a:lnTo>
                  <a:lnTo>
                    <a:pt x="271" y="277"/>
                  </a:lnTo>
                  <a:lnTo>
                    <a:pt x="254" y="277"/>
                  </a:lnTo>
                  <a:lnTo>
                    <a:pt x="237" y="277"/>
                  </a:lnTo>
                  <a:lnTo>
                    <a:pt x="214" y="277"/>
                  </a:lnTo>
                  <a:lnTo>
                    <a:pt x="190" y="277"/>
                  </a:lnTo>
                  <a:lnTo>
                    <a:pt x="173" y="277"/>
                  </a:lnTo>
                  <a:lnTo>
                    <a:pt x="156" y="277"/>
                  </a:lnTo>
                  <a:lnTo>
                    <a:pt x="138" y="266"/>
                  </a:lnTo>
                  <a:lnTo>
                    <a:pt x="121" y="248"/>
                  </a:lnTo>
                  <a:lnTo>
                    <a:pt x="104" y="243"/>
                  </a:lnTo>
                  <a:lnTo>
                    <a:pt x="86" y="237"/>
                  </a:lnTo>
                  <a:lnTo>
                    <a:pt x="69" y="225"/>
                  </a:lnTo>
                  <a:lnTo>
                    <a:pt x="52" y="208"/>
                  </a:lnTo>
                  <a:lnTo>
                    <a:pt x="34" y="202"/>
                  </a:lnTo>
                  <a:lnTo>
                    <a:pt x="29" y="185"/>
                  </a:lnTo>
                  <a:lnTo>
                    <a:pt x="17" y="167"/>
                  </a:lnTo>
                  <a:lnTo>
                    <a:pt x="11" y="150"/>
                  </a:lnTo>
                  <a:lnTo>
                    <a:pt x="0" y="12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32520" y="2860560"/>
              <a:ext cx="1295640" cy="1737000"/>
            </a:xfrm>
            <a:custGeom>
              <a:avLst/>
              <a:gdLst/>
              <a:ahLst/>
              <a:rect l="l" t="t" r="r" b="b"/>
              <a:pathLst>
                <a:path w="816" h="1094">
                  <a:moveTo>
                    <a:pt x="115" y="1082"/>
                  </a:moveTo>
                  <a:lnTo>
                    <a:pt x="121" y="1053"/>
                  </a:lnTo>
                  <a:lnTo>
                    <a:pt x="121" y="1035"/>
                  </a:lnTo>
                  <a:lnTo>
                    <a:pt x="121" y="1018"/>
                  </a:lnTo>
                  <a:lnTo>
                    <a:pt x="121" y="1001"/>
                  </a:lnTo>
                  <a:lnTo>
                    <a:pt x="121" y="983"/>
                  </a:lnTo>
                  <a:lnTo>
                    <a:pt x="121" y="966"/>
                  </a:lnTo>
                  <a:lnTo>
                    <a:pt x="115" y="949"/>
                  </a:lnTo>
                  <a:lnTo>
                    <a:pt x="115" y="931"/>
                  </a:lnTo>
                  <a:lnTo>
                    <a:pt x="110" y="914"/>
                  </a:lnTo>
                  <a:lnTo>
                    <a:pt x="104" y="897"/>
                  </a:lnTo>
                  <a:lnTo>
                    <a:pt x="98" y="879"/>
                  </a:lnTo>
                  <a:lnTo>
                    <a:pt x="92" y="862"/>
                  </a:lnTo>
                  <a:lnTo>
                    <a:pt x="86" y="845"/>
                  </a:lnTo>
                  <a:lnTo>
                    <a:pt x="81" y="827"/>
                  </a:lnTo>
                  <a:lnTo>
                    <a:pt x="69" y="810"/>
                  </a:lnTo>
                  <a:lnTo>
                    <a:pt x="58" y="793"/>
                  </a:lnTo>
                  <a:lnTo>
                    <a:pt x="52" y="775"/>
                  </a:lnTo>
                  <a:lnTo>
                    <a:pt x="40" y="758"/>
                  </a:lnTo>
                  <a:lnTo>
                    <a:pt x="29" y="740"/>
                  </a:lnTo>
                  <a:lnTo>
                    <a:pt x="5" y="717"/>
                  </a:lnTo>
                  <a:lnTo>
                    <a:pt x="0" y="694"/>
                  </a:lnTo>
                  <a:lnTo>
                    <a:pt x="0" y="677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5" y="590"/>
                  </a:lnTo>
                  <a:lnTo>
                    <a:pt x="23" y="573"/>
                  </a:lnTo>
                  <a:lnTo>
                    <a:pt x="46" y="555"/>
                  </a:lnTo>
                  <a:lnTo>
                    <a:pt x="63" y="550"/>
                  </a:lnTo>
                  <a:lnTo>
                    <a:pt x="81" y="532"/>
                  </a:lnTo>
                  <a:lnTo>
                    <a:pt x="98" y="521"/>
                  </a:lnTo>
                  <a:lnTo>
                    <a:pt x="115" y="515"/>
                  </a:lnTo>
                  <a:lnTo>
                    <a:pt x="133" y="498"/>
                  </a:lnTo>
                  <a:lnTo>
                    <a:pt x="150" y="486"/>
                  </a:lnTo>
                  <a:lnTo>
                    <a:pt x="150" y="469"/>
                  </a:lnTo>
                  <a:lnTo>
                    <a:pt x="150" y="451"/>
                  </a:lnTo>
                  <a:lnTo>
                    <a:pt x="150" y="417"/>
                  </a:lnTo>
                  <a:lnTo>
                    <a:pt x="139" y="399"/>
                  </a:lnTo>
                  <a:lnTo>
                    <a:pt x="127" y="382"/>
                  </a:lnTo>
                  <a:lnTo>
                    <a:pt x="115" y="365"/>
                  </a:lnTo>
                  <a:lnTo>
                    <a:pt x="110" y="347"/>
                  </a:lnTo>
                  <a:lnTo>
                    <a:pt x="104" y="330"/>
                  </a:lnTo>
                  <a:lnTo>
                    <a:pt x="104" y="313"/>
                  </a:lnTo>
                  <a:lnTo>
                    <a:pt x="104" y="295"/>
                  </a:lnTo>
                  <a:lnTo>
                    <a:pt x="110" y="278"/>
                  </a:lnTo>
                  <a:lnTo>
                    <a:pt x="127" y="261"/>
                  </a:lnTo>
                  <a:lnTo>
                    <a:pt x="139" y="243"/>
                  </a:lnTo>
                  <a:lnTo>
                    <a:pt x="144" y="226"/>
                  </a:lnTo>
                  <a:lnTo>
                    <a:pt x="156" y="208"/>
                  </a:lnTo>
                  <a:lnTo>
                    <a:pt x="167" y="191"/>
                  </a:lnTo>
                  <a:lnTo>
                    <a:pt x="179" y="174"/>
                  </a:lnTo>
                  <a:lnTo>
                    <a:pt x="191" y="151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208" y="99"/>
                  </a:lnTo>
                  <a:lnTo>
                    <a:pt x="214" y="81"/>
                  </a:lnTo>
                  <a:lnTo>
                    <a:pt x="231" y="64"/>
                  </a:lnTo>
                  <a:lnTo>
                    <a:pt x="243" y="47"/>
                  </a:lnTo>
                  <a:lnTo>
                    <a:pt x="260" y="29"/>
                  </a:lnTo>
                  <a:lnTo>
                    <a:pt x="277" y="18"/>
                  </a:lnTo>
                  <a:lnTo>
                    <a:pt x="300" y="6"/>
                  </a:lnTo>
                  <a:lnTo>
                    <a:pt x="318" y="6"/>
                  </a:lnTo>
                  <a:lnTo>
                    <a:pt x="335" y="0"/>
                  </a:lnTo>
                  <a:lnTo>
                    <a:pt x="358" y="0"/>
                  </a:lnTo>
                  <a:lnTo>
                    <a:pt x="376" y="6"/>
                  </a:lnTo>
                  <a:lnTo>
                    <a:pt x="393" y="12"/>
                  </a:lnTo>
                  <a:lnTo>
                    <a:pt x="405" y="29"/>
                  </a:lnTo>
                  <a:lnTo>
                    <a:pt x="422" y="47"/>
                  </a:lnTo>
                  <a:lnTo>
                    <a:pt x="433" y="64"/>
                  </a:lnTo>
                  <a:lnTo>
                    <a:pt x="439" y="81"/>
                  </a:lnTo>
                  <a:lnTo>
                    <a:pt x="439" y="99"/>
                  </a:lnTo>
                  <a:lnTo>
                    <a:pt x="445" y="116"/>
                  </a:lnTo>
                  <a:lnTo>
                    <a:pt x="445" y="133"/>
                  </a:lnTo>
                  <a:lnTo>
                    <a:pt x="445" y="151"/>
                  </a:lnTo>
                  <a:lnTo>
                    <a:pt x="445" y="168"/>
                  </a:lnTo>
                  <a:lnTo>
                    <a:pt x="445" y="191"/>
                  </a:lnTo>
                  <a:lnTo>
                    <a:pt x="445" y="208"/>
                  </a:lnTo>
                  <a:lnTo>
                    <a:pt x="445" y="226"/>
                  </a:lnTo>
                  <a:lnTo>
                    <a:pt x="445" y="243"/>
                  </a:lnTo>
                  <a:lnTo>
                    <a:pt x="451" y="261"/>
                  </a:lnTo>
                  <a:lnTo>
                    <a:pt x="462" y="278"/>
                  </a:lnTo>
                  <a:lnTo>
                    <a:pt x="468" y="295"/>
                  </a:lnTo>
                  <a:lnTo>
                    <a:pt x="474" y="313"/>
                  </a:lnTo>
                  <a:lnTo>
                    <a:pt x="491" y="336"/>
                  </a:lnTo>
                  <a:lnTo>
                    <a:pt x="497" y="370"/>
                  </a:lnTo>
                  <a:lnTo>
                    <a:pt x="509" y="388"/>
                  </a:lnTo>
                  <a:lnTo>
                    <a:pt x="514" y="405"/>
                  </a:lnTo>
                  <a:lnTo>
                    <a:pt x="526" y="422"/>
                  </a:lnTo>
                  <a:lnTo>
                    <a:pt x="532" y="440"/>
                  </a:lnTo>
                  <a:lnTo>
                    <a:pt x="538" y="457"/>
                  </a:lnTo>
                  <a:lnTo>
                    <a:pt x="549" y="480"/>
                  </a:lnTo>
                  <a:lnTo>
                    <a:pt x="555" y="515"/>
                  </a:lnTo>
                  <a:lnTo>
                    <a:pt x="561" y="532"/>
                  </a:lnTo>
                  <a:lnTo>
                    <a:pt x="567" y="550"/>
                  </a:lnTo>
                  <a:lnTo>
                    <a:pt x="572" y="567"/>
                  </a:lnTo>
                  <a:lnTo>
                    <a:pt x="578" y="584"/>
                  </a:lnTo>
                  <a:lnTo>
                    <a:pt x="584" y="607"/>
                  </a:lnTo>
                  <a:lnTo>
                    <a:pt x="601" y="619"/>
                  </a:lnTo>
                  <a:lnTo>
                    <a:pt x="642" y="636"/>
                  </a:lnTo>
                  <a:lnTo>
                    <a:pt x="688" y="648"/>
                  </a:lnTo>
                  <a:lnTo>
                    <a:pt x="705" y="660"/>
                  </a:lnTo>
                  <a:lnTo>
                    <a:pt x="723" y="671"/>
                  </a:lnTo>
                  <a:lnTo>
                    <a:pt x="757" y="706"/>
                  </a:lnTo>
                  <a:lnTo>
                    <a:pt x="775" y="717"/>
                  </a:lnTo>
                  <a:lnTo>
                    <a:pt x="792" y="729"/>
                  </a:lnTo>
                  <a:lnTo>
                    <a:pt x="809" y="740"/>
                  </a:lnTo>
                  <a:lnTo>
                    <a:pt x="809" y="758"/>
                  </a:lnTo>
                  <a:lnTo>
                    <a:pt x="809" y="775"/>
                  </a:lnTo>
                  <a:lnTo>
                    <a:pt x="809" y="798"/>
                  </a:lnTo>
                  <a:lnTo>
                    <a:pt x="809" y="816"/>
                  </a:lnTo>
                  <a:lnTo>
                    <a:pt x="809" y="839"/>
                  </a:lnTo>
                  <a:lnTo>
                    <a:pt x="815" y="873"/>
                  </a:lnTo>
                  <a:lnTo>
                    <a:pt x="815" y="891"/>
                  </a:lnTo>
                  <a:lnTo>
                    <a:pt x="815" y="908"/>
                  </a:lnTo>
                  <a:lnTo>
                    <a:pt x="815" y="931"/>
                  </a:lnTo>
                  <a:lnTo>
                    <a:pt x="815" y="949"/>
                  </a:lnTo>
                  <a:lnTo>
                    <a:pt x="815" y="966"/>
                  </a:lnTo>
                  <a:lnTo>
                    <a:pt x="815" y="983"/>
                  </a:lnTo>
                  <a:lnTo>
                    <a:pt x="815" y="1001"/>
                  </a:lnTo>
                  <a:lnTo>
                    <a:pt x="815" y="1018"/>
                  </a:lnTo>
                  <a:lnTo>
                    <a:pt x="815" y="1035"/>
                  </a:lnTo>
                  <a:lnTo>
                    <a:pt x="815" y="1053"/>
                  </a:lnTo>
                  <a:lnTo>
                    <a:pt x="815" y="1070"/>
                  </a:lnTo>
                  <a:lnTo>
                    <a:pt x="815" y="1087"/>
                  </a:lnTo>
                  <a:lnTo>
                    <a:pt x="815" y="1093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7546680" y="1778040"/>
              <a:ext cx="73080" cy="12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3120" y="240192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70480" y="2860560"/>
              <a:ext cx="84456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8015400" y="3357720"/>
              <a:ext cx="1648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2640" y="4183200"/>
              <a:ext cx="7160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45360" y="3952800"/>
              <a:ext cx="295200" cy="617760"/>
            </a:xfrm>
            <a:custGeom>
              <a:avLst/>
              <a:gdLst/>
              <a:ahLst/>
              <a:rect l="l" t="t" r="r" b="b"/>
              <a:pathLst>
                <a:path w="186" h="389">
                  <a:moveTo>
                    <a:pt x="0" y="6"/>
                  </a:moveTo>
                  <a:lnTo>
                    <a:pt x="23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109" y="12"/>
                  </a:lnTo>
                  <a:lnTo>
                    <a:pt x="127" y="24"/>
                  </a:lnTo>
                  <a:lnTo>
                    <a:pt x="138" y="41"/>
                  </a:lnTo>
                  <a:lnTo>
                    <a:pt x="156" y="52"/>
                  </a:lnTo>
                  <a:lnTo>
                    <a:pt x="167" y="70"/>
                  </a:lnTo>
                  <a:lnTo>
                    <a:pt x="179" y="87"/>
                  </a:lnTo>
                  <a:lnTo>
                    <a:pt x="179" y="105"/>
                  </a:lnTo>
                  <a:lnTo>
                    <a:pt x="185" y="122"/>
                  </a:lnTo>
                  <a:lnTo>
                    <a:pt x="185" y="139"/>
                  </a:lnTo>
                  <a:lnTo>
                    <a:pt x="185" y="157"/>
                  </a:lnTo>
                  <a:lnTo>
                    <a:pt x="185" y="174"/>
                  </a:lnTo>
                  <a:lnTo>
                    <a:pt x="185" y="191"/>
                  </a:lnTo>
                  <a:lnTo>
                    <a:pt x="185" y="209"/>
                  </a:lnTo>
                  <a:lnTo>
                    <a:pt x="185" y="226"/>
                  </a:lnTo>
                  <a:lnTo>
                    <a:pt x="173" y="243"/>
                  </a:lnTo>
                  <a:lnTo>
                    <a:pt x="167" y="261"/>
                  </a:lnTo>
                  <a:lnTo>
                    <a:pt x="156" y="278"/>
                  </a:lnTo>
                  <a:lnTo>
                    <a:pt x="144" y="295"/>
                  </a:lnTo>
                  <a:lnTo>
                    <a:pt x="127" y="318"/>
                  </a:lnTo>
                  <a:lnTo>
                    <a:pt x="121" y="336"/>
                  </a:lnTo>
                  <a:lnTo>
                    <a:pt x="104" y="347"/>
                  </a:lnTo>
                  <a:lnTo>
                    <a:pt x="86" y="359"/>
                  </a:lnTo>
                  <a:lnTo>
                    <a:pt x="69" y="371"/>
                  </a:lnTo>
                  <a:lnTo>
                    <a:pt x="52" y="376"/>
                  </a:lnTo>
                  <a:lnTo>
                    <a:pt x="34" y="388"/>
                  </a:lnTo>
                  <a:lnTo>
                    <a:pt x="17" y="388"/>
                  </a:lnTo>
                  <a:lnTo>
                    <a:pt x="5" y="388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9240" y="2952720"/>
              <a:ext cx="322200" cy="67140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196" y="422"/>
                  </a:moveTo>
                  <a:lnTo>
                    <a:pt x="173" y="405"/>
                  </a:lnTo>
                  <a:lnTo>
                    <a:pt x="156" y="393"/>
                  </a:lnTo>
                  <a:lnTo>
                    <a:pt x="138" y="388"/>
                  </a:lnTo>
                  <a:lnTo>
                    <a:pt x="121" y="382"/>
                  </a:lnTo>
                  <a:lnTo>
                    <a:pt x="104" y="370"/>
                  </a:lnTo>
                  <a:lnTo>
                    <a:pt x="86" y="359"/>
                  </a:lnTo>
                  <a:lnTo>
                    <a:pt x="69" y="341"/>
                  </a:lnTo>
                  <a:lnTo>
                    <a:pt x="52" y="324"/>
                  </a:lnTo>
                  <a:lnTo>
                    <a:pt x="40" y="307"/>
                  </a:lnTo>
                  <a:lnTo>
                    <a:pt x="23" y="295"/>
                  </a:lnTo>
                  <a:lnTo>
                    <a:pt x="17" y="278"/>
                  </a:lnTo>
                  <a:lnTo>
                    <a:pt x="11" y="260"/>
                  </a:lnTo>
                  <a:lnTo>
                    <a:pt x="11" y="243"/>
                  </a:lnTo>
                  <a:lnTo>
                    <a:pt x="5" y="220"/>
                  </a:lnTo>
                  <a:lnTo>
                    <a:pt x="5" y="203"/>
                  </a:lnTo>
                  <a:lnTo>
                    <a:pt x="0" y="185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4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5" y="52"/>
                  </a:lnTo>
                  <a:lnTo>
                    <a:pt x="17" y="35"/>
                  </a:lnTo>
                  <a:lnTo>
                    <a:pt x="34" y="17"/>
                  </a:lnTo>
                  <a:lnTo>
                    <a:pt x="52" y="6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12"/>
                  </a:lnTo>
                  <a:lnTo>
                    <a:pt x="162" y="23"/>
                  </a:lnTo>
                  <a:lnTo>
                    <a:pt x="179" y="41"/>
                  </a:lnTo>
                  <a:lnTo>
                    <a:pt x="191" y="58"/>
                  </a:lnTo>
                  <a:lnTo>
                    <a:pt x="202" y="75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42320" y="3017880"/>
              <a:ext cx="1158840" cy="1569960"/>
            </a:xfrm>
            <a:custGeom>
              <a:avLst/>
              <a:gdLst/>
              <a:ahLst/>
              <a:rect l="l" t="t" r="r" b="b"/>
              <a:pathLst>
                <a:path w="730" h="989">
                  <a:moveTo>
                    <a:pt x="723" y="769"/>
                  </a:moveTo>
                  <a:lnTo>
                    <a:pt x="729" y="792"/>
                  </a:lnTo>
                  <a:lnTo>
                    <a:pt x="729" y="809"/>
                  </a:lnTo>
                  <a:lnTo>
                    <a:pt x="729" y="827"/>
                  </a:lnTo>
                  <a:lnTo>
                    <a:pt x="729" y="844"/>
                  </a:lnTo>
                  <a:lnTo>
                    <a:pt x="729" y="861"/>
                  </a:lnTo>
                  <a:lnTo>
                    <a:pt x="729" y="884"/>
                  </a:lnTo>
                  <a:lnTo>
                    <a:pt x="729" y="902"/>
                  </a:lnTo>
                  <a:lnTo>
                    <a:pt x="729" y="919"/>
                  </a:lnTo>
                  <a:lnTo>
                    <a:pt x="729" y="936"/>
                  </a:lnTo>
                  <a:lnTo>
                    <a:pt x="729" y="954"/>
                  </a:lnTo>
                  <a:lnTo>
                    <a:pt x="729" y="971"/>
                  </a:lnTo>
                  <a:lnTo>
                    <a:pt x="712" y="983"/>
                  </a:lnTo>
                  <a:lnTo>
                    <a:pt x="694" y="983"/>
                  </a:lnTo>
                  <a:lnTo>
                    <a:pt x="677" y="988"/>
                  </a:lnTo>
                  <a:lnTo>
                    <a:pt x="659" y="988"/>
                  </a:lnTo>
                  <a:lnTo>
                    <a:pt x="642" y="988"/>
                  </a:lnTo>
                  <a:lnTo>
                    <a:pt x="625" y="988"/>
                  </a:lnTo>
                  <a:lnTo>
                    <a:pt x="607" y="988"/>
                  </a:lnTo>
                  <a:lnTo>
                    <a:pt x="590" y="988"/>
                  </a:lnTo>
                  <a:lnTo>
                    <a:pt x="573" y="988"/>
                  </a:lnTo>
                  <a:lnTo>
                    <a:pt x="555" y="988"/>
                  </a:lnTo>
                  <a:lnTo>
                    <a:pt x="538" y="988"/>
                  </a:lnTo>
                  <a:lnTo>
                    <a:pt x="521" y="977"/>
                  </a:lnTo>
                  <a:lnTo>
                    <a:pt x="498" y="965"/>
                  </a:lnTo>
                  <a:lnTo>
                    <a:pt x="492" y="948"/>
                  </a:lnTo>
                  <a:lnTo>
                    <a:pt x="474" y="925"/>
                  </a:lnTo>
                  <a:lnTo>
                    <a:pt x="457" y="907"/>
                  </a:lnTo>
                  <a:lnTo>
                    <a:pt x="440" y="890"/>
                  </a:lnTo>
                  <a:lnTo>
                    <a:pt x="422" y="884"/>
                  </a:lnTo>
                  <a:lnTo>
                    <a:pt x="399" y="879"/>
                  </a:lnTo>
                  <a:lnTo>
                    <a:pt x="382" y="873"/>
                  </a:lnTo>
                  <a:lnTo>
                    <a:pt x="364" y="867"/>
                  </a:lnTo>
                  <a:lnTo>
                    <a:pt x="347" y="861"/>
                  </a:lnTo>
                  <a:lnTo>
                    <a:pt x="330" y="861"/>
                  </a:lnTo>
                  <a:lnTo>
                    <a:pt x="312" y="861"/>
                  </a:lnTo>
                  <a:lnTo>
                    <a:pt x="295" y="861"/>
                  </a:lnTo>
                  <a:lnTo>
                    <a:pt x="243" y="861"/>
                  </a:lnTo>
                  <a:lnTo>
                    <a:pt x="226" y="873"/>
                  </a:lnTo>
                  <a:lnTo>
                    <a:pt x="220" y="890"/>
                  </a:lnTo>
                  <a:lnTo>
                    <a:pt x="208" y="907"/>
                  </a:lnTo>
                  <a:lnTo>
                    <a:pt x="203" y="925"/>
                  </a:lnTo>
                  <a:lnTo>
                    <a:pt x="197" y="942"/>
                  </a:lnTo>
                  <a:lnTo>
                    <a:pt x="185" y="960"/>
                  </a:lnTo>
                  <a:lnTo>
                    <a:pt x="174" y="977"/>
                  </a:lnTo>
                  <a:lnTo>
                    <a:pt x="150" y="960"/>
                  </a:lnTo>
                  <a:lnTo>
                    <a:pt x="150" y="942"/>
                  </a:lnTo>
                  <a:lnTo>
                    <a:pt x="145" y="925"/>
                  </a:lnTo>
                  <a:lnTo>
                    <a:pt x="139" y="907"/>
                  </a:lnTo>
                  <a:lnTo>
                    <a:pt x="127" y="890"/>
                  </a:lnTo>
                  <a:lnTo>
                    <a:pt x="122" y="873"/>
                  </a:lnTo>
                  <a:lnTo>
                    <a:pt x="110" y="855"/>
                  </a:lnTo>
                  <a:lnTo>
                    <a:pt x="98" y="838"/>
                  </a:lnTo>
                  <a:lnTo>
                    <a:pt x="93" y="821"/>
                  </a:lnTo>
                  <a:lnTo>
                    <a:pt x="81" y="803"/>
                  </a:lnTo>
                  <a:lnTo>
                    <a:pt x="75" y="786"/>
                  </a:lnTo>
                  <a:lnTo>
                    <a:pt x="70" y="769"/>
                  </a:lnTo>
                  <a:lnTo>
                    <a:pt x="58" y="746"/>
                  </a:lnTo>
                  <a:lnTo>
                    <a:pt x="52" y="728"/>
                  </a:lnTo>
                  <a:lnTo>
                    <a:pt x="41" y="711"/>
                  </a:lnTo>
                  <a:lnTo>
                    <a:pt x="35" y="694"/>
                  </a:lnTo>
                  <a:lnTo>
                    <a:pt x="29" y="676"/>
                  </a:lnTo>
                  <a:lnTo>
                    <a:pt x="23" y="659"/>
                  </a:lnTo>
                  <a:lnTo>
                    <a:pt x="17" y="641"/>
                  </a:lnTo>
                  <a:lnTo>
                    <a:pt x="12" y="624"/>
                  </a:lnTo>
                  <a:lnTo>
                    <a:pt x="12" y="607"/>
                  </a:lnTo>
                  <a:lnTo>
                    <a:pt x="6" y="589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17" y="491"/>
                  </a:lnTo>
                  <a:lnTo>
                    <a:pt x="35" y="480"/>
                  </a:lnTo>
                  <a:lnTo>
                    <a:pt x="58" y="462"/>
                  </a:lnTo>
                  <a:lnTo>
                    <a:pt x="75" y="445"/>
                  </a:lnTo>
                  <a:lnTo>
                    <a:pt x="87" y="428"/>
                  </a:lnTo>
                  <a:lnTo>
                    <a:pt x="104" y="416"/>
                  </a:lnTo>
                  <a:lnTo>
                    <a:pt x="110" y="399"/>
                  </a:lnTo>
                  <a:lnTo>
                    <a:pt x="116" y="381"/>
                  </a:lnTo>
                  <a:lnTo>
                    <a:pt x="122" y="364"/>
                  </a:lnTo>
                  <a:lnTo>
                    <a:pt x="127" y="347"/>
                  </a:lnTo>
                  <a:lnTo>
                    <a:pt x="127" y="329"/>
                  </a:lnTo>
                  <a:lnTo>
                    <a:pt x="127" y="312"/>
                  </a:lnTo>
                  <a:lnTo>
                    <a:pt x="127" y="295"/>
                  </a:lnTo>
                  <a:lnTo>
                    <a:pt x="127" y="277"/>
                  </a:lnTo>
                  <a:lnTo>
                    <a:pt x="122" y="260"/>
                  </a:lnTo>
                  <a:lnTo>
                    <a:pt x="122" y="242"/>
                  </a:lnTo>
                  <a:lnTo>
                    <a:pt x="116" y="225"/>
                  </a:lnTo>
                  <a:lnTo>
                    <a:pt x="116" y="208"/>
                  </a:lnTo>
                  <a:lnTo>
                    <a:pt x="116" y="185"/>
                  </a:lnTo>
                  <a:lnTo>
                    <a:pt x="116" y="167"/>
                  </a:lnTo>
                  <a:lnTo>
                    <a:pt x="116" y="150"/>
                  </a:lnTo>
                  <a:lnTo>
                    <a:pt x="116" y="133"/>
                  </a:lnTo>
                  <a:lnTo>
                    <a:pt x="122" y="115"/>
                  </a:lnTo>
                  <a:lnTo>
                    <a:pt x="127" y="92"/>
                  </a:lnTo>
                  <a:lnTo>
                    <a:pt x="133" y="69"/>
                  </a:lnTo>
                  <a:lnTo>
                    <a:pt x="139" y="52"/>
                  </a:lnTo>
                  <a:lnTo>
                    <a:pt x="150" y="34"/>
                  </a:lnTo>
                  <a:lnTo>
                    <a:pt x="168" y="23"/>
                  </a:lnTo>
                  <a:lnTo>
                    <a:pt x="185" y="11"/>
                  </a:lnTo>
                  <a:lnTo>
                    <a:pt x="203" y="0"/>
                  </a:lnTo>
                  <a:lnTo>
                    <a:pt x="220" y="0"/>
                  </a:lnTo>
                  <a:lnTo>
                    <a:pt x="237" y="0"/>
                  </a:lnTo>
                  <a:lnTo>
                    <a:pt x="255" y="11"/>
                  </a:lnTo>
                  <a:lnTo>
                    <a:pt x="272" y="23"/>
                  </a:lnTo>
                  <a:lnTo>
                    <a:pt x="278" y="40"/>
                  </a:lnTo>
                  <a:lnTo>
                    <a:pt x="284" y="57"/>
                  </a:lnTo>
                  <a:lnTo>
                    <a:pt x="295" y="75"/>
                  </a:lnTo>
                  <a:lnTo>
                    <a:pt x="301" y="98"/>
                  </a:lnTo>
                  <a:lnTo>
                    <a:pt x="301" y="115"/>
                  </a:lnTo>
                  <a:lnTo>
                    <a:pt x="307" y="133"/>
                  </a:lnTo>
                  <a:lnTo>
                    <a:pt x="307" y="150"/>
                  </a:lnTo>
                  <a:lnTo>
                    <a:pt x="312" y="167"/>
                  </a:lnTo>
                  <a:lnTo>
                    <a:pt x="318" y="185"/>
                  </a:lnTo>
                  <a:lnTo>
                    <a:pt x="318" y="208"/>
                  </a:lnTo>
                  <a:lnTo>
                    <a:pt x="318" y="225"/>
                  </a:lnTo>
                  <a:lnTo>
                    <a:pt x="324" y="242"/>
                  </a:lnTo>
                  <a:lnTo>
                    <a:pt x="330" y="260"/>
                  </a:lnTo>
                  <a:lnTo>
                    <a:pt x="336" y="277"/>
                  </a:lnTo>
                  <a:lnTo>
                    <a:pt x="347" y="323"/>
                  </a:lnTo>
                  <a:lnTo>
                    <a:pt x="359" y="341"/>
                  </a:lnTo>
                  <a:lnTo>
                    <a:pt x="364" y="358"/>
                  </a:lnTo>
                  <a:lnTo>
                    <a:pt x="376" y="381"/>
                  </a:lnTo>
                  <a:lnTo>
                    <a:pt x="388" y="404"/>
                  </a:lnTo>
                  <a:lnTo>
                    <a:pt x="393" y="439"/>
                  </a:lnTo>
                  <a:lnTo>
                    <a:pt x="399" y="456"/>
                  </a:lnTo>
                  <a:lnTo>
                    <a:pt x="405" y="474"/>
                  </a:lnTo>
                  <a:lnTo>
                    <a:pt x="411" y="514"/>
                  </a:lnTo>
                  <a:lnTo>
                    <a:pt x="422" y="532"/>
                  </a:lnTo>
                  <a:lnTo>
                    <a:pt x="434" y="555"/>
                  </a:lnTo>
                  <a:lnTo>
                    <a:pt x="445" y="572"/>
                  </a:lnTo>
                  <a:lnTo>
                    <a:pt x="451" y="589"/>
                  </a:lnTo>
                  <a:lnTo>
                    <a:pt x="463" y="607"/>
                  </a:lnTo>
                  <a:lnTo>
                    <a:pt x="469" y="624"/>
                  </a:lnTo>
                  <a:lnTo>
                    <a:pt x="486" y="641"/>
                  </a:lnTo>
                  <a:lnTo>
                    <a:pt x="503" y="659"/>
                  </a:lnTo>
                  <a:lnTo>
                    <a:pt x="521" y="670"/>
                  </a:lnTo>
                  <a:lnTo>
                    <a:pt x="538" y="682"/>
                  </a:lnTo>
                  <a:lnTo>
                    <a:pt x="555" y="694"/>
                  </a:lnTo>
                  <a:lnTo>
                    <a:pt x="573" y="694"/>
                  </a:lnTo>
                  <a:lnTo>
                    <a:pt x="613" y="699"/>
                  </a:lnTo>
                  <a:lnTo>
                    <a:pt x="631" y="705"/>
                  </a:lnTo>
                  <a:lnTo>
                    <a:pt x="648" y="711"/>
                  </a:lnTo>
                  <a:lnTo>
                    <a:pt x="665" y="728"/>
                  </a:lnTo>
                  <a:lnTo>
                    <a:pt x="683" y="728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80200" y="3697200"/>
              <a:ext cx="368280" cy="550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116" y="5"/>
                  </a:moveTo>
                  <a:lnTo>
                    <a:pt x="139" y="0"/>
                  </a:lnTo>
                  <a:lnTo>
                    <a:pt x="156" y="11"/>
                  </a:lnTo>
                  <a:lnTo>
                    <a:pt x="162" y="28"/>
                  </a:lnTo>
                  <a:lnTo>
                    <a:pt x="179" y="46"/>
                  </a:lnTo>
                  <a:lnTo>
                    <a:pt x="191" y="63"/>
                  </a:lnTo>
                  <a:lnTo>
                    <a:pt x="202" y="80"/>
                  </a:lnTo>
                  <a:lnTo>
                    <a:pt x="214" y="98"/>
                  </a:lnTo>
                  <a:lnTo>
                    <a:pt x="220" y="115"/>
                  </a:lnTo>
                  <a:lnTo>
                    <a:pt x="220" y="133"/>
                  </a:lnTo>
                  <a:lnTo>
                    <a:pt x="225" y="150"/>
                  </a:lnTo>
                  <a:lnTo>
                    <a:pt x="231" y="167"/>
                  </a:lnTo>
                  <a:lnTo>
                    <a:pt x="231" y="185"/>
                  </a:lnTo>
                  <a:lnTo>
                    <a:pt x="231" y="202"/>
                  </a:lnTo>
                  <a:lnTo>
                    <a:pt x="231" y="219"/>
                  </a:lnTo>
                  <a:lnTo>
                    <a:pt x="231" y="237"/>
                  </a:lnTo>
                  <a:lnTo>
                    <a:pt x="231" y="254"/>
                  </a:lnTo>
                  <a:lnTo>
                    <a:pt x="225" y="271"/>
                  </a:lnTo>
                  <a:lnTo>
                    <a:pt x="214" y="294"/>
                  </a:lnTo>
                  <a:lnTo>
                    <a:pt x="197" y="306"/>
                  </a:lnTo>
                  <a:lnTo>
                    <a:pt x="179" y="323"/>
                  </a:lnTo>
                  <a:lnTo>
                    <a:pt x="162" y="335"/>
                  </a:lnTo>
                  <a:lnTo>
                    <a:pt x="144" y="341"/>
                  </a:lnTo>
                  <a:lnTo>
                    <a:pt x="127" y="346"/>
                  </a:lnTo>
                  <a:lnTo>
                    <a:pt x="110" y="346"/>
                  </a:lnTo>
                  <a:lnTo>
                    <a:pt x="92" y="346"/>
                  </a:lnTo>
                  <a:lnTo>
                    <a:pt x="69" y="329"/>
                  </a:lnTo>
                  <a:lnTo>
                    <a:pt x="58" y="312"/>
                  </a:lnTo>
                  <a:lnTo>
                    <a:pt x="58" y="289"/>
                  </a:lnTo>
                  <a:lnTo>
                    <a:pt x="52" y="266"/>
                  </a:lnTo>
                  <a:lnTo>
                    <a:pt x="40" y="248"/>
                  </a:lnTo>
                  <a:lnTo>
                    <a:pt x="35" y="231"/>
                  </a:lnTo>
                  <a:lnTo>
                    <a:pt x="29" y="213"/>
                  </a:lnTo>
                  <a:lnTo>
                    <a:pt x="17" y="196"/>
                  </a:lnTo>
                  <a:lnTo>
                    <a:pt x="6" y="179"/>
                  </a:lnTo>
                  <a:lnTo>
                    <a:pt x="6" y="161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6" y="75"/>
                  </a:lnTo>
                  <a:lnTo>
                    <a:pt x="23" y="57"/>
                  </a:lnTo>
                  <a:lnTo>
                    <a:pt x="40" y="46"/>
                  </a:lnTo>
                  <a:lnTo>
                    <a:pt x="58" y="40"/>
                  </a:lnTo>
                  <a:lnTo>
                    <a:pt x="75" y="28"/>
                  </a:lnTo>
                  <a:lnTo>
                    <a:pt x="92" y="23"/>
                  </a:lnTo>
                  <a:lnTo>
                    <a:pt x="116" y="5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72440" y="318276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40"/>
                  </a:moveTo>
                  <a:lnTo>
                    <a:pt x="6" y="17"/>
                  </a:lnTo>
                  <a:lnTo>
                    <a:pt x="18" y="0"/>
                  </a:lnTo>
                  <a:lnTo>
                    <a:pt x="29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35" y="69"/>
                  </a:lnTo>
                  <a:lnTo>
                    <a:pt x="18" y="69"/>
                  </a:lnTo>
                  <a:lnTo>
                    <a:pt x="0" y="4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10320" y="217332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11"/>
                  </a:moveTo>
                  <a:lnTo>
                    <a:pt x="23" y="0"/>
                  </a:lnTo>
                  <a:lnTo>
                    <a:pt x="35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18" y="6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3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11920" y="4495680"/>
              <a:ext cx="5050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703640" y="431172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78680" y="4284720"/>
              <a:ext cx="1093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978680" y="3035160"/>
              <a:ext cx="36720" cy="127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43840" y="2971800"/>
              <a:ext cx="8618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335280" y="2874960"/>
              <a:ext cx="14436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441320" y="3260880"/>
            <a:ext cx="25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57400" y="48513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01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43000" y="51418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50920" y="5457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7680" y="5765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52360" y="608472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99320" y="4195800"/>
            <a:ext cx="7048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21200" y="4175280"/>
            <a:ext cx="8920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N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82840" y="4183200"/>
            <a:ext cx="80172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V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97160" y="5003640"/>
            <a:ext cx="6008760" cy="13122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ICH MODEL DO YOU THINK HAS THE BEST FORECAST OF THE SCALE OF THE 2.00” OR GREATER AMOUNTS?   WHAT ABOUT THE LOCATION OF THE MAXIMUM RAINFALL?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22160" y="2224080"/>
            <a:ext cx="2860920" cy="332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75040" y="3327480"/>
            <a:ext cx="1498320" cy="2076480"/>
          </a:xfrm>
          <a:custGeom>
            <a:avLst/>
            <a:gdLst/>
            <a:ahLst/>
            <a:rect l="l" t="t" r="r" b="b"/>
            <a:pathLst>
              <a:path w="944" h="1308">
                <a:moveTo>
                  <a:pt x="925" y="1301"/>
                </a:moveTo>
                <a:lnTo>
                  <a:pt x="902" y="1301"/>
                </a:lnTo>
                <a:lnTo>
                  <a:pt x="885" y="1301"/>
                </a:lnTo>
                <a:lnTo>
                  <a:pt x="867" y="1307"/>
                </a:lnTo>
                <a:lnTo>
                  <a:pt x="844" y="1307"/>
                </a:lnTo>
                <a:lnTo>
                  <a:pt x="827" y="1290"/>
                </a:lnTo>
                <a:lnTo>
                  <a:pt x="792" y="1284"/>
                </a:lnTo>
                <a:lnTo>
                  <a:pt x="786" y="1267"/>
                </a:lnTo>
                <a:lnTo>
                  <a:pt x="786" y="1249"/>
                </a:lnTo>
                <a:lnTo>
                  <a:pt x="786" y="1232"/>
                </a:lnTo>
                <a:lnTo>
                  <a:pt x="786" y="1215"/>
                </a:lnTo>
                <a:lnTo>
                  <a:pt x="786" y="1197"/>
                </a:lnTo>
                <a:lnTo>
                  <a:pt x="786" y="1174"/>
                </a:lnTo>
                <a:lnTo>
                  <a:pt x="786" y="1157"/>
                </a:lnTo>
                <a:lnTo>
                  <a:pt x="786" y="1140"/>
                </a:lnTo>
                <a:lnTo>
                  <a:pt x="786" y="1122"/>
                </a:lnTo>
                <a:lnTo>
                  <a:pt x="786" y="1105"/>
                </a:lnTo>
                <a:lnTo>
                  <a:pt x="786" y="1082"/>
                </a:lnTo>
                <a:lnTo>
                  <a:pt x="786" y="1064"/>
                </a:lnTo>
                <a:lnTo>
                  <a:pt x="786" y="1047"/>
                </a:lnTo>
                <a:lnTo>
                  <a:pt x="786" y="1030"/>
                </a:lnTo>
                <a:lnTo>
                  <a:pt x="786" y="1012"/>
                </a:lnTo>
                <a:lnTo>
                  <a:pt x="786" y="995"/>
                </a:lnTo>
                <a:lnTo>
                  <a:pt x="769" y="978"/>
                </a:lnTo>
                <a:lnTo>
                  <a:pt x="763" y="960"/>
                </a:lnTo>
                <a:lnTo>
                  <a:pt x="752" y="943"/>
                </a:lnTo>
                <a:lnTo>
                  <a:pt x="734" y="931"/>
                </a:lnTo>
                <a:lnTo>
                  <a:pt x="717" y="926"/>
                </a:lnTo>
                <a:lnTo>
                  <a:pt x="700" y="926"/>
                </a:lnTo>
                <a:lnTo>
                  <a:pt x="682" y="931"/>
                </a:lnTo>
                <a:lnTo>
                  <a:pt x="676" y="949"/>
                </a:lnTo>
                <a:lnTo>
                  <a:pt x="665" y="966"/>
                </a:lnTo>
                <a:lnTo>
                  <a:pt x="665" y="983"/>
                </a:lnTo>
                <a:lnTo>
                  <a:pt x="653" y="1001"/>
                </a:lnTo>
                <a:lnTo>
                  <a:pt x="648" y="1024"/>
                </a:lnTo>
                <a:lnTo>
                  <a:pt x="642" y="1041"/>
                </a:lnTo>
                <a:lnTo>
                  <a:pt x="642" y="1059"/>
                </a:lnTo>
                <a:lnTo>
                  <a:pt x="636" y="1082"/>
                </a:lnTo>
                <a:lnTo>
                  <a:pt x="636" y="1099"/>
                </a:lnTo>
                <a:lnTo>
                  <a:pt x="630" y="1116"/>
                </a:lnTo>
                <a:lnTo>
                  <a:pt x="630" y="1140"/>
                </a:lnTo>
                <a:lnTo>
                  <a:pt x="624" y="1157"/>
                </a:lnTo>
                <a:lnTo>
                  <a:pt x="601" y="1174"/>
                </a:lnTo>
                <a:lnTo>
                  <a:pt x="584" y="1180"/>
                </a:lnTo>
                <a:lnTo>
                  <a:pt x="567" y="1180"/>
                </a:lnTo>
                <a:lnTo>
                  <a:pt x="549" y="1180"/>
                </a:lnTo>
                <a:lnTo>
                  <a:pt x="532" y="1180"/>
                </a:lnTo>
                <a:lnTo>
                  <a:pt x="515" y="1180"/>
                </a:lnTo>
                <a:lnTo>
                  <a:pt x="497" y="1174"/>
                </a:lnTo>
                <a:lnTo>
                  <a:pt x="480" y="1157"/>
                </a:lnTo>
                <a:lnTo>
                  <a:pt x="457" y="1151"/>
                </a:lnTo>
                <a:lnTo>
                  <a:pt x="439" y="1140"/>
                </a:lnTo>
                <a:lnTo>
                  <a:pt x="422" y="1122"/>
                </a:lnTo>
                <a:lnTo>
                  <a:pt x="399" y="1111"/>
                </a:lnTo>
                <a:lnTo>
                  <a:pt x="381" y="1093"/>
                </a:lnTo>
                <a:lnTo>
                  <a:pt x="364" y="1076"/>
                </a:lnTo>
                <a:lnTo>
                  <a:pt x="353" y="1059"/>
                </a:lnTo>
                <a:lnTo>
                  <a:pt x="335" y="1035"/>
                </a:lnTo>
                <a:lnTo>
                  <a:pt x="329" y="1018"/>
                </a:lnTo>
                <a:lnTo>
                  <a:pt x="318" y="1001"/>
                </a:lnTo>
                <a:lnTo>
                  <a:pt x="312" y="983"/>
                </a:lnTo>
                <a:lnTo>
                  <a:pt x="300" y="966"/>
                </a:lnTo>
                <a:lnTo>
                  <a:pt x="289" y="949"/>
                </a:lnTo>
                <a:lnTo>
                  <a:pt x="277" y="926"/>
                </a:lnTo>
                <a:lnTo>
                  <a:pt x="260" y="914"/>
                </a:lnTo>
                <a:lnTo>
                  <a:pt x="248" y="897"/>
                </a:lnTo>
                <a:lnTo>
                  <a:pt x="237" y="879"/>
                </a:lnTo>
                <a:lnTo>
                  <a:pt x="220" y="874"/>
                </a:lnTo>
                <a:lnTo>
                  <a:pt x="202" y="862"/>
                </a:lnTo>
                <a:lnTo>
                  <a:pt x="179" y="845"/>
                </a:lnTo>
                <a:lnTo>
                  <a:pt x="167" y="827"/>
                </a:lnTo>
                <a:lnTo>
                  <a:pt x="156" y="810"/>
                </a:lnTo>
                <a:lnTo>
                  <a:pt x="150" y="793"/>
                </a:lnTo>
                <a:lnTo>
                  <a:pt x="150" y="775"/>
                </a:lnTo>
                <a:lnTo>
                  <a:pt x="156" y="758"/>
                </a:lnTo>
                <a:lnTo>
                  <a:pt x="173" y="758"/>
                </a:lnTo>
                <a:lnTo>
                  <a:pt x="191" y="752"/>
                </a:lnTo>
                <a:lnTo>
                  <a:pt x="208" y="741"/>
                </a:lnTo>
                <a:lnTo>
                  <a:pt x="220" y="723"/>
                </a:lnTo>
                <a:lnTo>
                  <a:pt x="231" y="706"/>
                </a:lnTo>
                <a:lnTo>
                  <a:pt x="237" y="689"/>
                </a:lnTo>
                <a:lnTo>
                  <a:pt x="248" y="671"/>
                </a:lnTo>
                <a:lnTo>
                  <a:pt x="254" y="654"/>
                </a:lnTo>
                <a:lnTo>
                  <a:pt x="254" y="636"/>
                </a:lnTo>
                <a:lnTo>
                  <a:pt x="254" y="619"/>
                </a:lnTo>
                <a:lnTo>
                  <a:pt x="231" y="613"/>
                </a:lnTo>
                <a:lnTo>
                  <a:pt x="214" y="613"/>
                </a:lnTo>
                <a:lnTo>
                  <a:pt x="173" y="613"/>
                </a:lnTo>
                <a:lnTo>
                  <a:pt x="156" y="608"/>
                </a:lnTo>
                <a:lnTo>
                  <a:pt x="139" y="608"/>
                </a:lnTo>
                <a:lnTo>
                  <a:pt x="121" y="602"/>
                </a:lnTo>
                <a:lnTo>
                  <a:pt x="81" y="590"/>
                </a:lnTo>
                <a:lnTo>
                  <a:pt x="75" y="567"/>
                </a:lnTo>
                <a:lnTo>
                  <a:pt x="75" y="550"/>
                </a:lnTo>
                <a:lnTo>
                  <a:pt x="75" y="532"/>
                </a:lnTo>
                <a:lnTo>
                  <a:pt x="86" y="515"/>
                </a:lnTo>
                <a:lnTo>
                  <a:pt x="104" y="503"/>
                </a:lnTo>
                <a:lnTo>
                  <a:pt x="121" y="492"/>
                </a:lnTo>
                <a:lnTo>
                  <a:pt x="127" y="475"/>
                </a:lnTo>
                <a:lnTo>
                  <a:pt x="139" y="457"/>
                </a:lnTo>
                <a:lnTo>
                  <a:pt x="144" y="440"/>
                </a:lnTo>
                <a:lnTo>
                  <a:pt x="144" y="423"/>
                </a:lnTo>
                <a:lnTo>
                  <a:pt x="144" y="405"/>
                </a:lnTo>
                <a:lnTo>
                  <a:pt x="133" y="382"/>
                </a:lnTo>
                <a:lnTo>
                  <a:pt x="115" y="382"/>
                </a:lnTo>
                <a:lnTo>
                  <a:pt x="92" y="382"/>
                </a:lnTo>
                <a:lnTo>
                  <a:pt x="75" y="376"/>
                </a:lnTo>
                <a:lnTo>
                  <a:pt x="40" y="370"/>
                </a:lnTo>
                <a:lnTo>
                  <a:pt x="23" y="370"/>
                </a:lnTo>
                <a:lnTo>
                  <a:pt x="6" y="365"/>
                </a:lnTo>
                <a:lnTo>
                  <a:pt x="0" y="342"/>
                </a:lnTo>
                <a:lnTo>
                  <a:pt x="0" y="324"/>
                </a:lnTo>
                <a:lnTo>
                  <a:pt x="0" y="307"/>
                </a:lnTo>
                <a:lnTo>
                  <a:pt x="0" y="290"/>
                </a:lnTo>
                <a:lnTo>
                  <a:pt x="11" y="272"/>
                </a:lnTo>
                <a:lnTo>
                  <a:pt x="29" y="261"/>
                </a:lnTo>
                <a:lnTo>
                  <a:pt x="46" y="261"/>
                </a:lnTo>
                <a:lnTo>
                  <a:pt x="63" y="255"/>
                </a:lnTo>
                <a:lnTo>
                  <a:pt x="81" y="255"/>
                </a:lnTo>
                <a:lnTo>
                  <a:pt x="98" y="255"/>
                </a:lnTo>
                <a:lnTo>
                  <a:pt x="115" y="249"/>
                </a:lnTo>
                <a:lnTo>
                  <a:pt x="133" y="249"/>
                </a:lnTo>
                <a:lnTo>
                  <a:pt x="150" y="249"/>
                </a:lnTo>
                <a:lnTo>
                  <a:pt x="167" y="243"/>
                </a:lnTo>
                <a:lnTo>
                  <a:pt x="185" y="232"/>
                </a:lnTo>
                <a:lnTo>
                  <a:pt x="196" y="214"/>
                </a:lnTo>
                <a:lnTo>
                  <a:pt x="237" y="151"/>
                </a:lnTo>
                <a:lnTo>
                  <a:pt x="248" y="93"/>
                </a:lnTo>
                <a:lnTo>
                  <a:pt x="266" y="76"/>
                </a:lnTo>
                <a:lnTo>
                  <a:pt x="277" y="58"/>
                </a:lnTo>
                <a:lnTo>
                  <a:pt x="289" y="41"/>
                </a:lnTo>
                <a:lnTo>
                  <a:pt x="295" y="24"/>
                </a:lnTo>
                <a:lnTo>
                  <a:pt x="312" y="12"/>
                </a:lnTo>
                <a:lnTo>
                  <a:pt x="329" y="6"/>
                </a:lnTo>
                <a:lnTo>
                  <a:pt x="347" y="0"/>
                </a:lnTo>
                <a:lnTo>
                  <a:pt x="364" y="6"/>
                </a:lnTo>
                <a:lnTo>
                  <a:pt x="381" y="29"/>
                </a:lnTo>
                <a:lnTo>
                  <a:pt x="399" y="47"/>
                </a:lnTo>
                <a:lnTo>
                  <a:pt x="410" y="64"/>
                </a:lnTo>
                <a:lnTo>
                  <a:pt x="428" y="76"/>
                </a:lnTo>
                <a:lnTo>
                  <a:pt x="445" y="93"/>
                </a:lnTo>
                <a:lnTo>
                  <a:pt x="462" y="110"/>
                </a:lnTo>
                <a:lnTo>
                  <a:pt x="486" y="133"/>
                </a:lnTo>
                <a:lnTo>
                  <a:pt x="509" y="157"/>
                </a:lnTo>
                <a:lnTo>
                  <a:pt x="526" y="168"/>
                </a:lnTo>
                <a:lnTo>
                  <a:pt x="538" y="185"/>
                </a:lnTo>
                <a:lnTo>
                  <a:pt x="555" y="203"/>
                </a:lnTo>
                <a:lnTo>
                  <a:pt x="561" y="220"/>
                </a:lnTo>
                <a:lnTo>
                  <a:pt x="578" y="232"/>
                </a:lnTo>
                <a:lnTo>
                  <a:pt x="595" y="226"/>
                </a:lnTo>
                <a:lnTo>
                  <a:pt x="613" y="220"/>
                </a:lnTo>
                <a:lnTo>
                  <a:pt x="636" y="220"/>
                </a:lnTo>
                <a:lnTo>
                  <a:pt x="653" y="220"/>
                </a:lnTo>
                <a:lnTo>
                  <a:pt x="671" y="220"/>
                </a:lnTo>
                <a:lnTo>
                  <a:pt x="688" y="232"/>
                </a:lnTo>
                <a:lnTo>
                  <a:pt x="694" y="249"/>
                </a:lnTo>
                <a:lnTo>
                  <a:pt x="694" y="266"/>
                </a:lnTo>
                <a:lnTo>
                  <a:pt x="676" y="278"/>
                </a:lnTo>
                <a:lnTo>
                  <a:pt x="659" y="278"/>
                </a:lnTo>
                <a:lnTo>
                  <a:pt x="642" y="284"/>
                </a:lnTo>
                <a:lnTo>
                  <a:pt x="624" y="290"/>
                </a:lnTo>
                <a:lnTo>
                  <a:pt x="607" y="295"/>
                </a:lnTo>
                <a:lnTo>
                  <a:pt x="584" y="301"/>
                </a:lnTo>
                <a:lnTo>
                  <a:pt x="567" y="301"/>
                </a:lnTo>
                <a:lnTo>
                  <a:pt x="543" y="313"/>
                </a:lnTo>
                <a:lnTo>
                  <a:pt x="526" y="324"/>
                </a:lnTo>
                <a:lnTo>
                  <a:pt x="509" y="336"/>
                </a:lnTo>
                <a:lnTo>
                  <a:pt x="491" y="353"/>
                </a:lnTo>
                <a:lnTo>
                  <a:pt x="486" y="370"/>
                </a:lnTo>
                <a:lnTo>
                  <a:pt x="480" y="388"/>
                </a:lnTo>
                <a:lnTo>
                  <a:pt x="474" y="405"/>
                </a:lnTo>
                <a:lnTo>
                  <a:pt x="474" y="423"/>
                </a:lnTo>
                <a:lnTo>
                  <a:pt x="474" y="440"/>
                </a:lnTo>
                <a:lnTo>
                  <a:pt x="474" y="463"/>
                </a:lnTo>
                <a:lnTo>
                  <a:pt x="474" y="480"/>
                </a:lnTo>
                <a:lnTo>
                  <a:pt x="520" y="498"/>
                </a:lnTo>
                <a:lnTo>
                  <a:pt x="538" y="498"/>
                </a:lnTo>
                <a:lnTo>
                  <a:pt x="549" y="480"/>
                </a:lnTo>
                <a:lnTo>
                  <a:pt x="567" y="463"/>
                </a:lnTo>
                <a:lnTo>
                  <a:pt x="584" y="451"/>
                </a:lnTo>
                <a:lnTo>
                  <a:pt x="607" y="434"/>
                </a:lnTo>
                <a:lnTo>
                  <a:pt x="624" y="423"/>
                </a:lnTo>
                <a:lnTo>
                  <a:pt x="642" y="411"/>
                </a:lnTo>
                <a:lnTo>
                  <a:pt x="659" y="411"/>
                </a:lnTo>
                <a:lnTo>
                  <a:pt x="676" y="411"/>
                </a:lnTo>
                <a:lnTo>
                  <a:pt x="694" y="411"/>
                </a:lnTo>
                <a:lnTo>
                  <a:pt x="705" y="428"/>
                </a:lnTo>
                <a:lnTo>
                  <a:pt x="723" y="440"/>
                </a:lnTo>
                <a:lnTo>
                  <a:pt x="740" y="457"/>
                </a:lnTo>
                <a:lnTo>
                  <a:pt x="757" y="469"/>
                </a:lnTo>
                <a:lnTo>
                  <a:pt x="775" y="469"/>
                </a:lnTo>
                <a:lnTo>
                  <a:pt x="792" y="469"/>
                </a:lnTo>
                <a:lnTo>
                  <a:pt x="809" y="469"/>
                </a:lnTo>
                <a:lnTo>
                  <a:pt x="844" y="475"/>
                </a:lnTo>
                <a:lnTo>
                  <a:pt x="862" y="475"/>
                </a:lnTo>
                <a:lnTo>
                  <a:pt x="885" y="486"/>
                </a:lnTo>
                <a:lnTo>
                  <a:pt x="902" y="498"/>
                </a:lnTo>
                <a:lnTo>
                  <a:pt x="914" y="515"/>
                </a:lnTo>
                <a:lnTo>
                  <a:pt x="914" y="532"/>
                </a:lnTo>
                <a:lnTo>
                  <a:pt x="914" y="556"/>
                </a:lnTo>
                <a:lnTo>
                  <a:pt x="914" y="573"/>
                </a:lnTo>
                <a:lnTo>
                  <a:pt x="919" y="596"/>
                </a:lnTo>
                <a:lnTo>
                  <a:pt x="919" y="619"/>
                </a:lnTo>
                <a:lnTo>
                  <a:pt x="919" y="636"/>
                </a:lnTo>
                <a:lnTo>
                  <a:pt x="919" y="654"/>
                </a:lnTo>
                <a:lnTo>
                  <a:pt x="919" y="671"/>
                </a:lnTo>
                <a:lnTo>
                  <a:pt x="919" y="689"/>
                </a:lnTo>
                <a:lnTo>
                  <a:pt x="919" y="706"/>
                </a:lnTo>
                <a:lnTo>
                  <a:pt x="919" y="723"/>
                </a:lnTo>
                <a:lnTo>
                  <a:pt x="919" y="741"/>
                </a:lnTo>
                <a:lnTo>
                  <a:pt x="908" y="758"/>
                </a:lnTo>
                <a:lnTo>
                  <a:pt x="908" y="775"/>
                </a:lnTo>
                <a:lnTo>
                  <a:pt x="902" y="793"/>
                </a:lnTo>
                <a:lnTo>
                  <a:pt x="902" y="810"/>
                </a:lnTo>
                <a:lnTo>
                  <a:pt x="902" y="827"/>
                </a:lnTo>
                <a:lnTo>
                  <a:pt x="902" y="850"/>
                </a:lnTo>
                <a:lnTo>
                  <a:pt x="902" y="874"/>
                </a:lnTo>
                <a:lnTo>
                  <a:pt x="902" y="891"/>
                </a:lnTo>
                <a:lnTo>
                  <a:pt x="902" y="908"/>
                </a:lnTo>
                <a:lnTo>
                  <a:pt x="908" y="926"/>
                </a:lnTo>
                <a:lnTo>
                  <a:pt x="914" y="943"/>
                </a:lnTo>
                <a:lnTo>
                  <a:pt x="925" y="960"/>
                </a:lnTo>
                <a:lnTo>
                  <a:pt x="931" y="978"/>
                </a:lnTo>
                <a:lnTo>
                  <a:pt x="931" y="995"/>
                </a:lnTo>
                <a:lnTo>
                  <a:pt x="937" y="1018"/>
                </a:lnTo>
                <a:lnTo>
                  <a:pt x="943" y="1041"/>
                </a:lnTo>
                <a:lnTo>
                  <a:pt x="943" y="1059"/>
                </a:lnTo>
                <a:lnTo>
                  <a:pt x="943" y="1076"/>
                </a:lnTo>
                <a:lnTo>
                  <a:pt x="943" y="1122"/>
                </a:lnTo>
                <a:lnTo>
                  <a:pt x="943" y="1140"/>
                </a:lnTo>
                <a:lnTo>
                  <a:pt x="943" y="1157"/>
                </a:lnTo>
                <a:lnTo>
                  <a:pt x="943" y="1174"/>
                </a:lnTo>
                <a:lnTo>
                  <a:pt x="943" y="1192"/>
                </a:lnTo>
                <a:lnTo>
                  <a:pt x="943" y="1209"/>
                </a:lnTo>
                <a:lnTo>
                  <a:pt x="943" y="1226"/>
                </a:lnTo>
                <a:lnTo>
                  <a:pt x="943" y="1244"/>
                </a:lnTo>
                <a:lnTo>
                  <a:pt x="943" y="1261"/>
                </a:lnTo>
                <a:lnTo>
                  <a:pt x="943" y="1278"/>
                </a:lnTo>
                <a:lnTo>
                  <a:pt x="925" y="1301"/>
                </a:lnTo>
                <a:lnTo>
                  <a:pt x="902" y="1290"/>
                </a:lnTo>
                <a:lnTo>
                  <a:pt x="885" y="1301"/>
                </a:lnTo>
                <a:lnTo>
                  <a:pt x="879" y="130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03640" y="5016600"/>
            <a:ext cx="1149120" cy="506160"/>
          </a:xfrm>
          <a:custGeom>
            <a:avLst/>
            <a:gdLst/>
            <a:ahLst/>
            <a:rect l="l" t="t" r="r" b="b"/>
            <a:pathLst>
              <a:path w="724" h="319">
                <a:moveTo>
                  <a:pt x="261" y="318"/>
                </a:moveTo>
                <a:lnTo>
                  <a:pt x="261" y="295"/>
                </a:lnTo>
                <a:lnTo>
                  <a:pt x="255" y="278"/>
                </a:lnTo>
                <a:lnTo>
                  <a:pt x="237" y="272"/>
                </a:lnTo>
                <a:lnTo>
                  <a:pt x="214" y="255"/>
                </a:lnTo>
                <a:lnTo>
                  <a:pt x="197" y="243"/>
                </a:lnTo>
                <a:lnTo>
                  <a:pt x="139" y="209"/>
                </a:lnTo>
                <a:lnTo>
                  <a:pt x="104" y="197"/>
                </a:lnTo>
                <a:lnTo>
                  <a:pt x="87" y="180"/>
                </a:lnTo>
                <a:lnTo>
                  <a:pt x="76" y="162"/>
                </a:lnTo>
                <a:lnTo>
                  <a:pt x="64" y="145"/>
                </a:lnTo>
                <a:lnTo>
                  <a:pt x="41" y="128"/>
                </a:lnTo>
                <a:lnTo>
                  <a:pt x="35" y="110"/>
                </a:lnTo>
                <a:lnTo>
                  <a:pt x="18" y="99"/>
                </a:lnTo>
                <a:lnTo>
                  <a:pt x="12" y="81"/>
                </a:lnTo>
                <a:lnTo>
                  <a:pt x="12" y="64"/>
                </a:lnTo>
                <a:lnTo>
                  <a:pt x="6" y="47"/>
                </a:lnTo>
                <a:lnTo>
                  <a:pt x="0" y="29"/>
                </a:lnTo>
                <a:lnTo>
                  <a:pt x="0" y="12"/>
                </a:lnTo>
                <a:lnTo>
                  <a:pt x="23" y="0"/>
                </a:lnTo>
                <a:lnTo>
                  <a:pt x="41" y="0"/>
                </a:lnTo>
                <a:lnTo>
                  <a:pt x="58" y="0"/>
                </a:lnTo>
                <a:lnTo>
                  <a:pt x="76" y="6"/>
                </a:lnTo>
                <a:lnTo>
                  <a:pt x="87" y="24"/>
                </a:lnTo>
                <a:lnTo>
                  <a:pt x="104" y="29"/>
                </a:lnTo>
                <a:lnTo>
                  <a:pt x="122" y="41"/>
                </a:lnTo>
                <a:lnTo>
                  <a:pt x="145" y="52"/>
                </a:lnTo>
                <a:lnTo>
                  <a:pt x="162" y="64"/>
                </a:lnTo>
                <a:lnTo>
                  <a:pt x="180" y="70"/>
                </a:lnTo>
                <a:lnTo>
                  <a:pt x="197" y="81"/>
                </a:lnTo>
                <a:lnTo>
                  <a:pt x="214" y="93"/>
                </a:lnTo>
                <a:lnTo>
                  <a:pt x="261" y="110"/>
                </a:lnTo>
                <a:lnTo>
                  <a:pt x="295" y="116"/>
                </a:lnTo>
                <a:lnTo>
                  <a:pt x="313" y="128"/>
                </a:lnTo>
                <a:lnTo>
                  <a:pt x="330" y="133"/>
                </a:lnTo>
                <a:lnTo>
                  <a:pt x="347" y="139"/>
                </a:lnTo>
                <a:lnTo>
                  <a:pt x="365" y="145"/>
                </a:lnTo>
                <a:lnTo>
                  <a:pt x="382" y="156"/>
                </a:lnTo>
                <a:lnTo>
                  <a:pt x="399" y="162"/>
                </a:lnTo>
                <a:lnTo>
                  <a:pt x="417" y="168"/>
                </a:lnTo>
                <a:lnTo>
                  <a:pt x="451" y="174"/>
                </a:lnTo>
                <a:lnTo>
                  <a:pt x="469" y="180"/>
                </a:lnTo>
                <a:lnTo>
                  <a:pt x="486" y="180"/>
                </a:lnTo>
                <a:lnTo>
                  <a:pt x="504" y="185"/>
                </a:lnTo>
                <a:lnTo>
                  <a:pt x="538" y="185"/>
                </a:lnTo>
                <a:lnTo>
                  <a:pt x="573" y="191"/>
                </a:lnTo>
                <a:lnTo>
                  <a:pt x="590" y="197"/>
                </a:lnTo>
                <a:lnTo>
                  <a:pt x="608" y="209"/>
                </a:lnTo>
                <a:lnTo>
                  <a:pt x="619" y="226"/>
                </a:lnTo>
                <a:lnTo>
                  <a:pt x="631" y="243"/>
                </a:lnTo>
                <a:lnTo>
                  <a:pt x="648" y="261"/>
                </a:lnTo>
                <a:lnTo>
                  <a:pt x="665" y="272"/>
                </a:lnTo>
                <a:lnTo>
                  <a:pt x="683" y="284"/>
                </a:lnTo>
                <a:lnTo>
                  <a:pt x="700" y="295"/>
                </a:lnTo>
                <a:lnTo>
                  <a:pt x="712" y="313"/>
                </a:lnTo>
                <a:lnTo>
                  <a:pt x="723" y="313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23960" y="2521080"/>
            <a:ext cx="782640" cy="790560"/>
          </a:xfrm>
          <a:custGeom>
            <a:avLst/>
            <a:gdLst/>
            <a:ahLst/>
            <a:rect l="l" t="t" r="r" b="b"/>
            <a:pathLst>
              <a:path w="493" h="498">
                <a:moveTo>
                  <a:pt x="93" y="28"/>
                </a:moveTo>
                <a:lnTo>
                  <a:pt x="116" y="17"/>
                </a:lnTo>
                <a:lnTo>
                  <a:pt x="133" y="5"/>
                </a:lnTo>
                <a:lnTo>
                  <a:pt x="156" y="0"/>
                </a:lnTo>
                <a:lnTo>
                  <a:pt x="168" y="17"/>
                </a:lnTo>
                <a:lnTo>
                  <a:pt x="185" y="34"/>
                </a:lnTo>
                <a:lnTo>
                  <a:pt x="191" y="52"/>
                </a:lnTo>
                <a:lnTo>
                  <a:pt x="203" y="69"/>
                </a:lnTo>
                <a:lnTo>
                  <a:pt x="214" y="86"/>
                </a:lnTo>
                <a:lnTo>
                  <a:pt x="220" y="104"/>
                </a:lnTo>
                <a:lnTo>
                  <a:pt x="232" y="121"/>
                </a:lnTo>
                <a:lnTo>
                  <a:pt x="243" y="138"/>
                </a:lnTo>
                <a:lnTo>
                  <a:pt x="260" y="161"/>
                </a:lnTo>
                <a:lnTo>
                  <a:pt x="272" y="179"/>
                </a:lnTo>
                <a:lnTo>
                  <a:pt x="289" y="196"/>
                </a:lnTo>
                <a:lnTo>
                  <a:pt x="301" y="213"/>
                </a:lnTo>
                <a:lnTo>
                  <a:pt x="318" y="231"/>
                </a:lnTo>
                <a:lnTo>
                  <a:pt x="330" y="248"/>
                </a:lnTo>
                <a:lnTo>
                  <a:pt x="347" y="271"/>
                </a:lnTo>
                <a:lnTo>
                  <a:pt x="365" y="283"/>
                </a:lnTo>
                <a:lnTo>
                  <a:pt x="376" y="300"/>
                </a:lnTo>
                <a:lnTo>
                  <a:pt x="393" y="312"/>
                </a:lnTo>
                <a:lnTo>
                  <a:pt x="411" y="329"/>
                </a:lnTo>
                <a:lnTo>
                  <a:pt x="428" y="346"/>
                </a:lnTo>
                <a:lnTo>
                  <a:pt x="440" y="364"/>
                </a:lnTo>
                <a:lnTo>
                  <a:pt x="451" y="381"/>
                </a:lnTo>
                <a:lnTo>
                  <a:pt x="469" y="399"/>
                </a:lnTo>
                <a:lnTo>
                  <a:pt x="474" y="416"/>
                </a:lnTo>
                <a:lnTo>
                  <a:pt x="486" y="451"/>
                </a:lnTo>
                <a:lnTo>
                  <a:pt x="492" y="474"/>
                </a:lnTo>
                <a:lnTo>
                  <a:pt x="486" y="491"/>
                </a:lnTo>
                <a:lnTo>
                  <a:pt x="469" y="497"/>
                </a:lnTo>
                <a:lnTo>
                  <a:pt x="451" y="497"/>
                </a:lnTo>
                <a:lnTo>
                  <a:pt x="434" y="497"/>
                </a:lnTo>
                <a:lnTo>
                  <a:pt x="417" y="497"/>
                </a:lnTo>
                <a:lnTo>
                  <a:pt x="399" y="485"/>
                </a:lnTo>
                <a:lnTo>
                  <a:pt x="388" y="468"/>
                </a:lnTo>
                <a:lnTo>
                  <a:pt x="365" y="445"/>
                </a:lnTo>
                <a:lnTo>
                  <a:pt x="347" y="439"/>
                </a:lnTo>
                <a:lnTo>
                  <a:pt x="301" y="422"/>
                </a:lnTo>
                <a:lnTo>
                  <a:pt x="284" y="416"/>
                </a:lnTo>
                <a:lnTo>
                  <a:pt x="266" y="410"/>
                </a:lnTo>
                <a:lnTo>
                  <a:pt x="226" y="410"/>
                </a:lnTo>
                <a:lnTo>
                  <a:pt x="208" y="404"/>
                </a:lnTo>
                <a:lnTo>
                  <a:pt x="191" y="404"/>
                </a:lnTo>
                <a:lnTo>
                  <a:pt x="174" y="404"/>
                </a:lnTo>
                <a:lnTo>
                  <a:pt x="139" y="404"/>
                </a:lnTo>
                <a:lnTo>
                  <a:pt x="98" y="404"/>
                </a:lnTo>
                <a:lnTo>
                  <a:pt x="81" y="404"/>
                </a:lnTo>
                <a:lnTo>
                  <a:pt x="64" y="404"/>
                </a:lnTo>
                <a:lnTo>
                  <a:pt x="46" y="399"/>
                </a:lnTo>
                <a:lnTo>
                  <a:pt x="29" y="399"/>
                </a:lnTo>
                <a:lnTo>
                  <a:pt x="17" y="381"/>
                </a:lnTo>
                <a:lnTo>
                  <a:pt x="6" y="364"/>
                </a:lnTo>
                <a:lnTo>
                  <a:pt x="0" y="346"/>
                </a:lnTo>
                <a:lnTo>
                  <a:pt x="0" y="329"/>
                </a:lnTo>
                <a:lnTo>
                  <a:pt x="0" y="312"/>
                </a:lnTo>
                <a:lnTo>
                  <a:pt x="0" y="294"/>
                </a:lnTo>
                <a:lnTo>
                  <a:pt x="6" y="277"/>
                </a:lnTo>
                <a:lnTo>
                  <a:pt x="17" y="260"/>
                </a:lnTo>
                <a:lnTo>
                  <a:pt x="23" y="242"/>
                </a:lnTo>
                <a:lnTo>
                  <a:pt x="29" y="225"/>
                </a:lnTo>
                <a:lnTo>
                  <a:pt x="41" y="208"/>
                </a:lnTo>
                <a:lnTo>
                  <a:pt x="46" y="190"/>
                </a:lnTo>
                <a:lnTo>
                  <a:pt x="52" y="173"/>
                </a:lnTo>
                <a:lnTo>
                  <a:pt x="58" y="156"/>
                </a:lnTo>
                <a:lnTo>
                  <a:pt x="58" y="138"/>
                </a:lnTo>
                <a:lnTo>
                  <a:pt x="64" y="121"/>
                </a:lnTo>
                <a:lnTo>
                  <a:pt x="64" y="104"/>
                </a:lnTo>
                <a:lnTo>
                  <a:pt x="64" y="86"/>
                </a:lnTo>
                <a:lnTo>
                  <a:pt x="64" y="69"/>
                </a:lnTo>
                <a:lnTo>
                  <a:pt x="64" y="52"/>
                </a:lnTo>
                <a:lnTo>
                  <a:pt x="64" y="34"/>
                </a:lnTo>
                <a:lnTo>
                  <a:pt x="93" y="2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4920" y="4879800"/>
            <a:ext cx="765360" cy="478080"/>
          </a:xfrm>
          <a:custGeom>
            <a:avLst/>
            <a:gdLst/>
            <a:ahLst/>
            <a:rect l="l" t="t" r="r" b="b"/>
            <a:pathLst>
              <a:path w="482" h="301">
                <a:moveTo>
                  <a:pt x="24" y="11"/>
                </a:moveTo>
                <a:lnTo>
                  <a:pt x="47" y="0"/>
                </a:lnTo>
                <a:lnTo>
                  <a:pt x="64" y="0"/>
                </a:lnTo>
                <a:lnTo>
                  <a:pt x="81" y="0"/>
                </a:lnTo>
                <a:lnTo>
                  <a:pt x="99" y="0"/>
                </a:lnTo>
                <a:lnTo>
                  <a:pt x="145" y="0"/>
                </a:lnTo>
                <a:lnTo>
                  <a:pt x="162" y="0"/>
                </a:lnTo>
                <a:lnTo>
                  <a:pt x="180" y="0"/>
                </a:lnTo>
                <a:lnTo>
                  <a:pt x="197" y="5"/>
                </a:lnTo>
                <a:lnTo>
                  <a:pt x="220" y="11"/>
                </a:lnTo>
                <a:lnTo>
                  <a:pt x="238" y="23"/>
                </a:lnTo>
                <a:lnTo>
                  <a:pt x="272" y="29"/>
                </a:lnTo>
                <a:lnTo>
                  <a:pt x="290" y="34"/>
                </a:lnTo>
                <a:lnTo>
                  <a:pt x="313" y="40"/>
                </a:lnTo>
                <a:lnTo>
                  <a:pt x="359" y="52"/>
                </a:lnTo>
                <a:lnTo>
                  <a:pt x="376" y="69"/>
                </a:lnTo>
                <a:lnTo>
                  <a:pt x="394" y="81"/>
                </a:lnTo>
                <a:lnTo>
                  <a:pt x="411" y="92"/>
                </a:lnTo>
                <a:lnTo>
                  <a:pt x="429" y="110"/>
                </a:lnTo>
                <a:lnTo>
                  <a:pt x="440" y="127"/>
                </a:lnTo>
                <a:lnTo>
                  <a:pt x="457" y="138"/>
                </a:lnTo>
                <a:lnTo>
                  <a:pt x="463" y="156"/>
                </a:lnTo>
                <a:lnTo>
                  <a:pt x="475" y="173"/>
                </a:lnTo>
                <a:lnTo>
                  <a:pt x="475" y="190"/>
                </a:lnTo>
                <a:lnTo>
                  <a:pt x="481" y="208"/>
                </a:lnTo>
                <a:lnTo>
                  <a:pt x="481" y="225"/>
                </a:lnTo>
                <a:lnTo>
                  <a:pt x="481" y="242"/>
                </a:lnTo>
                <a:lnTo>
                  <a:pt x="481" y="260"/>
                </a:lnTo>
                <a:lnTo>
                  <a:pt x="469" y="277"/>
                </a:lnTo>
                <a:lnTo>
                  <a:pt x="452" y="289"/>
                </a:lnTo>
                <a:lnTo>
                  <a:pt x="434" y="295"/>
                </a:lnTo>
                <a:lnTo>
                  <a:pt x="417" y="300"/>
                </a:lnTo>
                <a:lnTo>
                  <a:pt x="400" y="300"/>
                </a:lnTo>
                <a:lnTo>
                  <a:pt x="382" y="300"/>
                </a:lnTo>
                <a:lnTo>
                  <a:pt x="365" y="300"/>
                </a:lnTo>
                <a:lnTo>
                  <a:pt x="348" y="283"/>
                </a:lnTo>
                <a:lnTo>
                  <a:pt x="330" y="266"/>
                </a:lnTo>
                <a:lnTo>
                  <a:pt x="313" y="254"/>
                </a:lnTo>
                <a:lnTo>
                  <a:pt x="295" y="242"/>
                </a:lnTo>
                <a:lnTo>
                  <a:pt x="272" y="225"/>
                </a:lnTo>
                <a:lnTo>
                  <a:pt x="249" y="214"/>
                </a:lnTo>
                <a:lnTo>
                  <a:pt x="232" y="202"/>
                </a:lnTo>
                <a:lnTo>
                  <a:pt x="215" y="196"/>
                </a:lnTo>
                <a:lnTo>
                  <a:pt x="191" y="185"/>
                </a:lnTo>
                <a:lnTo>
                  <a:pt x="174" y="173"/>
                </a:lnTo>
                <a:lnTo>
                  <a:pt x="157" y="167"/>
                </a:lnTo>
                <a:lnTo>
                  <a:pt x="139" y="162"/>
                </a:lnTo>
                <a:lnTo>
                  <a:pt x="122" y="156"/>
                </a:lnTo>
                <a:lnTo>
                  <a:pt x="105" y="144"/>
                </a:lnTo>
                <a:lnTo>
                  <a:pt x="87" y="133"/>
                </a:lnTo>
                <a:lnTo>
                  <a:pt x="70" y="121"/>
                </a:lnTo>
                <a:lnTo>
                  <a:pt x="53" y="110"/>
                </a:lnTo>
                <a:lnTo>
                  <a:pt x="35" y="92"/>
                </a:lnTo>
                <a:lnTo>
                  <a:pt x="18" y="81"/>
                </a:lnTo>
                <a:lnTo>
                  <a:pt x="6" y="63"/>
                </a:lnTo>
                <a:lnTo>
                  <a:pt x="0" y="46"/>
                </a:lnTo>
                <a:lnTo>
                  <a:pt x="0" y="29"/>
                </a:lnTo>
                <a:lnTo>
                  <a:pt x="0" y="11"/>
                </a:lnTo>
                <a:lnTo>
                  <a:pt x="24" y="11"/>
                </a:lnTo>
                <a:lnTo>
                  <a:pt x="24" y="1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05240" y="4861080"/>
            <a:ext cx="149040" cy="442800"/>
          </a:xfrm>
          <a:custGeom>
            <a:avLst/>
            <a:gdLst/>
            <a:ahLst/>
            <a:rect l="l" t="t" r="r" b="b"/>
            <a:pathLst>
              <a:path w="94" h="279">
                <a:moveTo>
                  <a:pt x="87" y="254"/>
                </a:moveTo>
                <a:lnTo>
                  <a:pt x="70" y="278"/>
                </a:lnTo>
                <a:lnTo>
                  <a:pt x="52" y="278"/>
                </a:lnTo>
                <a:lnTo>
                  <a:pt x="35" y="278"/>
                </a:lnTo>
                <a:lnTo>
                  <a:pt x="12" y="272"/>
                </a:lnTo>
                <a:lnTo>
                  <a:pt x="6" y="254"/>
                </a:lnTo>
                <a:lnTo>
                  <a:pt x="6" y="237"/>
                </a:lnTo>
                <a:lnTo>
                  <a:pt x="0" y="220"/>
                </a:lnTo>
                <a:lnTo>
                  <a:pt x="0" y="202"/>
                </a:lnTo>
                <a:lnTo>
                  <a:pt x="0" y="185"/>
                </a:lnTo>
                <a:lnTo>
                  <a:pt x="0" y="168"/>
                </a:lnTo>
                <a:lnTo>
                  <a:pt x="0" y="150"/>
                </a:lnTo>
                <a:lnTo>
                  <a:pt x="0" y="133"/>
                </a:lnTo>
                <a:lnTo>
                  <a:pt x="0" y="116"/>
                </a:lnTo>
                <a:lnTo>
                  <a:pt x="0" y="98"/>
                </a:lnTo>
                <a:lnTo>
                  <a:pt x="0" y="81"/>
                </a:lnTo>
                <a:lnTo>
                  <a:pt x="0" y="64"/>
                </a:lnTo>
                <a:lnTo>
                  <a:pt x="0" y="41"/>
                </a:lnTo>
                <a:lnTo>
                  <a:pt x="0" y="23"/>
                </a:lnTo>
                <a:lnTo>
                  <a:pt x="12" y="6"/>
                </a:lnTo>
                <a:lnTo>
                  <a:pt x="29" y="0"/>
                </a:lnTo>
                <a:lnTo>
                  <a:pt x="47" y="0"/>
                </a:lnTo>
                <a:lnTo>
                  <a:pt x="58" y="17"/>
                </a:lnTo>
                <a:lnTo>
                  <a:pt x="76" y="29"/>
                </a:lnTo>
                <a:lnTo>
                  <a:pt x="81" y="46"/>
                </a:lnTo>
                <a:lnTo>
                  <a:pt x="93" y="64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66840" y="3749760"/>
            <a:ext cx="295200" cy="139680"/>
          </a:xfrm>
          <a:custGeom>
            <a:avLst/>
            <a:gdLst/>
            <a:ahLst/>
            <a:rect l="l" t="t" r="r" b="b"/>
            <a:pathLst>
              <a:path w="186" h="88">
                <a:moveTo>
                  <a:pt x="0" y="47"/>
                </a:moveTo>
                <a:lnTo>
                  <a:pt x="17" y="24"/>
                </a:lnTo>
                <a:lnTo>
                  <a:pt x="28" y="6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0"/>
                </a:lnTo>
                <a:lnTo>
                  <a:pt x="115" y="0"/>
                </a:lnTo>
                <a:lnTo>
                  <a:pt x="133" y="12"/>
                </a:lnTo>
                <a:lnTo>
                  <a:pt x="144" y="29"/>
                </a:lnTo>
                <a:lnTo>
                  <a:pt x="162" y="47"/>
                </a:lnTo>
                <a:lnTo>
                  <a:pt x="173" y="64"/>
                </a:lnTo>
                <a:lnTo>
                  <a:pt x="185" y="81"/>
                </a:lnTo>
                <a:lnTo>
                  <a:pt x="167" y="87"/>
                </a:lnTo>
                <a:lnTo>
                  <a:pt x="150" y="87"/>
                </a:lnTo>
                <a:lnTo>
                  <a:pt x="133" y="87"/>
                </a:lnTo>
                <a:lnTo>
                  <a:pt x="115" y="87"/>
                </a:lnTo>
                <a:lnTo>
                  <a:pt x="98" y="87"/>
                </a:lnTo>
                <a:lnTo>
                  <a:pt x="75" y="87"/>
                </a:lnTo>
                <a:lnTo>
                  <a:pt x="57" y="87"/>
                </a:lnTo>
                <a:lnTo>
                  <a:pt x="40" y="81"/>
                </a:lnTo>
                <a:lnTo>
                  <a:pt x="23" y="76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95360" y="4006800"/>
            <a:ext cx="1140120" cy="1103400"/>
          </a:xfrm>
          <a:custGeom>
            <a:avLst/>
            <a:gdLst/>
            <a:ahLst/>
            <a:rect l="l" t="t" r="r" b="b"/>
            <a:pathLst>
              <a:path w="718" h="695">
                <a:moveTo>
                  <a:pt x="98" y="12"/>
                </a:moveTo>
                <a:lnTo>
                  <a:pt x="121" y="0"/>
                </a:lnTo>
                <a:lnTo>
                  <a:pt x="138" y="0"/>
                </a:lnTo>
                <a:lnTo>
                  <a:pt x="156" y="0"/>
                </a:lnTo>
                <a:lnTo>
                  <a:pt x="173" y="6"/>
                </a:lnTo>
                <a:lnTo>
                  <a:pt x="190" y="18"/>
                </a:lnTo>
                <a:lnTo>
                  <a:pt x="208" y="29"/>
                </a:lnTo>
                <a:lnTo>
                  <a:pt x="225" y="41"/>
                </a:lnTo>
                <a:lnTo>
                  <a:pt x="237" y="58"/>
                </a:lnTo>
                <a:lnTo>
                  <a:pt x="254" y="75"/>
                </a:lnTo>
                <a:lnTo>
                  <a:pt x="271" y="93"/>
                </a:lnTo>
                <a:lnTo>
                  <a:pt x="283" y="110"/>
                </a:lnTo>
                <a:lnTo>
                  <a:pt x="300" y="122"/>
                </a:lnTo>
                <a:lnTo>
                  <a:pt x="306" y="139"/>
                </a:lnTo>
                <a:lnTo>
                  <a:pt x="323" y="162"/>
                </a:lnTo>
                <a:lnTo>
                  <a:pt x="329" y="180"/>
                </a:lnTo>
                <a:lnTo>
                  <a:pt x="347" y="203"/>
                </a:lnTo>
                <a:lnTo>
                  <a:pt x="352" y="220"/>
                </a:lnTo>
                <a:lnTo>
                  <a:pt x="370" y="237"/>
                </a:lnTo>
                <a:lnTo>
                  <a:pt x="381" y="255"/>
                </a:lnTo>
                <a:lnTo>
                  <a:pt x="399" y="266"/>
                </a:lnTo>
                <a:lnTo>
                  <a:pt x="410" y="284"/>
                </a:lnTo>
                <a:lnTo>
                  <a:pt x="428" y="295"/>
                </a:lnTo>
                <a:lnTo>
                  <a:pt x="439" y="313"/>
                </a:lnTo>
                <a:lnTo>
                  <a:pt x="456" y="318"/>
                </a:lnTo>
                <a:lnTo>
                  <a:pt x="474" y="318"/>
                </a:lnTo>
                <a:lnTo>
                  <a:pt x="491" y="318"/>
                </a:lnTo>
                <a:lnTo>
                  <a:pt x="509" y="318"/>
                </a:lnTo>
                <a:lnTo>
                  <a:pt x="526" y="318"/>
                </a:lnTo>
                <a:lnTo>
                  <a:pt x="537" y="301"/>
                </a:lnTo>
                <a:lnTo>
                  <a:pt x="543" y="284"/>
                </a:lnTo>
                <a:lnTo>
                  <a:pt x="561" y="272"/>
                </a:lnTo>
                <a:lnTo>
                  <a:pt x="578" y="255"/>
                </a:lnTo>
                <a:lnTo>
                  <a:pt x="595" y="237"/>
                </a:lnTo>
                <a:lnTo>
                  <a:pt x="613" y="220"/>
                </a:lnTo>
                <a:lnTo>
                  <a:pt x="624" y="203"/>
                </a:lnTo>
                <a:lnTo>
                  <a:pt x="630" y="185"/>
                </a:lnTo>
                <a:lnTo>
                  <a:pt x="647" y="180"/>
                </a:lnTo>
                <a:lnTo>
                  <a:pt x="665" y="168"/>
                </a:lnTo>
                <a:lnTo>
                  <a:pt x="682" y="162"/>
                </a:lnTo>
                <a:lnTo>
                  <a:pt x="699" y="168"/>
                </a:lnTo>
                <a:lnTo>
                  <a:pt x="711" y="185"/>
                </a:lnTo>
                <a:lnTo>
                  <a:pt x="717" y="203"/>
                </a:lnTo>
                <a:lnTo>
                  <a:pt x="717" y="220"/>
                </a:lnTo>
                <a:lnTo>
                  <a:pt x="711" y="243"/>
                </a:lnTo>
                <a:lnTo>
                  <a:pt x="705" y="261"/>
                </a:lnTo>
                <a:lnTo>
                  <a:pt x="699" y="278"/>
                </a:lnTo>
                <a:lnTo>
                  <a:pt x="694" y="295"/>
                </a:lnTo>
                <a:lnTo>
                  <a:pt x="682" y="313"/>
                </a:lnTo>
                <a:lnTo>
                  <a:pt x="670" y="336"/>
                </a:lnTo>
                <a:lnTo>
                  <a:pt x="653" y="347"/>
                </a:lnTo>
                <a:lnTo>
                  <a:pt x="636" y="365"/>
                </a:lnTo>
                <a:lnTo>
                  <a:pt x="618" y="370"/>
                </a:lnTo>
                <a:lnTo>
                  <a:pt x="601" y="382"/>
                </a:lnTo>
                <a:lnTo>
                  <a:pt x="584" y="394"/>
                </a:lnTo>
                <a:lnTo>
                  <a:pt x="566" y="405"/>
                </a:lnTo>
                <a:lnTo>
                  <a:pt x="549" y="411"/>
                </a:lnTo>
                <a:lnTo>
                  <a:pt x="532" y="422"/>
                </a:lnTo>
                <a:lnTo>
                  <a:pt x="514" y="428"/>
                </a:lnTo>
                <a:lnTo>
                  <a:pt x="497" y="440"/>
                </a:lnTo>
                <a:lnTo>
                  <a:pt x="480" y="451"/>
                </a:lnTo>
                <a:lnTo>
                  <a:pt x="468" y="469"/>
                </a:lnTo>
                <a:lnTo>
                  <a:pt x="456" y="486"/>
                </a:lnTo>
                <a:lnTo>
                  <a:pt x="456" y="503"/>
                </a:lnTo>
                <a:lnTo>
                  <a:pt x="451" y="521"/>
                </a:lnTo>
                <a:lnTo>
                  <a:pt x="445" y="538"/>
                </a:lnTo>
                <a:lnTo>
                  <a:pt x="439" y="555"/>
                </a:lnTo>
                <a:lnTo>
                  <a:pt x="439" y="573"/>
                </a:lnTo>
                <a:lnTo>
                  <a:pt x="433" y="590"/>
                </a:lnTo>
                <a:lnTo>
                  <a:pt x="433" y="607"/>
                </a:lnTo>
                <a:lnTo>
                  <a:pt x="428" y="625"/>
                </a:lnTo>
                <a:lnTo>
                  <a:pt x="428" y="648"/>
                </a:lnTo>
                <a:lnTo>
                  <a:pt x="422" y="665"/>
                </a:lnTo>
                <a:lnTo>
                  <a:pt x="410" y="683"/>
                </a:lnTo>
                <a:lnTo>
                  <a:pt x="393" y="694"/>
                </a:lnTo>
                <a:lnTo>
                  <a:pt x="376" y="694"/>
                </a:lnTo>
                <a:lnTo>
                  <a:pt x="358" y="694"/>
                </a:lnTo>
                <a:lnTo>
                  <a:pt x="341" y="688"/>
                </a:lnTo>
                <a:lnTo>
                  <a:pt x="323" y="683"/>
                </a:lnTo>
                <a:lnTo>
                  <a:pt x="312" y="665"/>
                </a:lnTo>
                <a:lnTo>
                  <a:pt x="295" y="648"/>
                </a:lnTo>
                <a:lnTo>
                  <a:pt x="283" y="631"/>
                </a:lnTo>
                <a:lnTo>
                  <a:pt x="271" y="613"/>
                </a:lnTo>
                <a:lnTo>
                  <a:pt x="260" y="596"/>
                </a:lnTo>
                <a:lnTo>
                  <a:pt x="242" y="584"/>
                </a:lnTo>
                <a:lnTo>
                  <a:pt x="237" y="567"/>
                </a:lnTo>
                <a:lnTo>
                  <a:pt x="225" y="550"/>
                </a:lnTo>
                <a:lnTo>
                  <a:pt x="214" y="532"/>
                </a:lnTo>
                <a:lnTo>
                  <a:pt x="202" y="515"/>
                </a:lnTo>
                <a:lnTo>
                  <a:pt x="190" y="498"/>
                </a:lnTo>
                <a:lnTo>
                  <a:pt x="179" y="480"/>
                </a:lnTo>
                <a:lnTo>
                  <a:pt x="173" y="463"/>
                </a:lnTo>
                <a:lnTo>
                  <a:pt x="167" y="446"/>
                </a:lnTo>
                <a:lnTo>
                  <a:pt x="161" y="422"/>
                </a:lnTo>
                <a:lnTo>
                  <a:pt x="156" y="405"/>
                </a:lnTo>
                <a:lnTo>
                  <a:pt x="156" y="388"/>
                </a:lnTo>
                <a:lnTo>
                  <a:pt x="173" y="376"/>
                </a:lnTo>
                <a:lnTo>
                  <a:pt x="196" y="376"/>
                </a:lnTo>
                <a:lnTo>
                  <a:pt x="214" y="376"/>
                </a:lnTo>
                <a:lnTo>
                  <a:pt x="231" y="376"/>
                </a:lnTo>
                <a:lnTo>
                  <a:pt x="248" y="382"/>
                </a:lnTo>
                <a:lnTo>
                  <a:pt x="266" y="382"/>
                </a:lnTo>
                <a:lnTo>
                  <a:pt x="289" y="388"/>
                </a:lnTo>
                <a:lnTo>
                  <a:pt x="300" y="370"/>
                </a:lnTo>
                <a:lnTo>
                  <a:pt x="300" y="353"/>
                </a:lnTo>
                <a:lnTo>
                  <a:pt x="300" y="336"/>
                </a:lnTo>
                <a:lnTo>
                  <a:pt x="300" y="318"/>
                </a:lnTo>
                <a:lnTo>
                  <a:pt x="300" y="301"/>
                </a:lnTo>
                <a:lnTo>
                  <a:pt x="300" y="284"/>
                </a:lnTo>
                <a:lnTo>
                  <a:pt x="289" y="266"/>
                </a:lnTo>
                <a:lnTo>
                  <a:pt x="271" y="261"/>
                </a:lnTo>
                <a:lnTo>
                  <a:pt x="254" y="249"/>
                </a:lnTo>
                <a:lnTo>
                  <a:pt x="237" y="237"/>
                </a:lnTo>
                <a:lnTo>
                  <a:pt x="219" y="220"/>
                </a:lnTo>
                <a:lnTo>
                  <a:pt x="202" y="203"/>
                </a:lnTo>
                <a:lnTo>
                  <a:pt x="185" y="197"/>
                </a:lnTo>
                <a:lnTo>
                  <a:pt x="161" y="180"/>
                </a:lnTo>
                <a:lnTo>
                  <a:pt x="144" y="168"/>
                </a:lnTo>
                <a:lnTo>
                  <a:pt x="127" y="162"/>
                </a:lnTo>
                <a:lnTo>
                  <a:pt x="109" y="156"/>
                </a:lnTo>
                <a:lnTo>
                  <a:pt x="92" y="151"/>
                </a:lnTo>
                <a:lnTo>
                  <a:pt x="69" y="145"/>
                </a:lnTo>
                <a:lnTo>
                  <a:pt x="52" y="139"/>
                </a:lnTo>
                <a:lnTo>
                  <a:pt x="34" y="133"/>
                </a:lnTo>
                <a:lnTo>
                  <a:pt x="17" y="128"/>
                </a:lnTo>
                <a:lnTo>
                  <a:pt x="5" y="110"/>
                </a:lnTo>
                <a:lnTo>
                  <a:pt x="0" y="93"/>
                </a:lnTo>
                <a:lnTo>
                  <a:pt x="0" y="75"/>
                </a:lnTo>
                <a:lnTo>
                  <a:pt x="17" y="64"/>
                </a:lnTo>
                <a:lnTo>
                  <a:pt x="34" y="47"/>
                </a:lnTo>
                <a:lnTo>
                  <a:pt x="52" y="35"/>
                </a:lnTo>
                <a:lnTo>
                  <a:pt x="69" y="18"/>
                </a:lnTo>
                <a:lnTo>
                  <a:pt x="98" y="12"/>
                </a:lnTo>
                <a:lnTo>
                  <a:pt x="98" y="12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735200" y="2482920"/>
            <a:ext cx="166680" cy="333360"/>
          </a:xfrm>
          <a:custGeom>
            <a:avLst/>
            <a:gdLst/>
            <a:ahLst/>
            <a:rect l="l" t="t" r="r" b="b"/>
            <a:pathLst>
              <a:path w="105" h="210">
                <a:moveTo>
                  <a:pt x="11" y="18"/>
                </a:moveTo>
                <a:lnTo>
                  <a:pt x="34" y="0"/>
                </a:lnTo>
                <a:lnTo>
                  <a:pt x="52" y="0"/>
                </a:lnTo>
                <a:lnTo>
                  <a:pt x="69" y="0"/>
                </a:lnTo>
                <a:lnTo>
                  <a:pt x="81" y="18"/>
                </a:lnTo>
                <a:lnTo>
                  <a:pt x="92" y="35"/>
                </a:lnTo>
                <a:lnTo>
                  <a:pt x="98" y="58"/>
                </a:lnTo>
                <a:lnTo>
                  <a:pt x="104" y="76"/>
                </a:lnTo>
                <a:lnTo>
                  <a:pt x="104" y="93"/>
                </a:lnTo>
                <a:lnTo>
                  <a:pt x="104" y="110"/>
                </a:lnTo>
                <a:lnTo>
                  <a:pt x="104" y="128"/>
                </a:lnTo>
                <a:lnTo>
                  <a:pt x="104" y="145"/>
                </a:lnTo>
                <a:lnTo>
                  <a:pt x="104" y="162"/>
                </a:lnTo>
                <a:lnTo>
                  <a:pt x="98" y="180"/>
                </a:lnTo>
                <a:lnTo>
                  <a:pt x="86" y="203"/>
                </a:lnTo>
                <a:lnTo>
                  <a:pt x="69" y="209"/>
                </a:lnTo>
                <a:lnTo>
                  <a:pt x="52" y="209"/>
                </a:lnTo>
                <a:lnTo>
                  <a:pt x="29" y="209"/>
                </a:lnTo>
                <a:lnTo>
                  <a:pt x="11" y="191"/>
                </a:lnTo>
                <a:lnTo>
                  <a:pt x="0" y="174"/>
                </a:lnTo>
                <a:lnTo>
                  <a:pt x="0" y="151"/>
                </a:lnTo>
                <a:lnTo>
                  <a:pt x="0" y="133"/>
                </a:lnTo>
                <a:lnTo>
                  <a:pt x="0" y="116"/>
                </a:lnTo>
                <a:lnTo>
                  <a:pt x="0" y="93"/>
                </a:lnTo>
                <a:lnTo>
                  <a:pt x="0" y="76"/>
                </a:lnTo>
                <a:lnTo>
                  <a:pt x="0" y="58"/>
                </a:lnTo>
                <a:lnTo>
                  <a:pt x="0" y="41"/>
                </a:lnTo>
                <a:lnTo>
                  <a:pt x="11" y="18"/>
                </a:lnTo>
                <a:lnTo>
                  <a:pt x="11" y="1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31800" y="2979720"/>
            <a:ext cx="149400" cy="249120"/>
          </a:xfrm>
          <a:custGeom>
            <a:avLst/>
            <a:gdLst/>
            <a:ahLst/>
            <a:rect l="l" t="t" r="r" b="b"/>
            <a:pathLst>
              <a:path w="94" h="157">
                <a:moveTo>
                  <a:pt x="12" y="0"/>
                </a:moveTo>
                <a:lnTo>
                  <a:pt x="35" y="0"/>
                </a:lnTo>
                <a:lnTo>
                  <a:pt x="53" y="11"/>
                </a:lnTo>
                <a:lnTo>
                  <a:pt x="64" y="29"/>
                </a:lnTo>
                <a:lnTo>
                  <a:pt x="81" y="46"/>
                </a:lnTo>
                <a:lnTo>
                  <a:pt x="87" y="63"/>
                </a:lnTo>
                <a:lnTo>
                  <a:pt x="87" y="81"/>
                </a:lnTo>
                <a:lnTo>
                  <a:pt x="93" y="104"/>
                </a:lnTo>
                <a:lnTo>
                  <a:pt x="93" y="121"/>
                </a:lnTo>
                <a:lnTo>
                  <a:pt x="87" y="138"/>
                </a:lnTo>
                <a:lnTo>
                  <a:pt x="76" y="156"/>
                </a:lnTo>
                <a:lnTo>
                  <a:pt x="58" y="156"/>
                </a:lnTo>
                <a:lnTo>
                  <a:pt x="47" y="138"/>
                </a:lnTo>
                <a:lnTo>
                  <a:pt x="35" y="121"/>
                </a:lnTo>
                <a:lnTo>
                  <a:pt x="24" y="104"/>
                </a:lnTo>
                <a:lnTo>
                  <a:pt x="12" y="86"/>
                </a:lnTo>
                <a:lnTo>
                  <a:pt x="6" y="69"/>
                </a:lnTo>
                <a:lnTo>
                  <a:pt x="0" y="52"/>
                </a:lnTo>
                <a:lnTo>
                  <a:pt x="0" y="34"/>
                </a:lnTo>
                <a:lnTo>
                  <a:pt x="1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19240" y="2943360"/>
            <a:ext cx="166680" cy="285480"/>
          </a:xfrm>
          <a:custGeom>
            <a:avLst/>
            <a:gdLst/>
            <a:ahLst/>
            <a:rect l="l" t="t" r="r" b="b"/>
            <a:pathLst>
              <a:path w="105" h="180">
                <a:moveTo>
                  <a:pt x="0" y="5"/>
                </a:moveTo>
                <a:lnTo>
                  <a:pt x="23" y="5"/>
                </a:lnTo>
                <a:lnTo>
                  <a:pt x="41" y="0"/>
                </a:lnTo>
                <a:lnTo>
                  <a:pt x="58" y="11"/>
                </a:lnTo>
                <a:lnTo>
                  <a:pt x="75" y="28"/>
                </a:lnTo>
                <a:lnTo>
                  <a:pt x="87" y="46"/>
                </a:lnTo>
                <a:lnTo>
                  <a:pt x="93" y="63"/>
                </a:lnTo>
                <a:lnTo>
                  <a:pt x="104" y="80"/>
                </a:lnTo>
                <a:lnTo>
                  <a:pt x="104" y="98"/>
                </a:lnTo>
                <a:lnTo>
                  <a:pt x="104" y="115"/>
                </a:lnTo>
                <a:lnTo>
                  <a:pt x="104" y="133"/>
                </a:lnTo>
                <a:lnTo>
                  <a:pt x="104" y="150"/>
                </a:lnTo>
                <a:lnTo>
                  <a:pt x="99" y="173"/>
                </a:lnTo>
                <a:lnTo>
                  <a:pt x="81" y="179"/>
                </a:lnTo>
                <a:lnTo>
                  <a:pt x="64" y="179"/>
                </a:lnTo>
                <a:lnTo>
                  <a:pt x="52" y="161"/>
                </a:lnTo>
                <a:lnTo>
                  <a:pt x="41" y="144"/>
                </a:lnTo>
                <a:lnTo>
                  <a:pt x="29" y="127"/>
                </a:lnTo>
                <a:lnTo>
                  <a:pt x="23" y="109"/>
                </a:lnTo>
                <a:lnTo>
                  <a:pt x="12" y="92"/>
                </a:lnTo>
                <a:lnTo>
                  <a:pt x="6" y="75"/>
                </a:lnTo>
                <a:lnTo>
                  <a:pt x="6" y="57"/>
                </a:lnTo>
                <a:lnTo>
                  <a:pt x="0" y="4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55600" y="2244600"/>
            <a:ext cx="231840" cy="103320"/>
          </a:xfrm>
          <a:custGeom>
            <a:avLst/>
            <a:gdLst/>
            <a:ahLst/>
            <a:rect l="l" t="t" r="r" b="b"/>
            <a:pathLst>
              <a:path w="146" h="65">
                <a:moveTo>
                  <a:pt x="122" y="0"/>
                </a:moveTo>
                <a:lnTo>
                  <a:pt x="139" y="23"/>
                </a:lnTo>
                <a:lnTo>
                  <a:pt x="145" y="41"/>
                </a:lnTo>
                <a:lnTo>
                  <a:pt x="133" y="58"/>
                </a:lnTo>
                <a:lnTo>
                  <a:pt x="116" y="64"/>
                </a:lnTo>
                <a:lnTo>
                  <a:pt x="99" y="64"/>
                </a:lnTo>
                <a:lnTo>
                  <a:pt x="81" y="64"/>
                </a:lnTo>
                <a:lnTo>
                  <a:pt x="64" y="58"/>
                </a:lnTo>
                <a:lnTo>
                  <a:pt x="47" y="41"/>
                </a:lnTo>
                <a:lnTo>
                  <a:pt x="0" y="29"/>
                </a:lnTo>
                <a:lnTo>
                  <a:pt x="18" y="17"/>
                </a:lnTo>
                <a:lnTo>
                  <a:pt x="41" y="12"/>
                </a:lnTo>
                <a:lnTo>
                  <a:pt x="58" y="12"/>
                </a:lnTo>
                <a:lnTo>
                  <a:pt x="122" y="0"/>
                </a:lnTo>
                <a:lnTo>
                  <a:pt x="12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46160" y="2363760"/>
            <a:ext cx="120600" cy="241200"/>
          </a:xfrm>
          <a:custGeom>
            <a:avLst/>
            <a:gdLst/>
            <a:ahLst/>
            <a:rect l="l" t="t" r="r" b="b"/>
            <a:pathLst>
              <a:path w="76" h="152">
                <a:moveTo>
                  <a:pt x="0" y="41"/>
                </a:moveTo>
                <a:lnTo>
                  <a:pt x="6" y="18"/>
                </a:lnTo>
                <a:lnTo>
                  <a:pt x="17" y="0"/>
                </a:lnTo>
                <a:lnTo>
                  <a:pt x="35" y="0"/>
                </a:lnTo>
                <a:lnTo>
                  <a:pt x="46" y="18"/>
                </a:lnTo>
                <a:lnTo>
                  <a:pt x="58" y="35"/>
                </a:lnTo>
                <a:lnTo>
                  <a:pt x="64" y="52"/>
                </a:lnTo>
                <a:lnTo>
                  <a:pt x="69" y="70"/>
                </a:lnTo>
                <a:lnTo>
                  <a:pt x="75" y="87"/>
                </a:lnTo>
                <a:lnTo>
                  <a:pt x="75" y="104"/>
                </a:lnTo>
                <a:lnTo>
                  <a:pt x="75" y="122"/>
                </a:lnTo>
                <a:lnTo>
                  <a:pt x="75" y="139"/>
                </a:lnTo>
                <a:lnTo>
                  <a:pt x="58" y="151"/>
                </a:lnTo>
                <a:lnTo>
                  <a:pt x="40" y="133"/>
                </a:lnTo>
                <a:lnTo>
                  <a:pt x="23" y="116"/>
                </a:lnTo>
                <a:lnTo>
                  <a:pt x="23" y="99"/>
                </a:lnTo>
                <a:lnTo>
                  <a:pt x="11" y="81"/>
                </a:lnTo>
                <a:lnTo>
                  <a:pt x="11" y="64"/>
                </a:lnTo>
                <a:lnTo>
                  <a:pt x="0" y="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89200" y="2666880"/>
            <a:ext cx="130320" cy="176400"/>
          </a:xfrm>
          <a:custGeom>
            <a:avLst/>
            <a:gdLst/>
            <a:ahLst/>
            <a:rect l="l" t="t" r="r" b="b"/>
            <a:pathLst>
              <a:path w="82" h="111">
                <a:moveTo>
                  <a:pt x="32" y="0"/>
                </a:moveTo>
                <a:lnTo>
                  <a:pt x="54" y="11"/>
                </a:lnTo>
                <a:lnTo>
                  <a:pt x="65" y="30"/>
                </a:lnTo>
                <a:lnTo>
                  <a:pt x="75" y="48"/>
                </a:lnTo>
                <a:lnTo>
                  <a:pt x="81" y="66"/>
                </a:lnTo>
                <a:lnTo>
                  <a:pt x="81" y="85"/>
                </a:lnTo>
                <a:lnTo>
                  <a:pt x="81" y="103"/>
                </a:lnTo>
                <a:lnTo>
                  <a:pt x="65" y="110"/>
                </a:lnTo>
                <a:lnTo>
                  <a:pt x="49" y="110"/>
                </a:lnTo>
                <a:lnTo>
                  <a:pt x="32" y="97"/>
                </a:lnTo>
                <a:lnTo>
                  <a:pt x="22" y="79"/>
                </a:lnTo>
                <a:lnTo>
                  <a:pt x="11" y="61"/>
                </a:lnTo>
                <a:lnTo>
                  <a:pt x="0" y="42"/>
                </a:lnTo>
                <a:lnTo>
                  <a:pt x="0" y="24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60600" y="4098960"/>
            <a:ext cx="220680" cy="130320"/>
          </a:xfrm>
          <a:custGeom>
            <a:avLst/>
            <a:gdLst/>
            <a:ahLst/>
            <a:rect l="l" t="t" r="r" b="b"/>
            <a:pathLst>
              <a:path w="139" h="82">
                <a:moveTo>
                  <a:pt x="0" y="17"/>
                </a:moveTo>
                <a:lnTo>
                  <a:pt x="23" y="0"/>
                </a:lnTo>
                <a:lnTo>
                  <a:pt x="40" y="0"/>
                </a:lnTo>
                <a:lnTo>
                  <a:pt x="57" y="0"/>
                </a:lnTo>
                <a:lnTo>
                  <a:pt x="75" y="0"/>
                </a:lnTo>
                <a:lnTo>
                  <a:pt x="92" y="12"/>
                </a:lnTo>
                <a:lnTo>
                  <a:pt x="110" y="23"/>
                </a:lnTo>
                <a:lnTo>
                  <a:pt x="121" y="41"/>
                </a:lnTo>
                <a:lnTo>
                  <a:pt x="133" y="58"/>
                </a:lnTo>
                <a:lnTo>
                  <a:pt x="138" y="75"/>
                </a:lnTo>
                <a:lnTo>
                  <a:pt x="121" y="81"/>
                </a:lnTo>
                <a:lnTo>
                  <a:pt x="104" y="81"/>
                </a:lnTo>
                <a:lnTo>
                  <a:pt x="81" y="81"/>
                </a:lnTo>
                <a:lnTo>
                  <a:pt x="63" y="81"/>
                </a:lnTo>
                <a:lnTo>
                  <a:pt x="46" y="81"/>
                </a:lnTo>
                <a:lnTo>
                  <a:pt x="34" y="64"/>
                </a:lnTo>
                <a:lnTo>
                  <a:pt x="17" y="46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9640" y="3805200"/>
            <a:ext cx="10152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0" y="6"/>
                </a:moveTo>
                <a:lnTo>
                  <a:pt x="23" y="0"/>
                </a:lnTo>
                <a:lnTo>
                  <a:pt x="40" y="0"/>
                </a:lnTo>
                <a:lnTo>
                  <a:pt x="57" y="6"/>
                </a:lnTo>
                <a:lnTo>
                  <a:pt x="63" y="23"/>
                </a:lnTo>
                <a:lnTo>
                  <a:pt x="46" y="35"/>
                </a:lnTo>
                <a:lnTo>
                  <a:pt x="29" y="35"/>
                </a:lnTo>
                <a:lnTo>
                  <a:pt x="11" y="29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65320" y="4071960"/>
            <a:ext cx="193680" cy="295200"/>
          </a:xfrm>
          <a:custGeom>
            <a:avLst/>
            <a:gdLst/>
            <a:ahLst/>
            <a:rect l="l" t="t" r="r" b="b"/>
            <a:pathLst>
              <a:path w="122" h="186">
                <a:moveTo>
                  <a:pt x="0" y="69"/>
                </a:moveTo>
                <a:lnTo>
                  <a:pt x="11" y="46"/>
                </a:lnTo>
                <a:lnTo>
                  <a:pt x="23" y="29"/>
                </a:lnTo>
                <a:lnTo>
                  <a:pt x="29" y="11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11"/>
                </a:lnTo>
                <a:lnTo>
                  <a:pt x="115" y="23"/>
                </a:lnTo>
                <a:lnTo>
                  <a:pt x="121" y="40"/>
                </a:lnTo>
                <a:lnTo>
                  <a:pt x="121" y="58"/>
                </a:lnTo>
                <a:lnTo>
                  <a:pt x="121" y="75"/>
                </a:lnTo>
                <a:lnTo>
                  <a:pt x="121" y="92"/>
                </a:lnTo>
                <a:lnTo>
                  <a:pt x="121" y="110"/>
                </a:lnTo>
                <a:lnTo>
                  <a:pt x="115" y="127"/>
                </a:lnTo>
                <a:lnTo>
                  <a:pt x="104" y="144"/>
                </a:lnTo>
                <a:lnTo>
                  <a:pt x="92" y="162"/>
                </a:lnTo>
                <a:lnTo>
                  <a:pt x="81" y="179"/>
                </a:lnTo>
                <a:lnTo>
                  <a:pt x="63" y="185"/>
                </a:lnTo>
                <a:lnTo>
                  <a:pt x="46" y="185"/>
                </a:lnTo>
                <a:lnTo>
                  <a:pt x="29" y="173"/>
                </a:lnTo>
                <a:lnTo>
                  <a:pt x="17" y="156"/>
                </a:lnTo>
                <a:lnTo>
                  <a:pt x="11" y="139"/>
                </a:lnTo>
                <a:lnTo>
                  <a:pt x="6" y="121"/>
                </a:lnTo>
                <a:lnTo>
                  <a:pt x="0" y="104"/>
                </a:lnTo>
                <a:lnTo>
                  <a:pt x="0" y="69"/>
                </a:lnTo>
                <a:lnTo>
                  <a:pt x="0" y="69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92320" y="4135320"/>
            <a:ext cx="112680" cy="158760"/>
          </a:xfrm>
          <a:custGeom>
            <a:avLst/>
            <a:gdLst/>
            <a:ahLst/>
            <a:rect l="l" t="t" r="r" b="b"/>
            <a:pathLst>
              <a:path w="71" h="100">
                <a:moveTo>
                  <a:pt x="46" y="0"/>
                </a:moveTo>
                <a:lnTo>
                  <a:pt x="70" y="12"/>
                </a:lnTo>
                <a:lnTo>
                  <a:pt x="70" y="29"/>
                </a:lnTo>
                <a:lnTo>
                  <a:pt x="70" y="47"/>
                </a:lnTo>
                <a:lnTo>
                  <a:pt x="70" y="64"/>
                </a:lnTo>
                <a:lnTo>
                  <a:pt x="64" y="81"/>
                </a:lnTo>
                <a:lnTo>
                  <a:pt x="46" y="93"/>
                </a:lnTo>
                <a:lnTo>
                  <a:pt x="29" y="99"/>
                </a:lnTo>
                <a:lnTo>
                  <a:pt x="12" y="99"/>
                </a:lnTo>
                <a:lnTo>
                  <a:pt x="0" y="81"/>
                </a:lnTo>
                <a:lnTo>
                  <a:pt x="0" y="64"/>
                </a:lnTo>
                <a:lnTo>
                  <a:pt x="0" y="47"/>
                </a:lnTo>
                <a:lnTo>
                  <a:pt x="0" y="29"/>
                </a:lnTo>
                <a:lnTo>
                  <a:pt x="17" y="18"/>
                </a:lnTo>
                <a:lnTo>
                  <a:pt x="17" y="1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87680" y="5091120"/>
            <a:ext cx="57240" cy="111240"/>
          </a:xfrm>
          <a:custGeom>
            <a:avLst/>
            <a:gdLst/>
            <a:ahLst/>
            <a:rect l="l" t="t" r="r" b="b"/>
            <a:pathLst>
              <a:path w="36" h="70">
                <a:moveTo>
                  <a:pt x="35" y="17"/>
                </a:moveTo>
                <a:lnTo>
                  <a:pt x="35" y="40"/>
                </a:lnTo>
                <a:lnTo>
                  <a:pt x="35" y="57"/>
                </a:lnTo>
                <a:lnTo>
                  <a:pt x="18" y="69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35" y="17"/>
                </a:lnTo>
                <a:lnTo>
                  <a:pt x="29" y="40"/>
                </a:lnTo>
                <a:lnTo>
                  <a:pt x="35" y="4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43040" y="2244600"/>
            <a:ext cx="5580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589120" y="2822400"/>
            <a:ext cx="94464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01680" y="3613320"/>
            <a:ext cx="141444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560680" y="3603240"/>
            <a:ext cx="56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47840" y="3603600"/>
            <a:ext cx="1209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176640" y="3979800"/>
            <a:ext cx="33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138320" y="3613320"/>
            <a:ext cx="63360" cy="154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38320" y="5145120"/>
            <a:ext cx="184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65320" y="5137200"/>
            <a:ext cx="972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5108400"/>
            <a:ext cx="531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982960" y="5310000"/>
            <a:ext cx="54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119240" y="5127480"/>
            <a:ext cx="9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70040" y="5118120"/>
            <a:ext cx="35856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120" y="3584520"/>
            <a:ext cx="412560" cy="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3040" y="3795840"/>
            <a:ext cx="185760" cy="542880"/>
          </a:xfrm>
          <a:custGeom>
            <a:avLst/>
            <a:gdLst/>
            <a:ahLst/>
            <a:rect l="l" t="t" r="r" b="b"/>
            <a:pathLst>
              <a:path w="117" h="342">
                <a:moveTo>
                  <a:pt x="12" y="104"/>
                </a:moveTo>
                <a:lnTo>
                  <a:pt x="12" y="81"/>
                </a:lnTo>
                <a:lnTo>
                  <a:pt x="23" y="64"/>
                </a:lnTo>
                <a:lnTo>
                  <a:pt x="41" y="47"/>
                </a:lnTo>
                <a:lnTo>
                  <a:pt x="52" y="29"/>
                </a:lnTo>
                <a:lnTo>
                  <a:pt x="58" y="12"/>
                </a:lnTo>
                <a:lnTo>
                  <a:pt x="75" y="0"/>
                </a:lnTo>
                <a:lnTo>
                  <a:pt x="93" y="0"/>
                </a:lnTo>
                <a:lnTo>
                  <a:pt x="104" y="18"/>
                </a:lnTo>
                <a:lnTo>
                  <a:pt x="110" y="35"/>
                </a:lnTo>
                <a:lnTo>
                  <a:pt x="116" y="58"/>
                </a:lnTo>
                <a:lnTo>
                  <a:pt x="116" y="75"/>
                </a:lnTo>
                <a:lnTo>
                  <a:pt x="116" y="93"/>
                </a:lnTo>
                <a:lnTo>
                  <a:pt x="116" y="110"/>
                </a:lnTo>
                <a:lnTo>
                  <a:pt x="116" y="128"/>
                </a:lnTo>
                <a:lnTo>
                  <a:pt x="116" y="145"/>
                </a:lnTo>
                <a:lnTo>
                  <a:pt x="116" y="162"/>
                </a:lnTo>
                <a:lnTo>
                  <a:pt x="116" y="180"/>
                </a:lnTo>
                <a:lnTo>
                  <a:pt x="116" y="203"/>
                </a:lnTo>
                <a:lnTo>
                  <a:pt x="110" y="220"/>
                </a:lnTo>
                <a:lnTo>
                  <a:pt x="98" y="237"/>
                </a:lnTo>
                <a:lnTo>
                  <a:pt x="93" y="255"/>
                </a:lnTo>
                <a:lnTo>
                  <a:pt x="87" y="272"/>
                </a:lnTo>
                <a:lnTo>
                  <a:pt x="75" y="289"/>
                </a:lnTo>
                <a:lnTo>
                  <a:pt x="64" y="307"/>
                </a:lnTo>
                <a:lnTo>
                  <a:pt x="46" y="318"/>
                </a:lnTo>
                <a:lnTo>
                  <a:pt x="29" y="330"/>
                </a:lnTo>
                <a:lnTo>
                  <a:pt x="0" y="3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2400" y="4503600"/>
            <a:ext cx="258840" cy="257400"/>
          </a:xfrm>
          <a:custGeom>
            <a:avLst/>
            <a:gdLst/>
            <a:ahLst/>
            <a:rect l="l" t="t" r="r" b="b"/>
            <a:pathLst>
              <a:path w="163" h="162">
                <a:moveTo>
                  <a:pt x="40" y="81"/>
                </a:moveTo>
                <a:lnTo>
                  <a:pt x="63" y="69"/>
                </a:lnTo>
                <a:lnTo>
                  <a:pt x="81" y="57"/>
                </a:lnTo>
                <a:lnTo>
                  <a:pt x="87" y="40"/>
                </a:lnTo>
                <a:lnTo>
                  <a:pt x="104" y="28"/>
                </a:lnTo>
                <a:lnTo>
                  <a:pt x="121" y="11"/>
                </a:lnTo>
                <a:lnTo>
                  <a:pt x="139" y="0"/>
                </a:lnTo>
                <a:lnTo>
                  <a:pt x="156" y="17"/>
                </a:lnTo>
                <a:lnTo>
                  <a:pt x="162" y="34"/>
                </a:lnTo>
                <a:lnTo>
                  <a:pt x="162" y="52"/>
                </a:lnTo>
                <a:lnTo>
                  <a:pt x="162" y="69"/>
                </a:lnTo>
                <a:lnTo>
                  <a:pt x="144" y="81"/>
                </a:lnTo>
                <a:lnTo>
                  <a:pt x="127" y="104"/>
                </a:lnTo>
                <a:lnTo>
                  <a:pt x="104" y="127"/>
                </a:lnTo>
                <a:lnTo>
                  <a:pt x="81" y="144"/>
                </a:lnTo>
                <a:lnTo>
                  <a:pt x="58" y="156"/>
                </a:lnTo>
                <a:lnTo>
                  <a:pt x="40" y="161"/>
                </a:lnTo>
                <a:lnTo>
                  <a:pt x="23" y="156"/>
                </a:lnTo>
                <a:lnTo>
                  <a:pt x="17" y="138"/>
                </a:lnTo>
                <a:lnTo>
                  <a:pt x="0" y="127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22360" y="5081760"/>
            <a:ext cx="195480" cy="176040"/>
          </a:xfrm>
          <a:custGeom>
            <a:avLst/>
            <a:gdLst/>
            <a:ahLst/>
            <a:rect l="l" t="t" r="r" b="b"/>
            <a:pathLst>
              <a:path w="123" h="111">
                <a:moveTo>
                  <a:pt x="0" y="6"/>
                </a:moveTo>
                <a:lnTo>
                  <a:pt x="23" y="0"/>
                </a:lnTo>
                <a:lnTo>
                  <a:pt x="41" y="0"/>
                </a:lnTo>
                <a:lnTo>
                  <a:pt x="58" y="11"/>
                </a:lnTo>
                <a:lnTo>
                  <a:pt x="75" y="29"/>
                </a:lnTo>
                <a:lnTo>
                  <a:pt x="93" y="40"/>
                </a:lnTo>
                <a:lnTo>
                  <a:pt x="110" y="46"/>
                </a:lnTo>
                <a:lnTo>
                  <a:pt x="116" y="63"/>
                </a:lnTo>
                <a:lnTo>
                  <a:pt x="122" y="81"/>
                </a:lnTo>
                <a:lnTo>
                  <a:pt x="122" y="104"/>
                </a:lnTo>
                <a:lnTo>
                  <a:pt x="104" y="110"/>
                </a:lnTo>
                <a:lnTo>
                  <a:pt x="87" y="110"/>
                </a:lnTo>
                <a:lnTo>
                  <a:pt x="69" y="98"/>
                </a:lnTo>
                <a:lnTo>
                  <a:pt x="52" y="81"/>
                </a:lnTo>
                <a:lnTo>
                  <a:pt x="35" y="63"/>
                </a:lnTo>
                <a:lnTo>
                  <a:pt x="17" y="52"/>
                </a:lnTo>
                <a:lnTo>
                  <a:pt x="0" y="4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46160" y="4925880"/>
            <a:ext cx="120600" cy="12096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5"/>
                </a:moveTo>
                <a:lnTo>
                  <a:pt x="23" y="0"/>
                </a:lnTo>
                <a:lnTo>
                  <a:pt x="40" y="5"/>
                </a:lnTo>
                <a:lnTo>
                  <a:pt x="58" y="17"/>
                </a:lnTo>
                <a:lnTo>
                  <a:pt x="64" y="34"/>
                </a:lnTo>
                <a:lnTo>
                  <a:pt x="75" y="52"/>
                </a:lnTo>
                <a:lnTo>
                  <a:pt x="75" y="69"/>
                </a:lnTo>
                <a:lnTo>
                  <a:pt x="58" y="75"/>
                </a:lnTo>
                <a:lnTo>
                  <a:pt x="40" y="69"/>
                </a:lnTo>
                <a:lnTo>
                  <a:pt x="23" y="52"/>
                </a:lnTo>
                <a:lnTo>
                  <a:pt x="6" y="34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9200" y="5338800"/>
            <a:ext cx="222120" cy="176040"/>
          </a:xfrm>
          <a:custGeom>
            <a:avLst/>
            <a:gdLst/>
            <a:ahLst/>
            <a:rect l="l" t="t" r="r" b="b"/>
            <a:pathLst>
              <a:path w="140" h="111">
                <a:moveTo>
                  <a:pt x="6" y="0"/>
                </a:moveTo>
                <a:lnTo>
                  <a:pt x="29" y="6"/>
                </a:lnTo>
                <a:lnTo>
                  <a:pt x="47" y="23"/>
                </a:lnTo>
                <a:lnTo>
                  <a:pt x="64" y="34"/>
                </a:lnTo>
                <a:lnTo>
                  <a:pt x="87" y="46"/>
                </a:lnTo>
                <a:lnTo>
                  <a:pt x="104" y="52"/>
                </a:lnTo>
                <a:lnTo>
                  <a:pt x="122" y="58"/>
                </a:lnTo>
                <a:lnTo>
                  <a:pt x="128" y="75"/>
                </a:lnTo>
                <a:lnTo>
                  <a:pt x="139" y="92"/>
                </a:lnTo>
                <a:lnTo>
                  <a:pt x="122" y="104"/>
                </a:lnTo>
                <a:lnTo>
                  <a:pt x="104" y="110"/>
                </a:lnTo>
                <a:lnTo>
                  <a:pt x="81" y="110"/>
                </a:lnTo>
                <a:lnTo>
                  <a:pt x="64" y="110"/>
                </a:lnTo>
                <a:lnTo>
                  <a:pt x="47" y="98"/>
                </a:lnTo>
                <a:lnTo>
                  <a:pt x="35" y="81"/>
                </a:lnTo>
                <a:lnTo>
                  <a:pt x="18" y="69"/>
                </a:lnTo>
                <a:lnTo>
                  <a:pt x="12" y="52"/>
                </a:lnTo>
                <a:lnTo>
                  <a:pt x="0" y="34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47840" y="5475240"/>
            <a:ext cx="176400" cy="66600"/>
          </a:xfrm>
          <a:custGeom>
            <a:avLst/>
            <a:gdLst/>
            <a:ahLst/>
            <a:rect l="l" t="t" r="r" b="b"/>
            <a:pathLst>
              <a:path w="111" h="42">
                <a:moveTo>
                  <a:pt x="6" y="29"/>
                </a:moveTo>
                <a:lnTo>
                  <a:pt x="0" y="6"/>
                </a:lnTo>
                <a:lnTo>
                  <a:pt x="18" y="0"/>
                </a:lnTo>
                <a:lnTo>
                  <a:pt x="35" y="0"/>
                </a:lnTo>
                <a:lnTo>
                  <a:pt x="53" y="0"/>
                </a:lnTo>
                <a:lnTo>
                  <a:pt x="70" y="12"/>
                </a:lnTo>
                <a:lnTo>
                  <a:pt x="87" y="18"/>
                </a:lnTo>
                <a:lnTo>
                  <a:pt x="105" y="29"/>
                </a:lnTo>
                <a:lnTo>
                  <a:pt x="110" y="41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659040" y="2627280"/>
            <a:ext cx="1171800" cy="14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902040" y="276228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98800" y="3070080"/>
            <a:ext cx="271440" cy="24480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97360" y="337824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09960" y="369576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3360" y="27226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91040" y="304020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97160" y="3357720"/>
            <a:ext cx="104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21280" y="3666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184480" y="36036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70120" y="5630760"/>
            <a:ext cx="336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VERIFYING ANALYSIS VALID 12Z JULY 2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2266920" y="2023560"/>
            <a:ext cx="36720" cy="1808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01800" y="1246320"/>
            <a:ext cx="244620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-10” OF RAIN ON FORT COLLINS &amp; NEARBY FOOTH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81640" y="1511280"/>
            <a:ext cx="185868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4 MILES AWAY ONLY .83” OB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21240" y="2784600"/>
            <a:ext cx="365940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295 HOUSES OR MOBILE  HOMES DESTROYED, 4 KIL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24440" y="3687840"/>
            <a:ext cx="3621240" cy="14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LARGER MCS MOVED SOUTHEASTWARD AWAY FROM A SMALLER SCALE QUASI-STATIONARY CONVECTIVE STORM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UMMERTIME QPF IN THE WEST AND ALONG THE FRONT RANGE INVOL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NG WHETHER CONDITIONS WILL BE CONDUCIVE TO HEAVY R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TRONGLY RELATED TO THE MONSOON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 IS USUALLY TOO SMALL TO ALLOW A FORECAST TO REALISTICALLY PREDICT THE EXACT LOCATION WITH MUCH LEAD TI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ARGUES FOR A PROBABILISTIC APPROACH TO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RE ON SUMMERTIME WESTERN EVEN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569880" y="2222640"/>
          <a:ext cx="3843360" cy="29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222640"/>
                    <a:ext cx="384336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4994280" y="1649520"/>
            <a:ext cx="3562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VENTS IN INTERMOUNTAIN REGION ALSO HAVE A DISTINCT MAXIMUM DURING THE 6-HR PERIOD  BETWEEN   2 PM AND 8 PM LOCAL DAYLIGHT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95880" y="4154400"/>
            <a:ext cx="3379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CCUR MOSTLY IN AUGUST AND SEPTEMBER INTO EARLY OCTOB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thwest, blocking high type heavy rainfall even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6400" y="5219640"/>
            <a:ext cx="25700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500 HEIGHTS AND VORTIC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2240" y="1765440"/>
            <a:ext cx="3851280" cy="340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830160" y="1778040"/>
            <a:ext cx="3762360" cy="32385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3929040" y="240048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04880" y="2438280"/>
            <a:ext cx="1671840" cy="21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97040" y="2548080"/>
            <a:ext cx="1479600" cy="1976400"/>
          </a:xfrm>
          <a:custGeom>
            <a:avLst/>
            <a:gdLst/>
            <a:ahLst/>
            <a:rect l="l" t="t" r="r" b="b"/>
            <a:pathLst>
              <a:path w="932" h="1245">
                <a:moveTo>
                  <a:pt x="850" y="93"/>
                </a:moveTo>
                <a:lnTo>
                  <a:pt x="862" y="139"/>
                </a:lnTo>
                <a:lnTo>
                  <a:pt x="868" y="156"/>
                </a:lnTo>
                <a:lnTo>
                  <a:pt x="868" y="180"/>
                </a:lnTo>
                <a:lnTo>
                  <a:pt x="873" y="203"/>
                </a:lnTo>
                <a:lnTo>
                  <a:pt x="879" y="237"/>
                </a:lnTo>
                <a:lnTo>
                  <a:pt x="885" y="261"/>
                </a:lnTo>
                <a:lnTo>
                  <a:pt x="885" y="307"/>
                </a:lnTo>
                <a:lnTo>
                  <a:pt x="885" y="324"/>
                </a:lnTo>
                <a:lnTo>
                  <a:pt x="891" y="341"/>
                </a:lnTo>
                <a:lnTo>
                  <a:pt x="891" y="359"/>
                </a:lnTo>
                <a:lnTo>
                  <a:pt x="897" y="376"/>
                </a:lnTo>
                <a:lnTo>
                  <a:pt x="902" y="394"/>
                </a:lnTo>
                <a:lnTo>
                  <a:pt x="914" y="411"/>
                </a:lnTo>
                <a:lnTo>
                  <a:pt x="920" y="428"/>
                </a:lnTo>
                <a:lnTo>
                  <a:pt x="925" y="446"/>
                </a:lnTo>
                <a:lnTo>
                  <a:pt x="925" y="492"/>
                </a:lnTo>
                <a:lnTo>
                  <a:pt x="931" y="538"/>
                </a:lnTo>
                <a:lnTo>
                  <a:pt x="931" y="596"/>
                </a:lnTo>
                <a:lnTo>
                  <a:pt x="931" y="631"/>
                </a:lnTo>
                <a:lnTo>
                  <a:pt x="931" y="648"/>
                </a:lnTo>
                <a:lnTo>
                  <a:pt x="931" y="694"/>
                </a:lnTo>
                <a:lnTo>
                  <a:pt x="931" y="740"/>
                </a:lnTo>
                <a:lnTo>
                  <a:pt x="931" y="758"/>
                </a:lnTo>
                <a:lnTo>
                  <a:pt x="931" y="781"/>
                </a:lnTo>
                <a:lnTo>
                  <a:pt x="931" y="798"/>
                </a:lnTo>
                <a:lnTo>
                  <a:pt x="931" y="816"/>
                </a:lnTo>
                <a:lnTo>
                  <a:pt x="931" y="850"/>
                </a:lnTo>
                <a:lnTo>
                  <a:pt x="931" y="868"/>
                </a:lnTo>
                <a:lnTo>
                  <a:pt x="931" y="902"/>
                </a:lnTo>
                <a:lnTo>
                  <a:pt x="925" y="926"/>
                </a:lnTo>
                <a:lnTo>
                  <a:pt x="925" y="943"/>
                </a:lnTo>
                <a:lnTo>
                  <a:pt x="920" y="1001"/>
                </a:lnTo>
                <a:lnTo>
                  <a:pt x="914" y="1047"/>
                </a:lnTo>
                <a:lnTo>
                  <a:pt x="914" y="1064"/>
                </a:lnTo>
                <a:lnTo>
                  <a:pt x="908" y="1082"/>
                </a:lnTo>
                <a:lnTo>
                  <a:pt x="891" y="1128"/>
                </a:lnTo>
                <a:lnTo>
                  <a:pt x="885" y="1174"/>
                </a:lnTo>
                <a:lnTo>
                  <a:pt x="873" y="1192"/>
                </a:lnTo>
                <a:lnTo>
                  <a:pt x="856" y="1209"/>
                </a:lnTo>
                <a:lnTo>
                  <a:pt x="810" y="1232"/>
                </a:lnTo>
                <a:lnTo>
                  <a:pt x="787" y="1238"/>
                </a:lnTo>
                <a:lnTo>
                  <a:pt x="752" y="1244"/>
                </a:lnTo>
                <a:lnTo>
                  <a:pt x="706" y="1244"/>
                </a:lnTo>
                <a:lnTo>
                  <a:pt x="659" y="1244"/>
                </a:lnTo>
                <a:lnTo>
                  <a:pt x="636" y="1244"/>
                </a:lnTo>
                <a:lnTo>
                  <a:pt x="619" y="1244"/>
                </a:lnTo>
                <a:lnTo>
                  <a:pt x="584" y="1238"/>
                </a:lnTo>
                <a:lnTo>
                  <a:pt x="549" y="1238"/>
                </a:lnTo>
                <a:lnTo>
                  <a:pt x="532" y="1232"/>
                </a:lnTo>
                <a:lnTo>
                  <a:pt x="515" y="1220"/>
                </a:lnTo>
                <a:lnTo>
                  <a:pt x="497" y="1209"/>
                </a:lnTo>
                <a:lnTo>
                  <a:pt x="480" y="1197"/>
                </a:lnTo>
                <a:lnTo>
                  <a:pt x="463" y="1192"/>
                </a:lnTo>
                <a:lnTo>
                  <a:pt x="440" y="1180"/>
                </a:lnTo>
                <a:lnTo>
                  <a:pt x="422" y="1174"/>
                </a:lnTo>
                <a:lnTo>
                  <a:pt x="405" y="1163"/>
                </a:lnTo>
                <a:lnTo>
                  <a:pt x="370" y="1157"/>
                </a:lnTo>
                <a:lnTo>
                  <a:pt x="353" y="1151"/>
                </a:lnTo>
                <a:lnTo>
                  <a:pt x="335" y="1139"/>
                </a:lnTo>
                <a:lnTo>
                  <a:pt x="312" y="1128"/>
                </a:lnTo>
                <a:lnTo>
                  <a:pt x="301" y="1111"/>
                </a:lnTo>
                <a:lnTo>
                  <a:pt x="283" y="1087"/>
                </a:lnTo>
                <a:lnTo>
                  <a:pt x="272" y="1070"/>
                </a:lnTo>
                <a:lnTo>
                  <a:pt x="231" y="1047"/>
                </a:lnTo>
                <a:lnTo>
                  <a:pt x="214" y="1024"/>
                </a:lnTo>
                <a:lnTo>
                  <a:pt x="202" y="989"/>
                </a:lnTo>
                <a:lnTo>
                  <a:pt x="185" y="966"/>
                </a:lnTo>
                <a:lnTo>
                  <a:pt x="179" y="949"/>
                </a:lnTo>
                <a:lnTo>
                  <a:pt x="156" y="937"/>
                </a:lnTo>
                <a:lnTo>
                  <a:pt x="139" y="926"/>
                </a:lnTo>
                <a:lnTo>
                  <a:pt x="127" y="908"/>
                </a:lnTo>
                <a:lnTo>
                  <a:pt x="110" y="885"/>
                </a:lnTo>
                <a:lnTo>
                  <a:pt x="98" y="868"/>
                </a:lnTo>
                <a:lnTo>
                  <a:pt x="87" y="850"/>
                </a:lnTo>
                <a:lnTo>
                  <a:pt x="81" y="833"/>
                </a:lnTo>
                <a:lnTo>
                  <a:pt x="75" y="816"/>
                </a:lnTo>
                <a:lnTo>
                  <a:pt x="69" y="798"/>
                </a:lnTo>
                <a:lnTo>
                  <a:pt x="58" y="775"/>
                </a:lnTo>
                <a:lnTo>
                  <a:pt x="52" y="752"/>
                </a:lnTo>
                <a:lnTo>
                  <a:pt x="46" y="735"/>
                </a:lnTo>
                <a:lnTo>
                  <a:pt x="40" y="717"/>
                </a:lnTo>
                <a:lnTo>
                  <a:pt x="35" y="700"/>
                </a:lnTo>
                <a:lnTo>
                  <a:pt x="29" y="683"/>
                </a:lnTo>
                <a:lnTo>
                  <a:pt x="23" y="665"/>
                </a:lnTo>
                <a:lnTo>
                  <a:pt x="17" y="648"/>
                </a:lnTo>
                <a:lnTo>
                  <a:pt x="12" y="631"/>
                </a:lnTo>
                <a:lnTo>
                  <a:pt x="6" y="613"/>
                </a:lnTo>
                <a:lnTo>
                  <a:pt x="6" y="596"/>
                </a:lnTo>
                <a:lnTo>
                  <a:pt x="0" y="579"/>
                </a:lnTo>
                <a:lnTo>
                  <a:pt x="0" y="561"/>
                </a:lnTo>
                <a:lnTo>
                  <a:pt x="0" y="538"/>
                </a:lnTo>
                <a:lnTo>
                  <a:pt x="0" y="503"/>
                </a:lnTo>
                <a:lnTo>
                  <a:pt x="0" y="486"/>
                </a:lnTo>
                <a:lnTo>
                  <a:pt x="0" y="469"/>
                </a:lnTo>
                <a:lnTo>
                  <a:pt x="0" y="451"/>
                </a:lnTo>
                <a:lnTo>
                  <a:pt x="0" y="434"/>
                </a:lnTo>
                <a:lnTo>
                  <a:pt x="0" y="417"/>
                </a:lnTo>
                <a:lnTo>
                  <a:pt x="0" y="399"/>
                </a:lnTo>
                <a:lnTo>
                  <a:pt x="6" y="382"/>
                </a:lnTo>
                <a:lnTo>
                  <a:pt x="12" y="365"/>
                </a:lnTo>
                <a:lnTo>
                  <a:pt x="17" y="347"/>
                </a:lnTo>
                <a:lnTo>
                  <a:pt x="23" y="330"/>
                </a:lnTo>
                <a:lnTo>
                  <a:pt x="35" y="313"/>
                </a:lnTo>
                <a:lnTo>
                  <a:pt x="40" y="295"/>
                </a:lnTo>
                <a:lnTo>
                  <a:pt x="58" y="237"/>
                </a:lnTo>
                <a:lnTo>
                  <a:pt x="64" y="220"/>
                </a:lnTo>
                <a:lnTo>
                  <a:pt x="69" y="203"/>
                </a:lnTo>
                <a:lnTo>
                  <a:pt x="87" y="191"/>
                </a:lnTo>
                <a:lnTo>
                  <a:pt x="104" y="174"/>
                </a:lnTo>
                <a:lnTo>
                  <a:pt x="127" y="156"/>
                </a:lnTo>
                <a:lnTo>
                  <a:pt x="150" y="139"/>
                </a:lnTo>
                <a:lnTo>
                  <a:pt x="197" y="122"/>
                </a:lnTo>
                <a:lnTo>
                  <a:pt x="214" y="110"/>
                </a:lnTo>
                <a:lnTo>
                  <a:pt x="260" y="99"/>
                </a:lnTo>
                <a:lnTo>
                  <a:pt x="278" y="99"/>
                </a:lnTo>
                <a:lnTo>
                  <a:pt x="318" y="93"/>
                </a:lnTo>
                <a:lnTo>
                  <a:pt x="335" y="87"/>
                </a:lnTo>
                <a:lnTo>
                  <a:pt x="353" y="81"/>
                </a:lnTo>
                <a:lnTo>
                  <a:pt x="370" y="75"/>
                </a:lnTo>
                <a:lnTo>
                  <a:pt x="393" y="64"/>
                </a:lnTo>
                <a:lnTo>
                  <a:pt x="428" y="58"/>
                </a:lnTo>
                <a:lnTo>
                  <a:pt x="474" y="47"/>
                </a:lnTo>
                <a:lnTo>
                  <a:pt x="492" y="41"/>
                </a:lnTo>
                <a:lnTo>
                  <a:pt x="509" y="35"/>
                </a:lnTo>
                <a:lnTo>
                  <a:pt x="526" y="29"/>
                </a:lnTo>
                <a:lnTo>
                  <a:pt x="561" y="23"/>
                </a:lnTo>
                <a:lnTo>
                  <a:pt x="578" y="18"/>
                </a:lnTo>
                <a:lnTo>
                  <a:pt x="596" y="18"/>
                </a:lnTo>
                <a:lnTo>
                  <a:pt x="613" y="18"/>
                </a:lnTo>
                <a:lnTo>
                  <a:pt x="630" y="12"/>
                </a:lnTo>
                <a:lnTo>
                  <a:pt x="654" y="6"/>
                </a:lnTo>
                <a:lnTo>
                  <a:pt x="671" y="0"/>
                </a:lnTo>
                <a:lnTo>
                  <a:pt x="752" y="0"/>
                </a:lnTo>
                <a:lnTo>
                  <a:pt x="798" y="0"/>
                </a:lnTo>
                <a:lnTo>
                  <a:pt x="844" y="12"/>
                </a:lnTo>
                <a:lnTo>
                  <a:pt x="856" y="35"/>
                </a:lnTo>
                <a:lnTo>
                  <a:pt x="856" y="52"/>
                </a:lnTo>
                <a:lnTo>
                  <a:pt x="850" y="93"/>
                </a:lnTo>
                <a:lnTo>
                  <a:pt x="850" y="93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60000">
            <a:off x="2147400" y="3929040"/>
            <a:ext cx="701640" cy="262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27240" y="2751120"/>
            <a:ext cx="1930320" cy="2093760"/>
          </a:xfrm>
          <a:custGeom>
            <a:avLst/>
            <a:gdLst/>
            <a:ahLst/>
            <a:rect l="l" t="t" r="r" b="b"/>
            <a:pathLst>
              <a:path w="1216" h="1319">
                <a:moveTo>
                  <a:pt x="1215" y="52"/>
                </a:moveTo>
                <a:lnTo>
                  <a:pt x="1186" y="46"/>
                </a:lnTo>
                <a:lnTo>
                  <a:pt x="1169" y="46"/>
                </a:lnTo>
                <a:lnTo>
                  <a:pt x="1151" y="46"/>
                </a:lnTo>
                <a:lnTo>
                  <a:pt x="1134" y="46"/>
                </a:lnTo>
                <a:lnTo>
                  <a:pt x="1117" y="46"/>
                </a:lnTo>
                <a:lnTo>
                  <a:pt x="1099" y="40"/>
                </a:lnTo>
                <a:lnTo>
                  <a:pt x="1076" y="34"/>
                </a:lnTo>
                <a:lnTo>
                  <a:pt x="1059" y="28"/>
                </a:lnTo>
                <a:lnTo>
                  <a:pt x="1042" y="23"/>
                </a:lnTo>
                <a:lnTo>
                  <a:pt x="1018" y="17"/>
                </a:lnTo>
                <a:lnTo>
                  <a:pt x="1001" y="17"/>
                </a:lnTo>
                <a:lnTo>
                  <a:pt x="984" y="11"/>
                </a:lnTo>
                <a:lnTo>
                  <a:pt x="949" y="11"/>
                </a:lnTo>
                <a:lnTo>
                  <a:pt x="926" y="11"/>
                </a:lnTo>
                <a:lnTo>
                  <a:pt x="885" y="5"/>
                </a:lnTo>
                <a:lnTo>
                  <a:pt x="862" y="5"/>
                </a:lnTo>
                <a:lnTo>
                  <a:pt x="845" y="5"/>
                </a:lnTo>
                <a:lnTo>
                  <a:pt x="810" y="5"/>
                </a:lnTo>
                <a:lnTo>
                  <a:pt x="770" y="0"/>
                </a:lnTo>
                <a:lnTo>
                  <a:pt x="752" y="0"/>
                </a:lnTo>
                <a:lnTo>
                  <a:pt x="735" y="0"/>
                </a:lnTo>
                <a:lnTo>
                  <a:pt x="712" y="0"/>
                </a:lnTo>
                <a:lnTo>
                  <a:pt x="695" y="0"/>
                </a:lnTo>
                <a:lnTo>
                  <a:pt x="671" y="0"/>
                </a:lnTo>
                <a:lnTo>
                  <a:pt x="648" y="0"/>
                </a:lnTo>
                <a:lnTo>
                  <a:pt x="631" y="0"/>
                </a:lnTo>
                <a:lnTo>
                  <a:pt x="614" y="0"/>
                </a:lnTo>
                <a:lnTo>
                  <a:pt x="596" y="0"/>
                </a:lnTo>
                <a:lnTo>
                  <a:pt x="573" y="5"/>
                </a:lnTo>
                <a:lnTo>
                  <a:pt x="556" y="5"/>
                </a:lnTo>
                <a:lnTo>
                  <a:pt x="538" y="11"/>
                </a:lnTo>
                <a:lnTo>
                  <a:pt x="521" y="17"/>
                </a:lnTo>
                <a:lnTo>
                  <a:pt x="504" y="17"/>
                </a:lnTo>
                <a:lnTo>
                  <a:pt x="486" y="23"/>
                </a:lnTo>
                <a:lnTo>
                  <a:pt x="469" y="23"/>
                </a:lnTo>
                <a:lnTo>
                  <a:pt x="452" y="34"/>
                </a:lnTo>
                <a:lnTo>
                  <a:pt x="434" y="40"/>
                </a:lnTo>
                <a:lnTo>
                  <a:pt x="411" y="52"/>
                </a:lnTo>
                <a:lnTo>
                  <a:pt x="394" y="57"/>
                </a:lnTo>
                <a:lnTo>
                  <a:pt x="376" y="63"/>
                </a:lnTo>
                <a:lnTo>
                  <a:pt x="359" y="63"/>
                </a:lnTo>
                <a:lnTo>
                  <a:pt x="342" y="75"/>
                </a:lnTo>
                <a:lnTo>
                  <a:pt x="319" y="80"/>
                </a:lnTo>
                <a:lnTo>
                  <a:pt x="301" y="92"/>
                </a:lnTo>
                <a:lnTo>
                  <a:pt x="278" y="104"/>
                </a:lnTo>
                <a:lnTo>
                  <a:pt x="261" y="109"/>
                </a:lnTo>
                <a:lnTo>
                  <a:pt x="243" y="115"/>
                </a:lnTo>
                <a:lnTo>
                  <a:pt x="226" y="127"/>
                </a:lnTo>
                <a:lnTo>
                  <a:pt x="209" y="133"/>
                </a:lnTo>
                <a:lnTo>
                  <a:pt x="186" y="150"/>
                </a:lnTo>
                <a:lnTo>
                  <a:pt x="162" y="167"/>
                </a:lnTo>
                <a:lnTo>
                  <a:pt x="139" y="179"/>
                </a:lnTo>
                <a:lnTo>
                  <a:pt x="116" y="202"/>
                </a:lnTo>
                <a:lnTo>
                  <a:pt x="105" y="237"/>
                </a:lnTo>
                <a:lnTo>
                  <a:pt x="87" y="248"/>
                </a:lnTo>
                <a:lnTo>
                  <a:pt x="81" y="266"/>
                </a:lnTo>
                <a:lnTo>
                  <a:pt x="70" y="283"/>
                </a:lnTo>
                <a:lnTo>
                  <a:pt x="58" y="300"/>
                </a:lnTo>
                <a:lnTo>
                  <a:pt x="47" y="318"/>
                </a:lnTo>
                <a:lnTo>
                  <a:pt x="35" y="341"/>
                </a:lnTo>
                <a:lnTo>
                  <a:pt x="35" y="358"/>
                </a:lnTo>
                <a:lnTo>
                  <a:pt x="24" y="375"/>
                </a:lnTo>
                <a:lnTo>
                  <a:pt x="18" y="393"/>
                </a:lnTo>
                <a:lnTo>
                  <a:pt x="12" y="416"/>
                </a:lnTo>
                <a:lnTo>
                  <a:pt x="12" y="439"/>
                </a:lnTo>
                <a:lnTo>
                  <a:pt x="6" y="456"/>
                </a:lnTo>
                <a:lnTo>
                  <a:pt x="0" y="474"/>
                </a:lnTo>
                <a:lnTo>
                  <a:pt x="0" y="491"/>
                </a:lnTo>
                <a:lnTo>
                  <a:pt x="0" y="508"/>
                </a:lnTo>
                <a:lnTo>
                  <a:pt x="0" y="526"/>
                </a:lnTo>
                <a:lnTo>
                  <a:pt x="0" y="549"/>
                </a:lnTo>
                <a:lnTo>
                  <a:pt x="0" y="566"/>
                </a:lnTo>
                <a:lnTo>
                  <a:pt x="6" y="607"/>
                </a:lnTo>
                <a:lnTo>
                  <a:pt x="12" y="630"/>
                </a:lnTo>
                <a:lnTo>
                  <a:pt x="24" y="647"/>
                </a:lnTo>
                <a:lnTo>
                  <a:pt x="29" y="665"/>
                </a:lnTo>
                <a:lnTo>
                  <a:pt x="41" y="705"/>
                </a:lnTo>
                <a:lnTo>
                  <a:pt x="58" y="722"/>
                </a:lnTo>
                <a:lnTo>
                  <a:pt x="70" y="740"/>
                </a:lnTo>
                <a:lnTo>
                  <a:pt x="87" y="751"/>
                </a:lnTo>
                <a:lnTo>
                  <a:pt x="99" y="769"/>
                </a:lnTo>
                <a:lnTo>
                  <a:pt x="110" y="786"/>
                </a:lnTo>
                <a:lnTo>
                  <a:pt x="122" y="809"/>
                </a:lnTo>
                <a:lnTo>
                  <a:pt x="139" y="826"/>
                </a:lnTo>
                <a:lnTo>
                  <a:pt x="151" y="844"/>
                </a:lnTo>
                <a:lnTo>
                  <a:pt x="174" y="867"/>
                </a:lnTo>
                <a:lnTo>
                  <a:pt x="191" y="890"/>
                </a:lnTo>
                <a:lnTo>
                  <a:pt x="209" y="907"/>
                </a:lnTo>
                <a:lnTo>
                  <a:pt x="214" y="925"/>
                </a:lnTo>
                <a:lnTo>
                  <a:pt x="232" y="936"/>
                </a:lnTo>
                <a:lnTo>
                  <a:pt x="278" y="983"/>
                </a:lnTo>
                <a:lnTo>
                  <a:pt x="295" y="994"/>
                </a:lnTo>
                <a:lnTo>
                  <a:pt x="313" y="1006"/>
                </a:lnTo>
                <a:lnTo>
                  <a:pt x="359" y="1023"/>
                </a:lnTo>
                <a:lnTo>
                  <a:pt x="376" y="1040"/>
                </a:lnTo>
                <a:lnTo>
                  <a:pt x="400" y="1058"/>
                </a:lnTo>
                <a:lnTo>
                  <a:pt x="417" y="1075"/>
                </a:lnTo>
                <a:lnTo>
                  <a:pt x="440" y="1092"/>
                </a:lnTo>
                <a:lnTo>
                  <a:pt x="457" y="1104"/>
                </a:lnTo>
                <a:lnTo>
                  <a:pt x="475" y="1116"/>
                </a:lnTo>
                <a:lnTo>
                  <a:pt x="492" y="1127"/>
                </a:lnTo>
                <a:lnTo>
                  <a:pt x="509" y="1139"/>
                </a:lnTo>
                <a:lnTo>
                  <a:pt x="527" y="1150"/>
                </a:lnTo>
                <a:lnTo>
                  <a:pt x="544" y="1162"/>
                </a:lnTo>
                <a:lnTo>
                  <a:pt x="590" y="1179"/>
                </a:lnTo>
                <a:lnTo>
                  <a:pt x="625" y="1185"/>
                </a:lnTo>
                <a:lnTo>
                  <a:pt x="642" y="1197"/>
                </a:lnTo>
                <a:lnTo>
                  <a:pt x="660" y="1208"/>
                </a:lnTo>
                <a:lnTo>
                  <a:pt x="695" y="1220"/>
                </a:lnTo>
                <a:lnTo>
                  <a:pt x="741" y="1254"/>
                </a:lnTo>
                <a:lnTo>
                  <a:pt x="758" y="1260"/>
                </a:lnTo>
                <a:lnTo>
                  <a:pt x="770" y="1277"/>
                </a:lnTo>
                <a:lnTo>
                  <a:pt x="822" y="1289"/>
                </a:lnTo>
                <a:lnTo>
                  <a:pt x="856" y="1301"/>
                </a:lnTo>
                <a:lnTo>
                  <a:pt x="862" y="131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17640" y="2182680"/>
            <a:ext cx="3151080" cy="598680"/>
          </a:xfrm>
          <a:custGeom>
            <a:avLst/>
            <a:gdLst/>
            <a:ahLst/>
            <a:rect l="l" t="t" r="r" b="b"/>
            <a:pathLst>
              <a:path w="1985" h="377">
                <a:moveTo>
                  <a:pt x="1984" y="76"/>
                </a:moveTo>
                <a:lnTo>
                  <a:pt x="1960" y="65"/>
                </a:lnTo>
                <a:lnTo>
                  <a:pt x="1937" y="65"/>
                </a:lnTo>
                <a:lnTo>
                  <a:pt x="1919" y="60"/>
                </a:lnTo>
                <a:lnTo>
                  <a:pt x="1902" y="54"/>
                </a:lnTo>
                <a:lnTo>
                  <a:pt x="1879" y="49"/>
                </a:lnTo>
                <a:lnTo>
                  <a:pt x="1861" y="43"/>
                </a:lnTo>
                <a:lnTo>
                  <a:pt x="1821" y="38"/>
                </a:lnTo>
                <a:lnTo>
                  <a:pt x="1804" y="38"/>
                </a:lnTo>
                <a:lnTo>
                  <a:pt x="1780" y="32"/>
                </a:lnTo>
                <a:lnTo>
                  <a:pt x="1763" y="32"/>
                </a:lnTo>
                <a:lnTo>
                  <a:pt x="1740" y="27"/>
                </a:lnTo>
                <a:lnTo>
                  <a:pt x="1723" y="27"/>
                </a:lnTo>
                <a:lnTo>
                  <a:pt x="1705" y="27"/>
                </a:lnTo>
                <a:lnTo>
                  <a:pt x="1682" y="27"/>
                </a:lnTo>
                <a:lnTo>
                  <a:pt x="1665" y="27"/>
                </a:lnTo>
                <a:lnTo>
                  <a:pt x="1641" y="27"/>
                </a:lnTo>
                <a:lnTo>
                  <a:pt x="1623" y="27"/>
                </a:lnTo>
                <a:lnTo>
                  <a:pt x="1606" y="27"/>
                </a:lnTo>
                <a:lnTo>
                  <a:pt x="1588" y="32"/>
                </a:lnTo>
                <a:lnTo>
                  <a:pt x="1571" y="32"/>
                </a:lnTo>
                <a:lnTo>
                  <a:pt x="1554" y="38"/>
                </a:lnTo>
                <a:lnTo>
                  <a:pt x="1531" y="49"/>
                </a:lnTo>
                <a:lnTo>
                  <a:pt x="1513" y="54"/>
                </a:lnTo>
                <a:lnTo>
                  <a:pt x="1496" y="65"/>
                </a:lnTo>
                <a:lnTo>
                  <a:pt x="1473" y="70"/>
                </a:lnTo>
                <a:lnTo>
                  <a:pt x="1455" y="70"/>
                </a:lnTo>
                <a:lnTo>
                  <a:pt x="1438" y="81"/>
                </a:lnTo>
                <a:lnTo>
                  <a:pt x="1421" y="81"/>
                </a:lnTo>
                <a:lnTo>
                  <a:pt x="1403" y="87"/>
                </a:lnTo>
                <a:lnTo>
                  <a:pt x="1386" y="87"/>
                </a:lnTo>
                <a:lnTo>
                  <a:pt x="1369" y="93"/>
                </a:lnTo>
                <a:lnTo>
                  <a:pt x="1321" y="98"/>
                </a:lnTo>
                <a:lnTo>
                  <a:pt x="1304" y="103"/>
                </a:lnTo>
                <a:lnTo>
                  <a:pt x="1287" y="109"/>
                </a:lnTo>
                <a:lnTo>
                  <a:pt x="1269" y="114"/>
                </a:lnTo>
                <a:lnTo>
                  <a:pt x="1246" y="125"/>
                </a:lnTo>
                <a:lnTo>
                  <a:pt x="1229" y="136"/>
                </a:lnTo>
                <a:lnTo>
                  <a:pt x="1212" y="136"/>
                </a:lnTo>
                <a:lnTo>
                  <a:pt x="1194" y="142"/>
                </a:lnTo>
                <a:lnTo>
                  <a:pt x="1177" y="147"/>
                </a:lnTo>
                <a:lnTo>
                  <a:pt x="1159" y="152"/>
                </a:lnTo>
                <a:lnTo>
                  <a:pt x="1142" y="158"/>
                </a:lnTo>
                <a:lnTo>
                  <a:pt x="1125" y="158"/>
                </a:lnTo>
                <a:lnTo>
                  <a:pt x="1107" y="163"/>
                </a:lnTo>
                <a:lnTo>
                  <a:pt x="1090" y="168"/>
                </a:lnTo>
                <a:lnTo>
                  <a:pt x="1073" y="174"/>
                </a:lnTo>
                <a:lnTo>
                  <a:pt x="1055" y="179"/>
                </a:lnTo>
                <a:lnTo>
                  <a:pt x="1032" y="196"/>
                </a:lnTo>
                <a:lnTo>
                  <a:pt x="1015" y="201"/>
                </a:lnTo>
                <a:lnTo>
                  <a:pt x="992" y="207"/>
                </a:lnTo>
                <a:lnTo>
                  <a:pt x="973" y="207"/>
                </a:lnTo>
                <a:lnTo>
                  <a:pt x="956" y="212"/>
                </a:lnTo>
                <a:lnTo>
                  <a:pt x="939" y="218"/>
                </a:lnTo>
                <a:lnTo>
                  <a:pt x="921" y="223"/>
                </a:lnTo>
                <a:lnTo>
                  <a:pt x="904" y="228"/>
                </a:lnTo>
                <a:lnTo>
                  <a:pt x="887" y="234"/>
                </a:lnTo>
                <a:lnTo>
                  <a:pt x="863" y="245"/>
                </a:lnTo>
                <a:lnTo>
                  <a:pt x="846" y="256"/>
                </a:lnTo>
                <a:lnTo>
                  <a:pt x="829" y="267"/>
                </a:lnTo>
                <a:lnTo>
                  <a:pt x="811" y="277"/>
                </a:lnTo>
                <a:lnTo>
                  <a:pt x="794" y="283"/>
                </a:lnTo>
                <a:lnTo>
                  <a:pt x="771" y="289"/>
                </a:lnTo>
                <a:lnTo>
                  <a:pt x="725" y="294"/>
                </a:lnTo>
                <a:lnTo>
                  <a:pt x="707" y="299"/>
                </a:lnTo>
                <a:lnTo>
                  <a:pt x="690" y="310"/>
                </a:lnTo>
                <a:lnTo>
                  <a:pt x="667" y="316"/>
                </a:lnTo>
                <a:lnTo>
                  <a:pt x="643" y="326"/>
                </a:lnTo>
                <a:lnTo>
                  <a:pt x="608" y="338"/>
                </a:lnTo>
                <a:lnTo>
                  <a:pt x="591" y="343"/>
                </a:lnTo>
                <a:lnTo>
                  <a:pt x="573" y="348"/>
                </a:lnTo>
                <a:lnTo>
                  <a:pt x="527" y="354"/>
                </a:lnTo>
                <a:lnTo>
                  <a:pt x="510" y="359"/>
                </a:lnTo>
                <a:lnTo>
                  <a:pt x="492" y="359"/>
                </a:lnTo>
                <a:lnTo>
                  <a:pt x="469" y="365"/>
                </a:lnTo>
                <a:lnTo>
                  <a:pt x="411" y="370"/>
                </a:lnTo>
                <a:lnTo>
                  <a:pt x="365" y="376"/>
                </a:lnTo>
                <a:lnTo>
                  <a:pt x="348" y="376"/>
                </a:lnTo>
                <a:lnTo>
                  <a:pt x="300" y="359"/>
                </a:lnTo>
                <a:lnTo>
                  <a:pt x="283" y="343"/>
                </a:lnTo>
                <a:lnTo>
                  <a:pt x="277" y="326"/>
                </a:lnTo>
                <a:lnTo>
                  <a:pt x="260" y="310"/>
                </a:lnTo>
                <a:lnTo>
                  <a:pt x="243" y="294"/>
                </a:lnTo>
                <a:lnTo>
                  <a:pt x="225" y="277"/>
                </a:lnTo>
                <a:lnTo>
                  <a:pt x="214" y="261"/>
                </a:lnTo>
                <a:lnTo>
                  <a:pt x="191" y="240"/>
                </a:lnTo>
                <a:lnTo>
                  <a:pt x="179" y="223"/>
                </a:lnTo>
                <a:lnTo>
                  <a:pt x="167" y="207"/>
                </a:lnTo>
                <a:lnTo>
                  <a:pt x="156" y="191"/>
                </a:lnTo>
                <a:lnTo>
                  <a:pt x="133" y="174"/>
                </a:lnTo>
                <a:lnTo>
                  <a:pt x="121" y="158"/>
                </a:lnTo>
                <a:lnTo>
                  <a:pt x="110" y="142"/>
                </a:lnTo>
                <a:lnTo>
                  <a:pt x="92" y="125"/>
                </a:lnTo>
                <a:lnTo>
                  <a:pt x="81" y="109"/>
                </a:lnTo>
                <a:lnTo>
                  <a:pt x="69" y="87"/>
                </a:lnTo>
                <a:lnTo>
                  <a:pt x="57" y="70"/>
                </a:lnTo>
                <a:lnTo>
                  <a:pt x="46" y="54"/>
                </a:lnTo>
                <a:lnTo>
                  <a:pt x="40" y="38"/>
                </a:lnTo>
                <a:lnTo>
                  <a:pt x="23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706840" y="1822320"/>
            <a:ext cx="653760" cy="139680"/>
          </a:xfrm>
          <a:custGeom>
            <a:avLst/>
            <a:gdLst/>
            <a:ahLst/>
            <a:rect l="l" t="t" r="r" b="b"/>
            <a:pathLst>
              <a:path w="412" h="88">
                <a:moveTo>
                  <a:pt x="411" y="0"/>
                </a:moveTo>
                <a:lnTo>
                  <a:pt x="388" y="0"/>
                </a:lnTo>
                <a:lnTo>
                  <a:pt x="347" y="6"/>
                </a:lnTo>
                <a:lnTo>
                  <a:pt x="330" y="6"/>
                </a:lnTo>
                <a:lnTo>
                  <a:pt x="307" y="24"/>
                </a:lnTo>
                <a:lnTo>
                  <a:pt x="289" y="24"/>
                </a:lnTo>
                <a:lnTo>
                  <a:pt x="266" y="24"/>
                </a:lnTo>
                <a:lnTo>
                  <a:pt x="249" y="29"/>
                </a:lnTo>
                <a:lnTo>
                  <a:pt x="232" y="35"/>
                </a:lnTo>
                <a:lnTo>
                  <a:pt x="208" y="35"/>
                </a:lnTo>
                <a:lnTo>
                  <a:pt x="174" y="41"/>
                </a:lnTo>
                <a:lnTo>
                  <a:pt x="128" y="53"/>
                </a:lnTo>
                <a:lnTo>
                  <a:pt x="104" y="58"/>
                </a:lnTo>
                <a:lnTo>
                  <a:pt x="87" y="58"/>
                </a:lnTo>
                <a:lnTo>
                  <a:pt x="41" y="64"/>
                </a:lnTo>
                <a:lnTo>
                  <a:pt x="23" y="70"/>
                </a:lnTo>
                <a:lnTo>
                  <a:pt x="0" y="87"/>
                </a:lnTo>
                <a:lnTo>
                  <a:pt x="6" y="8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054080" y="1832040"/>
            <a:ext cx="1370160" cy="515880"/>
          </a:xfrm>
          <a:custGeom>
            <a:avLst/>
            <a:gdLst/>
            <a:ahLst/>
            <a:rect l="l" t="t" r="r" b="b"/>
            <a:pathLst>
              <a:path w="863" h="325">
                <a:moveTo>
                  <a:pt x="0" y="0"/>
                </a:moveTo>
                <a:lnTo>
                  <a:pt x="23" y="23"/>
                </a:lnTo>
                <a:lnTo>
                  <a:pt x="29" y="41"/>
                </a:lnTo>
                <a:lnTo>
                  <a:pt x="46" y="52"/>
                </a:lnTo>
                <a:lnTo>
                  <a:pt x="64" y="70"/>
                </a:lnTo>
                <a:lnTo>
                  <a:pt x="81" y="81"/>
                </a:lnTo>
                <a:lnTo>
                  <a:pt x="93" y="99"/>
                </a:lnTo>
                <a:lnTo>
                  <a:pt x="110" y="110"/>
                </a:lnTo>
                <a:lnTo>
                  <a:pt x="127" y="127"/>
                </a:lnTo>
                <a:lnTo>
                  <a:pt x="139" y="145"/>
                </a:lnTo>
                <a:lnTo>
                  <a:pt x="162" y="168"/>
                </a:lnTo>
                <a:lnTo>
                  <a:pt x="174" y="185"/>
                </a:lnTo>
                <a:lnTo>
                  <a:pt x="191" y="197"/>
                </a:lnTo>
                <a:lnTo>
                  <a:pt x="208" y="214"/>
                </a:lnTo>
                <a:lnTo>
                  <a:pt x="226" y="226"/>
                </a:lnTo>
                <a:lnTo>
                  <a:pt x="243" y="243"/>
                </a:lnTo>
                <a:lnTo>
                  <a:pt x="255" y="260"/>
                </a:lnTo>
                <a:lnTo>
                  <a:pt x="272" y="272"/>
                </a:lnTo>
                <a:lnTo>
                  <a:pt x="289" y="278"/>
                </a:lnTo>
                <a:lnTo>
                  <a:pt x="307" y="289"/>
                </a:lnTo>
                <a:lnTo>
                  <a:pt x="347" y="307"/>
                </a:lnTo>
                <a:lnTo>
                  <a:pt x="365" y="318"/>
                </a:lnTo>
                <a:lnTo>
                  <a:pt x="388" y="318"/>
                </a:lnTo>
                <a:lnTo>
                  <a:pt x="405" y="318"/>
                </a:lnTo>
                <a:lnTo>
                  <a:pt x="422" y="318"/>
                </a:lnTo>
                <a:lnTo>
                  <a:pt x="440" y="324"/>
                </a:lnTo>
                <a:lnTo>
                  <a:pt x="457" y="324"/>
                </a:lnTo>
                <a:lnTo>
                  <a:pt x="474" y="324"/>
                </a:lnTo>
                <a:lnTo>
                  <a:pt x="492" y="324"/>
                </a:lnTo>
                <a:lnTo>
                  <a:pt x="509" y="324"/>
                </a:lnTo>
                <a:lnTo>
                  <a:pt x="532" y="318"/>
                </a:lnTo>
                <a:lnTo>
                  <a:pt x="550" y="307"/>
                </a:lnTo>
                <a:lnTo>
                  <a:pt x="567" y="301"/>
                </a:lnTo>
                <a:lnTo>
                  <a:pt x="584" y="289"/>
                </a:lnTo>
                <a:lnTo>
                  <a:pt x="602" y="278"/>
                </a:lnTo>
                <a:lnTo>
                  <a:pt x="619" y="272"/>
                </a:lnTo>
                <a:lnTo>
                  <a:pt x="642" y="266"/>
                </a:lnTo>
                <a:lnTo>
                  <a:pt x="660" y="260"/>
                </a:lnTo>
                <a:lnTo>
                  <a:pt x="677" y="255"/>
                </a:lnTo>
                <a:lnTo>
                  <a:pt x="694" y="249"/>
                </a:lnTo>
                <a:lnTo>
                  <a:pt x="712" y="237"/>
                </a:lnTo>
                <a:lnTo>
                  <a:pt x="729" y="232"/>
                </a:lnTo>
                <a:lnTo>
                  <a:pt x="746" y="214"/>
                </a:lnTo>
                <a:lnTo>
                  <a:pt x="764" y="203"/>
                </a:lnTo>
                <a:lnTo>
                  <a:pt x="787" y="185"/>
                </a:lnTo>
                <a:lnTo>
                  <a:pt x="804" y="174"/>
                </a:lnTo>
                <a:lnTo>
                  <a:pt x="821" y="174"/>
                </a:lnTo>
                <a:lnTo>
                  <a:pt x="839" y="168"/>
                </a:lnTo>
                <a:lnTo>
                  <a:pt x="856" y="162"/>
                </a:lnTo>
                <a:lnTo>
                  <a:pt x="862" y="16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4880" y="1814400"/>
            <a:ext cx="506520" cy="120600"/>
          </a:xfrm>
          <a:custGeom>
            <a:avLst/>
            <a:gdLst/>
            <a:ahLst/>
            <a:rect l="l" t="t" r="r" b="b"/>
            <a:pathLst>
              <a:path w="319" h="76">
                <a:moveTo>
                  <a:pt x="0" y="0"/>
                </a:moveTo>
                <a:lnTo>
                  <a:pt x="22" y="11"/>
                </a:lnTo>
                <a:lnTo>
                  <a:pt x="45" y="17"/>
                </a:lnTo>
                <a:lnTo>
                  <a:pt x="56" y="34"/>
                </a:lnTo>
                <a:lnTo>
                  <a:pt x="73" y="46"/>
                </a:lnTo>
                <a:lnTo>
                  <a:pt x="91" y="58"/>
                </a:lnTo>
                <a:lnTo>
                  <a:pt x="107" y="58"/>
                </a:lnTo>
                <a:lnTo>
                  <a:pt x="124" y="58"/>
                </a:lnTo>
                <a:lnTo>
                  <a:pt x="142" y="63"/>
                </a:lnTo>
                <a:lnTo>
                  <a:pt x="181" y="69"/>
                </a:lnTo>
                <a:lnTo>
                  <a:pt x="221" y="75"/>
                </a:lnTo>
                <a:lnTo>
                  <a:pt x="238" y="75"/>
                </a:lnTo>
                <a:lnTo>
                  <a:pt x="261" y="75"/>
                </a:lnTo>
                <a:lnTo>
                  <a:pt x="278" y="63"/>
                </a:lnTo>
                <a:lnTo>
                  <a:pt x="295" y="52"/>
                </a:lnTo>
                <a:lnTo>
                  <a:pt x="312" y="34"/>
                </a:lnTo>
                <a:lnTo>
                  <a:pt x="318" y="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79760" y="466092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7720" y="198432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49560" y="208296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2160" y="1857240"/>
            <a:ext cx="633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35600" y="2646360"/>
            <a:ext cx="52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13000" y="3300480"/>
            <a:ext cx="577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24200" y="4373640"/>
            <a:ext cx="78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9920" y="3787920"/>
            <a:ext cx="257400" cy="27432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387680" y="4202280"/>
            <a:ext cx="119160" cy="270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965320" y="2494080"/>
            <a:ext cx="284400" cy="633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46240" y="2401920"/>
            <a:ext cx="730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00520" y="2440080"/>
            <a:ext cx="53640" cy="109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35240" y="2260440"/>
            <a:ext cx="55440" cy="1018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36880" y="2759040"/>
            <a:ext cx="1938240" cy="2232000"/>
          </a:xfrm>
          <a:custGeom>
            <a:avLst/>
            <a:gdLst/>
            <a:ahLst/>
            <a:rect l="l" t="t" r="r" b="b"/>
            <a:pathLst>
              <a:path w="1221" h="1406">
                <a:moveTo>
                  <a:pt x="1220" y="174"/>
                </a:moveTo>
                <a:lnTo>
                  <a:pt x="1197" y="156"/>
                </a:lnTo>
                <a:lnTo>
                  <a:pt x="1180" y="145"/>
                </a:lnTo>
                <a:lnTo>
                  <a:pt x="1163" y="139"/>
                </a:lnTo>
                <a:lnTo>
                  <a:pt x="1139" y="133"/>
                </a:lnTo>
                <a:lnTo>
                  <a:pt x="1122" y="128"/>
                </a:lnTo>
                <a:lnTo>
                  <a:pt x="1105" y="122"/>
                </a:lnTo>
                <a:lnTo>
                  <a:pt x="1082" y="116"/>
                </a:lnTo>
                <a:lnTo>
                  <a:pt x="1059" y="110"/>
                </a:lnTo>
                <a:lnTo>
                  <a:pt x="1041" y="104"/>
                </a:lnTo>
                <a:lnTo>
                  <a:pt x="1024" y="104"/>
                </a:lnTo>
                <a:lnTo>
                  <a:pt x="1006" y="99"/>
                </a:lnTo>
                <a:lnTo>
                  <a:pt x="966" y="87"/>
                </a:lnTo>
                <a:lnTo>
                  <a:pt x="920" y="70"/>
                </a:lnTo>
                <a:lnTo>
                  <a:pt x="902" y="64"/>
                </a:lnTo>
                <a:lnTo>
                  <a:pt x="885" y="58"/>
                </a:lnTo>
                <a:lnTo>
                  <a:pt x="868" y="47"/>
                </a:lnTo>
                <a:lnTo>
                  <a:pt x="850" y="41"/>
                </a:lnTo>
                <a:lnTo>
                  <a:pt x="827" y="29"/>
                </a:lnTo>
                <a:lnTo>
                  <a:pt x="810" y="23"/>
                </a:lnTo>
                <a:lnTo>
                  <a:pt x="787" y="18"/>
                </a:lnTo>
                <a:lnTo>
                  <a:pt x="769" y="12"/>
                </a:lnTo>
                <a:lnTo>
                  <a:pt x="752" y="6"/>
                </a:lnTo>
                <a:lnTo>
                  <a:pt x="717" y="6"/>
                </a:lnTo>
                <a:lnTo>
                  <a:pt x="700" y="0"/>
                </a:lnTo>
                <a:lnTo>
                  <a:pt x="665" y="0"/>
                </a:lnTo>
                <a:lnTo>
                  <a:pt x="648" y="0"/>
                </a:lnTo>
                <a:lnTo>
                  <a:pt x="630" y="0"/>
                </a:lnTo>
                <a:lnTo>
                  <a:pt x="596" y="0"/>
                </a:lnTo>
                <a:lnTo>
                  <a:pt x="550" y="0"/>
                </a:lnTo>
                <a:lnTo>
                  <a:pt x="515" y="0"/>
                </a:lnTo>
                <a:lnTo>
                  <a:pt x="497" y="0"/>
                </a:lnTo>
                <a:lnTo>
                  <a:pt x="463" y="0"/>
                </a:lnTo>
                <a:lnTo>
                  <a:pt x="445" y="0"/>
                </a:lnTo>
                <a:lnTo>
                  <a:pt x="428" y="0"/>
                </a:lnTo>
                <a:lnTo>
                  <a:pt x="411" y="12"/>
                </a:lnTo>
                <a:lnTo>
                  <a:pt x="393" y="23"/>
                </a:lnTo>
                <a:lnTo>
                  <a:pt x="382" y="41"/>
                </a:lnTo>
                <a:lnTo>
                  <a:pt x="370" y="58"/>
                </a:lnTo>
                <a:lnTo>
                  <a:pt x="364" y="75"/>
                </a:lnTo>
                <a:lnTo>
                  <a:pt x="353" y="93"/>
                </a:lnTo>
                <a:lnTo>
                  <a:pt x="347" y="110"/>
                </a:lnTo>
                <a:lnTo>
                  <a:pt x="341" y="128"/>
                </a:lnTo>
                <a:lnTo>
                  <a:pt x="330" y="145"/>
                </a:lnTo>
                <a:lnTo>
                  <a:pt x="324" y="168"/>
                </a:lnTo>
                <a:lnTo>
                  <a:pt x="312" y="185"/>
                </a:lnTo>
                <a:lnTo>
                  <a:pt x="301" y="203"/>
                </a:lnTo>
                <a:lnTo>
                  <a:pt x="295" y="220"/>
                </a:lnTo>
                <a:lnTo>
                  <a:pt x="283" y="237"/>
                </a:lnTo>
                <a:lnTo>
                  <a:pt x="278" y="255"/>
                </a:lnTo>
                <a:lnTo>
                  <a:pt x="266" y="272"/>
                </a:lnTo>
                <a:lnTo>
                  <a:pt x="255" y="289"/>
                </a:lnTo>
                <a:lnTo>
                  <a:pt x="249" y="307"/>
                </a:lnTo>
                <a:lnTo>
                  <a:pt x="243" y="324"/>
                </a:lnTo>
                <a:lnTo>
                  <a:pt x="231" y="347"/>
                </a:lnTo>
                <a:lnTo>
                  <a:pt x="220" y="365"/>
                </a:lnTo>
                <a:lnTo>
                  <a:pt x="202" y="382"/>
                </a:lnTo>
                <a:lnTo>
                  <a:pt x="185" y="394"/>
                </a:lnTo>
                <a:lnTo>
                  <a:pt x="174" y="411"/>
                </a:lnTo>
                <a:lnTo>
                  <a:pt x="156" y="422"/>
                </a:lnTo>
                <a:lnTo>
                  <a:pt x="139" y="440"/>
                </a:lnTo>
                <a:lnTo>
                  <a:pt x="121" y="451"/>
                </a:lnTo>
                <a:lnTo>
                  <a:pt x="104" y="463"/>
                </a:lnTo>
                <a:lnTo>
                  <a:pt x="87" y="474"/>
                </a:lnTo>
                <a:lnTo>
                  <a:pt x="75" y="492"/>
                </a:lnTo>
                <a:lnTo>
                  <a:pt x="58" y="503"/>
                </a:lnTo>
                <a:lnTo>
                  <a:pt x="52" y="521"/>
                </a:lnTo>
                <a:lnTo>
                  <a:pt x="41" y="538"/>
                </a:lnTo>
                <a:lnTo>
                  <a:pt x="29" y="555"/>
                </a:lnTo>
                <a:lnTo>
                  <a:pt x="23" y="573"/>
                </a:lnTo>
                <a:lnTo>
                  <a:pt x="17" y="590"/>
                </a:lnTo>
                <a:lnTo>
                  <a:pt x="12" y="607"/>
                </a:lnTo>
                <a:lnTo>
                  <a:pt x="6" y="625"/>
                </a:lnTo>
                <a:lnTo>
                  <a:pt x="6" y="642"/>
                </a:lnTo>
                <a:lnTo>
                  <a:pt x="0" y="660"/>
                </a:lnTo>
                <a:lnTo>
                  <a:pt x="0" y="677"/>
                </a:lnTo>
                <a:lnTo>
                  <a:pt x="0" y="694"/>
                </a:lnTo>
                <a:lnTo>
                  <a:pt x="0" y="712"/>
                </a:lnTo>
                <a:lnTo>
                  <a:pt x="0" y="735"/>
                </a:lnTo>
                <a:lnTo>
                  <a:pt x="6" y="758"/>
                </a:lnTo>
                <a:lnTo>
                  <a:pt x="29" y="769"/>
                </a:lnTo>
                <a:lnTo>
                  <a:pt x="46" y="775"/>
                </a:lnTo>
                <a:lnTo>
                  <a:pt x="64" y="781"/>
                </a:lnTo>
                <a:lnTo>
                  <a:pt x="81" y="787"/>
                </a:lnTo>
                <a:lnTo>
                  <a:pt x="98" y="787"/>
                </a:lnTo>
                <a:lnTo>
                  <a:pt x="116" y="787"/>
                </a:lnTo>
                <a:lnTo>
                  <a:pt x="133" y="787"/>
                </a:lnTo>
                <a:lnTo>
                  <a:pt x="150" y="787"/>
                </a:lnTo>
                <a:lnTo>
                  <a:pt x="197" y="787"/>
                </a:lnTo>
                <a:lnTo>
                  <a:pt x="231" y="787"/>
                </a:lnTo>
                <a:lnTo>
                  <a:pt x="249" y="787"/>
                </a:lnTo>
                <a:lnTo>
                  <a:pt x="266" y="787"/>
                </a:lnTo>
                <a:lnTo>
                  <a:pt x="283" y="787"/>
                </a:lnTo>
                <a:lnTo>
                  <a:pt x="301" y="787"/>
                </a:lnTo>
                <a:lnTo>
                  <a:pt x="318" y="787"/>
                </a:lnTo>
                <a:lnTo>
                  <a:pt x="335" y="787"/>
                </a:lnTo>
                <a:lnTo>
                  <a:pt x="353" y="787"/>
                </a:lnTo>
                <a:lnTo>
                  <a:pt x="370" y="787"/>
                </a:lnTo>
                <a:lnTo>
                  <a:pt x="388" y="793"/>
                </a:lnTo>
                <a:lnTo>
                  <a:pt x="405" y="793"/>
                </a:lnTo>
                <a:lnTo>
                  <a:pt x="422" y="793"/>
                </a:lnTo>
                <a:lnTo>
                  <a:pt x="440" y="793"/>
                </a:lnTo>
                <a:lnTo>
                  <a:pt x="457" y="798"/>
                </a:lnTo>
                <a:lnTo>
                  <a:pt x="480" y="804"/>
                </a:lnTo>
                <a:lnTo>
                  <a:pt x="521" y="816"/>
                </a:lnTo>
                <a:lnTo>
                  <a:pt x="526" y="833"/>
                </a:lnTo>
                <a:lnTo>
                  <a:pt x="538" y="850"/>
                </a:lnTo>
                <a:lnTo>
                  <a:pt x="544" y="868"/>
                </a:lnTo>
                <a:lnTo>
                  <a:pt x="544" y="885"/>
                </a:lnTo>
                <a:lnTo>
                  <a:pt x="544" y="902"/>
                </a:lnTo>
                <a:lnTo>
                  <a:pt x="544" y="920"/>
                </a:lnTo>
                <a:lnTo>
                  <a:pt x="544" y="937"/>
                </a:lnTo>
                <a:lnTo>
                  <a:pt x="538" y="954"/>
                </a:lnTo>
                <a:lnTo>
                  <a:pt x="538" y="972"/>
                </a:lnTo>
                <a:lnTo>
                  <a:pt x="532" y="989"/>
                </a:lnTo>
                <a:lnTo>
                  <a:pt x="532" y="1006"/>
                </a:lnTo>
                <a:lnTo>
                  <a:pt x="532" y="1041"/>
                </a:lnTo>
                <a:lnTo>
                  <a:pt x="526" y="1059"/>
                </a:lnTo>
                <a:lnTo>
                  <a:pt x="526" y="1076"/>
                </a:lnTo>
                <a:lnTo>
                  <a:pt x="526" y="1093"/>
                </a:lnTo>
                <a:lnTo>
                  <a:pt x="526" y="1111"/>
                </a:lnTo>
                <a:lnTo>
                  <a:pt x="526" y="1128"/>
                </a:lnTo>
                <a:lnTo>
                  <a:pt x="532" y="1145"/>
                </a:lnTo>
                <a:lnTo>
                  <a:pt x="538" y="1163"/>
                </a:lnTo>
                <a:lnTo>
                  <a:pt x="561" y="1186"/>
                </a:lnTo>
                <a:lnTo>
                  <a:pt x="578" y="1203"/>
                </a:lnTo>
                <a:lnTo>
                  <a:pt x="596" y="1220"/>
                </a:lnTo>
                <a:lnTo>
                  <a:pt x="607" y="1238"/>
                </a:lnTo>
                <a:lnTo>
                  <a:pt x="625" y="1255"/>
                </a:lnTo>
                <a:lnTo>
                  <a:pt x="642" y="1278"/>
                </a:lnTo>
                <a:lnTo>
                  <a:pt x="659" y="1296"/>
                </a:lnTo>
                <a:lnTo>
                  <a:pt x="677" y="1313"/>
                </a:lnTo>
                <a:lnTo>
                  <a:pt x="694" y="1330"/>
                </a:lnTo>
                <a:lnTo>
                  <a:pt x="717" y="1348"/>
                </a:lnTo>
                <a:lnTo>
                  <a:pt x="735" y="1359"/>
                </a:lnTo>
                <a:lnTo>
                  <a:pt x="758" y="1377"/>
                </a:lnTo>
                <a:lnTo>
                  <a:pt x="775" y="1382"/>
                </a:lnTo>
                <a:lnTo>
                  <a:pt x="792" y="1394"/>
                </a:lnTo>
                <a:lnTo>
                  <a:pt x="810" y="1405"/>
                </a:lnTo>
                <a:lnTo>
                  <a:pt x="821" y="1405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28760" y="1832040"/>
            <a:ext cx="349200" cy="1569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0520000">
            <a:off x="2197080" y="1750680"/>
            <a:ext cx="96840" cy="250920"/>
          </a:xfrm>
          <a:prstGeom prst="rtTriangle">
            <a:avLst/>
          </a:prstGeom>
          <a:solidFill>
            <a:srgbClr val="ff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230640" y="1923840"/>
            <a:ext cx="320760" cy="270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01840" y="186048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63760" y="186696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25680" y="1871640"/>
            <a:ext cx="14400" cy="716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08000" y="1785960"/>
            <a:ext cx="1314360" cy="755640"/>
          </a:xfrm>
          <a:custGeom>
            <a:avLst/>
            <a:gdLst/>
            <a:ahLst/>
            <a:rect l="l" t="t" r="r" b="b"/>
            <a:pathLst>
              <a:path w="828" h="476">
                <a:moveTo>
                  <a:pt x="827" y="128"/>
                </a:moveTo>
                <a:lnTo>
                  <a:pt x="827" y="151"/>
                </a:lnTo>
                <a:lnTo>
                  <a:pt x="822" y="168"/>
                </a:lnTo>
                <a:lnTo>
                  <a:pt x="804" y="180"/>
                </a:lnTo>
                <a:lnTo>
                  <a:pt x="793" y="197"/>
                </a:lnTo>
                <a:lnTo>
                  <a:pt x="781" y="214"/>
                </a:lnTo>
                <a:lnTo>
                  <a:pt x="769" y="232"/>
                </a:lnTo>
                <a:lnTo>
                  <a:pt x="758" y="249"/>
                </a:lnTo>
                <a:lnTo>
                  <a:pt x="741" y="266"/>
                </a:lnTo>
                <a:lnTo>
                  <a:pt x="729" y="284"/>
                </a:lnTo>
                <a:lnTo>
                  <a:pt x="717" y="301"/>
                </a:lnTo>
                <a:lnTo>
                  <a:pt x="700" y="318"/>
                </a:lnTo>
                <a:lnTo>
                  <a:pt x="689" y="336"/>
                </a:lnTo>
                <a:lnTo>
                  <a:pt x="677" y="353"/>
                </a:lnTo>
                <a:lnTo>
                  <a:pt x="660" y="365"/>
                </a:lnTo>
                <a:lnTo>
                  <a:pt x="648" y="382"/>
                </a:lnTo>
                <a:lnTo>
                  <a:pt x="631" y="399"/>
                </a:lnTo>
                <a:lnTo>
                  <a:pt x="613" y="411"/>
                </a:lnTo>
                <a:lnTo>
                  <a:pt x="590" y="428"/>
                </a:lnTo>
                <a:lnTo>
                  <a:pt x="567" y="446"/>
                </a:lnTo>
                <a:lnTo>
                  <a:pt x="550" y="451"/>
                </a:lnTo>
                <a:lnTo>
                  <a:pt x="532" y="457"/>
                </a:lnTo>
                <a:lnTo>
                  <a:pt x="509" y="469"/>
                </a:lnTo>
                <a:lnTo>
                  <a:pt x="492" y="469"/>
                </a:lnTo>
                <a:lnTo>
                  <a:pt x="474" y="475"/>
                </a:lnTo>
                <a:lnTo>
                  <a:pt x="457" y="475"/>
                </a:lnTo>
                <a:lnTo>
                  <a:pt x="434" y="475"/>
                </a:lnTo>
                <a:lnTo>
                  <a:pt x="411" y="475"/>
                </a:lnTo>
                <a:lnTo>
                  <a:pt x="365" y="475"/>
                </a:lnTo>
                <a:lnTo>
                  <a:pt x="347" y="475"/>
                </a:lnTo>
                <a:lnTo>
                  <a:pt x="330" y="457"/>
                </a:lnTo>
                <a:lnTo>
                  <a:pt x="307" y="446"/>
                </a:lnTo>
                <a:lnTo>
                  <a:pt x="289" y="434"/>
                </a:lnTo>
                <a:lnTo>
                  <a:pt x="272" y="422"/>
                </a:lnTo>
                <a:lnTo>
                  <a:pt x="255" y="405"/>
                </a:lnTo>
                <a:lnTo>
                  <a:pt x="249" y="388"/>
                </a:lnTo>
                <a:lnTo>
                  <a:pt x="232" y="376"/>
                </a:lnTo>
                <a:lnTo>
                  <a:pt x="220" y="359"/>
                </a:lnTo>
                <a:lnTo>
                  <a:pt x="203" y="342"/>
                </a:lnTo>
                <a:lnTo>
                  <a:pt x="191" y="324"/>
                </a:lnTo>
                <a:lnTo>
                  <a:pt x="180" y="307"/>
                </a:lnTo>
                <a:lnTo>
                  <a:pt x="174" y="289"/>
                </a:lnTo>
                <a:lnTo>
                  <a:pt x="162" y="272"/>
                </a:lnTo>
                <a:lnTo>
                  <a:pt x="145" y="249"/>
                </a:lnTo>
                <a:lnTo>
                  <a:pt x="133" y="232"/>
                </a:lnTo>
                <a:lnTo>
                  <a:pt x="122" y="214"/>
                </a:lnTo>
                <a:lnTo>
                  <a:pt x="110" y="197"/>
                </a:lnTo>
                <a:lnTo>
                  <a:pt x="99" y="180"/>
                </a:lnTo>
                <a:lnTo>
                  <a:pt x="81" y="162"/>
                </a:lnTo>
                <a:lnTo>
                  <a:pt x="70" y="145"/>
                </a:lnTo>
                <a:lnTo>
                  <a:pt x="58" y="128"/>
                </a:lnTo>
                <a:lnTo>
                  <a:pt x="52" y="110"/>
                </a:lnTo>
                <a:lnTo>
                  <a:pt x="41" y="87"/>
                </a:lnTo>
                <a:lnTo>
                  <a:pt x="35" y="7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1800" y="1795320"/>
            <a:ext cx="625680" cy="277920"/>
          </a:xfrm>
          <a:custGeom>
            <a:avLst/>
            <a:gdLst/>
            <a:ahLst/>
            <a:rect l="l" t="t" r="r" b="b"/>
            <a:pathLst>
              <a:path w="394" h="175">
                <a:moveTo>
                  <a:pt x="393" y="17"/>
                </a:moveTo>
                <a:lnTo>
                  <a:pt x="364" y="41"/>
                </a:lnTo>
                <a:lnTo>
                  <a:pt x="353" y="58"/>
                </a:lnTo>
                <a:lnTo>
                  <a:pt x="335" y="75"/>
                </a:lnTo>
                <a:lnTo>
                  <a:pt x="330" y="93"/>
                </a:lnTo>
                <a:lnTo>
                  <a:pt x="312" y="104"/>
                </a:lnTo>
                <a:lnTo>
                  <a:pt x="295" y="116"/>
                </a:lnTo>
                <a:lnTo>
                  <a:pt x="278" y="127"/>
                </a:lnTo>
                <a:lnTo>
                  <a:pt x="266" y="145"/>
                </a:lnTo>
                <a:lnTo>
                  <a:pt x="249" y="156"/>
                </a:lnTo>
                <a:lnTo>
                  <a:pt x="231" y="162"/>
                </a:lnTo>
                <a:lnTo>
                  <a:pt x="214" y="174"/>
                </a:lnTo>
                <a:lnTo>
                  <a:pt x="197" y="174"/>
                </a:lnTo>
                <a:lnTo>
                  <a:pt x="179" y="174"/>
                </a:lnTo>
                <a:lnTo>
                  <a:pt x="162" y="174"/>
                </a:lnTo>
                <a:lnTo>
                  <a:pt x="144" y="174"/>
                </a:lnTo>
                <a:lnTo>
                  <a:pt x="127" y="174"/>
                </a:lnTo>
                <a:lnTo>
                  <a:pt x="110" y="162"/>
                </a:lnTo>
                <a:lnTo>
                  <a:pt x="92" y="139"/>
                </a:lnTo>
                <a:lnTo>
                  <a:pt x="81" y="122"/>
                </a:lnTo>
                <a:lnTo>
                  <a:pt x="69" y="104"/>
                </a:lnTo>
                <a:lnTo>
                  <a:pt x="58" y="87"/>
                </a:lnTo>
                <a:lnTo>
                  <a:pt x="46" y="64"/>
                </a:lnTo>
                <a:lnTo>
                  <a:pt x="29" y="52"/>
                </a:lnTo>
                <a:lnTo>
                  <a:pt x="23" y="35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31880" y="19144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1360" y="2940120"/>
            <a:ext cx="606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84480" y="479124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68680" y="400536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22640" y="358920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860480" y="46846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5200" y="2422440"/>
            <a:ext cx="60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500120" y="237816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01680" y="3814920"/>
            <a:ext cx="809640" cy="809640"/>
          </a:xfrm>
          <a:custGeom>
            <a:avLst/>
            <a:gdLst/>
            <a:ahLst/>
            <a:rect l="l" t="t" r="r" b="b"/>
            <a:pathLst>
              <a:path w="510" h="510">
                <a:moveTo>
                  <a:pt x="509" y="0"/>
                </a:moveTo>
                <a:lnTo>
                  <a:pt x="509" y="23"/>
                </a:lnTo>
                <a:lnTo>
                  <a:pt x="509" y="41"/>
                </a:lnTo>
                <a:lnTo>
                  <a:pt x="497" y="58"/>
                </a:lnTo>
                <a:lnTo>
                  <a:pt x="485" y="75"/>
                </a:lnTo>
                <a:lnTo>
                  <a:pt x="474" y="93"/>
                </a:lnTo>
                <a:lnTo>
                  <a:pt x="462" y="110"/>
                </a:lnTo>
                <a:lnTo>
                  <a:pt x="445" y="133"/>
                </a:lnTo>
                <a:lnTo>
                  <a:pt x="433" y="151"/>
                </a:lnTo>
                <a:lnTo>
                  <a:pt x="422" y="168"/>
                </a:lnTo>
                <a:lnTo>
                  <a:pt x="410" y="185"/>
                </a:lnTo>
                <a:lnTo>
                  <a:pt x="404" y="203"/>
                </a:lnTo>
                <a:lnTo>
                  <a:pt x="387" y="220"/>
                </a:lnTo>
                <a:lnTo>
                  <a:pt x="375" y="237"/>
                </a:lnTo>
                <a:lnTo>
                  <a:pt x="352" y="261"/>
                </a:lnTo>
                <a:lnTo>
                  <a:pt x="335" y="284"/>
                </a:lnTo>
                <a:lnTo>
                  <a:pt x="318" y="295"/>
                </a:lnTo>
                <a:lnTo>
                  <a:pt x="300" y="318"/>
                </a:lnTo>
                <a:lnTo>
                  <a:pt x="289" y="336"/>
                </a:lnTo>
                <a:lnTo>
                  <a:pt x="271" y="353"/>
                </a:lnTo>
                <a:lnTo>
                  <a:pt x="248" y="370"/>
                </a:lnTo>
                <a:lnTo>
                  <a:pt x="231" y="376"/>
                </a:lnTo>
                <a:lnTo>
                  <a:pt x="214" y="394"/>
                </a:lnTo>
                <a:lnTo>
                  <a:pt x="196" y="399"/>
                </a:lnTo>
                <a:lnTo>
                  <a:pt x="179" y="411"/>
                </a:lnTo>
                <a:lnTo>
                  <a:pt x="161" y="417"/>
                </a:lnTo>
                <a:lnTo>
                  <a:pt x="144" y="428"/>
                </a:lnTo>
                <a:lnTo>
                  <a:pt x="121" y="440"/>
                </a:lnTo>
                <a:lnTo>
                  <a:pt x="98" y="457"/>
                </a:lnTo>
                <a:lnTo>
                  <a:pt x="80" y="463"/>
                </a:lnTo>
                <a:lnTo>
                  <a:pt x="57" y="480"/>
                </a:lnTo>
                <a:lnTo>
                  <a:pt x="40" y="486"/>
                </a:lnTo>
                <a:lnTo>
                  <a:pt x="5" y="498"/>
                </a:lnTo>
                <a:lnTo>
                  <a:pt x="0" y="509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47760" y="1795320"/>
            <a:ext cx="579600" cy="1212840"/>
          </a:xfrm>
          <a:custGeom>
            <a:avLst/>
            <a:gdLst/>
            <a:ahLst/>
            <a:rect l="l" t="t" r="r" b="b"/>
            <a:pathLst>
              <a:path w="365" h="764">
                <a:moveTo>
                  <a:pt x="364" y="0"/>
                </a:moveTo>
                <a:lnTo>
                  <a:pt x="358" y="23"/>
                </a:lnTo>
                <a:lnTo>
                  <a:pt x="352" y="41"/>
                </a:lnTo>
                <a:lnTo>
                  <a:pt x="347" y="58"/>
                </a:lnTo>
                <a:lnTo>
                  <a:pt x="347" y="75"/>
                </a:lnTo>
                <a:lnTo>
                  <a:pt x="335" y="98"/>
                </a:lnTo>
                <a:lnTo>
                  <a:pt x="329" y="116"/>
                </a:lnTo>
                <a:lnTo>
                  <a:pt x="329" y="150"/>
                </a:lnTo>
                <a:lnTo>
                  <a:pt x="323" y="174"/>
                </a:lnTo>
                <a:lnTo>
                  <a:pt x="318" y="191"/>
                </a:lnTo>
                <a:lnTo>
                  <a:pt x="312" y="208"/>
                </a:lnTo>
                <a:lnTo>
                  <a:pt x="300" y="231"/>
                </a:lnTo>
                <a:lnTo>
                  <a:pt x="283" y="255"/>
                </a:lnTo>
                <a:lnTo>
                  <a:pt x="277" y="272"/>
                </a:lnTo>
                <a:lnTo>
                  <a:pt x="271" y="289"/>
                </a:lnTo>
                <a:lnTo>
                  <a:pt x="260" y="307"/>
                </a:lnTo>
                <a:lnTo>
                  <a:pt x="248" y="324"/>
                </a:lnTo>
                <a:lnTo>
                  <a:pt x="243" y="341"/>
                </a:lnTo>
                <a:lnTo>
                  <a:pt x="231" y="359"/>
                </a:lnTo>
                <a:lnTo>
                  <a:pt x="225" y="376"/>
                </a:lnTo>
                <a:lnTo>
                  <a:pt x="214" y="393"/>
                </a:lnTo>
                <a:lnTo>
                  <a:pt x="208" y="434"/>
                </a:lnTo>
                <a:lnTo>
                  <a:pt x="173" y="480"/>
                </a:lnTo>
                <a:lnTo>
                  <a:pt x="167" y="497"/>
                </a:lnTo>
                <a:lnTo>
                  <a:pt x="156" y="515"/>
                </a:lnTo>
                <a:lnTo>
                  <a:pt x="150" y="549"/>
                </a:lnTo>
                <a:lnTo>
                  <a:pt x="115" y="596"/>
                </a:lnTo>
                <a:lnTo>
                  <a:pt x="109" y="613"/>
                </a:lnTo>
                <a:lnTo>
                  <a:pt x="98" y="630"/>
                </a:lnTo>
                <a:lnTo>
                  <a:pt x="81" y="648"/>
                </a:lnTo>
                <a:lnTo>
                  <a:pt x="75" y="665"/>
                </a:lnTo>
                <a:lnTo>
                  <a:pt x="63" y="682"/>
                </a:lnTo>
                <a:lnTo>
                  <a:pt x="40" y="706"/>
                </a:lnTo>
                <a:lnTo>
                  <a:pt x="29" y="723"/>
                </a:lnTo>
                <a:lnTo>
                  <a:pt x="17" y="740"/>
                </a:lnTo>
                <a:lnTo>
                  <a:pt x="5" y="758"/>
                </a:lnTo>
                <a:lnTo>
                  <a:pt x="0" y="763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946240" y="3190680"/>
            <a:ext cx="247680" cy="2473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7720" y="3367080"/>
            <a:ext cx="136440" cy="712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86080" y="2181240"/>
            <a:ext cx="358560" cy="1015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12720" y="1996920"/>
            <a:ext cx="30240" cy="1843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49360" y="2008080"/>
            <a:ext cx="38160" cy="182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1650600" y="2062080"/>
            <a:ext cx="28440" cy="155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577880" y="1987560"/>
            <a:ext cx="38160" cy="217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4040" y="2943360"/>
            <a:ext cx="110160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817720" y="2870280"/>
            <a:ext cx="46080" cy="41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71720" y="2851200"/>
            <a:ext cx="54288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25640" y="3292560"/>
            <a:ext cx="6066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946240" y="3309840"/>
            <a:ext cx="54000" cy="112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87600" y="3722760"/>
            <a:ext cx="944640" cy="5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954160" y="4394160"/>
            <a:ext cx="268560" cy="47520"/>
          </a:xfrm>
          <a:custGeom>
            <a:avLst/>
            <a:gdLst/>
            <a:ahLst/>
            <a:rect l="l" t="t" r="r" b="b"/>
            <a:pathLst>
              <a:path w="169" h="30">
                <a:moveTo>
                  <a:pt x="0" y="29"/>
                </a:moveTo>
                <a:lnTo>
                  <a:pt x="24" y="29"/>
                </a:lnTo>
                <a:lnTo>
                  <a:pt x="41" y="17"/>
                </a:lnTo>
                <a:lnTo>
                  <a:pt x="41" y="0"/>
                </a:lnTo>
                <a:lnTo>
                  <a:pt x="64" y="5"/>
                </a:lnTo>
                <a:lnTo>
                  <a:pt x="81" y="5"/>
                </a:lnTo>
                <a:lnTo>
                  <a:pt x="116" y="11"/>
                </a:lnTo>
                <a:lnTo>
                  <a:pt x="162" y="17"/>
                </a:lnTo>
                <a:lnTo>
                  <a:pt x="168" y="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981080" y="3016080"/>
            <a:ext cx="82800" cy="3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63800" y="3348000"/>
            <a:ext cx="46044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06400" y="3365640"/>
            <a:ext cx="487440" cy="965160"/>
          </a:xfrm>
          <a:custGeom>
            <a:avLst/>
            <a:gdLst/>
            <a:ahLst/>
            <a:rect l="l" t="t" r="r" b="b"/>
            <a:pathLst>
              <a:path w="307" h="608">
                <a:moveTo>
                  <a:pt x="0" y="0"/>
                </a:moveTo>
                <a:lnTo>
                  <a:pt x="0" y="23"/>
                </a:lnTo>
                <a:lnTo>
                  <a:pt x="0" y="40"/>
                </a:lnTo>
                <a:lnTo>
                  <a:pt x="0" y="58"/>
                </a:lnTo>
                <a:lnTo>
                  <a:pt x="0" y="75"/>
                </a:lnTo>
                <a:lnTo>
                  <a:pt x="6" y="98"/>
                </a:lnTo>
                <a:lnTo>
                  <a:pt x="11" y="116"/>
                </a:lnTo>
                <a:lnTo>
                  <a:pt x="23" y="133"/>
                </a:lnTo>
                <a:lnTo>
                  <a:pt x="23" y="150"/>
                </a:lnTo>
                <a:lnTo>
                  <a:pt x="23" y="168"/>
                </a:lnTo>
                <a:lnTo>
                  <a:pt x="17" y="185"/>
                </a:lnTo>
                <a:lnTo>
                  <a:pt x="17" y="202"/>
                </a:lnTo>
                <a:lnTo>
                  <a:pt x="29" y="220"/>
                </a:lnTo>
                <a:lnTo>
                  <a:pt x="34" y="237"/>
                </a:lnTo>
                <a:lnTo>
                  <a:pt x="40" y="254"/>
                </a:lnTo>
                <a:lnTo>
                  <a:pt x="58" y="272"/>
                </a:lnTo>
                <a:lnTo>
                  <a:pt x="63" y="289"/>
                </a:lnTo>
                <a:lnTo>
                  <a:pt x="75" y="306"/>
                </a:lnTo>
                <a:lnTo>
                  <a:pt x="92" y="312"/>
                </a:lnTo>
                <a:lnTo>
                  <a:pt x="110" y="335"/>
                </a:lnTo>
                <a:lnTo>
                  <a:pt x="127" y="353"/>
                </a:lnTo>
                <a:lnTo>
                  <a:pt x="144" y="358"/>
                </a:lnTo>
                <a:lnTo>
                  <a:pt x="162" y="364"/>
                </a:lnTo>
                <a:lnTo>
                  <a:pt x="179" y="376"/>
                </a:lnTo>
                <a:lnTo>
                  <a:pt x="196" y="393"/>
                </a:lnTo>
                <a:lnTo>
                  <a:pt x="202" y="411"/>
                </a:lnTo>
                <a:lnTo>
                  <a:pt x="214" y="428"/>
                </a:lnTo>
                <a:lnTo>
                  <a:pt x="225" y="445"/>
                </a:lnTo>
                <a:lnTo>
                  <a:pt x="231" y="463"/>
                </a:lnTo>
                <a:lnTo>
                  <a:pt x="237" y="486"/>
                </a:lnTo>
                <a:lnTo>
                  <a:pt x="237" y="503"/>
                </a:lnTo>
                <a:lnTo>
                  <a:pt x="237" y="520"/>
                </a:lnTo>
                <a:lnTo>
                  <a:pt x="237" y="538"/>
                </a:lnTo>
                <a:lnTo>
                  <a:pt x="254" y="561"/>
                </a:lnTo>
                <a:lnTo>
                  <a:pt x="272" y="578"/>
                </a:lnTo>
                <a:lnTo>
                  <a:pt x="283" y="596"/>
                </a:lnTo>
                <a:lnTo>
                  <a:pt x="306" y="60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485800" y="3117960"/>
            <a:ext cx="82440" cy="61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614680" y="3209760"/>
            <a:ext cx="149040" cy="111240"/>
          </a:xfrm>
          <a:custGeom>
            <a:avLst/>
            <a:gdLst/>
            <a:ahLst/>
            <a:rect l="l" t="t" r="r" b="b"/>
            <a:pathLst>
              <a:path w="94" h="70">
                <a:moveTo>
                  <a:pt x="37" y="0"/>
                </a:moveTo>
                <a:lnTo>
                  <a:pt x="43" y="19"/>
                </a:lnTo>
                <a:lnTo>
                  <a:pt x="55" y="34"/>
                </a:lnTo>
                <a:lnTo>
                  <a:pt x="62" y="48"/>
                </a:lnTo>
                <a:lnTo>
                  <a:pt x="74" y="69"/>
                </a:lnTo>
                <a:lnTo>
                  <a:pt x="93" y="58"/>
                </a:lnTo>
                <a:lnTo>
                  <a:pt x="93" y="44"/>
                </a:lnTo>
                <a:lnTo>
                  <a:pt x="93" y="24"/>
                </a:lnTo>
                <a:lnTo>
                  <a:pt x="43" y="34"/>
                </a:lnTo>
                <a:lnTo>
                  <a:pt x="37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50960" y="2622600"/>
            <a:ext cx="203400" cy="992160"/>
          </a:xfrm>
          <a:custGeom>
            <a:avLst/>
            <a:gdLst/>
            <a:ahLst/>
            <a:rect l="l" t="t" r="r" b="b"/>
            <a:pathLst>
              <a:path w="128" h="625">
                <a:moveTo>
                  <a:pt x="127" y="0"/>
                </a:moveTo>
                <a:lnTo>
                  <a:pt x="122" y="23"/>
                </a:lnTo>
                <a:lnTo>
                  <a:pt x="104" y="34"/>
                </a:lnTo>
                <a:lnTo>
                  <a:pt x="87" y="46"/>
                </a:lnTo>
                <a:lnTo>
                  <a:pt x="75" y="63"/>
                </a:lnTo>
                <a:lnTo>
                  <a:pt x="64" y="81"/>
                </a:lnTo>
                <a:lnTo>
                  <a:pt x="52" y="98"/>
                </a:lnTo>
                <a:lnTo>
                  <a:pt x="46" y="115"/>
                </a:lnTo>
                <a:lnTo>
                  <a:pt x="41" y="133"/>
                </a:lnTo>
                <a:lnTo>
                  <a:pt x="41" y="150"/>
                </a:lnTo>
                <a:lnTo>
                  <a:pt x="41" y="167"/>
                </a:lnTo>
                <a:lnTo>
                  <a:pt x="41" y="185"/>
                </a:lnTo>
                <a:lnTo>
                  <a:pt x="41" y="202"/>
                </a:lnTo>
                <a:lnTo>
                  <a:pt x="41" y="219"/>
                </a:lnTo>
                <a:lnTo>
                  <a:pt x="41" y="237"/>
                </a:lnTo>
                <a:lnTo>
                  <a:pt x="41" y="254"/>
                </a:lnTo>
                <a:lnTo>
                  <a:pt x="23" y="266"/>
                </a:lnTo>
                <a:lnTo>
                  <a:pt x="12" y="283"/>
                </a:lnTo>
                <a:lnTo>
                  <a:pt x="0" y="300"/>
                </a:lnTo>
                <a:lnTo>
                  <a:pt x="0" y="323"/>
                </a:lnTo>
                <a:lnTo>
                  <a:pt x="0" y="341"/>
                </a:lnTo>
                <a:lnTo>
                  <a:pt x="6" y="358"/>
                </a:lnTo>
                <a:lnTo>
                  <a:pt x="6" y="375"/>
                </a:lnTo>
                <a:lnTo>
                  <a:pt x="6" y="399"/>
                </a:lnTo>
                <a:lnTo>
                  <a:pt x="6" y="416"/>
                </a:lnTo>
                <a:lnTo>
                  <a:pt x="6" y="433"/>
                </a:lnTo>
                <a:lnTo>
                  <a:pt x="12" y="451"/>
                </a:lnTo>
                <a:lnTo>
                  <a:pt x="29" y="456"/>
                </a:lnTo>
                <a:lnTo>
                  <a:pt x="35" y="474"/>
                </a:lnTo>
                <a:lnTo>
                  <a:pt x="35" y="491"/>
                </a:lnTo>
                <a:lnTo>
                  <a:pt x="35" y="526"/>
                </a:lnTo>
                <a:lnTo>
                  <a:pt x="35" y="543"/>
                </a:lnTo>
                <a:lnTo>
                  <a:pt x="35" y="560"/>
                </a:lnTo>
                <a:lnTo>
                  <a:pt x="41" y="578"/>
                </a:lnTo>
                <a:lnTo>
                  <a:pt x="52" y="595"/>
                </a:lnTo>
                <a:lnTo>
                  <a:pt x="64" y="618"/>
                </a:lnTo>
                <a:lnTo>
                  <a:pt x="64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4319640"/>
            <a:ext cx="165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432160" y="3741840"/>
            <a:ext cx="55440" cy="66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34" y="0"/>
                </a:moveTo>
                <a:lnTo>
                  <a:pt x="34" y="23"/>
                </a:lnTo>
                <a:lnTo>
                  <a:pt x="23" y="41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2412720" y="3807000"/>
            <a:ext cx="1908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13000" y="3943440"/>
            <a:ext cx="138240" cy="387360"/>
          </a:xfrm>
          <a:custGeom>
            <a:avLst/>
            <a:gdLst/>
            <a:ahLst/>
            <a:rect l="l" t="t" r="r" b="b"/>
            <a:pathLst>
              <a:path w="87" h="244">
                <a:moveTo>
                  <a:pt x="47" y="0"/>
                </a:moveTo>
                <a:lnTo>
                  <a:pt x="57" y="22"/>
                </a:lnTo>
                <a:lnTo>
                  <a:pt x="57" y="40"/>
                </a:lnTo>
                <a:lnTo>
                  <a:pt x="57" y="56"/>
                </a:lnTo>
                <a:lnTo>
                  <a:pt x="67" y="73"/>
                </a:lnTo>
                <a:lnTo>
                  <a:pt x="77" y="96"/>
                </a:lnTo>
                <a:lnTo>
                  <a:pt x="86" y="113"/>
                </a:lnTo>
                <a:lnTo>
                  <a:pt x="67" y="129"/>
                </a:lnTo>
                <a:lnTo>
                  <a:pt x="57" y="147"/>
                </a:lnTo>
                <a:lnTo>
                  <a:pt x="38" y="163"/>
                </a:lnTo>
                <a:lnTo>
                  <a:pt x="38" y="180"/>
                </a:lnTo>
                <a:lnTo>
                  <a:pt x="57" y="198"/>
                </a:lnTo>
                <a:lnTo>
                  <a:pt x="38" y="214"/>
                </a:lnTo>
                <a:lnTo>
                  <a:pt x="19" y="231"/>
                </a:lnTo>
                <a:lnTo>
                  <a:pt x="0" y="2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751120" y="4430880"/>
            <a:ext cx="18576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86080" y="4311720"/>
            <a:ext cx="4222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576520"/>
            <a:ext cx="54108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431800" y="2365200"/>
            <a:ext cx="36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74760" y="2263680"/>
            <a:ext cx="330480" cy="8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05240" y="2355840"/>
            <a:ext cx="468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13000" y="2649600"/>
            <a:ext cx="147600" cy="441360"/>
          </a:xfrm>
          <a:custGeom>
            <a:avLst/>
            <a:gdLst/>
            <a:ahLst/>
            <a:rect l="l" t="t" r="r" b="b"/>
            <a:pathLst>
              <a:path w="93" h="278">
                <a:moveTo>
                  <a:pt x="75" y="0"/>
                </a:moveTo>
                <a:lnTo>
                  <a:pt x="92" y="23"/>
                </a:lnTo>
                <a:lnTo>
                  <a:pt x="86" y="40"/>
                </a:lnTo>
                <a:lnTo>
                  <a:pt x="75" y="58"/>
                </a:lnTo>
                <a:lnTo>
                  <a:pt x="63" y="75"/>
                </a:lnTo>
                <a:lnTo>
                  <a:pt x="52" y="92"/>
                </a:lnTo>
                <a:lnTo>
                  <a:pt x="34" y="110"/>
                </a:lnTo>
                <a:lnTo>
                  <a:pt x="28" y="127"/>
                </a:lnTo>
                <a:lnTo>
                  <a:pt x="28" y="144"/>
                </a:lnTo>
                <a:lnTo>
                  <a:pt x="28" y="162"/>
                </a:lnTo>
                <a:lnTo>
                  <a:pt x="28" y="179"/>
                </a:lnTo>
                <a:lnTo>
                  <a:pt x="28" y="225"/>
                </a:lnTo>
                <a:lnTo>
                  <a:pt x="23" y="243"/>
                </a:lnTo>
                <a:lnTo>
                  <a:pt x="17" y="260"/>
                </a:lnTo>
                <a:lnTo>
                  <a:pt x="11" y="272"/>
                </a:lnTo>
                <a:lnTo>
                  <a:pt x="0" y="2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23960" y="2373480"/>
            <a:ext cx="358920" cy="571320"/>
          </a:xfrm>
          <a:custGeom>
            <a:avLst/>
            <a:gdLst/>
            <a:ahLst/>
            <a:rect l="l" t="t" r="r" b="b"/>
            <a:pathLst>
              <a:path w="226" h="360">
                <a:moveTo>
                  <a:pt x="5" y="0"/>
                </a:moveTo>
                <a:lnTo>
                  <a:pt x="5" y="23"/>
                </a:lnTo>
                <a:lnTo>
                  <a:pt x="5" y="40"/>
                </a:lnTo>
                <a:lnTo>
                  <a:pt x="0" y="57"/>
                </a:lnTo>
                <a:lnTo>
                  <a:pt x="0" y="74"/>
                </a:lnTo>
                <a:lnTo>
                  <a:pt x="0" y="91"/>
                </a:lnTo>
                <a:lnTo>
                  <a:pt x="0" y="108"/>
                </a:lnTo>
                <a:lnTo>
                  <a:pt x="17" y="119"/>
                </a:lnTo>
                <a:lnTo>
                  <a:pt x="23" y="136"/>
                </a:lnTo>
                <a:lnTo>
                  <a:pt x="28" y="154"/>
                </a:lnTo>
                <a:lnTo>
                  <a:pt x="46" y="171"/>
                </a:lnTo>
                <a:lnTo>
                  <a:pt x="52" y="187"/>
                </a:lnTo>
                <a:lnTo>
                  <a:pt x="57" y="205"/>
                </a:lnTo>
                <a:lnTo>
                  <a:pt x="52" y="222"/>
                </a:lnTo>
                <a:lnTo>
                  <a:pt x="52" y="239"/>
                </a:lnTo>
                <a:lnTo>
                  <a:pt x="69" y="250"/>
                </a:lnTo>
                <a:lnTo>
                  <a:pt x="81" y="267"/>
                </a:lnTo>
                <a:lnTo>
                  <a:pt x="98" y="273"/>
                </a:lnTo>
                <a:lnTo>
                  <a:pt x="104" y="290"/>
                </a:lnTo>
                <a:lnTo>
                  <a:pt x="109" y="307"/>
                </a:lnTo>
                <a:lnTo>
                  <a:pt x="115" y="324"/>
                </a:lnTo>
                <a:lnTo>
                  <a:pt x="121" y="359"/>
                </a:lnTo>
                <a:lnTo>
                  <a:pt x="127" y="341"/>
                </a:lnTo>
                <a:lnTo>
                  <a:pt x="144" y="341"/>
                </a:lnTo>
                <a:lnTo>
                  <a:pt x="167" y="341"/>
                </a:lnTo>
                <a:lnTo>
                  <a:pt x="190" y="336"/>
                </a:lnTo>
                <a:lnTo>
                  <a:pt x="225" y="336"/>
                </a:lnTo>
                <a:lnTo>
                  <a:pt x="219" y="33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5560" y="243828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58" y="0"/>
                </a:moveTo>
                <a:lnTo>
                  <a:pt x="58" y="23"/>
                </a:lnTo>
                <a:lnTo>
                  <a:pt x="58" y="40"/>
                </a:lnTo>
                <a:lnTo>
                  <a:pt x="52" y="58"/>
                </a:lnTo>
                <a:lnTo>
                  <a:pt x="35" y="75"/>
                </a:lnTo>
                <a:lnTo>
                  <a:pt x="23" y="92"/>
                </a:lnTo>
                <a:lnTo>
                  <a:pt x="23" y="110"/>
                </a:lnTo>
                <a:lnTo>
                  <a:pt x="0" y="116"/>
                </a:lnTo>
                <a:lnTo>
                  <a:pt x="0" y="1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568520" y="3843000"/>
            <a:ext cx="284040" cy="11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219320" y="2833560"/>
            <a:ext cx="156960" cy="182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101680" y="4484520"/>
            <a:ext cx="247680" cy="1573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92400" y="3438360"/>
            <a:ext cx="8280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72080" y="3300480"/>
            <a:ext cx="1188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322800" y="3209400"/>
            <a:ext cx="174600" cy="17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9200" y="3236760"/>
            <a:ext cx="10980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138120" y="3255840"/>
            <a:ext cx="119160" cy="119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121200" y="3429000"/>
            <a:ext cx="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29120" y="3659040"/>
            <a:ext cx="45720" cy="155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86080" y="3889440"/>
            <a:ext cx="11916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97400" y="3998880"/>
            <a:ext cx="99720" cy="82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4384800"/>
            <a:ext cx="0" cy="9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441160" y="4559400"/>
            <a:ext cx="63720" cy="182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2192400" y="4807080"/>
            <a:ext cx="156960" cy="91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1889280" y="4566960"/>
            <a:ext cx="72720" cy="266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889280" y="4302000"/>
            <a:ext cx="110880" cy="1922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82960" y="4282920"/>
            <a:ext cx="17460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30280" y="4309920"/>
            <a:ext cx="147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63800" y="4081320"/>
            <a:ext cx="3672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2046240" y="3897000"/>
            <a:ext cx="55440" cy="74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468520" y="3052440"/>
            <a:ext cx="3672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303640" y="3282840"/>
            <a:ext cx="11880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68520" y="3998880"/>
            <a:ext cx="6372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3240" y="4695840"/>
            <a:ext cx="13824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89280" y="2933640"/>
            <a:ext cx="155520" cy="2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29040" y="3006720"/>
            <a:ext cx="109440" cy="38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1447560" y="2878200"/>
            <a:ext cx="230040" cy="28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30200" y="2328840"/>
            <a:ext cx="73080" cy="136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2587680" y="4613040"/>
            <a:ext cx="46080" cy="3222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9440" y="4935600"/>
            <a:ext cx="184320" cy="73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313000" y="3797280"/>
            <a:ext cx="109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284560" y="3879720"/>
            <a:ext cx="16488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 flipV="1">
            <a:off x="2329920" y="3511440"/>
            <a:ext cx="119160" cy="3859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267000" y="3979800"/>
            <a:ext cx="36720" cy="101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230360" y="4192560"/>
            <a:ext cx="166680" cy="257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20340000">
            <a:off x="1772640" y="2745360"/>
            <a:ext cx="871560" cy="29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8880" y="3200400"/>
            <a:ext cx="164880" cy="284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332240" y="3180960"/>
            <a:ext cx="5544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900240" y="2448000"/>
            <a:ext cx="12852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3671640" y="2328840"/>
            <a:ext cx="136440" cy="44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 flipV="1">
            <a:off x="3478320" y="2290320"/>
            <a:ext cx="118800" cy="19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3266640" y="2208240"/>
            <a:ext cx="165240" cy="55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065400" y="2190600"/>
            <a:ext cx="14616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817720" y="2200320"/>
            <a:ext cx="15552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60320" y="2273400"/>
            <a:ext cx="191880" cy="145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2312640" y="2465280"/>
            <a:ext cx="173160" cy="101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009880" y="2639880"/>
            <a:ext cx="1648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770120" y="2768760"/>
            <a:ext cx="156960" cy="824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92320" y="2639880"/>
            <a:ext cx="101520" cy="1652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30200" y="2860560"/>
            <a:ext cx="7308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276640" y="2236680"/>
            <a:ext cx="257040" cy="14760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174760" y="2244600"/>
            <a:ext cx="10980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28760" y="2227320"/>
            <a:ext cx="1144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40000" y="2263680"/>
            <a:ext cx="4608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88480" y="3768840"/>
            <a:ext cx="27000" cy="2761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917640" y="3722400"/>
            <a:ext cx="14616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915840" y="3850920"/>
            <a:ext cx="74880" cy="28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494000" y="4522680"/>
            <a:ext cx="295200" cy="154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79480" y="4522680"/>
            <a:ext cx="119160" cy="1936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863440" y="1868400"/>
            <a:ext cx="228600" cy="65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38120" y="2639880"/>
            <a:ext cx="312840" cy="73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38120" y="2465280"/>
            <a:ext cx="972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13000" y="2475000"/>
            <a:ext cx="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67000" y="2502000"/>
            <a:ext cx="9360" cy="1569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36520" y="4816440"/>
            <a:ext cx="11916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98560" y="4605480"/>
            <a:ext cx="155520" cy="11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8440" y="406404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30240" y="301320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2606760" y="4191120"/>
            <a:ext cx="100080" cy="101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07920" y="1887480"/>
            <a:ext cx="219240" cy="2937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925560" y="1805040"/>
            <a:ext cx="55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971640" y="1841040"/>
            <a:ext cx="6516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998640" y="1906560"/>
            <a:ext cx="65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1120" y="1822320"/>
            <a:ext cx="11916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38400" y="1805040"/>
            <a:ext cx="2286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066000" y="5324400"/>
            <a:ext cx="2552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700 MB COMPO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952880" y="1766880"/>
            <a:ext cx="3603600" cy="3460680"/>
            <a:chOff x="4952880" y="1766880"/>
            <a:chExt cx="3603600" cy="3460680"/>
          </a:xfrm>
        </p:grpSpPr>
        <p:sp>
          <p:nvSpPr>
            <p:cNvPr id="1385" name=""/>
            <p:cNvSpPr/>
            <p:nvPr/>
          </p:nvSpPr>
          <p:spPr>
            <a:xfrm>
              <a:off x="4968720" y="1770120"/>
              <a:ext cx="3587760" cy="345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3"/>
            <a:stretch/>
          </p:blipFill>
          <p:spPr>
            <a:xfrm>
              <a:off x="4952880" y="1766880"/>
              <a:ext cx="346716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5691240" y="179388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60000">
              <a:off x="5837040" y="3780000"/>
              <a:ext cx="701640" cy="2617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97320" y="1841400"/>
              <a:ext cx="1543320" cy="460440"/>
            </a:xfrm>
            <a:custGeom>
              <a:avLst/>
              <a:gdLst/>
              <a:ahLst/>
              <a:rect l="l" t="t" r="r" b="b"/>
              <a:pathLst>
                <a:path w="972" h="290">
                  <a:moveTo>
                    <a:pt x="971" y="87"/>
                  </a:moveTo>
                  <a:lnTo>
                    <a:pt x="948" y="87"/>
                  </a:lnTo>
                  <a:lnTo>
                    <a:pt x="931" y="87"/>
                  </a:lnTo>
                  <a:lnTo>
                    <a:pt x="914" y="93"/>
                  </a:lnTo>
                  <a:lnTo>
                    <a:pt x="896" y="104"/>
                  </a:lnTo>
                  <a:lnTo>
                    <a:pt x="879" y="110"/>
                  </a:lnTo>
                  <a:lnTo>
                    <a:pt x="856" y="128"/>
                  </a:lnTo>
                  <a:lnTo>
                    <a:pt x="838" y="133"/>
                  </a:lnTo>
                  <a:lnTo>
                    <a:pt x="804" y="139"/>
                  </a:lnTo>
                  <a:lnTo>
                    <a:pt x="781" y="145"/>
                  </a:lnTo>
                  <a:lnTo>
                    <a:pt x="757" y="156"/>
                  </a:lnTo>
                  <a:lnTo>
                    <a:pt x="740" y="162"/>
                  </a:lnTo>
                  <a:lnTo>
                    <a:pt x="723" y="168"/>
                  </a:lnTo>
                  <a:lnTo>
                    <a:pt x="688" y="180"/>
                  </a:lnTo>
                  <a:lnTo>
                    <a:pt x="642" y="185"/>
                  </a:lnTo>
                  <a:lnTo>
                    <a:pt x="624" y="191"/>
                  </a:lnTo>
                  <a:lnTo>
                    <a:pt x="601" y="203"/>
                  </a:lnTo>
                  <a:lnTo>
                    <a:pt x="578" y="214"/>
                  </a:lnTo>
                  <a:lnTo>
                    <a:pt x="561" y="220"/>
                  </a:lnTo>
                  <a:lnTo>
                    <a:pt x="538" y="232"/>
                  </a:lnTo>
                  <a:lnTo>
                    <a:pt x="514" y="249"/>
                  </a:lnTo>
                  <a:lnTo>
                    <a:pt x="491" y="255"/>
                  </a:lnTo>
                  <a:lnTo>
                    <a:pt x="474" y="261"/>
                  </a:lnTo>
                  <a:lnTo>
                    <a:pt x="451" y="272"/>
                  </a:lnTo>
                  <a:lnTo>
                    <a:pt x="405" y="284"/>
                  </a:lnTo>
                  <a:lnTo>
                    <a:pt x="387" y="289"/>
                  </a:lnTo>
                  <a:lnTo>
                    <a:pt x="364" y="289"/>
                  </a:lnTo>
                  <a:lnTo>
                    <a:pt x="347" y="289"/>
                  </a:lnTo>
                  <a:lnTo>
                    <a:pt x="300" y="289"/>
                  </a:lnTo>
                  <a:lnTo>
                    <a:pt x="277" y="272"/>
                  </a:lnTo>
                  <a:lnTo>
                    <a:pt x="243" y="266"/>
                  </a:lnTo>
                  <a:lnTo>
                    <a:pt x="231" y="249"/>
                  </a:lnTo>
                  <a:lnTo>
                    <a:pt x="214" y="237"/>
                  </a:lnTo>
                  <a:lnTo>
                    <a:pt x="191" y="191"/>
                  </a:lnTo>
                  <a:lnTo>
                    <a:pt x="173" y="168"/>
                  </a:lnTo>
                  <a:lnTo>
                    <a:pt x="162" y="151"/>
                  </a:lnTo>
                  <a:lnTo>
                    <a:pt x="144" y="128"/>
                  </a:lnTo>
                  <a:lnTo>
                    <a:pt x="127" y="110"/>
                  </a:lnTo>
                  <a:lnTo>
                    <a:pt x="104" y="87"/>
                  </a:lnTo>
                  <a:lnTo>
                    <a:pt x="86" y="76"/>
                  </a:lnTo>
                  <a:lnTo>
                    <a:pt x="69" y="58"/>
                  </a:lnTo>
                  <a:lnTo>
                    <a:pt x="52" y="47"/>
                  </a:lnTo>
                  <a:lnTo>
                    <a:pt x="34" y="29"/>
                  </a:lnTo>
                  <a:lnTo>
                    <a:pt x="17" y="1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3640" y="2227320"/>
              <a:ext cx="2030400" cy="469800"/>
            </a:xfrm>
            <a:custGeom>
              <a:avLst/>
              <a:gdLst/>
              <a:ahLst/>
              <a:rect l="l" t="t" r="r" b="b"/>
              <a:pathLst>
                <a:path w="1279" h="296">
                  <a:moveTo>
                    <a:pt x="1278" y="0"/>
                  </a:moveTo>
                  <a:lnTo>
                    <a:pt x="1255" y="6"/>
                  </a:lnTo>
                  <a:lnTo>
                    <a:pt x="1238" y="6"/>
                  </a:lnTo>
                  <a:lnTo>
                    <a:pt x="1221" y="12"/>
                  </a:lnTo>
                  <a:lnTo>
                    <a:pt x="1203" y="18"/>
                  </a:lnTo>
                  <a:lnTo>
                    <a:pt x="1186" y="23"/>
                  </a:lnTo>
                  <a:lnTo>
                    <a:pt x="1163" y="35"/>
                  </a:lnTo>
                  <a:lnTo>
                    <a:pt x="1145" y="46"/>
                  </a:lnTo>
                  <a:lnTo>
                    <a:pt x="1111" y="58"/>
                  </a:lnTo>
                  <a:lnTo>
                    <a:pt x="1064" y="64"/>
                  </a:lnTo>
                  <a:lnTo>
                    <a:pt x="1041" y="81"/>
                  </a:lnTo>
                  <a:lnTo>
                    <a:pt x="1024" y="93"/>
                  </a:lnTo>
                  <a:lnTo>
                    <a:pt x="1007" y="99"/>
                  </a:lnTo>
                  <a:lnTo>
                    <a:pt x="989" y="104"/>
                  </a:lnTo>
                  <a:lnTo>
                    <a:pt x="966" y="122"/>
                  </a:lnTo>
                  <a:lnTo>
                    <a:pt x="943" y="122"/>
                  </a:lnTo>
                  <a:lnTo>
                    <a:pt x="926" y="139"/>
                  </a:lnTo>
                  <a:lnTo>
                    <a:pt x="868" y="179"/>
                  </a:lnTo>
                  <a:lnTo>
                    <a:pt x="822" y="185"/>
                  </a:lnTo>
                  <a:lnTo>
                    <a:pt x="804" y="203"/>
                  </a:lnTo>
                  <a:lnTo>
                    <a:pt x="787" y="214"/>
                  </a:lnTo>
                  <a:lnTo>
                    <a:pt x="769" y="220"/>
                  </a:lnTo>
                  <a:lnTo>
                    <a:pt x="752" y="226"/>
                  </a:lnTo>
                  <a:lnTo>
                    <a:pt x="735" y="232"/>
                  </a:lnTo>
                  <a:lnTo>
                    <a:pt x="717" y="243"/>
                  </a:lnTo>
                  <a:lnTo>
                    <a:pt x="700" y="249"/>
                  </a:lnTo>
                  <a:lnTo>
                    <a:pt x="683" y="255"/>
                  </a:lnTo>
                  <a:lnTo>
                    <a:pt x="665" y="260"/>
                  </a:lnTo>
                  <a:lnTo>
                    <a:pt x="631" y="272"/>
                  </a:lnTo>
                  <a:lnTo>
                    <a:pt x="608" y="272"/>
                  </a:lnTo>
                  <a:lnTo>
                    <a:pt x="590" y="278"/>
                  </a:lnTo>
                  <a:lnTo>
                    <a:pt x="573" y="284"/>
                  </a:lnTo>
                  <a:lnTo>
                    <a:pt x="550" y="289"/>
                  </a:lnTo>
                  <a:lnTo>
                    <a:pt x="532" y="289"/>
                  </a:lnTo>
                  <a:lnTo>
                    <a:pt x="515" y="295"/>
                  </a:lnTo>
                  <a:lnTo>
                    <a:pt x="498" y="295"/>
                  </a:lnTo>
                  <a:lnTo>
                    <a:pt x="463" y="295"/>
                  </a:lnTo>
                  <a:lnTo>
                    <a:pt x="440" y="295"/>
                  </a:lnTo>
                  <a:lnTo>
                    <a:pt x="422" y="289"/>
                  </a:lnTo>
                  <a:lnTo>
                    <a:pt x="388" y="284"/>
                  </a:lnTo>
                  <a:lnTo>
                    <a:pt x="370" y="278"/>
                  </a:lnTo>
                  <a:lnTo>
                    <a:pt x="353" y="272"/>
                  </a:lnTo>
                  <a:lnTo>
                    <a:pt x="336" y="266"/>
                  </a:lnTo>
                  <a:lnTo>
                    <a:pt x="295" y="255"/>
                  </a:lnTo>
                  <a:lnTo>
                    <a:pt x="260" y="255"/>
                  </a:lnTo>
                  <a:lnTo>
                    <a:pt x="249" y="237"/>
                  </a:lnTo>
                  <a:lnTo>
                    <a:pt x="243" y="220"/>
                  </a:lnTo>
                  <a:lnTo>
                    <a:pt x="226" y="208"/>
                  </a:lnTo>
                  <a:lnTo>
                    <a:pt x="208" y="197"/>
                  </a:lnTo>
                  <a:lnTo>
                    <a:pt x="191" y="185"/>
                  </a:lnTo>
                  <a:lnTo>
                    <a:pt x="179" y="168"/>
                  </a:lnTo>
                  <a:lnTo>
                    <a:pt x="162" y="162"/>
                  </a:lnTo>
                  <a:lnTo>
                    <a:pt x="151" y="145"/>
                  </a:lnTo>
                  <a:lnTo>
                    <a:pt x="133" y="127"/>
                  </a:lnTo>
                  <a:lnTo>
                    <a:pt x="116" y="122"/>
                  </a:lnTo>
                  <a:lnTo>
                    <a:pt x="104" y="104"/>
                  </a:lnTo>
                  <a:lnTo>
                    <a:pt x="64" y="99"/>
                  </a:lnTo>
                  <a:lnTo>
                    <a:pt x="46" y="81"/>
                  </a:lnTo>
                  <a:lnTo>
                    <a:pt x="35" y="64"/>
                  </a:lnTo>
                  <a:lnTo>
                    <a:pt x="12" y="41"/>
                  </a:lnTo>
                  <a:lnTo>
                    <a:pt x="0" y="2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48200" y="4495680"/>
              <a:ext cx="443160" cy="45108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39" y="7"/>
                  </a:moveTo>
                  <a:lnTo>
                    <a:pt x="113" y="0"/>
                  </a:lnTo>
                  <a:lnTo>
                    <a:pt x="92" y="0"/>
                  </a:lnTo>
                  <a:lnTo>
                    <a:pt x="73" y="14"/>
                  </a:lnTo>
                  <a:lnTo>
                    <a:pt x="53" y="34"/>
                  </a:lnTo>
                  <a:lnTo>
                    <a:pt x="40" y="54"/>
                  </a:lnTo>
                  <a:lnTo>
                    <a:pt x="33" y="76"/>
                  </a:lnTo>
                  <a:lnTo>
                    <a:pt x="13" y="96"/>
                  </a:lnTo>
                  <a:lnTo>
                    <a:pt x="6" y="117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0" y="179"/>
                  </a:lnTo>
                  <a:lnTo>
                    <a:pt x="0" y="200"/>
                  </a:lnTo>
                  <a:lnTo>
                    <a:pt x="0" y="220"/>
                  </a:lnTo>
                  <a:lnTo>
                    <a:pt x="6" y="241"/>
                  </a:lnTo>
                  <a:lnTo>
                    <a:pt x="26" y="255"/>
                  </a:lnTo>
                  <a:lnTo>
                    <a:pt x="46" y="262"/>
                  </a:lnTo>
                  <a:lnTo>
                    <a:pt x="66" y="268"/>
                  </a:lnTo>
                  <a:lnTo>
                    <a:pt x="86" y="275"/>
                  </a:lnTo>
                  <a:lnTo>
                    <a:pt x="106" y="283"/>
                  </a:lnTo>
                  <a:lnTo>
                    <a:pt x="125" y="283"/>
                  </a:lnTo>
                  <a:lnTo>
                    <a:pt x="146" y="283"/>
                  </a:lnTo>
                  <a:lnTo>
                    <a:pt x="165" y="283"/>
                  </a:lnTo>
                  <a:lnTo>
                    <a:pt x="185" y="283"/>
                  </a:lnTo>
                  <a:lnTo>
                    <a:pt x="205" y="275"/>
                  </a:lnTo>
                  <a:lnTo>
                    <a:pt x="218" y="255"/>
                  </a:lnTo>
                  <a:lnTo>
                    <a:pt x="239" y="241"/>
                  </a:lnTo>
                  <a:lnTo>
                    <a:pt x="244" y="220"/>
                  </a:lnTo>
                  <a:lnTo>
                    <a:pt x="258" y="200"/>
                  </a:lnTo>
                  <a:lnTo>
                    <a:pt x="265" y="179"/>
                  </a:lnTo>
                  <a:lnTo>
                    <a:pt x="271" y="158"/>
                  </a:lnTo>
                  <a:lnTo>
                    <a:pt x="278" y="138"/>
                  </a:lnTo>
                  <a:lnTo>
                    <a:pt x="278" y="117"/>
                  </a:lnTo>
                  <a:lnTo>
                    <a:pt x="278" y="96"/>
                  </a:lnTo>
                  <a:lnTo>
                    <a:pt x="278" y="76"/>
                  </a:lnTo>
                  <a:lnTo>
                    <a:pt x="265" y="54"/>
                  </a:lnTo>
                  <a:lnTo>
                    <a:pt x="244" y="4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23080" y="2705040"/>
              <a:ext cx="1753920" cy="2351160"/>
            </a:xfrm>
            <a:custGeom>
              <a:avLst/>
              <a:gdLst/>
              <a:ahLst/>
              <a:rect l="l" t="t" r="r" b="b"/>
              <a:pathLst>
                <a:path w="1105" h="1481">
                  <a:moveTo>
                    <a:pt x="1104" y="6"/>
                  </a:moveTo>
                  <a:lnTo>
                    <a:pt x="1081" y="0"/>
                  </a:lnTo>
                  <a:lnTo>
                    <a:pt x="1064" y="0"/>
                  </a:lnTo>
                  <a:lnTo>
                    <a:pt x="1047" y="0"/>
                  </a:lnTo>
                  <a:lnTo>
                    <a:pt x="1029" y="6"/>
                  </a:lnTo>
                  <a:lnTo>
                    <a:pt x="1012" y="6"/>
                  </a:lnTo>
                  <a:lnTo>
                    <a:pt x="994" y="6"/>
                  </a:lnTo>
                  <a:lnTo>
                    <a:pt x="977" y="6"/>
                  </a:lnTo>
                  <a:lnTo>
                    <a:pt x="960" y="11"/>
                  </a:lnTo>
                  <a:lnTo>
                    <a:pt x="942" y="11"/>
                  </a:lnTo>
                  <a:lnTo>
                    <a:pt x="902" y="11"/>
                  </a:lnTo>
                  <a:lnTo>
                    <a:pt x="885" y="11"/>
                  </a:lnTo>
                  <a:lnTo>
                    <a:pt x="867" y="17"/>
                  </a:lnTo>
                  <a:lnTo>
                    <a:pt x="850" y="17"/>
                  </a:lnTo>
                  <a:lnTo>
                    <a:pt x="833" y="17"/>
                  </a:lnTo>
                  <a:lnTo>
                    <a:pt x="815" y="17"/>
                  </a:lnTo>
                  <a:lnTo>
                    <a:pt x="798" y="17"/>
                  </a:lnTo>
                  <a:lnTo>
                    <a:pt x="775" y="17"/>
                  </a:lnTo>
                  <a:lnTo>
                    <a:pt x="757" y="17"/>
                  </a:lnTo>
                  <a:lnTo>
                    <a:pt x="740" y="17"/>
                  </a:lnTo>
                  <a:lnTo>
                    <a:pt x="717" y="17"/>
                  </a:lnTo>
                  <a:lnTo>
                    <a:pt x="699" y="23"/>
                  </a:lnTo>
                  <a:lnTo>
                    <a:pt x="676" y="29"/>
                  </a:lnTo>
                  <a:lnTo>
                    <a:pt x="653" y="29"/>
                  </a:lnTo>
                  <a:lnTo>
                    <a:pt x="630" y="35"/>
                  </a:lnTo>
                  <a:lnTo>
                    <a:pt x="613" y="40"/>
                  </a:lnTo>
                  <a:lnTo>
                    <a:pt x="595" y="46"/>
                  </a:lnTo>
                  <a:lnTo>
                    <a:pt x="578" y="52"/>
                  </a:lnTo>
                  <a:lnTo>
                    <a:pt x="561" y="58"/>
                  </a:lnTo>
                  <a:lnTo>
                    <a:pt x="543" y="64"/>
                  </a:lnTo>
                  <a:lnTo>
                    <a:pt x="526" y="64"/>
                  </a:lnTo>
                  <a:lnTo>
                    <a:pt x="509" y="75"/>
                  </a:lnTo>
                  <a:lnTo>
                    <a:pt x="491" y="75"/>
                  </a:lnTo>
                  <a:lnTo>
                    <a:pt x="474" y="81"/>
                  </a:lnTo>
                  <a:lnTo>
                    <a:pt x="457" y="87"/>
                  </a:lnTo>
                  <a:lnTo>
                    <a:pt x="439" y="87"/>
                  </a:lnTo>
                  <a:lnTo>
                    <a:pt x="422" y="92"/>
                  </a:lnTo>
                  <a:lnTo>
                    <a:pt x="399" y="104"/>
                  </a:lnTo>
                  <a:lnTo>
                    <a:pt x="381" y="104"/>
                  </a:lnTo>
                  <a:lnTo>
                    <a:pt x="364" y="110"/>
                  </a:lnTo>
                  <a:lnTo>
                    <a:pt x="347" y="121"/>
                  </a:lnTo>
                  <a:lnTo>
                    <a:pt x="329" y="127"/>
                  </a:lnTo>
                  <a:lnTo>
                    <a:pt x="312" y="139"/>
                  </a:lnTo>
                  <a:lnTo>
                    <a:pt x="295" y="150"/>
                  </a:lnTo>
                  <a:lnTo>
                    <a:pt x="277" y="162"/>
                  </a:lnTo>
                  <a:lnTo>
                    <a:pt x="260" y="173"/>
                  </a:lnTo>
                  <a:lnTo>
                    <a:pt x="243" y="185"/>
                  </a:lnTo>
                  <a:lnTo>
                    <a:pt x="231" y="202"/>
                  </a:lnTo>
                  <a:lnTo>
                    <a:pt x="214" y="214"/>
                  </a:lnTo>
                  <a:lnTo>
                    <a:pt x="196" y="225"/>
                  </a:lnTo>
                  <a:lnTo>
                    <a:pt x="179" y="243"/>
                  </a:lnTo>
                  <a:lnTo>
                    <a:pt x="167" y="260"/>
                  </a:lnTo>
                  <a:lnTo>
                    <a:pt x="150" y="272"/>
                  </a:lnTo>
                  <a:lnTo>
                    <a:pt x="138" y="289"/>
                  </a:lnTo>
                  <a:lnTo>
                    <a:pt x="121" y="301"/>
                  </a:lnTo>
                  <a:lnTo>
                    <a:pt x="104" y="318"/>
                  </a:lnTo>
                  <a:lnTo>
                    <a:pt x="86" y="341"/>
                  </a:lnTo>
                  <a:lnTo>
                    <a:pt x="69" y="358"/>
                  </a:lnTo>
                  <a:lnTo>
                    <a:pt x="57" y="376"/>
                  </a:lnTo>
                  <a:lnTo>
                    <a:pt x="52" y="393"/>
                  </a:lnTo>
                  <a:lnTo>
                    <a:pt x="46" y="410"/>
                  </a:lnTo>
                  <a:lnTo>
                    <a:pt x="34" y="434"/>
                  </a:lnTo>
                  <a:lnTo>
                    <a:pt x="29" y="451"/>
                  </a:lnTo>
                  <a:lnTo>
                    <a:pt x="23" y="468"/>
                  </a:lnTo>
                  <a:lnTo>
                    <a:pt x="17" y="486"/>
                  </a:lnTo>
                  <a:lnTo>
                    <a:pt x="11" y="503"/>
                  </a:lnTo>
                  <a:lnTo>
                    <a:pt x="5" y="526"/>
                  </a:lnTo>
                  <a:lnTo>
                    <a:pt x="5" y="543"/>
                  </a:lnTo>
                  <a:lnTo>
                    <a:pt x="0" y="561"/>
                  </a:lnTo>
                  <a:lnTo>
                    <a:pt x="0" y="584"/>
                  </a:lnTo>
                  <a:lnTo>
                    <a:pt x="0" y="601"/>
                  </a:lnTo>
                  <a:lnTo>
                    <a:pt x="5" y="619"/>
                  </a:lnTo>
                  <a:lnTo>
                    <a:pt x="11" y="636"/>
                  </a:lnTo>
                  <a:lnTo>
                    <a:pt x="23" y="659"/>
                  </a:lnTo>
                  <a:lnTo>
                    <a:pt x="29" y="682"/>
                  </a:lnTo>
                  <a:lnTo>
                    <a:pt x="40" y="700"/>
                  </a:lnTo>
                  <a:lnTo>
                    <a:pt x="57" y="717"/>
                  </a:lnTo>
                  <a:lnTo>
                    <a:pt x="63" y="734"/>
                  </a:lnTo>
                  <a:lnTo>
                    <a:pt x="69" y="752"/>
                  </a:lnTo>
                  <a:lnTo>
                    <a:pt x="81" y="769"/>
                  </a:lnTo>
                  <a:lnTo>
                    <a:pt x="86" y="786"/>
                  </a:lnTo>
                  <a:lnTo>
                    <a:pt x="92" y="804"/>
                  </a:lnTo>
                  <a:lnTo>
                    <a:pt x="109" y="821"/>
                  </a:lnTo>
                  <a:lnTo>
                    <a:pt x="115" y="838"/>
                  </a:lnTo>
                  <a:lnTo>
                    <a:pt x="133" y="856"/>
                  </a:lnTo>
                  <a:lnTo>
                    <a:pt x="150" y="873"/>
                  </a:lnTo>
                  <a:lnTo>
                    <a:pt x="162" y="890"/>
                  </a:lnTo>
                  <a:lnTo>
                    <a:pt x="179" y="902"/>
                  </a:lnTo>
                  <a:lnTo>
                    <a:pt x="196" y="914"/>
                  </a:lnTo>
                  <a:lnTo>
                    <a:pt x="208" y="931"/>
                  </a:lnTo>
                  <a:lnTo>
                    <a:pt x="225" y="942"/>
                  </a:lnTo>
                  <a:lnTo>
                    <a:pt x="243" y="960"/>
                  </a:lnTo>
                  <a:lnTo>
                    <a:pt x="254" y="977"/>
                  </a:lnTo>
                  <a:lnTo>
                    <a:pt x="271" y="995"/>
                  </a:lnTo>
                  <a:lnTo>
                    <a:pt x="289" y="1012"/>
                  </a:lnTo>
                  <a:lnTo>
                    <a:pt x="306" y="1029"/>
                  </a:lnTo>
                  <a:lnTo>
                    <a:pt x="341" y="1064"/>
                  </a:lnTo>
                  <a:lnTo>
                    <a:pt x="358" y="1087"/>
                  </a:lnTo>
                  <a:lnTo>
                    <a:pt x="376" y="1099"/>
                  </a:lnTo>
                  <a:lnTo>
                    <a:pt x="381" y="1116"/>
                  </a:lnTo>
                  <a:lnTo>
                    <a:pt x="399" y="1133"/>
                  </a:lnTo>
                  <a:lnTo>
                    <a:pt x="416" y="1145"/>
                  </a:lnTo>
                  <a:lnTo>
                    <a:pt x="433" y="1162"/>
                  </a:lnTo>
                  <a:lnTo>
                    <a:pt x="445" y="1180"/>
                  </a:lnTo>
                  <a:lnTo>
                    <a:pt x="462" y="1191"/>
                  </a:lnTo>
                  <a:lnTo>
                    <a:pt x="480" y="1208"/>
                  </a:lnTo>
                  <a:lnTo>
                    <a:pt x="514" y="1220"/>
                  </a:lnTo>
                  <a:lnTo>
                    <a:pt x="526" y="1237"/>
                  </a:lnTo>
                  <a:lnTo>
                    <a:pt x="543" y="1243"/>
                  </a:lnTo>
                  <a:lnTo>
                    <a:pt x="561" y="1261"/>
                  </a:lnTo>
                  <a:lnTo>
                    <a:pt x="572" y="1278"/>
                  </a:lnTo>
                  <a:lnTo>
                    <a:pt x="590" y="1289"/>
                  </a:lnTo>
                  <a:lnTo>
                    <a:pt x="607" y="1307"/>
                  </a:lnTo>
                  <a:lnTo>
                    <a:pt x="624" y="1318"/>
                  </a:lnTo>
                  <a:lnTo>
                    <a:pt x="642" y="1336"/>
                  </a:lnTo>
                  <a:lnTo>
                    <a:pt x="659" y="1347"/>
                  </a:lnTo>
                  <a:lnTo>
                    <a:pt x="676" y="1370"/>
                  </a:lnTo>
                  <a:lnTo>
                    <a:pt x="694" y="1382"/>
                  </a:lnTo>
                  <a:lnTo>
                    <a:pt x="705" y="1399"/>
                  </a:lnTo>
                  <a:lnTo>
                    <a:pt x="723" y="1417"/>
                  </a:lnTo>
                  <a:lnTo>
                    <a:pt x="734" y="1434"/>
                  </a:lnTo>
                  <a:lnTo>
                    <a:pt x="752" y="1440"/>
                  </a:lnTo>
                  <a:lnTo>
                    <a:pt x="769" y="1451"/>
                  </a:lnTo>
                  <a:lnTo>
                    <a:pt x="804" y="1469"/>
                  </a:lnTo>
                  <a:lnTo>
                    <a:pt x="827" y="1474"/>
                  </a:lnTo>
                  <a:lnTo>
                    <a:pt x="838" y="148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7464600" y="4338360"/>
              <a:ext cx="14760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7245000" y="4154040"/>
              <a:ext cx="16524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flipV="1">
              <a:off x="7061040" y="3998520"/>
              <a:ext cx="14616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flipV="1">
              <a:off x="6867000" y="3824280"/>
              <a:ext cx="14796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6592680" y="3695760"/>
              <a:ext cx="18396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6308640" y="3651120"/>
              <a:ext cx="19224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124680" y="3641760"/>
              <a:ext cx="10008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996160" y="3695760"/>
              <a:ext cx="55440" cy="28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6813360" y="461448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6537240" y="4486320"/>
              <a:ext cx="193680" cy="100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6316560" y="44038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6105600" y="4302000"/>
              <a:ext cx="15696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5986080" y="4117680"/>
              <a:ext cx="73080" cy="174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931000" y="3770280"/>
              <a:ext cx="460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40360" y="3925800"/>
              <a:ext cx="28800" cy="147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50160" y="4246560"/>
              <a:ext cx="12060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6776640" y="407304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6684840" y="3998880"/>
              <a:ext cx="5400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6519600" y="3833640"/>
              <a:ext cx="14580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6289560" y="3733560"/>
              <a:ext cx="192240" cy="36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068520" y="3733920"/>
              <a:ext cx="16524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6821280" y="4512960"/>
              <a:ext cx="22068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6527880" y="4393800"/>
              <a:ext cx="16488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6224760" y="4255560"/>
              <a:ext cx="203040" cy="10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6059160" y="4017600"/>
              <a:ext cx="8244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051600" y="3852720"/>
              <a:ext cx="17280" cy="128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7134120" y="33940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903720" y="3394080"/>
              <a:ext cx="16668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65400" y="3384720"/>
              <a:ext cx="16524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389280" y="3430440"/>
              <a:ext cx="174600" cy="46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124320" y="3503520"/>
              <a:ext cx="18396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5959440" y="3567240"/>
              <a:ext cx="100080" cy="74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821200" y="3687840"/>
              <a:ext cx="46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0920" y="3925800"/>
              <a:ext cx="17280" cy="165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04000" y="4246560"/>
              <a:ext cx="92160" cy="120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7124760" y="2943360"/>
              <a:ext cx="210960" cy="9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6886440" y="2916360"/>
              <a:ext cx="14616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6620040" y="2896920"/>
              <a:ext cx="201600" cy="19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6335640" y="2879280"/>
              <a:ext cx="184320" cy="1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160680" y="2916360"/>
              <a:ext cx="11916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986440" y="3117960"/>
              <a:ext cx="109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5848200" y="3338640"/>
              <a:ext cx="82800" cy="145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5711400" y="3632040"/>
              <a:ext cx="82440" cy="174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637240" y="3889440"/>
              <a:ext cx="46080" cy="228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27880" y="2025720"/>
              <a:ext cx="164880" cy="109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79840" y="2200320"/>
              <a:ext cx="1839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124680" y="2467080"/>
              <a:ext cx="100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5950080" y="2695680"/>
              <a:ext cx="1188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784480" y="2989440"/>
              <a:ext cx="82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5554800" y="3219480"/>
              <a:ext cx="156960" cy="220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5380200" y="3522600"/>
              <a:ext cx="11088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26280" y="333684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38760" y="1828800"/>
              <a:ext cx="68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92880" y="2806560"/>
              <a:ext cx="704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9120" y="4365720"/>
              <a:ext cx="8809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878520" y="4392720"/>
              <a:ext cx="650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6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1040" y="386244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249" y="104"/>
                  </a:moveTo>
                  <a:lnTo>
                    <a:pt x="249" y="80"/>
                  </a:lnTo>
                  <a:lnTo>
                    <a:pt x="231" y="69"/>
                  </a:lnTo>
                  <a:lnTo>
                    <a:pt x="220" y="52"/>
                  </a:lnTo>
                  <a:lnTo>
                    <a:pt x="202" y="40"/>
                  </a:lnTo>
                  <a:lnTo>
                    <a:pt x="185" y="28"/>
                  </a:lnTo>
                  <a:lnTo>
                    <a:pt x="168" y="17"/>
                  </a:lnTo>
                  <a:lnTo>
                    <a:pt x="145" y="5"/>
                  </a:lnTo>
                  <a:lnTo>
                    <a:pt x="127" y="0"/>
                  </a:lnTo>
                  <a:lnTo>
                    <a:pt x="110" y="0"/>
                  </a:lnTo>
                  <a:lnTo>
                    <a:pt x="93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35" y="17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6" y="69"/>
                  </a:lnTo>
                  <a:lnTo>
                    <a:pt x="0" y="86"/>
                  </a:lnTo>
                  <a:lnTo>
                    <a:pt x="6" y="104"/>
                  </a:lnTo>
                  <a:lnTo>
                    <a:pt x="12" y="121"/>
                  </a:lnTo>
                  <a:lnTo>
                    <a:pt x="29" y="138"/>
                  </a:lnTo>
                  <a:lnTo>
                    <a:pt x="35" y="156"/>
                  </a:lnTo>
                  <a:lnTo>
                    <a:pt x="52" y="167"/>
                  </a:lnTo>
                  <a:lnTo>
                    <a:pt x="64" y="185"/>
                  </a:lnTo>
                  <a:lnTo>
                    <a:pt x="81" y="202"/>
                  </a:lnTo>
                  <a:lnTo>
                    <a:pt x="98" y="213"/>
                  </a:lnTo>
                  <a:lnTo>
                    <a:pt x="116" y="225"/>
                  </a:lnTo>
                  <a:lnTo>
                    <a:pt x="162" y="237"/>
                  </a:lnTo>
                  <a:lnTo>
                    <a:pt x="179" y="242"/>
                  </a:lnTo>
                  <a:lnTo>
                    <a:pt x="214" y="248"/>
                  </a:lnTo>
                  <a:lnTo>
                    <a:pt x="249" y="248"/>
                  </a:lnTo>
                  <a:lnTo>
                    <a:pt x="266" y="248"/>
                  </a:lnTo>
                  <a:lnTo>
                    <a:pt x="283" y="242"/>
                  </a:lnTo>
                  <a:lnTo>
                    <a:pt x="295" y="225"/>
                  </a:lnTo>
                  <a:lnTo>
                    <a:pt x="295" y="208"/>
                  </a:lnTo>
                  <a:lnTo>
                    <a:pt x="295" y="190"/>
                  </a:lnTo>
                  <a:lnTo>
                    <a:pt x="295" y="173"/>
                  </a:lnTo>
                  <a:lnTo>
                    <a:pt x="283" y="156"/>
                  </a:lnTo>
                  <a:lnTo>
                    <a:pt x="278" y="138"/>
                  </a:lnTo>
                  <a:lnTo>
                    <a:pt x="249" y="104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66040" y="4118040"/>
              <a:ext cx="93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8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37400" y="25876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15240" y="2152800"/>
              <a:ext cx="622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48280" y="346248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02280" y="3343320"/>
              <a:ext cx="4064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7097400" y="3401640"/>
              <a:ext cx="18396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 flipV="1">
              <a:off x="6913440" y="3394080"/>
              <a:ext cx="13824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78440" y="445932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0280" y="4457880"/>
              <a:ext cx="451080" cy="185400"/>
            </a:xfrm>
            <a:custGeom>
              <a:avLst/>
              <a:gdLst/>
              <a:ahLst/>
              <a:rect l="l" t="t" r="r" b="b"/>
              <a:pathLst>
                <a:path w="284" h="117">
                  <a:moveTo>
                    <a:pt x="283" y="116"/>
                  </a:moveTo>
                  <a:lnTo>
                    <a:pt x="283" y="93"/>
                  </a:lnTo>
                  <a:lnTo>
                    <a:pt x="277" y="76"/>
                  </a:lnTo>
                  <a:lnTo>
                    <a:pt x="266" y="58"/>
                  </a:lnTo>
                  <a:lnTo>
                    <a:pt x="248" y="47"/>
                  </a:lnTo>
                  <a:lnTo>
                    <a:pt x="237" y="29"/>
                  </a:lnTo>
                  <a:lnTo>
                    <a:pt x="219" y="24"/>
                  </a:lnTo>
                  <a:lnTo>
                    <a:pt x="173" y="12"/>
                  </a:lnTo>
                  <a:lnTo>
                    <a:pt x="156" y="6"/>
                  </a:lnTo>
                  <a:lnTo>
                    <a:pt x="138" y="6"/>
                  </a:lnTo>
                  <a:lnTo>
                    <a:pt x="104" y="6"/>
                  </a:lnTo>
                  <a:lnTo>
                    <a:pt x="86" y="0"/>
                  </a:lnTo>
                  <a:lnTo>
                    <a:pt x="69" y="6"/>
                  </a:lnTo>
                  <a:lnTo>
                    <a:pt x="52" y="24"/>
                  </a:lnTo>
                  <a:lnTo>
                    <a:pt x="34" y="41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1" y="93"/>
                  </a:lnTo>
                  <a:lnTo>
                    <a:pt x="0" y="10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65800" y="48322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6280200" y="3173040"/>
              <a:ext cx="138240" cy="2379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988320" y="3107880"/>
              <a:ext cx="155520" cy="128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6188040" y="3327120"/>
              <a:ext cx="10152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6904080" y="3164040"/>
              <a:ext cx="92160" cy="64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252920" y="4081320"/>
              <a:ext cx="27612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7456320" y="4117680"/>
              <a:ext cx="8280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730920" y="2806560"/>
              <a:ext cx="228600" cy="146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6675120" y="2843280"/>
              <a:ext cx="7308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546960" y="2383920"/>
              <a:ext cx="24768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473520" y="2401560"/>
              <a:ext cx="90360" cy="119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756400" y="3466800"/>
              <a:ext cx="46080" cy="2840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573520" y="3741840"/>
              <a:ext cx="191880" cy="19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6095520" y="3860280"/>
              <a:ext cx="249480" cy="157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308640" y="3998880"/>
              <a:ext cx="27000" cy="184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6454440" y="4100040"/>
              <a:ext cx="18396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92680" y="4275000"/>
              <a:ext cx="45720" cy="136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6923160" y="3612960"/>
              <a:ext cx="109440" cy="2394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6950160" y="3787920"/>
              <a:ext cx="55440" cy="727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665680" y="4421160"/>
              <a:ext cx="146160" cy="201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02480" y="4449600"/>
              <a:ext cx="110880" cy="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6730560" y="4843080"/>
              <a:ext cx="228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6876720" y="5008680"/>
              <a:ext cx="73080" cy="118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6867360" y="4971960"/>
              <a:ext cx="28800" cy="65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54720" y="2494080"/>
              <a:ext cx="25704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500440" y="2384280"/>
              <a:ext cx="2700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454360" y="2374920"/>
              <a:ext cx="36360" cy="136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124680" y="2236320"/>
              <a:ext cx="2379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6151320" y="2217240"/>
              <a:ext cx="363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6095880" y="2246400"/>
              <a:ext cx="3816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5800" y="1906560"/>
              <a:ext cx="1555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46600" y="2098800"/>
              <a:ext cx="23040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86440" y="2879640"/>
              <a:ext cx="174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095800" y="2768760"/>
              <a:ext cx="65160" cy="110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665680" y="1952640"/>
              <a:ext cx="79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711760" y="1998720"/>
              <a:ext cx="792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51680" y="4770360"/>
              <a:ext cx="5526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9999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755640" y="982800"/>
            <a:ext cx="784368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at the high center shifts east of 4-corners.  This allows moisture to be pulled northward from the Gulf of 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1080" y="5875200"/>
            <a:ext cx="794412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ere is often a upper low to the southwest with a vort lobe extending towards the threat area.  These features often show up best on water vapor image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5157720" y="1967040"/>
            <a:ext cx="3382920" cy="36036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296040" y="4923000"/>
            <a:ext cx="461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84880" y="4675320"/>
            <a:ext cx="390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378480" y="4151160"/>
            <a:ext cx="352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67600" y="3867120"/>
            <a:ext cx="407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396120" y="3279600"/>
            <a:ext cx="3603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303960" y="2994120"/>
            <a:ext cx="371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281640" y="2430360"/>
            <a:ext cx="66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Blocking anticyclone type </a:t>
            </a:r>
            <a:br>
              <a:rPr sz="44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also is known as Maddox Type 4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9720" y="1989000"/>
            <a:ext cx="3979800" cy="35528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1280" y="2178000"/>
            <a:ext cx="620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220000">
            <a:off x="2232000" y="4186080"/>
            <a:ext cx="846000" cy="285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739800" y="1951200"/>
            <a:ext cx="3767040" cy="361440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2946240" y="4843440"/>
            <a:ext cx="459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19000" y="2438280"/>
            <a:ext cx="481320" cy="1922760"/>
          </a:xfrm>
          <a:custGeom>
            <a:avLst/>
            <a:gdLst/>
            <a:ahLst/>
            <a:rect l="l" t="t" r="r" b="b"/>
            <a:pathLst>
              <a:path w="303" h="1211">
                <a:moveTo>
                  <a:pt x="113" y="0"/>
                </a:moveTo>
                <a:lnTo>
                  <a:pt x="135" y="0"/>
                </a:lnTo>
                <a:lnTo>
                  <a:pt x="151" y="4"/>
                </a:lnTo>
                <a:lnTo>
                  <a:pt x="162" y="20"/>
                </a:lnTo>
                <a:lnTo>
                  <a:pt x="178" y="35"/>
                </a:lnTo>
                <a:lnTo>
                  <a:pt x="193" y="50"/>
                </a:lnTo>
                <a:lnTo>
                  <a:pt x="205" y="66"/>
                </a:lnTo>
                <a:lnTo>
                  <a:pt x="226" y="81"/>
                </a:lnTo>
                <a:lnTo>
                  <a:pt x="237" y="97"/>
                </a:lnTo>
                <a:lnTo>
                  <a:pt x="247" y="113"/>
                </a:lnTo>
                <a:lnTo>
                  <a:pt x="264" y="128"/>
                </a:lnTo>
                <a:lnTo>
                  <a:pt x="269" y="144"/>
                </a:lnTo>
                <a:lnTo>
                  <a:pt x="280" y="159"/>
                </a:lnTo>
                <a:lnTo>
                  <a:pt x="286" y="174"/>
                </a:lnTo>
                <a:lnTo>
                  <a:pt x="291" y="190"/>
                </a:lnTo>
                <a:lnTo>
                  <a:pt x="296" y="211"/>
                </a:lnTo>
                <a:lnTo>
                  <a:pt x="296" y="226"/>
                </a:lnTo>
                <a:lnTo>
                  <a:pt x="302" y="246"/>
                </a:lnTo>
                <a:lnTo>
                  <a:pt x="302" y="262"/>
                </a:lnTo>
                <a:lnTo>
                  <a:pt x="302" y="277"/>
                </a:lnTo>
                <a:lnTo>
                  <a:pt x="302" y="292"/>
                </a:lnTo>
                <a:lnTo>
                  <a:pt x="302" y="313"/>
                </a:lnTo>
                <a:lnTo>
                  <a:pt x="302" y="329"/>
                </a:lnTo>
                <a:lnTo>
                  <a:pt x="302" y="344"/>
                </a:lnTo>
                <a:lnTo>
                  <a:pt x="302" y="359"/>
                </a:lnTo>
                <a:lnTo>
                  <a:pt x="302" y="381"/>
                </a:lnTo>
                <a:lnTo>
                  <a:pt x="302" y="396"/>
                </a:lnTo>
                <a:lnTo>
                  <a:pt x="302" y="411"/>
                </a:lnTo>
                <a:lnTo>
                  <a:pt x="302" y="431"/>
                </a:lnTo>
                <a:lnTo>
                  <a:pt x="296" y="447"/>
                </a:lnTo>
                <a:lnTo>
                  <a:pt x="296" y="462"/>
                </a:lnTo>
                <a:lnTo>
                  <a:pt x="296" y="483"/>
                </a:lnTo>
                <a:lnTo>
                  <a:pt x="291" y="524"/>
                </a:lnTo>
                <a:lnTo>
                  <a:pt x="286" y="540"/>
                </a:lnTo>
                <a:lnTo>
                  <a:pt x="280" y="581"/>
                </a:lnTo>
                <a:lnTo>
                  <a:pt x="280" y="596"/>
                </a:lnTo>
                <a:lnTo>
                  <a:pt x="274" y="612"/>
                </a:lnTo>
                <a:lnTo>
                  <a:pt x="264" y="633"/>
                </a:lnTo>
                <a:lnTo>
                  <a:pt x="253" y="674"/>
                </a:lnTo>
                <a:lnTo>
                  <a:pt x="247" y="690"/>
                </a:lnTo>
                <a:lnTo>
                  <a:pt x="243" y="705"/>
                </a:lnTo>
                <a:lnTo>
                  <a:pt x="237" y="740"/>
                </a:lnTo>
                <a:lnTo>
                  <a:pt x="232" y="771"/>
                </a:lnTo>
                <a:lnTo>
                  <a:pt x="226" y="787"/>
                </a:lnTo>
                <a:lnTo>
                  <a:pt x="220" y="803"/>
                </a:lnTo>
                <a:lnTo>
                  <a:pt x="210" y="818"/>
                </a:lnTo>
                <a:lnTo>
                  <a:pt x="199" y="859"/>
                </a:lnTo>
                <a:lnTo>
                  <a:pt x="189" y="875"/>
                </a:lnTo>
                <a:lnTo>
                  <a:pt x="183" y="910"/>
                </a:lnTo>
                <a:lnTo>
                  <a:pt x="167" y="951"/>
                </a:lnTo>
                <a:lnTo>
                  <a:pt x="156" y="967"/>
                </a:lnTo>
                <a:lnTo>
                  <a:pt x="145" y="982"/>
                </a:lnTo>
                <a:lnTo>
                  <a:pt x="135" y="998"/>
                </a:lnTo>
                <a:lnTo>
                  <a:pt x="123" y="1014"/>
                </a:lnTo>
                <a:lnTo>
                  <a:pt x="113" y="1029"/>
                </a:lnTo>
                <a:lnTo>
                  <a:pt x="102" y="1049"/>
                </a:lnTo>
                <a:lnTo>
                  <a:pt x="92" y="1070"/>
                </a:lnTo>
                <a:lnTo>
                  <a:pt x="75" y="1086"/>
                </a:lnTo>
                <a:lnTo>
                  <a:pt x="65" y="1116"/>
                </a:lnTo>
                <a:lnTo>
                  <a:pt x="59" y="1132"/>
                </a:lnTo>
                <a:lnTo>
                  <a:pt x="48" y="1147"/>
                </a:lnTo>
                <a:lnTo>
                  <a:pt x="38" y="1163"/>
                </a:lnTo>
                <a:lnTo>
                  <a:pt x="32" y="1178"/>
                </a:lnTo>
                <a:lnTo>
                  <a:pt x="21" y="1193"/>
                </a:lnTo>
                <a:lnTo>
                  <a:pt x="5" y="1210"/>
                </a:lnTo>
                <a:lnTo>
                  <a:pt x="0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79480" y="2257560"/>
            <a:ext cx="274680" cy="2428920"/>
          </a:xfrm>
          <a:custGeom>
            <a:avLst/>
            <a:gdLst/>
            <a:ahLst/>
            <a:rect l="l" t="t" r="r" b="b"/>
            <a:pathLst>
              <a:path w="173" h="1530">
                <a:moveTo>
                  <a:pt x="102" y="0"/>
                </a:moveTo>
                <a:lnTo>
                  <a:pt x="119" y="25"/>
                </a:lnTo>
                <a:lnTo>
                  <a:pt x="123" y="40"/>
                </a:lnTo>
                <a:lnTo>
                  <a:pt x="129" y="56"/>
                </a:lnTo>
                <a:lnTo>
                  <a:pt x="140" y="76"/>
                </a:lnTo>
                <a:lnTo>
                  <a:pt x="145" y="92"/>
                </a:lnTo>
                <a:lnTo>
                  <a:pt x="150" y="107"/>
                </a:lnTo>
                <a:lnTo>
                  <a:pt x="156" y="123"/>
                </a:lnTo>
                <a:lnTo>
                  <a:pt x="161" y="138"/>
                </a:lnTo>
                <a:lnTo>
                  <a:pt x="167" y="154"/>
                </a:lnTo>
                <a:lnTo>
                  <a:pt x="172" y="170"/>
                </a:lnTo>
                <a:lnTo>
                  <a:pt x="172" y="185"/>
                </a:lnTo>
                <a:lnTo>
                  <a:pt x="172" y="200"/>
                </a:lnTo>
                <a:lnTo>
                  <a:pt x="172" y="216"/>
                </a:lnTo>
                <a:lnTo>
                  <a:pt x="172" y="231"/>
                </a:lnTo>
                <a:lnTo>
                  <a:pt x="172" y="246"/>
                </a:lnTo>
                <a:lnTo>
                  <a:pt x="172" y="288"/>
                </a:lnTo>
                <a:lnTo>
                  <a:pt x="172" y="303"/>
                </a:lnTo>
                <a:lnTo>
                  <a:pt x="167" y="318"/>
                </a:lnTo>
                <a:lnTo>
                  <a:pt x="161" y="355"/>
                </a:lnTo>
                <a:lnTo>
                  <a:pt x="150" y="370"/>
                </a:lnTo>
                <a:lnTo>
                  <a:pt x="145" y="385"/>
                </a:lnTo>
                <a:lnTo>
                  <a:pt x="140" y="401"/>
                </a:lnTo>
                <a:lnTo>
                  <a:pt x="129" y="422"/>
                </a:lnTo>
                <a:lnTo>
                  <a:pt x="123" y="437"/>
                </a:lnTo>
                <a:lnTo>
                  <a:pt x="113" y="457"/>
                </a:lnTo>
                <a:lnTo>
                  <a:pt x="102" y="473"/>
                </a:lnTo>
                <a:lnTo>
                  <a:pt x="96" y="488"/>
                </a:lnTo>
                <a:lnTo>
                  <a:pt x="86" y="529"/>
                </a:lnTo>
                <a:lnTo>
                  <a:pt x="75" y="550"/>
                </a:lnTo>
                <a:lnTo>
                  <a:pt x="69" y="566"/>
                </a:lnTo>
                <a:lnTo>
                  <a:pt x="65" y="581"/>
                </a:lnTo>
                <a:lnTo>
                  <a:pt x="59" y="597"/>
                </a:lnTo>
                <a:lnTo>
                  <a:pt x="53" y="612"/>
                </a:lnTo>
                <a:lnTo>
                  <a:pt x="48" y="627"/>
                </a:lnTo>
                <a:lnTo>
                  <a:pt x="48" y="643"/>
                </a:lnTo>
                <a:lnTo>
                  <a:pt x="38" y="664"/>
                </a:lnTo>
                <a:lnTo>
                  <a:pt x="38" y="679"/>
                </a:lnTo>
                <a:lnTo>
                  <a:pt x="26" y="699"/>
                </a:lnTo>
                <a:lnTo>
                  <a:pt x="21" y="720"/>
                </a:lnTo>
                <a:lnTo>
                  <a:pt x="16" y="736"/>
                </a:lnTo>
                <a:lnTo>
                  <a:pt x="11" y="751"/>
                </a:lnTo>
                <a:lnTo>
                  <a:pt x="11" y="766"/>
                </a:lnTo>
                <a:lnTo>
                  <a:pt x="5" y="782"/>
                </a:lnTo>
                <a:lnTo>
                  <a:pt x="5" y="803"/>
                </a:lnTo>
                <a:lnTo>
                  <a:pt x="0" y="823"/>
                </a:lnTo>
                <a:lnTo>
                  <a:pt x="0" y="838"/>
                </a:lnTo>
                <a:lnTo>
                  <a:pt x="0" y="854"/>
                </a:lnTo>
                <a:lnTo>
                  <a:pt x="0" y="870"/>
                </a:lnTo>
                <a:lnTo>
                  <a:pt x="0" y="890"/>
                </a:lnTo>
                <a:lnTo>
                  <a:pt x="0" y="910"/>
                </a:lnTo>
                <a:lnTo>
                  <a:pt x="0" y="927"/>
                </a:lnTo>
                <a:lnTo>
                  <a:pt x="5" y="942"/>
                </a:lnTo>
                <a:lnTo>
                  <a:pt x="5" y="957"/>
                </a:lnTo>
                <a:lnTo>
                  <a:pt x="11" y="973"/>
                </a:lnTo>
                <a:lnTo>
                  <a:pt x="11" y="988"/>
                </a:lnTo>
                <a:lnTo>
                  <a:pt x="16" y="1003"/>
                </a:lnTo>
                <a:lnTo>
                  <a:pt x="21" y="1019"/>
                </a:lnTo>
                <a:lnTo>
                  <a:pt x="21" y="1040"/>
                </a:lnTo>
                <a:lnTo>
                  <a:pt x="26" y="1071"/>
                </a:lnTo>
                <a:lnTo>
                  <a:pt x="32" y="1086"/>
                </a:lnTo>
                <a:lnTo>
                  <a:pt x="38" y="1117"/>
                </a:lnTo>
                <a:lnTo>
                  <a:pt x="38" y="1138"/>
                </a:lnTo>
                <a:lnTo>
                  <a:pt x="43" y="1153"/>
                </a:lnTo>
                <a:lnTo>
                  <a:pt x="48" y="1168"/>
                </a:lnTo>
                <a:lnTo>
                  <a:pt x="48" y="1199"/>
                </a:lnTo>
                <a:lnTo>
                  <a:pt x="53" y="1214"/>
                </a:lnTo>
                <a:lnTo>
                  <a:pt x="59" y="1230"/>
                </a:lnTo>
                <a:lnTo>
                  <a:pt x="65" y="1245"/>
                </a:lnTo>
                <a:lnTo>
                  <a:pt x="65" y="1276"/>
                </a:lnTo>
                <a:lnTo>
                  <a:pt x="69" y="1292"/>
                </a:lnTo>
                <a:lnTo>
                  <a:pt x="75" y="1308"/>
                </a:lnTo>
                <a:lnTo>
                  <a:pt x="75" y="1338"/>
                </a:lnTo>
                <a:lnTo>
                  <a:pt x="75" y="1374"/>
                </a:lnTo>
                <a:lnTo>
                  <a:pt x="75" y="1426"/>
                </a:lnTo>
                <a:lnTo>
                  <a:pt x="86" y="1441"/>
                </a:lnTo>
                <a:lnTo>
                  <a:pt x="92" y="1488"/>
                </a:lnTo>
                <a:lnTo>
                  <a:pt x="96" y="1529"/>
                </a:lnTo>
                <a:lnTo>
                  <a:pt x="119" y="15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130480" y="2340000"/>
            <a:ext cx="453960" cy="1781280"/>
          </a:xfrm>
          <a:custGeom>
            <a:avLst/>
            <a:gdLst/>
            <a:ahLst/>
            <a:rect l="l" t="t" r="r" b="b"/>
            <a:pathLst>
              <a:path w="286" h="1122">
                <a:moveTo>
                  <a:pt x="257" y="0"/>
                </a:moveTo>
                <a:lnTo>
                  <a:pt x="269" y="20"/>
                </a:lnTo>
                <a:lnTo>
                  <a:pt x="269" y="35"/>
                </a:lnTo>
                <a:lnTo>
                  <a:pt x="274" y="51"/>
                </a:lnTo>
                <a:lnTo>
                  <a:pt x="280" y="66"/>
                </a:lnTo>
                <a:lnTo>
                  <a:pt x="280" y="81"/>
                </a:lnTo>
                <a:lnTo>
                  <a:pt x="280" y="97"/>
                </a:lnTo>
                <a:lnTo>
                  <a:pt x="280" y="112"/>
                </a:lnTo>
                <a:lnTo>
                  <a:pt x="280" y="128"/>
                </a:lnTo>
                <a:lnTo>
                  <a:pt x="285" y="144"/>
                </a:lnTo>
                <a:lnTo>
                  <a:pt x="285" y="159"/>
                </a:lnTo>
                <a:lnTo>
                  <a:pt x="285" y="174"/>
                </a:lnTo>
                <a:lnTo>
                  <a:pt x="285" y="205"/>
                </a:lnTo>
                <a:lnTo>
                  <a:pt x="285" y="220"/>
                </a:lnTo>
                <a:lnTo>
                  <a:pt x="285" y="236"/>
                </a:lnTo>
                <a:lnTo>
                  <a:pt x="285" y="251"/>
                </a:lnTo>
                <a:lnTo>
                  <a:pt x="285" y="266"/>
                </a:lnTo>
                <a:lnTo>
                  <a:pt x="285" y="282"/>
                </a:lnTo>
                <a:lnTo>
                  <a:pt x="285" y="298"/>
                </a:lnTo>
                <a:lnTo>
                  <a:pt x="285" y="313"/>
                </a:lnTo>
                <a:lnTo>
                  <a:pt x="280" y="334"/>
                </a:lnTo>
                <a:lnTo>
                  <a:pt x="274" y="349"/>
                </a:lnTo>
                <a:lnTo>
                  <a:pt x="269" y="364"/>
                </a:lnTo>
                <a:lnTo>
                  <a:pt x="263" y="380"/>
                </a:lnTo>
                <a:lnTo>
                  <a:pt x="263" y="401"/>
                </a:lnTo>
                <a:lnTo>
                  <a:pt x="257" y="416"/>
                </a:lnTo>
                <a:lnTo>
                  <a:pt x="253" y="431"/>
                </a:lnTo>
                <a:lnTo>
                  <a:pt x="247" y="447"/>
                </a:lnTo>
                <a:lnTo>
                  <a:pt x="236" y="467"/>
                </a:lnTo>
                <a:lnTo>
                  <a:pt x="230" y="483"/>
                </a:lnTo>
                <a:lnTo>
                  <a:pt x="220" y="524"/>
                </a:lnTo>
                <a:lnTo>
                  <a:pt x="215" y="540"/>
                </a:lnTo>
                <a:lnTo>
                  <a:pt x="199" y="580"/>
                </a:lnTo>
                <a:lnTo>
                  <a:pt x="188" y="596"/>
                </a:lnTo>
                <a:lnTo>
                  <a:pt x="177" y="612"/>
                </a:lnTo>
                <a:lnTo>
                  <a:pt x="166" y="627"/>
                </a:lnTo>
                <a:lnTo>
                  <a:pt x="156" y="647"/>
                </a:lnTo>
                <a:lnTo>
                  <a:pt x="139" y="663"/>
                </a:lnTo>
                <a:lnTo>
                  <a:pt x="129" y="684"/>
                </a:lnTo>
                <a:lnTo>
                  <a:pt x="112" y="704"/>
                </a:lnTo>
                <a:lnTo>
                  <a:pt x="102" y="719"/>
                </a:lnTo>
                <a:lnTo>
                  <a:pt x="96" y="735"/>
                </a:lnTo>
                <a:lnTo>
                  <a:pt x="85" y="750"/>
                </a:lnTo>
                <a:lnTo>
                  <a:pt x="69" y="771"/>
                </a:lnTo>
                <a:lnTo>
                  <a:pt x="54" y="786"/>
                </a:lnTo>
                <a:lnTo>
                  <a:pt x="48" y="802"/>
                </a:lnTo>
                <a:lnTo>
                  <a:pt x="37" y="817"/>
                </a:lnTo>
                <a:lnTo>
                  <a:pt x="31" y="832"/>
                </a:lnTo>
                <a:lnTo>
                  <a:pt x="15" y="854"/>
                </a:lnTo>
                <a:lnTo>
                  <a:pt x="15" y="869"/>
                </a:lnTo>
                <a:lnTo>
                  <a:pt x="5" y="884"/>
                </a:lnTo>
                <a:lnTo>
                  <a:pt x="0" y="904"/>
                </a:lnTo>
                <a:lnTo>
                  <a:pt x="0" y="920"/>
                </a:lnTo>
                <a:lnTo>
                  <a:pt x="0" y="935"/>
                </a:lnTo>
                <a:lnTo>
                  <a:pt x="0" y="972"/>
                </a:lnTo>
                <a:lnTo>
                  <a:pt x="0" y="992"/>
                </a:lnTo>
                <a:lnTo>
                  <a:pt x="0" y="1008"/>
                </a:lnTo>
                <a:lnTo>
                  <a:pt x="10" y="1023"/>
                </a:lnTo>
                <a:lnTo>
                  <a:pt x="10" y="1054"/>
                </a:lnTo>
                <a:lnTo>
                  <a:pt x="15" y="1069"/>
                </a:lnTo>
                <a:lnTo>
                  <a:pt x="21" y="1085"/>
                </a:lnTo>
                <a:lnTo>
                  <a:pt x="27" y="1100"/>
                </a:lnTo>
                <a:lnTo>
                  <a:pt x="27" y="1116"/>
                </a:lnTo>
                <a:lnTo>
                  <a:pt x="31" y="11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23960" y="4284720"/>
            <a:ext cx="308160" cy="1079280"/>
          </a:xfrm>
          <a:custGeom>
            <a:avLst/>
            <a:gdLst/>
            <a:ahLst/>
            <a:rect l="l" t="t" r="r" b="b"/>
            <a:pathLst>
              <a:path w="194" h="680">
                <a:moveTo>
                  <a:pt x="193" y="10"/>
                </a:moveTo>
                <a:lnTo>
                  <a:pt x="166" y="0"/>
                </a:lnTo>
                <a:lnTo>
                  <a:pt x="150" y="0"/>
                </a:lnTo>
                <a:lnTo>
                  <a:pt x="133" y="0"/>
                </a:lnTo>
                <a:lnTo>
                  <a:pt x="117" y="0"/>
                </a:lnTo>
                <a:lnTo>
                  <a:pt x="102" y="0"/>
                </a:lnTo>
                <a:lnTo>
                  <a:pt x="85" y="15"/>
                </a:lnTo>
                <a:lnTo>
                  <a:pt x="69" y="31"/>
                </a:lnTo>
                <a:lnTo>
                  <a:pt x="53" y="40"/>
                </a:lnTo>
                <a:lnTo>
                  <a:pt x="42" y="56"/>
                </a:lnTo>
                <a:lnTo>
                  <a:pt x="37" y="72"/>
                </a:lnTo>
                <a:lnTo>
                  <a:pt x="26" y="87"/>
                </a:lnTo>
                <a:lnTo>
                  <a:pt x="21" y="103"/>
                </a:lnTo>
                <a:lnTo>
                  <a:pt x="15" y="118"/>
                </a:lnTo>
                <a:lnTo>
                  <a:pt x="10" y="133"/>
                </a:lnTo>
                <a:lnTo>
                  <a:pt x="10" y="149"/>
                </a:lnTo>
                <a:lnTo>
                  <a:pt x="10" y="164"/>
                </a:lnTo>
                <a:lnTo>
                  <a:pt x="5" y="179"/>
                </a:lnTo>
                <a:lnTo>
                  <a:pt x="5" y="195"/>
                </a:lnTo>
                <a:lnTo>
                  <a:pt x="5" y="210"/>
                </a:lnTo>
                <a:lnTo>
                  <a:pt x="5" y="226"/>
                </a:lnTo>
                <a:lnTo>
                  <a:pt x="5" y="242"/>
                </a:lnTo>
                <a:lnTo>
                  <a:pt x="0" y="262"/>
                </a:lnTo>
                <a:lnTo>
                  <a:pt x="0" y="277"/>
                </a:lnTo>
                <a:lnTo>
                  <a:pt x="0" y="293"/>
                </a:lnTo>
                <a:lnTo>
                  <a:pt x="0" y="308"/>
                </a:lnTo>
                <a:lnTo>
                  <a:pt x="0" y="323"/>
                </a:lnTo>
                <a:lnTo>
                  <a:pt x="5" y="339"/>
                </a:lnTo>
                <a:lnTo>
                  <a:pt x="15" y="355"/>
                </a:lnTo>
                <a:lnTo>
                  <a:pt x="32" y="370"/>
                </a:lnTo>
                <a:lnTo>
                  <a:pt x="37" y="386"/>
                </a:lnTo>
                <a:lnTo>
                  <a:pt x="37" y="416"/>
                </a:lnTo>
                <a:lnTo>
                  <a:pt x="48" y="432"/>
                </a:lnTo>
                <a:lnTo>
                  <a:pt x="48" y="447"/>
                </a:lnTo>
                <a:lnTo>
                  <a:pt x="48" y="462"/>
                </a:lnTo>
                <a:lnTo>
                  <a:pt x="48" y="478"/>
                </a:lnTo>
                <a:lnTo>
                  <a:pt x="53" y="499"/>
                </a:lnTo>
                <a:lnTo>
                  <a:pt x="53" y="519"/>
                </a:lnTo>
                <a:lnTo>
                  <a:pt x="53" y="534"/>
                </a:lnTo>
                <a:lnTo>
                  <a:pt x="53" y="550"/>
                </a:lnTo>
                <a:lnTo>
                  <a:pt x="58" y="565"/>
                </a:lnTo>
                <a:lnTo>
                  <a:pt x="58" y="581"/>
                </a:lnTo>
                <a:lnTo>
                  <a:pt x="58" y="617"/>
                </a:lnTo>
                <a:lnTo>
                  <a:pt x="58" y="658"/>
                </a:lnTo>
                <a:lnTo>
                  <a:pt x="58" y="673"/>
                </a:lnTo>
                <a:lnTo>
                  <a:pt x="58" y="67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916360" y="4757760"/>
            <a:ext cx="147600" cy="582480"/>
          </a:xfrm>
          <a:custGeom>
            <a:avLst/>
            <a:gdLst/>
            <a:ahLst/>
            <a:rect l="l" t="t" r="r" b="b"/>
            <a:pathLst>
              <a:path w="93" h="367">
                <a:moveTo>
                  <a:pt x="92" y="5"/>
                </a:moveTo>
                <a:lnTo>
                  <a:pt x="70" y="0"/>
                </a:lnTo>
                <a:lnTo>
                  <a:pt x="54" y="0"/>
                </a:lnTo>
                <a:lnTo>
                  <a:pt x="37" y="0"/>
                </a:lnTo>
                <a:lnTo>
                  <a:pt x="21" y="10"/>
                </a:lnTo>
                <a:lnTo>
                  <a:pt x="5" y="25"/>
                </a:lnTo>
                <a:lnTo>
                  <a:pt x="5" y="41"/>
                </a:lnTo>
                <a:lnTo>
                  <a:pt x="0" y="56"/>
                </a:lnTo>
                <a:lnTo>
                  <a:pt x="0" y="72"/>
                </a:lnTo>
                <a:lnTo>
                  <a:pt x="0" y="88"/>
                </a:lnTo>
                <a:lnTo>
                  <a:pt x="0" y="103"/>
                </a:lnTo>
                <a:lnTo>
                  <a:pt x="0" y="118"/>
                </a:lnTo>
                <a:lnTo>
                  <a:pt x="0" y="134"/>
                </a:lnTo>
                <a:lnTo>
                  <a:pt x="0" y="149"/>
                </a:lnTo>
                <a:lnTo>
                  <a:pt x="0" y="164"/>
                </a:lnTo>
                <a:lnTo>
                  <a:pt x="0" y="180"/>
                </a:lnTo>
                <a:lnTo>
                  <a:pt x="10" y="195"/>
                </a:lnTo>
                <a:lnTo>
                  <a:pt x="15" y="211"/>
                </a:lnTo>
                <a:lnTo>
                  <a:pt x="27" y="227"/>
                </a:lnTo>
                <a:lnTo>
                  <a:pt x="37" y="242"/>
                </a:lnTo>
                <a:lnTo>
                  <a:pt x="48" y="257"/>
                </a:lnTo>
                <a:lnTo>
                  <a:pt x="54" y="273"/>
                </a:lnTo>
                <a:lnTo>
                  <a:pt x="60" y="288"/>
                </a:lnTo>
                <a:lnTo>
                  <a:pt x="64" y="303"/>
                </a:lnTo>
                <a:lnTo>
                  <a:pt x="64" y="319"/>
                </a:lnTo>
                <a:lnTo>
                  <a:pt x="70" y="334"/>
                </a:lnTo>
                <a:lnTo>
                  <a:pt x="70" y="350"/>
                </a:lnTo>
                <a:lnTo>
                  <a:pt x="70" y="36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046320" y="4757760"/>
            <a:ext cx="487440" cy="450720"/>
          </a:xfrm>
          <a:custGeom>
            <a:avLst/>
            <a:gdLst/>
            <a:ahLst/>
            <a:rect l="l" t="t" r="r" b="b"/>
            <a:pathLst>
              <a:path w="307" h="284">
                <a:moveTo>
                  <a:pt x="0" y="5"/>
                </a:moveTo>
                <a:lnTo>
                  <a:pt x="21" y="0"/>
                </a:lnTo>
                <a:lnTo>
                  <a:pt x="37" y="10"/>
                </a:lnTo>
                <a:lnTo>
                  <a:pt x="58" y="25"/>
                </a:lnTo>
                <a:lnTo>
                  <a:pt x="75" y="41"/>
                </a:lnTo>
                <a:lnTo>
                  <a:pt x="91" y="51"/>
                </a:lnTo>
                <a:lnTo>
                  <a:pt x="106" y="62"/>
                </a:lnTo>
                <a:lnTo>
                  <a:pt x="123" y="72"/>
                </a:lnTo>
                <a:lnTo>
                  <a:pt x="133" y="88"/>
                </a:lnTo>
                <a:lnTo>
                  <a:pt x="150" y="103"/>
                </a:lnTo>
                <a:lnTo>
                  <a:pt x="166" y="118"/>
                </a:lnTo>
                <a:lnTo>
                  <a:pt x="182" y="129"/>
                </a:lnTo>
                <a:lnTo>
                  <a:pt x="199" y="144"/>
                </a:lnTo>
                <a:lnTo>
                  <a:pt x="209" y="160"/>
                </a:lnTo>
                <a:lnTo>
                  <a:pt x="220" y="190"/>
                </a:lnTo>
                <a:lnTo>
                  <a:pt x="236" y="201"/>
                </a:lnTo>
                <a:lnTo>
                  <a:pt x="252" y="221"/>
                </a:lnTo>
                <a:lnTo>
                  <a:pt x="284" y="262"/>
                </a:lnTo>
                <a:lnTo>
                  <a:pt x="295" y="278"/>
                </a:lnTo>
                <a:lnTo>
                  <a:pt x="306" y="28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797200" y="4292640"/>
            <a:ext cx="1011240" cy="622440"/>
          </a:xfrm>
          <a:custGeom>
            <a:avLst/>
            <a:gdLst/>
            <a:ahLst/>
            <a:rect l="l" t="t" r="r" b="b"/>
            <a:pathLst>
              <a:path w="637" h="392">
                <a:moveTo>
                  <a:pt x="0" y="0"/>
                </a:moveTo>
                <a:lnTo>
                  <a:pt x="21" y="5"/>
                </a:lnTo>
                <a:lnTo>
                  <a:pt x="37" y="15"/>
                </a:lnTo>
                <a:lnTo>
                  <a:pt x="54" y="30"/>
                </a:lnTo>
                <a:lnTo>
                  <a:pt x="69" y="40"/>
                </a:lnTo>
                <a:lnTo>
                  <a:pt x="91" y="51"/>
                </a:lnTo>
                <a:lnTo>
                  <a:pt x="108" y="56"/>
                </a:lnTo>
                <a:lnTo>
                  <a:pt x="124" y="66"/>
                </a:lnTo>
                <a:lnTo>
                  <a:pt x="139" y="72"/>
                </a:lnTo>
                <a:lnTo>
                  <a:pt x="156" y="81"/>
                </a:lnTo>
                <a:lnTo>
                  <a:pt x="172" y="87"/>
                </a:lnTo>
                <a:lnTo>
                  <a:pt x="188" y="92"/>
                </a:lnTo>
                <a:lnTo>
                  <a:pt x="205" y="97"/>
                </a:lnTo>
                <a:lnTo>
                  <a:pt x="221" y="107"/>
                </a:lnTo>
                <a:lnTo>
                  <a:pt x="236" y="113"/>
                </a:lnTo>
                <a:lnTo>
                  <a:pt x="253" y="128"/>
                </a:lnTo>
                <a:lnTo>
                  <a:pt x="269" y="144"/>
                </a:lnTo>
                <a:lnTo>
                  <a:pt x="290" y="159"/>
                </a:lnTo>
                <a:lnTo>
                  <a:pt x="307" y="170"/>
                </a:lnTo>
                <a:lnTo>
                  <a:pt x="323" y="179"/>
                </a:lnTo>
                <a:lnTo>
                  <a:pt x="339" y="195"/>
                </a:lnTo>
                <a:lnTo>
                  <a:pt x="360" y="211"/>
                </a:lnTo>
                <a:lnTo>
                  <a:pt x="372" y="226"/>
                </a:lnTo>
                <a:lnTo>
                  <a:pt x="387" y="236"/>
                </a:lnTo>
                <a:lnTo>
                  <a:pt x="404" y="246"/>
                </a:lnTo>
                <a:lnTo>
                  <a:pt x="420" y="257"/>
                </a:lnTo>
                <a:lnTo>
                  <a:pt x="436" y="272"/>
                </a:lnTo>
                <a:lnTo>
                  <a:pt x="453" y="283"/>
                </a:lnTo>
                <a:lnTo>
                  <a:pt x="469" y="298"/>
                </a:lnTo>
                <a:lnTo>
                  <a:pt x="484" y="309"/>
                </a:lnTo>
                <a:lnTo>
                  <a:pt x="501" y="318"/>
                </a:lnTo>
                <a:lnTo>
                  <a:pt x="517" y="329"/>
                </a:lnTo>
                <a:lnTo>
                  <a:pt x="560" y="350"/>
                </a:lnTo>
                <a:lnTo>
                  <a:pt x="577" y="365"/>
                </a:lnTo>
                <a:lnTo>
                  <a:pt x="593" y="375"/>
                </a:lnTo>
                <a:lnTo>
                  <a:pt x="636" y="39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344760" y="2478240"/>
            <a:ext cx="830520" cy="1922400"/>
          </a:xfrm>
          <a:custGeom>
            <a:avLst/>
            <a:gdLst/>
            <a:ahLst/>
            <a:rect l="l" t="t" r="r" b="b"/>
            <a:pathLst>
              <a:path w="523" h="1211">
                <a:moveTo>
                  <a:pt x="328" y="0"/>
                </a:moveTo>
                <a:lnTo>
                  <a:pt x="307" y="10"/>
                </a:lnTo>
                <a:lnTo>
                  <a:pt x="290" y="20"/>
                </a:lnTo>
                <a:lnTo>
                  <a:pt x="274" y="31"/>
                </a:lnTo>
                <a:lnTo>
                  <a:pt x="258" y="35"/>
                </a:lnTo>
                <a:lnTo>
                  <a:pt x="241" y="51"/>
                </a:lnTo>
                <a:lnTo>
                  <a:pt x="226" y="56"/>
                </a:lnTo>
                <a:lnTo>
                  <a:pt x="204" y="72"/>
                </a:lnTo>
                <a:lnTo>
                  <a:pt x="188" y="77"/>
                </a:lnTo>
                <a:lnTo>
                  <a:pt x="172" y="87"/>
                </a:lnTo>
                <a:lnTo>
                  <a:pt x="156" y="97"/>
                </a:lnTo>
                <a:lnTo>
                  <a:pt x="139" y="113"/>
                </a:lnTo>
                <a:lnTo>
                  <a:pt x="129" y="129"/>
                </a:lnTo>
                <a:lnTo>
                  <a:pt x="113" y="144"/>
                </a:lnTo>
                <a:lnTo>
                  <a:pt x="91" y="159"/>
                </a:lnTo>
                <a:lnTo>
                  <a:pt x="86" y="175"/>
                </a:lnTo>
                <a:lnTo>
                  <a:pt x="69" y="190"/>
                </a:lnTo>
                <a:lnTo>
                  <a:pt x="65" y="205"/>
                </a:lnTo>
                <a:lnTo>
                  <a:pt x="59" y="221"/>
                </a:lnTo>
                <a:lnTo>
                  <a:pt x="48" y="236"/>
                </a:lnTo>
                <a:lnTo>
                  <a:pt x="42" y="251"/>
                </a:lnTo>
                <a:lnTo>
                  <a:pt x="32" y="272"/>
                </a:lnTo>
                <a:lnTo>
                  <a:pt x="26" y="288"/>
                </a:lnTo>
                <a:lnTo>
                  <a:pt x="21" y="303"/>
                </a:lnTo>
                <a:lnTo>
                  <a:pt x="15" y="319"/>
                </a:lnTo>
                <a:lnTo>
                  <a:pt x="11" y="334"/>
                </a:lnTo>
                <a:lnTo>
                  <a:pt x="11" y="349"/>
                </a:lnTo>
                <a:lnTo>
                  <a:pt x="5" y="365"/>
                </a:lnTo>
                <a:lnTo>
                  <a:pt x="0" y="386"/>
                </a:lnTo>
                <a:lnTo>
                  <a:pt x="0" y="401"/>
                </a:lnTo>
                <a:lnTo>
                  <a:pt x="0" y="416"/>
                </a:lnTo>
                <a:lnTo>
                  <a:pt x="0" y="432"/>
                </a:lnTo>
                <a:lnTo>
                  <a:pt x="0" y="447"/>
                </a:lnTo>
                <a:lnTo>
                  <a:pt x="0" y="462"/>
                </a:lnTo>
                <a:lnTo>
                  <a:pt x="0" y="484"/>
                </a:lnTo>
                <a:lnTo>
                  <a:pt x="0" y="499"/>
                </a:lnTo>
                <a:lnTo>
                  <a:pt x="0" y="514"/>
                </a:lnTo>
                <a:lnTo>
                  <a:pt x="0" y="535"/>
                </a:lnTo>
                <a:lnTo>
                  <a:pt x="0" y="551"/>
                </a:lnTo>
                <a:lnTo>
                  <a:pt x="5" y="566"/>
                </a:lnTo>
                <a:lnTo>
                  <a:pt x="11" y="581"/>
                </a:lnTo>
                <a:lnTo>
                  <a:pt x="15" y="597"/>
                </a:lnTo>
                <a:lnTo>
                  <a:pt x="21" y="612"/>
                </a:lnTo>
                <a:lnTo>
                  <a:pt x="32" y="627"/>
                </a:lnTo>
                <a:lnTo>
                  <a:pt x="38" y="643"/>
                </a:lnTo>
                <a:lnTo>
                  <a:pt x="42" y="658"/>
                </a:lnTo>
                <a:lnTo>
                  <a:pt x="48" y="674"/>
                </a:lnTo>
                <a:lnTo>
                  <a:pt x="59" y="690"/>
                </a:lnTo>
                <a:lnTo>
                  <a:pt x="65" y="705"/>
                </a:lnTo>
                <a:lnTo>
                  <a:pt x="69" y="721"/>
                </a:lnTo>
                <a:lnTo>
                  <a:pt x="75" y="736"/>
                </a:lnTo>
                <a:lnTo>
                  <a:pt x="80" y="751"/>
                </a:lnTo>
                <a:lnTo>
                  <a:pt x="86" y="767"/>
                </a:lnTo>
                <a:lnTo>
                  <a:pt x="96" y="782"/>
                </a:lnTo>
                <a:lnTo>
                  <a:pt x="102" y="797"/>
                </a:lnTo>
                <a:lnTo>
                  <a:pt x="107" y="813"/>
                </a:lnTo>
                <a:lnTo>
                  <a:pt x="113" y="828"/>
                </a:lnTo>
                <a:lnTo>
                  <a:pt x="123" y="844"/>
                </a:lnTo>
                <a:lnTo>
                  <a:pt x="129" y="860"/>
                </a:lnTo>
                <a:lnTo>
                  <a:pt x="145" y="869"/>
                </a:lnTo>
                <a:lnTo>
                  <a:pt x="150" y="885"/>
                </a:lnTo>
                <a:lnTo>
                  <a:pt x="166" y="895"/>
                </a:lnTo>
                <a:lnTo>
                  <a:pt x="177" y="911"/>
                </a:lnTo>
                <a:lnTo>
                  <a:pt x="193" y="926"/>
                </a:lnTo>
                <a:lnTo>
                  <a:pt x="210" y="936"/>
                </a:lnTo>
                <a:lnTo>
                  <a:pt x="214" y="952"/>
                </a:lnTo>
                <a:lnTo>
                  <a:pt x="231" y="958"/>
                </a:lnTo>
                <a:lnTo>
                  <a:pt x="241" y="973"/>
                </a:lnTo>
                <a:lnTo>
                  <a:pt x="258" y="982"/>
                </a:lnTo>
                <a:lnTo>
                  <a:pt x="274" y="998"/>
                </a:lnTo>
                <a:lnTo>
                  <a:pt x="290" y="1014"/>
                </a:lnTo>
                <a:lnTo>
                  <a:pt x="307" y="1024"/>
                </a:lnTo>
                <a:lnTo>
                  <a:pt x="322" y="1039"/>
                </a:lnTo>
                <a:lnTo>
                  <a:pt x="339" y="1055"/>
                </a:lnTo>
                <a:lnTo>
                  <a:pt x="355" y="1071"/>
                </a:lnTo>
                <a:lnTo>
                  <a:pt x="371" y="1086"/>
                </a:lnTo>
                <a:lnTo>
                  <a:pt x="388" y="1101"/>
                </a:lnTo>
                <a:lnTo>
                  <a:pt x="403" y="1117"/>
                </a:lnTo>
                <a:lnTo>
                  <a:pt x="419" y="1127"/>
                </a:lnTo>
                <a:lnTo>
                  <a:pt x="436" y="1143"/>
                </a:lnTo>
                <a:lnTo>
                  <a:pt x="457" y="1158"/>
                </a:lnTo>
                <a:lnTo>
                  <a:pt x="479" y="1178"/>
                </a:lnTo>
                <a:lnTo>
                  <a:pt x="522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51280" y="23209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89240" y="20811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13000" y="4595760"/>
            <a:ext cx="92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57360" y="206064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27400" y="5121360"/>
            <a:ext cx="66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57760" y="4849920"/>
            <a:ext cx="66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63480" y="2284560"/>
            <a:ext cx="668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9960" y="43527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79720" y="3346560"/>
            <a:ext cx="66852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679920" y="4137120"/>
            <a:ext cx="288720" cy="23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387600" y="4119120"/>
            <a:ext cx="214560" cy="41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3114720" y="4022280"/>
            <a:ext cx="1857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2796840" y="3900600"/>
            <a:ext cx="230040" cy="63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2574720" y="3882960"/>
            <a:ext cx="15372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309760" y="3924360"/>
            <a:ext cx="179280" cy="493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2130120" y="4005360"/>
            <a:ext cx="135000" cy="316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1959120" y="3867120"/>
            <a:ext cx="126720" cy="163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1779480" y="3703320"/>
            <a:ext cx="144720" cy="1062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3567240" y="4855680"/>
            <a:ext cx="1965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3411360" y="4684680"/>
            <a:ext cx="10512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3062160" y="4536720"/>
            <a:ext cx="214560" cy="90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2830320" y="4497480"/>
            <a:ext cx="13788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2676600" y="4513320"/>
            <a:ext cx="101520" cy="79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2582640" y="4554360"/>
            <a:ext cx="60120" cy="63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2453760" y="4692600"/>
            <a:ext cx="781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2383920" y="4903920"/>
            <a:ext cx="349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627360" y="4529160"/>
            <a:ext cx="22248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flipV="1">
            <a:off x="3430440" y="4406760"/>
            <a:ext cx="136800" cy="90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3249360" y="4316040"/>
            <a:ext cx="1126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3046320" y="4260960"/>
            <a:ext cx="1620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822400" y="4177800"/>
            <a:ext cx="162000" cy="47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616120" y="4178160"/>
            <a:ext cx="14760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412720" y="4192560"/>
            <a:ext cx="152280" cy="68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2153880" y="4307040"/>
            <a:ext cx="1810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025360" y="4529160"/>
            <a:ext cx="104760" cy="982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 flipV="1">
            <a:off x="3576240" y="4284360"/>
            <a:ext cx="195480" cy="11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3352320" y="4160880"/>
            <a:ext cx="16380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3053880" y="4044960"/>
            <a:ext cx="19692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2908440" y="3990960"/>
            <a:ext cx="9504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2763720" y="3963600"/>
            <a:ext cx="8424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2633400" y="3949560"/>
            <a:ext cx="68040" cy="2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2428920" y="3990960"/>
            <a:ext cx="146160" cy="39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2249280" y="4087800"/>
            <a:ext cx="12060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018880" y="4202280"/>
            <a:ext cx="144360" cy="1234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165320" y="3648240"/>
            <a:ext cx="56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1615680" y="3687840"/>
            <a:ext cx="11124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957480" y="3882960"/>
            <a:ext cx="48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849840" y="4275000"/>
            <a:ext cx="55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70360" y="4572000"/>
            <a:ext cx="682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7760" y="4986360"/>
            <a:ext cx="2476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38760" y="5110200"/>
            <a:ext cx="65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394000" y="4503600"/>
            <a:ext cx="1833480" cy="696960"/>
          </a:xfrm>
          <a:custGeom>
            <a:avLst/>
            <a:gdLst/>
            <a:ahLst/>
            <a:rect l="l" t="t" r="r" b="b"/>
            <a:pathLst>
              <a:path w="1155" h="439">
                <a:moveTo>
                  <a:pt x="0" y="344"/>
                </a:moveTo>
                <a:lnTo>
                  <a:pt x="0" y="324"/>
                </a:lnTo>
                <a:lnTo>
                  <a:pt x="0" y="308"/>
                </a:lnTo>
                <a:lnTo>
                  <a:pt x="5" y="293"/>
                </a:lnTo>
                <a:lnTo>
                  <a:pt x="15" y="273"/>
                </a:lnTo>
                <a:lnTo>
                  <a:pt x="27" y="257"/>
                </a:lnTo>
                <a:lnTo>
                  <a:pt x="32" y="242"/>
                </a:lnTo>
                <a:lnTo>
                  <a:pt x="42" y="227"/>
                </a:lnTo>
                <a:lnTo>
                  <a:pt x="48" y="210"/>
                </a:lnTo>
                <a:lnTo>
                  <a:pt x="54" y="195"/>
                </a:lnTo>
                <a:lnTo>
                  <a:pt x="54" y="179"/>
                </a:lnTo>
                <a:lnTo>
                  <a:pt x="64" y="164"/>
                </a:lnTo>
                <a:lnTo>
                  <a:pt x="69" y="149"/>
                </a:lnTo>
                <a:lnTo>
                  <a:pt x="75" y="133"/>
                </a:lnTo>
                <a:lnTo>
                  <a:pt x="86" y="118"/>
                </a:lnTo>
                <a:lnTo>
                  <a:pt x="96" y="103"/>
                </a:lnTo>
                <a:lnTo>
                  <a:pt x="108" y="87"/>
                </a:lnTo>
                <a:lnTo>
                  <a:pt x="123" y="72"/>
                </a:lnTo>
                <a:lnTo>
                  <a:pt x="139" y="51"/>
                </a:lnTo>
                <a:lnTo>
                  <a:pt x="183" y="31"/>
                </a:lnTo>
                <a:lnTo>
                  <a:pt x="199" y="20"/>
                </a:lnTo>
                <a:lnTo>
                  <a:pt x="215" y="10"/>
                </a:lnTo>
                <a:lnTo>
                  <a:pt x="232" y="5"/>
                </a:lnTo>
                <a:lnTo>
                  <a:pt x="247" y="0"/>
                </a:lnTo>
                <a:lnTo>
                  <a:pt x="263" y="0"/>
                </a:lnTo>
                <a:lnTo>
                  <a:pt x="280" y="0"/>
                </a:lnTo>
                <a:lnTo>
                  <a:pt x="334" y="0"/>
                </a:lnTo>
                <a:lnTo>
                  <a:pt x="356" y="0"/>
                </a:lnTo>
                <a:lnTo>
                  <a:pt x="371" y="5"/>
                </a:lnTo>
                <a:lnTo>
                  <a:pt x="414" y="15"/>
                </a:lnTo>
                <a:lnTo>
                  <a:pt x="447" y="20"/>
                </a:lnTo>
                <a:lnTo>
                  <a:pt x="464" y="31"/>
                </a:lnTo>
                <a:lnTo>
                  <a:pt x="480" y="40"/>
                </a:lnTo>
                <a:lnTo>
                  <a:pt x="495" y="46"/>
                </a:lnTo>
                <a:lnTo>
                  <a:pt x="534" y="61"/>
                </a:lnTo>
                <a:lnTo>
                  <a:pt x="549" y="66"/>
                </a:lnTo>
                <a:lnTo>
                  <a:pt x="565" y="77"/>
                </a:lnTo>
                <a:lnTo>
                  <a:pt x="609" y="87"/>
                </a:lnTo>
                <a:lnTo>
                  <a:pt x="625" y="97"/>
                </a:lnTo>
                <a:lnTo>
                  <a:pt x="641" y="108"/>
                </a:lnTo>
                <a:lnTo>
                  <a:pt x="652" y="123"/>
                </a:lnTo>
                <a:lnTo>
                  <a:pt x="668" y="138"/>
                </a:lnTo>
                <a:lnTo>
                  <a:pt x="685" y="154"/>
                </a:lnTo>
                <a:lnTo>
                  <a:pt x="700" y="170"/>
                </a:lnTo>
                <a:lnTo>
                  <a:pt x="712" y="185"/>
                </a:lnTo>
                <a:lnTo>
                  <a:pt x="722" y="216"/>
                </a:lnTo>
                <a:lnTo>
                  <a:pt x="755" y="247"/>
                </a:lnTo>
                <a:lnTo>
                  <a:pt x="770" y="251"/>
                </a:lnTo>
                <a:lnTo>
                  <a:pt x="792" y="251"/>
                </a:lnTo>
                <a:lnTo>
                  <a:pt x="813" y="262"/>
                </a:lnTo>
                <a:lnTo>
                  <a:pt x="830" y="267"/>
                </a:lnTo>
                <a:lnTo>
                  <a:pt x="873" y="277"/>
                </a:lnTo>
                <a:lnTo>
                  <a:pt x="894" y="288"/>
                </a:lnTo>
                <a:lnTo>
                  <a:pt x="911" y="298"/>
                </a:lnTo>
                <a:lnTo>
                  <a:pt x="954" y="314"/>
                </a:lnTo>
                <a:lnTo>
                  <a:pt x="997" y="344"/>
                </a:lnTo>
                <a:lnTo>
                  <a:pt x="1013" y="349"/>
                </a:lnTo>
                <a:lnTo>
                  <a:pt x="1099" y="391"/>
                </a:lnTo>
                <a:lnTo>
                  <a:pt x="1142" y="421"/>
                </a:lnTo>
                <a:lnTo>
                  <a:pt x="1154" y="438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128240" y="3584520"/>
            <a:ext cx="73080" cy="266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683400" y="2455920"/>
            <a:ext cx="239760" cy="412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675480" y="3281400"/>
            <a:ext cx="385560" cy="358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637320" y="4118040"/>
            <a:ext cx="533520" cy="264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656400" y="4933800"/>
            <a:ext cx="523800" cy="9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6702480" y="2887560"/>
            <a:ext cx="210960" cy="165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629040" y="2787480"/>
            <a:ext cx="228600" cy="14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865920" y="3641760"/>
            <a:ext cx="184320" cy="201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858000" y="3565440"/>
            <a:ext cx="842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078320" y="4394160"/>
            <a:ext cx="82440" cy="330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97840" y="4935600"/>
            <a:ext cx="36360" cy="376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597720" y="4060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613560" y="320184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620040" y="4879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605640" y="238752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370480" y="223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84880" y="30495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362560" y="394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24480" y="47577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68960" y="2525760"/>
            <a:ext cx="141624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(133% OR NORM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047000" y="22478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PW=1.32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70840" y="345276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LI=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39160" y="3081240"/>
            <a:ext cx="11109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RH=5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05760" y="38210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KI=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11480" y="3924360"/>
            <a:ext cx="339480" cy="39528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98920" y="4457880"/>
            <a:ext cx="210960" cy="24732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5040" y="4788000"/>
            <a:ext cx="146160" cy="2570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6720" y="4878360"/>
            <a:ext cx="15177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SURFACE COMPO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73320" y="4119480"/>
            <a:ext cx="93600" cy="1081080"/>
          </a:xfrm>
          <a:custGeom>
            <a:avLst/>
            <a:gdLst/>
            <a:ahLst/>
            <a:rect l="l" t="t" r="r" b="b"/>
            <a:pathLst>
              <a:path w="59" h="681">
                <a:moveTo>
                  <a:pt x="0" y="0"/>
                </a:moveTo>
                <a:lnTo>
                  <a:pt x="0" y="20"/>
                </a:lnTo>
                <a:lnTo>
                  <a:pt x="4" y="36"/>
                </a:lnTo>
                <a:lnTo>
                  <a:pt x="4" y="51"/>
                </a:lnTo>
                <a:lnTo>
                  <a:pt x="15" y="66"/>
                </a:lnTo>
                <a:lnTo>
                  <a:pt x="15" y="82"/>
                </a:lnTo>
                <a:lnTo>
                  <a:pt x="21" y="97"/>
                </a:lnTo>
                <a:lnTo>
                  <a:pt x="26" y="113"/>
                </a:lnTo>
                <a:lnTo>
                  <a:pt x="31" y="129"/>
                </a:lnTo>
                <a:lnTo>
                  <a:pt x="31" y="144"/>
                </a:lnTo>
                <a:lnTo>
                  <a:pt x="36" y="164"/>
                </a:lnTo>
                <a:lnTo>
                  <a:pt x="36" y="180"/>
                </a:lnTo>
                <a:lnTo>
                  <a:pt x="36" y="201"/>
                </a:lnTo>
                <a:lnTo>
                  <a:pt x="36" y="216"/>
                </a:lnTo>
                <a:lnTo>
                  <a:pt x="36" y="232"/>
                </a:lnTo>
                <a:lnTo>
                  <a:pt x="42" y="247"/>
                </a:lnTo>
                <a:lnTo>
                  <a:pt x="42" y="262"/>
                </a:lnTo>
                <a:lnTo>
                  <a:pt x="42" y="278"/>
                </a:lnTo>
                <a:lnTo>
                  <a:pt x="47" y="299"/>
                </a:lnTo>
                <a:lnTo>
                  <a:pt x="47" y="314"/>
                </a:lnTo>
                <a:lnTo>
                  <a:pt x="47" y="329"/>
                </a:lnTo>
                <a:lnTo>
                  <a:pt x="53" y="345"/>
                </a:lnTo>
                <a:lnTo>
                  <a:pt x="53" y="360"/>
                </a:lnTo>
                <a:lnTo>
                  <a:pt x="53" y="380"/>
                </a:lnTo>
                <a:lnTo>
                  <a:pt x="58" y="396"/>
                </a:lnTo>
                <a:lnTo>
                  <a:pt x="58" y="412"/>
                </a:lnTo>
                <a:lnTo>
                  <a:pt x="58" y="427"/>
                </a:lnTo>
                <a:lnTo>
                  <a:pt x="58" y="443"/>
                </a:lnTo>
                <a:lnTo>
                  <a:pt x="58" y="458"/>
                </a:lnTo>
                <a:lnTo>
                  <a:pt x="58" y="473"/>
                </a:lnTo>
                <a:lnTo>
                  <a:pt x="58" y="504"/>
                </a:lnTo>
                <a:lnTo>
                  <a:pt x="58" y="519"/>
                </a:lnTo>
                <a:lnTo>
                  <a:pt x="58" y="535"/>
                </a:lnTo>
                <a:lnTo>
                  <a:pt x="58" y="556"/>
                </a:lnTo>
                <a:lnTo>
                  <a:pt x="58" y="571"/>
                </a:lnTo>
                <a:lnTo>
                  <a:pt x="58" y="586"/>
                </a:lnTo>
                <a:lnTo>
                  <a:pt x="53" y="623"/>
                </a:lnTo>
                <a:lnTo>
                  <a:pt x="53" y="643"/>
                </a:lnTo>
                <a:lnTo>
                  <a:pt x="53" y="663"/>
                </a:lnTo>
                <a:lnTo>
                  <a:pt x="47" y="6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903320" y="51055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06320" y="5732640"/>
            <a:ext cx="80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NOTE WEAK MEAN FLOW AND RELATIVELY DEEP MOISTURE.   SCALE OF THE EVENT IS SMALL. 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04600" y="135000"/>
            <a:ext cx="7405560" cy="60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EFORMATION TYPE HEAVY RAINFALL EV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5840" y="1636560"/>
            <a:ext cx="4306680" cy="4795920"/>
            <a:chOff x="285840" y="1636560"/>
            <a:chExt cx="4306680" cy="4795920"/>
          </a:xfrm>
        </p:grpSpPr>
        <p:sp>
          <p:nvSpPr>
            <p:cNvPr id="1605" name=""/>
            <p:cNvSpPr/>
            <p:nvPr/>
          </p:nvSpPr>
          <p:spPr>
            <a:xfrm>
              <a:off x="309600" y="1636560"/>
              <a:ext cx="4282920" cy="407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393920" y="2162160"/>
              <a:ext cx="1379520" cy="2532240"/>
            </a:xfrm>
            <a:custGeom>
              <a:avLst/>
              <a:gdLst/>
              <a:ahLst/>
              <a:rect l="l" t="t" r="r" b="b"/>
              <a:pathLst>
                <a:path w="869" h="1595">
                  <a:moveTo>
                    <a:pt x="747" y="1155"/>
                  </a:moveTo>
                  <a:lnTo>
                    <a:pt x="724" y="1176"/>
                  </a:lnTo>
                  <a:lnTo>
                    <a:pt x="706" y="1195"/>
                  </a:lnTo>
                  <a:lnTo>
                    <a:pt x="690" y="1207"/>
                  </a:lnTo>
                  <a:lnTo>
                    <a:pt x="673" y="1221"/>
                  </a:lnTo>
                  <a:lnTo>
                    <a:pt x="655" y="1234"/>
                  </a:lnTo>
                  <a:lnTo>
                    <a:pt x="638" y="1253"/>
                  </a:lnTo>
                  <a:lnTo>
                    <a:pt x="621" y="1266"/>
                  </a:lnTo>
                  <a:lnTo>
                    <a:pt x="603" y="1286"/>
                  </a:lnTo>
                  <a:lnTo>
                    <a:pt x="586" y="1305"/>
                  </a:lnTo>
                  <a:lnTo>
                    <a:pt x="569" y="1319"/>
                  </a:lnTo>
                  <a:lnTo>
                    <a:pt x="551" y="1331"/>
                  </a:lnTo>
                  <a:lnTo>
                    <a:pt x="528" y="1385"/>
                  </a:lnTo>
                  <a:lnTo>
                    <a:pt x="512" y="1404"/>
                  </a:lnTo>
                  <a:lnTo>
                    <a:pt x="494" y="1416"/>
                  </a:lnTo>
                  <a:lnTo>
                    <a:pt x="477" y="1436"/>
                  </a:lnTo>
                  <a:lnTo>
                    <a:pt x="442" y="1456"/>
                  </a:lnTo>
                  <a:lnTo>
                    <a:pt x="431" y="1495"/>
                  </a:lnTo>
                  <a:lnTo>
                    <a:pt x="413" y="1521"/>
                  </a:lnTo>
                  <a:lnTo>
                    <a:pt x="396" y="1535"/>
                  </a:lnTo>
                  <a:lnTo>
                    <a:pt x="379" y="1554"/>
                  </a:lnTo>
                  <a:lnTo>
                    <a:pt x="367" y="1573"/>
                  </a:lnTo>
                  <a:lnTo>
                    <a:pt x="322" y="1587"/>
                  </a:lnTo>
                  <a:lnTo>
                    <a:pt x="305" y="1594"/>
                  </a:lnTo>
                  <a:lnTo>
                    <a:pt x="287" y="1580"/>
                  </a:lnTo>
                  <a:lnTo>
                    <a:pt x="241" y="1573"/>
                  </a:lnTo>
                  <a:lnTo>
                    <a:pt x="224" y="1561"/>
                  </a:lnTo>
                  <a:lnTo>
                    <a:pt x="212" y="1540"/>
                  </a:lnTo>
                  <a:lnTo>
                    <a:pt x="195" y="1535"/>
                  </a:lnTo>
                  <a:lnTo>
                    <a:pt x="177" y="1508"/>
                  </a:lnTo>
                  <a:lnTo>
                    <a:pt x="167" y="1488"/>
                  </a:lnTo>
                  <a:lnTo>
                    <a:pt x="161" y="1449"/>
                  </a:lnTo>
                  <a:lnTo>
                    <a:pt x="144" y="1430"/>
                  </a:lnTo>
                  <a:lnTo>
                    <a:pt x="138" y="1390"/>
                  </a:lnTo>
                  <a:lnTo>
                    <a:pt x="132" y="1352"/>
                  </a:lnTo>
                  <a:lnTo>
                    <a:pt x="120" y="1331"/>
                  </a:lnTo>
                  <a:lnTo>
                    <a:pt x="115" y="1312"/>
                  </a:lnTo>
                  <a:lnTo>
                    <a:pt x="103" y="1286"/>
                  </a:lnTo>
                  <a:lnTo>
                    <a:pt x="103" y="1247"/>
                  </a:lnTo>
                  <a:lnTo>
                    <a:pt x="97" y="1227"/>
                  </a:lnTo>
                  <a:lnTo>
                    <a:pt x="92" y="1207"/>
                  </a:lnTo>
                  <a:lnTo>
                    <a:pt x="92" y="1169"/>
                  </a:lnTo>
                  <a:lnTo>
                    <a:pt x="92" y="1148"/>
                  </a:lnTo>
                  <a:lnTo>
                    <a:pt x="92" y="1129"/>
                  </a:lnTo>
                  <a:lnTo>
                    <a:pt x="92" y="1103"/>
                  </a:lnTo>
                  <a:lnTo>
                    <a:pt x="92" y="1077"/>
                  </a:lnTo>
                  <a:lnTo>
                    <a:pt x="92" y="1051"/>
                  </a:lnTo>
                  <a:lnTo>
                    <a:pt x="86" y="1031"/>
                  </a:lnTo>
                  <a:lnTo>
                    <a:pt x="86" y="1012"/>
                  </a:lnTo>
                  <a:lnTo>
                    <a:pt x="86" y="993"/>
                  </a:lnTo>
                  <a:lnTo>
                    <a:pt x="86" y="972"/>
                  </a:lnTo>
                  <a:lnTo>
                    <a:pt x="86" y="920"/>
                  </a:lnTo>
                  <a:lnTo>
                    <a:pt x="86" y="875"/>
                  </a:lnTo>
                  <a:lnTo>
                    <a:pt x="86" y="822"/>
                  </a:lnTo>
                  <a:lnTo>
                    <a:pt x="86" y="796"/>
                  </a:lnTo>
                  <a:lnTo>
                    <a:pt x="74" y="777"/>
                  </a:lnTo>
                  <a:lnTo>
                    <a:pt x="68" y="756"/>
                  </a:lnTo>
                  <a:lnTo>
                    <a:pt x="63" y="737"/>
                  </a:lnTo>
                  <a:lnTo>
                    <a:pt x="51" y="718"/>
                  </a:lnTo>
                  <a:lnTo>
                    <a:pt x="45" y="698"/>
                  </a:lnTo>
                  <a:lnTo>
                    <a:pt x="28" y="672"/>
                  </a:lnTo>
                  <a:lnTo>
                    <a:pt x="22" y="652"/>
                  </a:lnTo>
                  <a:lnTo>
                    <a:pt x="16" y="633"/>
                  </a:lnTo>
                  <a:lnTo>
                    <a:pt x="5" y="606"/>
                  </a:lnTo>
                  <a:lnTo>
                    <a:pt x="0" y="580"/>
                  </a:lnTo>
                  <a:lnTo>
                    <a:pt x="0" y="561"/>
                  </a:lnTo>
                  <a:lnTo>
                    <a:pt x="0" y="542"/>
                  </a:lnTo>
                  <a:lnTo>
                    <a:pt x="0" y="489"/>
                  </a:lnTo>
                  <a:lnTo>
                    <a:pt x="0" y="469"/>
                  </a:lnTo>
                  <a:lnTo>
                    <a:pt x="0" y="424"/>
                  </a:lnTo>
                  <a:lnTo>
                    <a:pt x="0" y="404"/>
                  </a:lnTo>
                  <a:lnTo>
                    <a:pt x="11" y="385"/>
                  </a:lnTo>
                  <a:lnTo>
                    <a:pt x="28" y="359"/>
                  </a:lnTo>
                  <a:lnTo>
                    <a:pt x="45" y="338"/>
                  </a:lnTo>
                  <a:lnTo>
                    <a:pt x="68" y="333"/>
                  </a:lnTo>
                  <a:lnTo>
                    <a:pt x="86" y="306"/>
                  </a:lnTo>
                  <a:lnTo>
                    <a:pt x="103" y="286"/>
                  </a:lnTo>
                  <a:lnTo>
                    <a:pt x="126" y="267"/>
                  </a:lnTo>
                  <a:lnTo>
                    <a:pt x="138" y="228"/>
                  </a:lnTo>
                  <a:lnTo>
                    <a:pt x="161" y="208"/>
                  </a:lnTo>
                  <a:lnTo>
                    <a:pt x="177" y="195"/>
                  </a:lnTo>
                  <a:lnTo>
                    <a:pt x="195" y="176"/>
                  </a:lnTo>
                  <a:lnTo>
                    <a:pt x="218" y="155"/>
                  </a:lnTo>
                  <a:lnTo>
                    <a:pt x="253" y="150"/>
                  </a:lnTo>
                  <a:lnTo>
                    <a:pt x="299" y="129"/>
                  </a:lnTo>
                  <a:lnTo>
                    <a:pt x="339" y="117"/>
                  </a:lnTo>
                  <a:lnTo>
                    <a:pt x="361" y="97"/>
                  </a:lnTo>
                  <a:lnTo>
                    <a:pt x="379" y="91"/>
                  </a:lnTo>
                  <a:lnTo>
                    <a:pt x="425" y="77"/>
                  </a:lnTo>
                  <a:lnTo>
                    <a:pt x="442" y="71"/>
                  </a:lnTo>
                  <a:lnTo>
                    <a:pt x="460" y="64"/>
                  </a:lnTo>
                  <a:lnTo>
                    <a:pt x="512" y="51"/>
                  </a:lnTo>
                  <a:lnTo>
                    <a:pt x="528" y="38"/>
                  </a:lnTo>
                  <a:lnTo>
                    <a:pt x="545" y="38"/>
                  </a:lnTo>
                  <a:lnTo>
                    <a:pt x="563" y="25"/>
                  </a:lnTo>
                  <a:lnTo>
                    <a:pt x="586" y="19"/>
                  </a:lnTo>
                  <a:lnTo>
                    <a:pt x="609" y="5"/>
                  </a:lnTo>
                  <a:lnTo>
                    <a:pt x="626" y="0"/>
                  </a:lnTo>
                  <a:lnTo>
                    <a:pt x="644" y="0"/>
                  </a:lnTo>
                  <a:lnTo>
                    <a:pt x="661" y="5"/>
                  </a:lnTo>
                  <a:lnTo>
                    <a:pt x="679" y="19"/>
                  </a:lnTo>
                  <a:lnTo>
                    <a:pt x="718" y="25"/>
                  </a:lnTo>
                  <a:lnTo>
                    <a:pt x="753" y="38"/>
                  </a:lnTo>
                  <a:lnTo>
                    <a:pt x="764" y="58"/>
                  </a:lnTo>
                  <a:lnTo>
                    <a:pt x="787" y="77"/>
                  </a:lnTo>
                  <a:lnTo>
                    <a:pt x="799" y="97"/>
                  </a:lnTo>
                  <a:lnTo>
                    <a:pt x="805" y="117"/>
                  </a:lnTo>
                  <a:lnTo>
                    <a:pt x="816" y="136"/>
                  </a:lnTo>
                  <a:lnTo>
                    <a:pt x="822" y="155"/>
                  </a:lnTo>
                  <a:lnTo>
                    <a:pt x="828" y="176"/>
                  </a:lnTo>
                  <a:lnTo>
                    <a:pt x="834" y="228"/>
                  </a:lnTo>
                  <a:lnTo>
                    <a:pt x="845" y="247"/>
                  </a:lnTo>
                  <a:lnTo>
                    <a:pt x="851" y="267"/>
                  </a:lnTo>
                  <a:lnTo>
                    <a:pt x="857" y="293"/>
                  </a:lnTo>
                  <a:lnTo>
                    <a:pt x="857" y="319"/>
                  </a:lnTo>
                  <a:lnTo>
                    <a:pt x="863" y="385"/>
                  </a:lnTo>
                  <a:lnTo>
                    <a:pt x="863" y="404"/>
                  </a:lnTo>
                  <a:lnTo>
                    <a:pt x="863" y="430"/>
                  </a:lnTo>
                  <a:lnTo>
                    <a:pt x="863" y="450"/>
                  </a:lnTo>
                  <a:lnTo>
                    <a:pt x="868" y="489"/>
                  </a:lnTo>
                  <a:lnTo>
                    <a:pt x="868" y="515"/>
                  </a:lnTo>
                  <a:lnTo>
                    <a:pt x="868" y="535"/>
                  </a:lnTo>
                  <a:lnTo>
                    <a:pt x="868" y="561"/>
                  </a:lnTo>
                  <a:lnTo>
                    <a:pt x="868" y="580"/>
                  </a:lnTo>
                  <a:lnTo>
                    <a:pt x="868" y="606"/>
                  </a:lnTo>
                  <a:lnTo>
                    <a:pt x="868" y="652"/>
                  </a:lnTo>
                  <a:lnTo>
                    <a:pt x="868" y="672"/>
                  </a:lnTo>
                  <a:lnTo>
                    <a:pt x="868" y="692"/>
                  </a:lnTo>
                  <a:lnTo>
                    <a:pt x="868" y="711"/>
                  </a:lnTo>
                  <a:lnTo>
                    <a:pt x="868" y="756"/>
                  </a:lnTo>
                  <a:lnTo>
                    <a:pt x="868" y="777"/>
                  </a:lnTo>
                  <a:lnTo>
                    <a:pt x="868" y="796"/>
                  </a:lnTo>
                  <a:lnTo>
                    <a:pt x="868" y="861"/>
                  </a:lnTo>
                  <a:lnTo>
                    <a:pt x="863" y="927"/>
                  </a:lnTo>
                  <a:lnTo>
                    <a:pt x="863" y="946"/>
                  </a:lnTo>
                  <a:lnTo>
                    <a:pt x="857" y="972"/>
                  </a:lnTo>
                  <a:lnTo>
                    <a:pt x="857" y="998"/>
                  </a:lnTo>
                  <a:lnTo>
                    <a:pt x="845" y="1025"/>
                  </a:lnTo>
                  <a:lnTo>
                    <a:pt x="839" y="1044"/>
                  </a:lnTo>
                  <a:lnTo>
                    <a:pt x="834" y="1064"/>
                  </a:lnTo>
                  <a:lnTo>
                    <a:pt x="816" y="1084"/>
                  </a:lnTo>
                  <a:lnTo>
                    <a:pt x="805" y="1096"/>
                  </a:lnTo>
                  <a:lnTo>
                    <a:pt x="799" y="1096"/>
                  </a:lnTo>
                </a:path>
              </a:pathLst>
            </a:custGeom>
            <a:solidFill>
              <a:srgbClr val="cc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9920000">
              <a:off x="1501560" y="3779640"/>
              <a:ext cx="695160" cy="31428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095560" y="280512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639880" y="2287440"/>
              <a:ext cx="76320" cy="103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693880" y="2987280"/>
              <a:ext cx="5112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657520" y="2588760"/>
              <a:ext cx="58428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60600" y="1717560"/>
              <a:ext cx="8143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085840" y="3314520"/>
              <a:ext cx="7923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895480" y="3362400"/>
              <a:ext cx="5580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905200" y="3335400"/>
              <a:ext cx="61416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2260440" y="3830760"/>
              <a:ext cx="8733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33800" y="3727080"/>
              <a:ext cx="5554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868480" y="3879360"/>
              <a:ext cx="2923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851200" y="3840120"/>
              <a:ext cx="4608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752480" y="2232000"/>
              <a:ext cx="38736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147760" y="2297160"/>
              <a:ext cx="4921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639880" y="2222280"/>
              <a:ext cx="4748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2085480" y="2805120"/>
              <a:ext cx="1764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085840" y="3335400"/>
              <a:ext cx="1666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2252520" y="3344760"/>
              <a:ext cx="15840" cy="131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8960" y="3828960"/>
              <a:ext cx="4935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58600" y="3146400"/>
              <a:ext cx="65160" cy="70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8000" y="3062160"/>
              <a:ext cx="5461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2840" y="3467160"/>
              <a:ext cx="473040" cy="62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206000" y="3062160"/>
              <a:ext cx="6372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42840" y="2979720"/>
              <a:ext cx="34308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33480" y="3170160"/>
              <a:ext cx="25236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25480" y="2254320"/>
              <a:ext cx="344520" cy="612720"/>
            </a:xfrm>
            <a:custGeom>
              <a:avLst/>
              <a:gdLst/>
              <a:ahLst/>
              <a:rect l="l" t="t" r="r" b="b"/>
              <a:pathLst>
                <a:path w="217" h="386">
                  <a:moveTo>
                    <a:pt x="0" y="0"/>
                  </a:moveTo>
                  <a:lnTo>
                    <a:pt x="11" y="25"/>
                  </a:lnTo>
                  <a:lnTo>
                    <a:pt x="11" y="45"/>
                  </a:lnTo>
                  <a:lnTo>
                    <a:pt x="5" y="65"/>
                  </a:lnTo>
                  <a:lnTo>
                    <a:pt x="5" y="84"/>
                  </a:lnTo>
                  <a:lnTo>
                    <a:pt x="17" y="103"/>
                  </a:lnTo>
                  <a:lnTo>
                    <a:pt x="17" y="124"/>
                  </a:lnTo>
                  <a:lnTo>
                    <a:pt x="28" y="143"/>
                  </a:lnTo>
                  <a:lnTo>
                    <a:pt x="40" y="162"/>
                  </a:lnTo>
                  <a:lnTo>
                    <a:pt x="56" y="176"/>
                  </a:lnTo>
                  <a:lnTo>
                    <a:pt x="68" y="195"/>
                  </a:lnTo>
                  <a:lnTo>
                    <a:pt x="73" y="215"/>
                  </a:lnTo>
                  <a:lnTo>
                    <a:pt x="62" y="234"/>
                  </a:lnTo>
                  <a:lnTo>
                    <a:pt x="51" y="254"/>
                  </a:lnTo>
                  <a:lnTo>
                    <a:pt x="68" y="260"/>
                  </a:lnTo>
                  <a:lnTo>
                    <a:pt x="79" y="280"/>
                  </a:lnTo>
                  <a:lnTo>
                    <a:pt x="97" y="293"/>
                  </a:lnTo>
                  <a:lnTo>
                    <a:pt x="108" y="312"/>
                  </a:lnTo>
                  <a:lnTo>
                    <a:pt x="108" y="333"/>
                  </a:lnTo>
                  <a:lnTo>
                    <a:pt x="113" y="352"/>
                  </a:lnTo>
                  <a:lnTo>
                    <a:pt x="130" y="371"/>
                  </a:lnTo>
                  <a:lnTo>
                    <a:pt x="148" y="385"/>
                  </a:lnTo>
                  <a:lnTo>
                    <a:pt x="164" y="385"/>
                  </a:lnTo>
                  <a:lnTo>
                    <a:pt x="181" y="385"/>
                  </a:lnTo>
                  <a:lnTo>
                    <a:pt x="199" y="385"/>
                  </a:lnTo>
                  <a:lnTo>
                    <a:pt x="216" y="3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2520" y="23144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7"/>
                  </a:lnTo>
                  <a:lnTo>
                    <a:pt x="24" y="46"/>
                  </a:lnTo>
                  <a:lnTo>
                    <a:pt x="17" y="65"/>
                  </a:lnTo>
                  <a:lnTo>
                    <a:pt x="17" y="85"/>
                  </a:lnTo>
                  <a:lnTo>
                    <a:pt x="11" y="104"/>
                  </a:lnTo>
                  <a:lnTo>
                    <a:pt x="5" y="123"/>
                  </a:lnTo>
                  <a:lnTo>
                    <a:pt x="0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628640" y="2600280"/>
              <a:ext cx="12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47640" y="2679840"/>
              <a:ext cx="82800" cy="444240"/>
            </a:xfrm>
            <a:custGeom>
              <a:avLst/>
              <a:gdLst/>
              <a:ahLst/>
              <a:rect l="l" t="t" r="r" b="b"/>
              <a:pathLst>
                <a:path w="52" h="280">
                  <a:moveTo>
                    <a:pt x="51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34" y="65"/>
                  </a:lnTo>
                  <a:lnTo>
                    <a:pt x="11" y="84"/>
                  </a:lnTo>
                  <a:lnTo>
                    <a:pt x="22" y="103"/>
                  </a:lnTo>
                  <a:lnTo>
                    <a:pt x="28" y="123"/>
                  </a:lnTo>
                  <a:lnTo>
                    <a:pt x="22" y="142"/>
                  </a:lnTo>
                  <a:lnTo>
                    <a:pt x="17" y="162"/>
                  </a:lnTo>
                  <a:lnTo>
                    <a:pt x="17" y="182"/>
                  </a:lnTo>
                  <a:lnTo>
                    <a:pt x="11" y="201"/>
                  </a:lnTo>
                  <a:lnTo>
                    <a:pt x="5" y="220"/>
                  </a:lnTo>
                  <a:lnTo>
                    <a:pt x="5" y="240"/>
                  </a:lnTo>
                  <a:lnTo>
                    <a:pt x="0" y="259"/>
                  </a:lnTo>
                  <a:lnTo>
                    <a:pt x="0" y="27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2800" y="4410000"/>
              <a:ext cx="439920" cy="301680"/>
            </a:xfrm>
            <a:custGeom>
              <a:avLst/>
              <a:gdLst/>
              <a:ahLst/>
              <a:rect l="l" t="t" r="r" b="b"/>
              <a:pathLst>
                <a:path w="277" h="190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9"/>
                  </a:lnTo>
                  <a:lnTo>
                    <a:pt x="86" y="72"/>
                  </a:lnTo>
                  <a:lnTo>
                    <a:pt x="103" y="78"/>
                  </a:lnTo>
                  <a:lnTo>
                    <a:pt x="120" y="85"/>
                  </a:lnTo>
                  <a:lnTo>
                    <a:pt x="138" y="97"/>
                  </a:lnTo>
                  <a:lnTo>
                    <a:pt x="155" y="111"/>
                  </a:lnTo>
                  <a:lnTo>
                    <a:pt x="172" y="130"/>
                  </a:lnTo>
                  <a:lnTo>
                    <a:pt x="190" y="137"/>
                  </a:lnTo>
                  <a:lnTo>
                    <a:pt x="207" y="149"/>
                  </a:lnTo>
                  <a:lnTo>
                    <a:pt x="224" y="163"/>
                  </a:lnTo>
                  <a:lnTo>
                    <a:pt x="242" y="169"/>
                  </a:lnTo>
                  <a:lnTo>
                    <a:pt x="259" y="176"/>
                  </a:lnTo>
                  <a:lnTo>
                    <a:pt x="276" y="18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0920" y="4692600"/>
              <a:ext cx="20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68440" y="4629240"/>
              <a:ext cx="1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60440" y="46180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2" y="0"/>
                  </a:moveTo>
                  <a:lnTo>
                    <a:pt x="56" y="26"/>
                  </a:lnTo>
                  <a:lnTo>
                    <a:pt x="39" y="40"/>
                  </a:lnTo>
                  <a:lnTo>
                    <a:pt x="23" y="40"/>
                  </a:lnTo>
                  <a:lnTo>
                    <a:pt x="5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9240" y="2151000"/>
              <a:ext cx="812880" cy="2313000"/>
            </a:xfrm>
            <a:custGeom>
              <a:avLst/>
              <a:gdLst/>
              <a:ahLst/>
              <a:rect l="l" t="t" r="r" b="b"/>
              <a:pathLst>
                <a:path w="512" h="1457">
                  <a:moveTo>
                    <a:pt x="177" y="12"/>
                  </a:moveTo>
                  <a:lnTo>
                    <a:pt x="154" y="0"/>
                  </a:lnTo>
                  <a:lnTo>
                    <a:pt x="143" y="19"/>
                  </a:lnTo>
                  <a:lnTo>
                    <a:pt x="137" y="39"/>
                  </a:lnTo>
                  <a:lnTo>
                    <a:pt x="137" y="58"/>
                  </a:lnTo>
                  <a:lnTo>
                    <a:pt x="137" y="77"/>
                  </a:lnTo>
                  <a:lnTo>
                    <a:pt x="137" y="98"/>
                  </a:lnTo>
                  <a:lnTo>
                    <a:pt x="137" y="124"/>
                  </a:lnTo>
                  <a:lnTo>
                    <a:pt x="126" y="143"/>
                  </a:lnTo>
                  <a:lnTo>
                    <a:pt x="126" y="162"/>
                  </a:lnTo>
                  <a:lnTo>
                    <a:pt x="131" y="182"/>
                  </a:lnTo>
                  <a:lnTo>
                    <a:pt x="131" y="202"/>
                  </a:lnTo>
                  <a:lnTo>
                    <a:pt x="120" y="221"/>
                  </a:lnTo>
                  <a:lnTo>
                    <a:pt x="120" y="241"/>
                  </a:lnTo>
                  <a:lnTo>
                    <a:pt x="120" y="260"/>
                  </a:lnTo>
                  <a:lnTo>
                    <a:pt x="120" y="281"/>
                  </a:lnTo>
                  <a:lnTo>
                    <a:pt x="120" y="300"/>
                  </a:lnTo>
                  <a:lnTo>
                    <a:pt x="103" y="312"/>
                  </a:lnTo>
                  <a:lnTo>
                    <a:pt x="97" y="333"/>
                  </a:lnTo>
                  <a:lnTo>
                    <a:pt x="86" y="352"/>
                  </a:lnTo>
                  <a:lnTo>
                    <a:pt x="86" y="371"/>
                  </a:lnTo>
                  <a:lnTo>
                    <a:pt x="86" y="391"/>
                  </a:lnTo>
                  <a:lnTo>
                    <a:pt x="80" y="411"/>
                  </a:lnTo>
                  <a:lnTo>
                    <a:pt x="63" y="424"/>
                  </a:lnTo>
                  <a:lnTo>
                    <a:pt x="51" y="443"/>
                  </a:lnTo>
                  <a:lnTo>
                    <a:pt x="45" y="469"/>
                  </a:lnTo>
                  <a:lnTo>
                    <a:pt x="45" y="490"/>
                  </a:lnTo>
                  <a:lnTo>
                    <a:pt x="39" y="509"/>
                  </a:lnTo>
                  <a:lnTo>
                    <a:pt x="39" y="535"/>
                  </a:lnTo>
                  <a:lnTo>
                    <a:pt x="34" y="554"/>
                  </a:lnTo>
                  <a:lnTo>
                    <a:pt x="28" y="574"/>
                  </a:lnTo>
                  <a:lnTo>
                    <a:pt x="22" y="594"/>
                  </a:lnTo>
                  <a:lnTo>
                    <a:pt x="5" y="613"/>
                  </a:lnTo>
                  <a:lnTo>
                    <a:pt x="5" y="633"/>
                  </a:lnTo>
                  <a:lnTo>
                    <a:pt x="0" y="652"/>
                  </a:lnTo>
                  <a:lnTo>
                    <a:pt x="0" y="672"/>
                  </a:lnTo>
                  <a:lnTo>
                    <a:pt x="11" y="692"/>
                  </a:lnTo>
                  <a:lnTo>
                    <a:pt x="16" y="718"/>
                  </a:lnTo>
                  <a:lnTo>
                    <a:pt x="16" y="737"/>
                  </a:lnTo>
                  <a:lnTo>
                    <a:pt x="16" y="757"/>
                  </a:lnTo>
                  <a:lnTo>
                    <a:pt x="11" y="777"/>
                  </a:lnTo>
                  <a:lnTo>
                    <a:pt x="5" y="796"/>
                  </a:lnTo>
                  <a:lnTo>
                    <a:pt x="22" y="809"/>
                  </a:lnTo>
                  <a:lnTo>
                    <a:pt x="34" y="829"/>
                  </a:lnTo>
                  <a:lnTo>
                    <a:pt x="34" y="849"/>
                  </a:lnTo>
                  <a:lnTo>
                    <a:pt x="34" y="868"/>
                  </a:lnTo>
                  <a:lnTo>
                    <a:pt x="51" y="875"/>
                  </a:lnTo>
                  <a:lnTo>
                    <a:pt x="68" y="861"/>
                  </a:lnTo>
                  <a:lnTo>
                    <a:pt x="74" y="882"/>
                  </a:lnTo>
                  <a:lnTo>
                    <a:pt x="74" y="901"/>
                  </a:lnTo>
                  <a:lnTo>
                    <a:pt x="74" y="920"/>
                  </a:lnTo>
                  <a:lnTo>
                    <a:pt x="57" y="913"/>
                  </a:lnTo>
                  <a:lnTo>
                    <a:pt x="51" y="934"/>
                  </a:lnTo>
                  <a:lnTo>
                    <a:pt x="63" y="953"/>
                  </a:lnTo>
                  <a:lnTo>
                    <a:pt x="80" y="966"/>
                  </a:lnTo>
                  <a:lnTo>
                    <a:pt x="80" y="986"/>
                  </a:lnTo>
                  <a:lnTo>
                    <a:pt x="74" y="1005"/>
                  </a:lnTo>
                  <a:lnTo>
                    <a:pt x="68" y="1025"/>
                  </a:lnTo>
                  <a:lnTo>
                    <a:pt x="68" y="1044"/>
                  </a:lnTo>
                  <a:lnTo>
                    <a:pt x="86" y="1044"/>
                  </a:lnTo>
                  <a:lnTo>
                    <a:pt x="92" y="1064"/>
                  </a:lnTo>
                  <a:lnTo>
                    <a:pt x="92" y="1084"/>
                  </a:lnTo>
                  <a:lnTo>
                    <a:pt x="97" y="1103"/>
                  </a:lnTo>
                  <a:lnTo>
                    <a:pt x="109" y="1122"/>
                  </a:lnTo>
                  <a:lnTo>
                    <a:pt x="115" y="1143"/>
                  </a:lnTo>
                  <a:lnTo>
                    <a:pt x="115" y="1162"/>
                  </a:lnTo>
                  <a:lnTo>
                    <a:pt x="131" y="1182"/>
                  </a:lnTo>
                  <a:lnTo>
                    <a:pt x="148" y="1195"/>
                  </a:lnTo>
                  <a:lnTo>
                    <a:pt x="154" y="1214"/>
                  </a:lnTo>
                  <a:lnTo>
                    <a:pt x="166" y="1234"/>
                  </a:lnTo>
                  <a:lnTo>
                    <a:pt x="183" y="1247"/>
                  </a:lnTo>
                  <a:lnTo>
                    <a:pt x="200" y="1247"/>
                  </a:lnTo>
                  <a:lnTo>
                    <a:pt x="218" y="1260"/>
                  </a:lnTo>
                  <a:lnTo>
                    <a:pt x="229" y="1279"/>
                  </a:lnTo>
                  <a:lnTo>
                    <a:pt x="247" y="1293"/>
                  </a:lnTo>
                  <a:lnTo>
                    <a:pt x="263" y="1300"/>
                  </a:lnTo>
                  <a:lnTo>
                    <a:pt x="275" y="1319"/>
                  </a:lnTo>
                  <a:lnTo>
                    <a:pt x="298" y="1326"/>
                  </a:lnTo>
                  <a:lnTo>
                    <a:pt x="304" y="1345"/>
                  </a:lnTo>
                  <a:lnTo>
                    <a:pt x="315" y="1364"/>
                  </a:lnTo>
                  <a:lnTo>
                    <a:pt x="321" y="1384"/>
                  </a:lnTo>
                  <a:lnTo>
                    <a:pt x="332" y="1404"/>
                  </a:lnTo>
                  <a:lnTo>
                    <a:pt x="350" y="1417"/>
                  </a:lnTo>
                  <a:lnTo>
                    <a:pt x="367" y="1404"/>
                  </a:lnTo>
                  <a:lnTo>
                    <a:pt x="389" y="1404"/>
                  </a:lnTo>
                  <a:lnTo>
                    <a:pt x="412" y="1410"/>
                  </a:lnTo>
                  <a:lnTo>
                    <a:pt x="430" y="1417"/>
                  </a:lnTo>
                  <a:lnTo>
                    <a:pt x="511" y="1456"/>
                  </a:lnTo>
                  <a:lnTo>
                    <a:pt x="493" y="1450"/>
                  </a:lnTo>
                  <a:lnTo>
                    <a:pt x="493" y="1436"/>
                  </a:lnTo>
                  <a:lnTo>
                    <a:pt x="493" y="1430"/>
                  </a:lnTo>
                  <a:lnTo>
                    <a:pt x="488" y="14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77840" y="2408400"/>
              <a:ext cx="552600" cy="158760"/>
            </a:xfrm>
            <a:custGeom>
              <a:avLst/>
              <a:gdLst/>
              <a:ahLst/>
              <a:rect l="l" t="t" r="r" b="b"/>
              <a:pathLst>
                <a:path w="348" h="100">
                  <a:moveTo>
                    <a:pt x="0" y="0"/>
                  </a:moveTo>
                  <a:lnTo>
                    <a:pt x="20" y="20"/>
                  </a:lnTo>
                  <a:lnTo>
                    <a:pt x="25" y="39"/>
                  </a:lnTo>
                  <a:lnTo>
                    <a:pt x="30" y="59"/>
                  </a:lnTo>
                  <a:lnTo>
                    <a:pt x="30" y="79"/>
                  </a:lnTo>
                  <a:lnTo>
                    <a:pt x="47" y="92"/>
                  </a:lnTo>
                  <a:lnTo>
                    <a:pt x="62" y="79"/>
                  </a:lnTo>
                  <a:lnTo>
                    <a:pt x="78" y="79"/>
                  </a:lnTo>
                  <a:lnTo>
                    <a:pt x="94" y="79"/>
                  </a:lnTo>
                  <a:lnTo>
                    <a:pt x="115" y="86"/>
                  </a:lnTo>
                  <a:lnTo>
                    <a:pt x="131" y="86"/>
                  </a:lnTo>
                  <a:lnTo>
                    <a:pt x="147" y="86"/>
                  </a:lnTo>
                  <a:lnTo>
                    <a:pt x="178" y="86"/>
                  </a:lnTo>
                  <a:lnTo>
                    <a:pt x="194" y="86"/>
                  </a:lnTo>
                  <a:lnTo>
                    <a:pt x="210" y="92"/>
                  </a:lnTo>
                  <a:lnTo>
                    <a:pt x="225" y="92"/>
                  </a:lnTo>
                  <a:lnTo>
                    <a:pt x="242" y="99"/>
                  </a:lnTo>
                  <a:lnTo>
                    <a:pt x="257" y="99"/>
                  </a:lnTo>
                  <a:lnTo>
                    <a:pt x="278" y="99"/>
                  </a:lnTo>
                  <a:lnTo>
                    <a:pt x="294" y="99"/>
                  </a:lnTo>
                  <a:lnTo>
                    <a:pt x="347" y="99"/>
                  </a:lnTo>
                  <a:lnTo>
                    <a:pt x="342" y="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20840" y="2141640"/>
              <a:ext cx="326880" cy="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1442520" y="1768320"/>
              <a:ext cx="8100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8520" y="174636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354480" y="2773440"/>
              <a:ext cx="41904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08200" y="3170160"/>
              <a:ext cx="3351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728880" y="3675240"/>
              <a:ext cx="4320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890880" y="4152600"/>
              <a:ext cx="2970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0160" y="2214720"/>
              <a:ext cx="174600" cy="674640"/>
            </a:xfrm>
            <a:custGeom>
              <a:avLst/>
              <a:gdLst/>
              <a:ahLst/>
              <a:rect l="l" t="t" r="r" b="b"/>
              <a:pathLst>
                <a:path w="110" h="425">
                  <a:moveTo>
                    <a:pt x="0" y="0"/>
                  </a:moveTo>
                  <a:lnTo>
                    <a:pt x="5" y="26"/>
                  </a:lnTo>
                  <a:lnTo>
                    <a:pt x="5" y="45"/>
                  </a:lnTo>
                  <a:lnTo>
                    <a:pt x="0" y="64"/>
                  </a:lnTo>
                  <a:lnTo>
                    <a:pt x="10" y="84"/>
                  </a:lnTo>
                  <a:lnTo>
                    <a:pt x="10" y="104"/>
                  </a:lnTo>
                  <a:lnTo>
                    <a:pt x="22" y="123"/>
                  </a:lnTo>
                  <a:lnTo>
                    <a:pt x="34" y="143"/>
                  </a:lnTo>
                  <a:lnTo>
                    <a:pt x="39" y="162"/>
                  </a:lnTo>
                  <a:lnTo>
                    <a:pt x="39" y="182"/>
                  </a:lnTo>
                  <a:lnTo>
                    <a:pt x="45" y="202"/>
                  </a:lnTo>
                  <a:lnTo>
                    <a:pt x="63" y="202"/>
                  </a:lnTo>
                  <a:lnTo>
                    <a:pt x="68" y="221"/>
                  </a:lnTo>
                  <a:lnTo>
                    <a:pt x="68" y="241"/>
                  </a:lnTo>
                  <a:lnTo>
                    <a:pt x="63" y="261"/>
                  </a:lnTo>
                  <a:lnTo>
                    <a:pt x="63" y="280"/>
                  </a:lnTo>
                  <a:lnTo>
                    <a:pt x="80" y="293"/>
                  </a:lnTo>
                  <a:lnTo>
                    <a:pt x="86" y="313"/>
                  </a:lnTo>
                  <a:lnTo>
                    <a:pt x="91" y="332"/>
                  </a:lnTo>
                  <a:lnTo>
                    <a:pt x="91" y="352"/>
                  </a:lnTo>
                  <a:lnTo>
                    <a:pt x="91" y="371"/>
                  </a:lnTo>
                  <a:lnTo>
                    <a:pt x="97" y="392"/>
                  </a:lnTo>
                  <a:lnTo>
                    <a:pt x="109" y="411"/>
                  </a:lnTo>
                  <a:lnTo>
                    <a:pt x="109" y="4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43160" y="2170080"/>
              <a:ext cx="801720" cy="1039680"/>
            </a:xfrm>
            <a:custGeom>
              <a:avLst/>
              <a:gdLst/>
              <a:ahLst/>
              <a:rect l="l" t="t" r="r" b="b"/>
              <a:pathLst>
                <a:path w="505" h="655">
                  <a:moveTo>
                    <a:pt x="0" y="32"/>
                  </a:moveTo>
                  <a:lnTo>
                    <a:pt x="27" y="32"/>
                  </a:lnTo>
                  <a:lnTo>
                    <a:pt x="45" y="32"/>
                  </a:lnTo>
                  <a:lnTo>
                    <a:pt x="62" y="32"/>
                  </a:lnTo>
                  <a:lnTo>
                    <a:pt x="68" y="13"/>
                  </a:lnTo>
                  <a:lnTo>
                    <a:pt x="85" y="0"/>
                  </a:lnTo>
                  <a:lnTo>
                    <a:pt x="119" y="0"/>
                  </a:lnTo>
                  <a:lnTo>
                    <a:pt x="136" y="13"/>
                  </a:lnTo>
                  <a:lnTo>
                    <a:pt x="154" y="20"/>
                  </a:lnTo>
                  <a:lnTo>
                    <a:pt x="171" y="20"/>
                  </a:lnTo>
                  <a:lnTo>
                    <a:pt x="188" y="20"/>
                  </a:lnTo>
                  <a:lnTo>
                    <a:pt x="205" y="20"/>
                  </a:lnTo>
                  <a:lnTo>
                    <a:pt x="222" y="20"/>
                  </a:lnTo>
                  <a:lnTo>
                    <a:pt x="245" y="27"/>
                  </a:lnTo>
                  <a:lnTo>
                    <a:pt x="263" y="27"/>
                  </a:lnTo>
                  <a:lnTo>
                    <a:pt x="280" y="27"/>
                  </a:lnTo>
                  <a:lnTo>
                    <a:pt x="297" y="27"/>
                  </a:lnTo>
                  <a:lnTo>
                    <a:pt x="314" y="27"/>
                  </a:lnTo>
                  <a:lnTo>
                    <a:pt x="331" y="27"/>
                  </a:lnTo>
                  <a:lnTo>
                    <a:pt x="348" y="27"/>
                  </a:lnTo>
                  <a:lnTo>
                    <a:pt x="337" y="46"/>
                  </a:lnTo>
                  <a:lnTo>
                    <a:pt x="325" y="65"/>
                  </a:lnTo>
                  <a:lnTo>
                    <a:pt x="314" y="85"/>
                  </a:lnTo>
                  <a:lnTo>
                    <a:pt x="308" y="105"/>
                  </a:lnTo>
                  <a:lnTo>
                    <a:pt x="302" y="124"/>
                  </a:lnTo>
                  <a:lnTo>
                    <a:pt x="302" y="144"/>
                  </a:lnTo>
                  <a:lnTo>
                    <a:pt x="297" y="163"/>
                  </a:lnTo>
                  <a:lnTo>
                    <a:pt x="292" y="182"/>
                  </a:lnTo>
                  <a:lnTo>
                    <a:pt x="292" y="208"/>
                  </a:lnTo>
                  <a:lnTo>
                    <a:pt x="274" y="229"/>
                  </a:lnTo>
                  <a:lnTo>
                    <a:pt x="274" y="248"/>
                  </a:lnTo>
                  <a:lnTo>
                    <a:pt x="286" y="268"/>
                  </a:lnTo>
                  <a:lnTo>
                    <a:pt x="286" y="288"/>
                  </a:lnTo>
                  <a:lnTo>
                    <a:pt x="292" y="307"/>
                  </a:lnTo>
                  <a:lnTo>
                    <a:pt x="308" y="320"/>
                  </a:lnTo>
                  <a:lnTo>
                    <a:pt x="325" y="327"/>
                  </a:lnTo>
                  <a:lnTo>
                    <a:pt x="343" y="333"/>
                  </a:lnTo>
                  <a:lnTo>
                    <a:pt x="360" y="333"/>
                  </a:lnTo>
                  <a:lnTo>
                    <a:pt x="377" y="346"/>
                  </a:lnTo>
                  <a:lnTo>
                    <a:pt x="389" y="365"/>
                  </a:lnTo>
                  <a:lnTo>
                    <a:pt x="400" y="386"/>
                  </a:lnTo>
                  <a:lnTo>
                    <a:pt x="417" y="398"/>
                  </a:lnTo>
                  <a:lnTo>
                    <a:pt x="423" y="419"/>
                  </a:lnTo>
                  <a:lnTo>
                    <a:pt x="463" y="464"/>
                  </a:lnTo>
                  <a:lnTo>
                    <a:pt x="480" y="477"/>
                  </a:lnTo>
                  <a:lnTo>
                    <a:pt x="492" y="496"/>
                  </a:lnTo>
                  <a:lnTo>
                    <a:pt x="504" y="516"/>
                  </a:lnTo>
                  <a:lnTo>
                    <a:pt x="492" y="536"/>
                  </a:lnTo>
                  <a:lnTo>
                    <a:pt x="469" y="542"/>
                  </a:lnTo>
                  <a:lnTo>
                    <a:pt x="463" y="562"/>
                  </a:lnTo>
                  <a:lnTo>
                    <a:pt x="475" y="581"/>
                  </a:lnTo>
                  <a:lnTo>
                    <a:pt x="486" y="600"/>
                  </a:lnTo>
                  <a:lnTo>
                    <a:pt x="486" y="621"/>
                  </a:lnTo>
                  <a:lnTo>
                    <a:pt x="475" y="647"/>
                  </a:lnTo>
                  <a:lnTo>
                    <a:pt x="463" y="6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78280" y="3218040"/>
              <a:ext cx="338040" cy="365040"/>
            </a:xfrm>
            <a:custGeom>
              <a:avLst/>
              <a:gdLst/>
              <a:ahLst/>
              <a:rect l="l" t="t" r="r" b="b"/>
              <a:pathLst>
                <a:path w="213" h="230">
                  <a:moveTo>
                    <a:pt x="0" y="0"/>
                  </a:moveTo>
                  <a:lnTo>
                    <a:pt x="22" y="6"/>
                  </a:lnTo>
                  <a:lnTo>
                    <a:pt x="34" y="27"/>
                  </a:lnTo>
                  <a:lnTo>
                    <a:pt x="45" y="46"/>
                  </a:lnTo>
                  <a:lnTo>
                    <a:pt x="63" y="72"/>
                  </a:lnTo>
                  <a:lnTo>
                    <a:pt x="80" y="85"/>
                  </a:lnTo>
                  <a:lnTo>
                    <a:pt x="97" y="85"/>
                  </a:lnTo>
                  <a:lnTo>
                    <a:pt x="114" y="91"/>
                  </a:lnTo>
                  <a:lnTo>
                    <a:pt x="114" y="111"/>
                  </a:lnTo>
                  <a:lnTo>
                    <a:pt x="114" y="130"/>
                  </a:lnTo>
                  <a:lnTo>
                    <a:pt x="131" y="144"/>
                  </a:lnTo>
                  <a:lnTo>
                    <a:pt x="148" y="156"/>
                  </a:lnTo>
                  <a:lnTo>
                    <a:pt x="166" y="170"/>
                  </a:lnTo>
                  <a:lnTo>
                    <a:pt x="183" y="182"/>
                  </a:lnTo>
                  <a:lnTo>
                    <a:pt x="195" y="203"/>
                  </a:lnTo>
                  <a:lnTo>
                    <a:pt x="212" y="209"/>
                  </a:lnTo>
                  <a:lnTo>
                    <a:pt x="212" y="2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160880" y="3703680"/>
              <a:ext cx="73080" cy="768240"/>
            </a:xfrm>
            <a:custGeom>
              <a:avLst/>
              <a:gdLst/>
              <a:ahLst/>
              <a:rect l="l" t="t" r="r" b="b"/>
              <a:pathLst>
                <a:path w="46" h="484">
                  <a:moveTo>
                    <a:pt x="45" y="0"/>
                  </a:moveTo>
                  <a:lnTo>
                    <a:pt x="45" y="25"/>
                  </a:lnTo>
                  <a:lnTo>
                    <a:pt x="45" y="46"/>
                  </a:lnTo>
                  <a:lnTo>
                    <a:pt x="39" y="65"/>
                  </a:lnTo>
                  <a:lnTo>
                    <a:pt x="39" y="84"/>
                  </a:lnTo>
                  <a:lnTo>
                    <a:pt x="33" y="104"/>
                  </a:lnTo>
                  <a:lnTo>
                    <a:pt x="33" y="124"/>
                  </a:lnTo>
                  <a:lnTo>
                    <a:pt x="22" y="143"/>
                  </a:lnTo>
                  <a:lnTo>
                    <a:pt x="17" y="163"/>
                  </a:lnTo>
                  <a:lnTo>
                    <a:pt x="5" y="182"/>
                  </a:lnTo>
                  <a:lnTo>
                    <a:pt x="0" y="203"/>
                  </a:lnTo>
                  <a:lnTo>
                    <a:pt x="0" y="222"/>
                  </a:lnTo>
                  <a:lnTo>
                    <a:pt x="0" y="241"/>
                  </a:lnTo>
                  <a:lnTo>
                    <a:pt x="5" y="261"/>
                  </a:lnTo>
                  <a:lnTo>
                    <a:pt x="17" y="280"/>
                  </a:lnTo>
                  <a:lnTo>
                    <a:pt x="22" y="320"/>
                  </a:lnTo>
                  <a:lnTo>
                    <a:pt x="33" y="339"/>
                  </a:lnTo>
                  <a:lnTo>
                    <a:pt x="33" y="358"/>
                  </a:lnTo>
                  <a:lnTo>
                    <a:pt x="39" y="384"/>
                  </a:lnTo>
                  <a:lnTo>
                    <a:pt x="39" y="405"/>
                  </a:lnTo>
                  <a:lnTo>
                    <a:pt x="39" y="424"/>
                  </a:lnTo>
                  <a:lnTo>
                    <a:pt x="33" y="443"/>
                  </a:lnTo>
                  <a:lnTo>
                    <a:pt x="33" y="463"/>
                  </a:lnTo>
                  <a:lnTo>
                    <a:pt x="45" y="48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43320" y="2908440"/>
              <a:ext cx="290520" cy="56016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5" y="0"/>
                  </a:moveTo>
                  <a:lnTo>
                    <a:pt x="5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16" y="84"/>
                  </a:lnTo>
                  <a:lnTo>
                    <a:pt x="28" y="104"/>
                  </a:lnTo>
                  <a:lnTo>
                    <a:pt x="45" y="124"/>
                  </a:lnTo>
                  <a:lnTo>
                    <a:pt x="61" y="143"/>
                  </a:lnTo>
                  <a:lnTo>
                    <a:pt x="61" y="163"/>
                  </a:lnTo>
                  <a:lnTo>
                    <a:pt x="61" y="182"/>
                  </a:lnTo>
                  <a:lnTo>
                    <a:pt x="61" y="201"/>
                  </a:lnTo>
                  <a:lnTo>
                    <a:pt x="73" y="222"/>
                  </a:lnTo>
                  <a:lnTo>
                    <a:pt x="90" y="234"/>
                  </a:lnTo>
                  <a:lnTo>
                    <a:pt x="108" y="254"/>
                  </a:lnTo>
                  <a:lnTo>
                    <a:pt x="124" y="267"/>
                  </a:lnTo>
                  <a:lnTo>
                    <a:pt x="141" y="280"/>
                  </a:lnTo>
                  <a:lnTo>
                    <a:pt x="159" y="293"/>
                  </a:lnTo>
                  <a:lnTo>
                    <a:pt x="170" y="313"/>
                  </a:lnTo>
                  <a:lnTo>
                    <a:pt x="182" y="332"/>
                  </a:lnTo>
                  <a:lnTo>
                    <a:pt x="182" y="3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13040" y="3778200"/>
              <a:ext cx="131760" cy="393840"/>
            </a:xfrm>
            <a:custGeom>
              <a:avLst/>
              <a:gdLst/>
              <a:ahLst/>
              <a:rect l="l" t="t" r="r" b="b"/>
              <a:pathLst>
                <a:path w="83" h="248">
                  <a:moveTo>
                    <a:pt x="0" y="0"/>
                  </a:moveTo>
                  <a:lnTo>
                    <a:pt x="12" y="25"/>
                  </a:lnTo>
                  <a:lnTo>
                    <a:pt x="12" y="45"/>
                  </a:lnTo>
                  <a:lnTo>
                    <a:pt x="12" y="65"/>
                  </a:lnTo>
                  <a:lnTo>
                    <a:pt x="12" y="84"/>
                  </a:lnTo>
                  <a:lnTo>
                    <a:pt x="29" y="96"/>
                  </a:lnTo>
                  <a:lnTo>
                    <a:pt x="35" y="124"/>
                  </a:lnTo>
                  <a:lnTo>
                    <a:pt x="35" y="143"/>
                  </a:lnTo>
                  <a:lnTo>
                    <a:pt x="46" y="162"/>
                  </a:lnTo>
                  <a:lnTo>
                    <a:pt x="58" y="182"/>
                  </a:lnTo>
                  <a:lnTo>
                    <a:pt x="64" y="201"/>
                  </a:lnTo>
                  <a:lnTo>
                    <a:pt x="69" y="221"/>
                  </a:lnTo>
                  <a:lnTo>
                    <a:pt x="75" y="241"/>
                  </a:lnTo>
                  <a:lnTo>
                    <a:pt x="82" y="24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27400" y="4152960"/>
              <a:ext cx="635040" cy="63360"/>
            </a:xfrm>
            <a:custGeom>
              <a:avLst/>
              <a:gdLst/>
              <a:ahLst/>
              <a:rect l="l" t="t" r="r" b="b"/>
              <a:pathLst>
                <a:path w="400" h="40">
                  <a:moveTo>
                    <a:pt x="0" y="12"/>
                  </a:moveTo>
                  <a:lnTo>
                    <a:pt x="22" y="12"/>
                  </a:lnTo>
                  <a:lnTo>
                    <a:pt x="39" y="25"/>
                  </a:lnTo>
                  <a:lnTo>
                    <a:pt x="56" y="32"/>
                  </a:lnTo>
                  <a:lnTo>
                    <a:pt x="74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31" y="32"/>
                  </a:lnTo>
                  <a:lnTo>
                    <a:pt x="148" y="32"/>
                  </a:lnTo>
                  <a:lnTo>
                    <a:pt x="164" y="25"/>
                  </a:lnTo>
                  <a:lnTo>
                    <a:pt x="182" y="25"/>
                  </a:lnTo>
                  <a:lnTo>
                    <a:pt x="199" y="39"/>
                  </a:lnTo>
                  <a:lnTo>
                    <a:pt x="216" y="39"/>
                  </a:lnTo>
                  <a:lnTo>
                    <a:pt x="234" y="39"/>
                  </a:lnTo>
                  <a:lnTo>
                    <a:pt x="244" y="18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1" y="0"/>
                  </a:lnTo>
                  <a:lnTo>
                    <a:pt x="308" y="6"/>
                  </a:lnTo>
                  <a:lnTo>
                    <a:pt x="324" y="12"/>
                  </a:lnTo>
                  <a:lnTo>
                    <a:pt x="365" y="25"/>
                  </a:lnTo>
                  <a:lnTo>
                    <a:pt x="399" y="32"/>
                  </a:lnTo>
                  <a:lnTo>
                    <a:pt x="394" y="3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878280" y="2812680"/>
              <a:ext cx="22212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33680" y="4605480"/>
              <a:ext cx="1211400" cy="782640"/>
            </a:xfrm>
            <a:custGeom>
              <a:avLst/>
              <a:gdLst/>
              <a:ahLst/>
              <a:rect l="l" t="t" r="r" b="b"/>
              <a:pathLst>
                <a:path w="763" h="493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8"/>
                  </a:lnTo>
                  <a:lnTo>
                    <a:pt x="80" y="79"/>
                  </a:lnTo>
                  <a:lnTo>
                    <a:pt x="97" y="91"/>
                  </a:lnTo>
                  <a:lnTo>
                    <a:pt x="114" y="105"/>
                  </a:lnTo>
                  <a:lnTo>
                    <a:pt x="125" y="124"/>
                  </a:lnTo>
                  <a:lnTo>
                    <a:pt x="125" y="145"/>
                  </a:lnTo>
                  <a:lnTo>
                    <a:pt x="131" y="164"/>
                  </a:lnTo>
                  <a:lnTo>
                    <a:pt x="137" y="183"/>
                  </a:lnTo>
                  <a:lnTo>
                    <a:pt x="143" y="204"/>
                  </a:lnTo>
                  <a:lnTo>
                    <a:pt x="148" y="223"/>
                  </a:lnTo>
                  <a:lnTo>
                    <a:pt x="166" y="236"/>
                  </a:lnTo>
                  <a:lnTo>
                    <a:pt x="183" y="249"/>
                  </a:lnTo>
                  <a:lnTo>
                    <a:pt x="200" y="249"/>
                  </a:lnTo>
                  <a:lnTo>
                    <a:pt x="217" y="256"/>
                  </a:lnTo>
                  <a:lnTo>
                    <a:pt x="234" y="256"/>
                  </a:lnTo>
                  <a:lnTo>
                    <a:pt x="252" y="256"/>
                  </a:lnTo>
                  <a:lnTo>
                    <a:pt x="269" y="256"/>
                  </a:lnTo>
                  <a:lnTo>
                    <a:pt x="280" y="236"/>
                  </a:lnTo>
                  <a:lnTo>
                    <a:pt x="286" y="216"/>
                  </a:lnTo>
                  <a:lnTo>
                    <a:pt x="304" y="204"/>
                  </a:lnTo>
                  <a:lnTo>
                    <a:pt x="321" y="197"/>
                  </a:lnTo>
                  <a:lnTo>
                    <a:pt x="337" y="183"/>
                  </a:lnTo>
                  <a:lnTo>
                    <a:pt x="355" y="183"/>
                  </a:lnTo>
                  <a:lnTo>
                    <a:pt x="372" y="190"/>
                  </a:lnTo>
                  <a:lnTo>
                    <a:pt x="389" y="204"/>
                  </a:lnTo>
                  <a:lnTo>
                    <a:pt x="407" y="209"/>
                  </a:lnTo>
                  <a:lnTo>
                    <a:pt x="424" y="236"/>
                  </a:lnTo>
                  <a:lnTo>
                    <a:pt x="458" y="249"/>
                  </a:lnTo>
                  <a:lnTo>
                    <a:pt x="469" y="268"/>
                  </a:lnTo>
                  <a:lnTo>
                    <a:pt x="487" y="289"/>
                  </a:lnTo>
                  <a:lnTo>
                    <a:pt x="504" y="308"/>
                  </a:lnTo>
                  <a:lnTo>
                    <a:pt x="516" y="327"/>
                  </a:lnTo>
                  <a:lnTo>
                    <a:pt x="533" y="341"/>
                  </a:lnTo>
                  <a:lnTo>
                    <a:pt x="544" y="360"/>
                  </a:lnTo>
                  <a:lnTo>
                    <a:pt x="549" y="380"/>
                  </a:lnTo>
                  <a:lnTo>
                    <a:pt x="567" y="393"/>
                  </a:lnTo>
                  <a:lnTo>
                    <a:pt x="578" y="413"/>
                  </a:lnTo>
                  <a:lnTo>
                    <a:pt x="596" y="433"/>
                  </a:lnTo>
                  <a:lnTo>
                    <a:pt x="613" y="439"/>
                  </a:lnTo>
                  <a:lnTo>
                    <a:pt x="630" y="452"/>
                  </a:lnTo>
                  <a:lnTo>
                    <a:pt x="648" y="459"/>
                  </a:lnTo>
                  <a:lnTo>
                    <a:pt x="664" y="465"/>
                  </a:lnTo>
                  <a:lnTo>
                    <a:pt x="681" y="472"/>
                  </a:lnTo>
                  <a:lnTo>
                    <a:pt x="699" y="478"/>
                  </a:lnTo>
                  <a:lnTo>
                    <a:pt x="716" y="485"/>
                  </a:lnTo>
                  <a:lnTo>
                    <a:pt x="739" y="492"/>
                  </a:lnTo>
                  <a:lnTo>
                    <a:pt x="757" y="492"/>
                  </a:lnTo>
                  <a:lnTo>
                    <a:pt x="762" y="4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81360" y="4638600"/>
              <a:ext cx="574560" cy="1038240"/>
            </a:xfrm>
            <a:custGeom>
              <a:avLst/>
              <a:gdLst/>
              <a:ahLst/>
              <a:rect l="l" t="t" r="r" b="b"/>
              <a:pathLst>
                <a:path w="362" h="654">
                  <a:moveTo>
                    <a:pt x="361" y="0"/>
                  </a:moveTo>
                  <a:lnTo>
                    <a:pt x="338" y="5"/>
                  </a:lnTo>
                  <a:lnTo>
                    <a:pt x="327" y="25"/>
                  </a:lnTo>
                  <a:lnTo>
                    <a:pt x="315" y="45"/>
                  </a:lnTo>
                  <a:lnTo>
                    <a:pt x="298" y="51"/>
                  </a:lnTo>
                  <a:lnTo>
                    <a:pt x="280" y="38"/>
                  </a:lnTo>
                  <a:lnTo>
                    <a:pt x="263" y="38"/>
                  </a:lnTo>
                  <a:lnTo>
                    <a:pt x="246" y="38"/>
                  </a:lnTo>
                  <a:lnTo>
                    <a:pt x="229" y="38"/>
                  </a:lnTo>
                  <a:lnTo>
                    <a:pt x="212" y="51"/>
                  </a:lnTo>
                  <a:lnTo>
                    <a:pt x="194" y="65"/>
                  </a:lnTo>
                  <a:lnTo>
                    <a:pt x="177" y="77"/>
                  </a:lnTo>
                  <a:lnTo>
                    <a:pt x="160" y="84"/>
                  </a:lnTo>
                  <a:lnTo>
                    <a:pt x="142" y="91"/>
                  </a:lnTo>
                  <a:lnTo>
                    <a:pt x="125" y="97"/>
                  </a:lnTo>
                  <a:lnTo>
                    <a:pt x="131" y="117"/>
                  </a:lnTo>
                  <a:lnTo>
                    <a:pt x="137" y="136"/>
                  </a:lnTo>
                  <a:lnTo>
                    <a:pt x="137" y="155"/>
                  </a:lnTo>
                  <a:lnTo>
                    <a:pt x="120" y="169"/>
                  </a:lnTo>
                  <a:lnTo>
                    <a:pt x="109" y="188"/>
                  </a:lnTo>
                  <a:lnTo>
                    <a:pt x="91" y="188"/>
                  </a:lnTo>
                  <a:lnTo>
                    <a:pt x="74" y="195"/>
                  </a:lnTo>
                  <a:lnTo>
                    <a:pt x="57" y="202"/>
                  </a:lnTo>
                  <a:lnTo>
                    <a:pt x="51" y="221"/>
                  </a:lnTo>
                  <a:lnTo>
                    <a:pt x="34" y="234"/>
                  </a:lnTo>
                  <a:lnTo>
                    <a:pt x="16" y="254"/>
                  </a:lnTo>
                  <a:lnTo>
                    <a:pt x="10" y="274"/>
                  </a:lnTo>
                  <a:lnTo>
                    <a:pt x="5" y="293"/>
                  </a:lnTo>
                  <a:lnTo>
                    <a:pt x="5" y="312"/>
                  </a:lnTo>
                  <a:lnTo>
                    <a:pt x="5" y="333"/>
                  </a:lnTo>
                  <a:lnTo>
                    <a:pt x="0" y="352"/>
                  </a:lnTo>
                  <a:lnTo>
                    <a:pt x="0" y="371"/>
                  </a:lnTo>
                  <a:lnTo>
                    <a:pt x="0" y="392"/>
                  </a:lnTo>
                  <a:lnTo>
                    <a:pt x="10" y="411"/>
                  </a:lnTo>
                  <a:lnTo>
                    <a:pt x="28" y="418"/>
                  </a:lnTo>
                  <a:lnTo>
                    <a:pt x="39" y="437"/>
                  </a:lnTo>
                  <a:lnTo>
                    <a:pt x="51" y="456"/>
                  </a:lnTo>
                  <a:lnTo>
                    <a:pt x="57" y="476"/>
                  </a:lnTo>
                  <a:lnTo>
                    <a:pt x="57" y="495"/>
                  </a:lnTo>
                  <a:lnTo>
                    <a:pt x="39" y="515"/>
                  </a:lnTo>
                  <a:lnTo>
                    <a:pt x="22" y="535"/>
                  </a:lnTo>
                  <a:lnTo>
                    <a:pt x="22" y="554"/>
                  </a:lnTo>
                  <a:lnTo>
                    <a:pt x="22" y="575"/>
                  </a:lnTo>
                  <a:lnTo>
                    <a:pt x="22" y="594"/>
                  </a:lnTo>
                  <a:lnTo>
                    <a:pt x="22" y="613"/>
                  </a:lnTo>
                  <a:lnTo>
                    <a:pt x="22" y="633"/>
                  </a:lnTo>
                  <a:lnTo>
                    <a:pt x="22" y="6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60680" y="382104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2" y="0"/>
                  </a:moveTo>
                  <a:lnTo>
                    <a:pt x="68" y="25"/>
                  </a:lnTo>
                  <a:lnTo>
                    <a:pt x="68" y="44"/>
                  </a:lnTo>
                  <a:lnTo>
                    <a:pt x="62" y="65"/>
                  </a:lnTo>
                  <a:lnTo>
                    <a:pt x="45" y="84"/>
                  </a:lnTo>
                  <a:lnTo>
                    <a:pt x="28" y="90"/>
                  </a:lnTo>
                  <a:lnTo>
                    <a:pt x="10" y="84"/>
                  </a:lnTo>
                  <a:lnTo>
                    <a:pt x="5" y="103"/>
                  </a:lnTo>
                  <a:lnTo>
                    <a:pt x="5" y="123"/>
                  </a:lnTo>
                  <a:lnTo>
                    <a:pt x="5" y="142"/>
                  </a:lnTo>
                  <a:lnTo>
                    <a:pt x="0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2800" y="4076640"/>
              <a:ext cx="101880" cy="357120"/>
            </a:xfrm>
            <a:custGeom>
              <a:avLst/>
              <a:gdLst/>
              <a:ahLst/>
              <a:rect l="l" t="t" r="r" b="b"/>
              <a:pathLst>
                <a:path w="64" h="225">
                  <a:moveTo>
                    <a:pt x="40" y="0"/>
                  </a:moveTo>
                  <a:lnTo>
                    <a:pt x="58" y="27"/>
                  </a:lnTo>
                  <a:lnTo>
                    <a:pt x="63" y="46"/>
                  </a:lnTo>
                  <a:lnTo>
                    <a:pt x="63" y="65"/>
                  </a:lnTo>
                  <a:lnTo>
                    <a:pt x="58" y="86"/>
                  </a:lnTo>
                  <a:lnTo>
                    <a:pt x="40" y="105"/>
                  </a:lnTo>
                  <a:lnTo>
                    <a:pt x="29" y="125"/>
                  </a:lnTo>
                  <a:lnTo>
                    <a:pt x="17" y="145"/>
                  </a:lnTo>
                  <a:lnTo>
                    <a:pt x="11" y="164"/>
                  </a:lnTo>
                  <a:lnTo>
                    <a:pt x="23" y="184"/>
                  </a:lnTo>
                  <a:lnTo>
                    <a:pt x="23" y="204"/>
                  </a:lnTo>
                  <a:lnTo>
                    <a:pt x="17" y="224"/>
                  </a:lnTo>
                  <a:lnTo>
                    <a:pt x="0" y="2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960" y="1828800"/>
              <a:ext cx="24588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58920" y="2004840"/>
              <a:ext cx="48240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52480" y="2119320"/>
              <a:ext cx="480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74760" y="2162160"/>
              <a:ext cx="4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589120" y="2130480"/>
              <a:ext cx="3700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2951280" y="2039400"/>
              <a:ext cx="40320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343320" y="1929960"/>
              <a:ext cx="38556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78200" y="1738440"/>
              <a:ext cx="5544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81280" y="1746360"/>
              <a:ext cx="147600" cy="41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30120" y="1817640"/>
              <a:ext cx="426960" cy="115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792000" y="4062240"/>
              <a:ext cx="301680" cy="16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114640" y="4692600"/>
              <a:ext cx="25200" cy="90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343320" y="5156280"/>
              <a:ext cx="54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147760" y="4878360"/>
              <a:ext cx="5461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7760" y="4703760"/>
              <a:ext cx="2113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49240" y="4659480"/>
              <a:ext cx="1746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7120" y="4514760"/>
              <a:ext cx="29700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4120" y="4605480"/>
              <a:ext cx="2808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9840" y="3022560"/>
              <a:ext cx="46188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33640" y="3914640"/>
              <a:ext cx="1139760" cy="1681200"/>
            </a:xfrm>
            <a:custGeom>
              <a:avLst/>
              <a:gdLst/>
              <a:ahLst/>
              <a:rect l="l" t="t" r="r" b="b"/>
              <a:pathLst>
                <a:path w="718" h="1059">
                  <a:moveTo>
                    <a:pt x="717" y="0"/>
                  </a:moveTo>
                  <a:lnTo>
                    <a:pt x="670" y="0"/>
                  </a:lnTo>
                  <a:lnTo>
                    <a:pt x="653" y="0"/>
                  </a:lnTo>
                  <a:lnTo>
                    <a:pt x="636" y="0"/>
                  </a:lnTo>
                  <a:lnTo>
                    <a:pt x="618" y="0"/>
                  </a:lnTo>
                  <a:lnTo>
                    <a:pt x="601" y="0"/>
                  </a:lnTo>
                  <a:lnTo>
                    <a:pt x="584" y="12"/>
                  </a:lnTo>
                  <a:lnTo>
                    <a:pt x="567" y="12"/>
                  </a:lnTo>
                  <a:lnTo>
                    <a:pt x="550" y="19"/>
                  </a:lnTo>
                  <a:lnTo>
                    <a:pt x="532" y="32"/>
                  </a:lnTo>
                  <a:lnTo>
                    <a:pt x="515" y="32"/>
                  </a:lnTo>
                  <a:lnTo>
                    <a:pt x="498" y="39"/>
                  </a:lnTo>
                  <a:lnTo>
                    <a:pt x="480" y="51"/>
                  </a:lnTo>
                  <a:lnTo>
                    <a:pt x="464" y="58"/>
                  </a:lnTo>
                  <a:lnTo>
                    <a:pt x="447" y="72"/>
                  </a:lnTo>
                  <a:lnTo>
                    <a:pt x="429" y="77"/>
                  </a:lnTo>
                  <a:lnTo>
                    <a:pt x="412" y="84"/>
                  </a:lnTo>
                  <a:lnTo>
                    <a:pt x="395" y="98"/>
                  </a:lnTo>
                  <a:lnTo>
                    <a:pt x="371" y="110"/>
                  </a:lnTo>
                  <a:lnTo>
                    <a:pt x="355" y="124"/>
                  </a:lnTo>
                  <a:lnTo>
                    <a:pt x="338" y="136"/>
                  </a:lnTo>
                  <a:lnTo>
                    <a:pt x="320" y="150"/>
                  </a:lnTo>
                  <a:lnTo>
                    <a:pt x="303" y="156"/>
                  </a:lnTo>
                  <a:lnTo>
                    <a:pt x="280" y="182"/>
                  </a:lnTo>
                  <a:lnTo>
                    <a:pt x="263" y="195"/>
                  </a:lnTo>
                  <a:lnTo>
                    <a:pt x="245" y="208"/>
                  </a:lnTo>
                  <a:lnTo>
                    <a:pt x="229" y="222"/>
                  </a:lnTo>
                  <a:lnTo>
                    <a:pt x="212" y="241"/>
                  </a:lnTo>
                  <a:lnTo>
                    <a:pt x="194" y="260"/>
                  </a:lnTo>
                  <a:lnTo>
                    <a:pt x="183" y="281"/>
                  </a:lnTo>
                  <a:lnTo>
                    <a:pt x="165" y="293"/>
                  </a:lnTo>
                  <a:lnTo>
                    <a:pt x="148" y="307"/>
                  </a:lnTo>
                  <a:lnTo>
                    <a:pt x="136" y="326"/>
                  </a:lnTo>
                  <a:lnTo>
                    <a:pt x="119" y="339"/>
                  </a:lnTo>
                  <a:lnTo>
                    <a:pt x="108" y="359"/>
                  </a:lnTo>
                  <a:lnTo>
                    <a:pt x="97" y="378"/>
                  </a:lnTo>
                  <a:lnTo>
                    <a:pt x="91" y="398"/>
                  </a:lnTo>
                  <a:lnTo>
                    <a:pt x="79" y="417"/>
                  </a:lnTo>
                  <a:lnTo>
                    <a:pt x="68" y="436"/>
                  </a:lnTo>
                  <a:lnTo>
                    <a:pt x="56" y="457"/>
                  </a:lnTo>
                  <a:lnTo>
                    <a:pt x="45" y="476"/>
                  </a:lnTo>
                  <a:lnTo>
                    <a:pt x="39" y="495"/>
                  </a:lnTo>
                  <a:lnTo>
                    <a:pt x="33" y="516"/>
                  </a:lnTo>
                  <a:lnTo>
                    <a:pt x="27" y="535"/>
                  </a:lnTo>
                  <a:lnTo>
                    <a:pt x="22" y="554"/>
                  </a:lnTo>
                  <a:lnTo>
                    <a:pt x="22" y="574"/>
                  </a:lnTo>
                  <a:lnTo>
                    <a:pt x="16" y="600"/>
                  </a:lnTo>
                  <a:lnTo>
                    <a:pt x="10" y="619"/>
                  </a:lnTo>
                  <a:lnTo>
                    <a:pt x="10" y="640"/>
                  </a:lnTo>
                  <a:lnTo>
                    <a:pt x="4" y="659"/>
                  </a:lnTo>
                  <a:lnTo>
                    <a:pt x="4" y="678"/>
                  </a:lnTo>
                  <a:lnTo>
                    <a:pt x="4" y="698"/>
                  </a:lnTo>
                  <a:lnTo>
                    <a:pt x="4" y="718"/>
                  </a:lnTo>
                  <a:lnTo>
                    <a:pt x="4" y="744"/>
                  </a:lnTo>
                  <a:lnTo>
                    <a:pt x="0" y="763"/>
                  </a:lnTo>
                  <a:lnTo>
                    <a:pt x="0" y="783"/>
                  </a:lnTo>
                  <a:lnTo>
                    <a:pt x="0" y="802"/>
                  </a:lnTo>
                  <a:lnTo>
                    <a:pt x="0" y="822"/>
                  </a:lnTo>
                  <a:lnTo>
                    <a:pt x="0" y="842"/>
                  </a:lnTo>
                  <a:lnTo>
                    <a:pt x="0" y="861"/>
                  </a:lnTo>
                  <a:lnTo>
                    <a:pt x="0" y="881"/>
                  </a:lnTo>
                  <a:lnTo>
                    <a:pt x="0" y="901"/>
                  </a:lnTo>
                  <a:lnTo>
                    <a:pt x="0" y="920"/>
                  </a:lnTo>
                  <a:lnTo>
                    <a:pt x="0" y="940"/>
                  </a:lnTo>
                  <a:lnTo>
                    <a:pt x="4" y="966"/>
                  </a:lnTo>
                  <a:lnTo>
                    <a:pt x="10" y="992"/>
                  </a:lnTo>
                  <a:lnTo>
                    <a:pt x="16" y="1011"/>
                  </a:lnTo>
                  <a:lnTo>
                    <a:pt x="27" y="1032"/>
                  </a:lnTo>
                  <a:lnTo>
                    <a:pt x="33" y="1051"/>
                  </a:lnTo>
                  <a:lnTo>
                    <a:pt x="39" y="105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543040" y="4554360"/>
              <a:ext cx="362160" cy="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73240" y="2960640"/>
              <a:ext cx="1706400" cy="830160"/>
            </a:xfrm>
            <a:custGeom>
              <a:avLst/>
              <a:gdLst/>
              <a:ahLst/>
              <a:rect l="l" t="t" r="r" b="b"/>
              <a:pathLst>
                <a:path w="1075" h="523">
                  <a:moveTo>
                    <a:pt x="0" y="494"/>
                  </a:moveTo>
                  <a:lnTo>
                    <a:pt x="22" y="508"/>
                  </a:lnTo>
                  <a:lnTo>
                    <a:pt x="40" y="508"/>
                  </a:lnTo>
                  <a:lnTo>
                    <a:pt x="57" y="515"/>
                  </a:lnTo>
                  <a:lnTo>
                    <a:pt x="74" y="522"/>
                  </a:lnTo>
                  <a:lnTo>
                    <a:pt x="92" y="522"/>
                  </a:lnTo>
                  <a:lnTo>
                    <a:pt x="109" y="522"/>
                  </a:lnTo>
                  <a:lnTo>
                    <a:pt x="126" y="522"/>
                  </a:lnTo>
                  <a:lnTo>
                    <a:pt x="143" y="522"/>
                  </a:lnTo>
                  <a:lnTo>
                    <a:pt x="160" y="522"/>
                  </a:lnTo>
                  <a:lnTo>
                    <a:pt x="177" y="515"/>
                  </a:lnTo>
                  <a:lnTo>
                    <a:pt x="195" y="508"/>
                  </a:lnTo>
                  <a:lnTo>
                    <a:pt x="212" y="508"/>
                  </a:lnTo>
                  <a:lnTo>
                    <a:pt x="230" y="501"/>
                  </a:lnTo>
                  <a:lnTo>
                    <a:pt x="247" y="501"/>
                  </a:lnTo>
                  <a:lnTo>
                    <a:pt x="264" y="501"/>
                  </a:lnTo>
                  <a:lnTo>
                    <a:pt x="286" y="494"/>
                  </a:lnTo>
                  <a:lnTo>
                    <a:pt x="304" y="494"/>
                  </a:lnTo>
                  <a:lnTo>
                    <a:pt x="321" y="489"/>
                  </a:lnTo>
                  <a:lnTo>
                    <a:pt x="338" y="489"/>
                  </a:lnTo>
                  <a:lnTo>
                    <a:pt x="356" y="489"/>
                  </a:lnTo>
                  <a:lnTo>
                    <a:pt x="373" y="482"/>
                  </a:lnTo>
                  <a:lnTo>
                    <a:pt x="391" y="482"/>
                  </a:lnTo>
                  <a:lnTo>
                    <a:pt x="407" y="469"/>
                  </a:lnTo>
                  <a:lnTo>
                    <a:pt x="424" y="462"/>
                  </a:lnTo>
                  <a:lnTo>
                    <a:pt x="442" y="449"/>
                  </a:lnTo>
                  <a:lnTo>
                    <a:pt x="459" y="436"/>
                  </a:lnTo>
                  <a:lnTo>
                    <a:pt x="476" y="423"/>
                  </a:lnTo>
                  <a:lnTo>
                    <a:pt x="494" y="410"/>
                  </a:lnTo>
                  <a:lnTo>
                    <a:pt x="517" y="403"/>
                  </a:lnTo>
                  <a:lnTo>
                    <a:pt x="534" y="397"/>
                  </a:lnTo>
                  <a:lnTo>
                    <a:pt x="550" y="391"/>
                  </a:lnTo>
                  <a:lnTo>
                    <a:pt x="568" y="384"/>
                  </a:lnTo>
                  <a:lnTo>
                    <a:pt x="585" y="372"/>
                  </a:lnTo>
                  <a:lnTo>
                    <a:pt x="603" y="365"/>
                  </a:lnTo>
                  <a:lnTo>
                    <a:pt x="620" y="344"/>
                  </a:lnTo>
                  <a:lnTo>
                    <a:pt x="637" y="332"/>
                  </a:lnTo>
                  <a:lnTo>
                    <a:pt x="655" y="325"/>
                  </a:lnTo>
                  <a:lnTo>
                    <a:pt x="671" y="306"/>
                  </a:lnTo>
                  <a:lnTo>
                    <a:pt x="688" y="299"/>
                  </a:lnTo>
                  <a:lnTo>
                    <a:pt x="706" y="280"/>
                  </a:lnTo>
                  <a:lnTo>
                    <a:pt x="723" y="267"/>
                  </a:lnTo>
                  <a:lnTo>
                    <a:pt x="740" y="253"/>
                  </a:lnTo>
                  <a:lnTo>
                    <a:pt x="758" y="241"/>
                  </a:lnTo>
                  <a:lnTo>
                    <a:pt x="775" y="222"/>
                  </a:lnTo>
                  <a:lnTo>
                    <a:pt x="792" y="215"/>
                  </a:lnTo>
                  <a:lnTo>
                    <a:pt x="809" y="195"/>
                  </a:lnTo>
                  <a:lnTo>
                    <a:pt x="826" y="182"/>
                  </a:lnTo>
                  <a:lnTo>
                    <a:pt x="843" y="169"/>
                  </a:lnTo>
                  <a:lnTo>
                    <a:pt x="861" y="156"/>
                  </a:lnTo>
                  <a:lnTo>
                    <a:pt x="878" y="136"/>
                  </a:lnTo>
                  <a:lnTo>
                    <a:pt x="896" y="124"/>
                  </a:lnTo>
                  <a:lnTo>
                    <a:pt x="913" y="117"/>
                  </a:lnTo>
                  <a:lnTo>
                    <a:pt x="930" y="103"/>
                  </a:lnTo>
                  <a:lnTo>
                    <a:pt x="947" y="91"/>
                  </a:lnTo>
                  <a:lnTo>
                    <a:pt x="964" y="77"/>
                  </a:lnTo>
                  <a:lnTo>
                    <a:pt x="981" y="65"/>
                  </a:lnTo>
                  <a:lnTo>
                    <a:pt x="999" y="58"/>
                  </a:lnTo>
                  <a:lnTo>
                    <a:pt x="1016" y="45"/>
                  </a:lnTo>
                  <a:lnTo>
                    <a:pt x="1033" y="39"/>
                  </a:lnTo>
                  <a:lnTo>
                    <a:pt x="1051" y="19"/>
                  </a:lnTo>
                  <a:lnTo>
                    <a:pt x="1068" y="6"/>
                  </a:lnTo>
                  <a:lnTo>
                    <a:pt x="1074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868480" y="2484360"/>
              <a:ext cx="1314720" cy="465120"/>
            </a:xfrm>
            <a:custGeom>
              <a:avLst/>
              <a:gdLst/>
              <a:ahLst/>
              <a:rect l="l" t="t" r="r" b="b"/>
              <a:pathLst>
                <a:path w="828" h="293">
                  <a:moveTo>
                    <a:pt x="0" y="292"/>
                  </a:moveTo>
                  <a:lnTo>
                    <a:pt x="22" y="272"/>
                  </a:lnTo>
                  <a:lnTo>
                    <a:pt x="40" y="272"/>
                  </a:lnTo>
                  <a:lnTo>
                    <a:pt x="57" y="259"/>
                  </a:lnTo>
                  <a:lnTo>
                    <a:pt x="74" y="247"/>
                  </a:lnTo>
                  <a:lnTo>
                    <a:pt x="92" y="240"/>
                  </a:lnTo>
                  <a:lnTo>
                    <a:pt x="109" y="226"/>
                  </a:lnTo>
                  <a:lnTo>
                    <a:pt x="126" y="214"/>
                  </a:lnTo>
                  <a:lnTo>
                    <a:pt x="143" y="207"/>
                  </a:lnTo>
                  <a:lnTo>
                    <a:pt x="160" y="201"/>
                  </a:lnTo>
                  <a:lnTo>
                    <a:pt x="183" y="188"/>
                  </a:lnTo>
                  <a:lnTo>
                    <a:pt x="206" y="181"/>
                  </a:lnTo>
                  <a:lnTo>
                    <a:pt x="229" y="175"/>
                  </a:lnTo>
                  <a:lnTo>
                    <a:pt x="247" y="161"/>
                  </a:lnTo>
                  <a:lnTo>
                    <a:pt x="264" y="156"/>
                  </a:lnTo>
                  <a:lnTo>
                    <a:pt x="280" y="142"/>
                  </a:lnTo>
                  <a:lnTo>
                    <a:pt x="298" y="142"/>
                  </a:lnTo>
                  <a:lnTo>
                    <a:pt x="321" y="130"/>
                  </a:lnTo>
                  <a:lnTo>
                    <a:pt x="338" y="123"/>
                  </a:lnTo>
                  <a:lnTo>
                    <a:pt x="356" y="116"/>
                  </a:lnTo>
                  <a:lnTo>
                    <a:pt x="373" y="103"/>
                  </a:lnTo>
                  <a:lnTo>
                    <a:pt x="390" y="97"/>
                  </a:lnTo>
                  <a:lnTo>
                    <a:pt x="408" y="90"/>
                  </a:lnTo>
                  <a:lnTo>
                    <a:pt x="424" y="77"/>
                  </a:lnTo>
                  <a:lnTo>
                    <a:pt x="441" y="71"/>
                  </a:lnTo>
                  <a:lnTo>
                    <a:pt x="459" y="65"/>
                  </a:lnTo>
                  <a:lnTo>
                    <a:pt x="476" y="58"/>
                  </a:lnTo>
                  <a:lnTo>
                    <a:pt x="493" y="51"/>
                  </a:lnTo>
                  <a:lnTo>
                    <a:pt x="511" y="44"/>
                  </a:lnTo>
                  <a:lnTo>
                    <a:pt x="528" y="39"/>
                  </a:lnTo>
                  <a:lnTo>
                    <a:pt x="546" y="39"/>
                  </a:lnTo>
                  <a:lnTo>
                    <a:pt x="562" y="32"/>
                  </a:lnTo>
                  <a:lnTo>
                    <a:pt x="585" y="25"/>
                  </a:lnTo>
                  <a:lnTo>
                    <a:pt x="602" y="19"/>
                  </a:lnTo>
                  <a:lnTo>
                    <a:pt x="620" y="19"/>
                  </a:lnTo>
                  <a:lnTo>
                    <a:pt x="643" y="12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4" y="6"/>
                  </a:lnTo>
                  <a:lnTo>
                    <a:pt x="711" y="6"/>
                  </a:lnTo>
                  <a:lnTo>
                    <a:pt x="729" y="0"/>
                  </a:lnTo>
                  <a:lnTo>
                    <a:pt x="746" y="0"/>
                  </a:lnTo>
                  <a:lnTo>
                    <a:pt x="769" y="0"/>
                  </a:lnTo>
                  <a:lnTo>
                    <a:pt x="786" y="0"/>
                  </a:lnTo>
                  <a:lnTo>
                    <a:pt x="827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7120" y="3392640"/>
              <a:ext cx="865080" cy="398160"/>
            </a:xfrm>
            <a:custGeom>
              <a:avLst/>
              <a:gdLst/>
              <a:ahLst/>
              <a:rect l="l" t="t" r="r" b="b"/>
              <a:pathLst>
                <a:path w="545" h="251">
                  <a:moveTo>
                    <a:pt x="0" y="0"/>
                  </a:moveTo>
                  <a:lnTo>
                    <a:pt x="22" y="0"/>
                  </a:lnTo>
                  <a:lnTo>
                    <a:pt x="39" y="19"/>
                  </a:lnTo>
                  <a:lnTo>
                    <a:pt x="56" y="26"/>
                  </a:lnTo>
                  <a:lnTo>
                    <a:pt x="80" y="38"/>
                  </a:lnTo>
                  <a:lnTo>
                    <a:pt x="97" y="52"/>
                  </a:lnTo>
                  <a:lnTo>
                    <a:pt x="113" y="59"/>
                  </a:lnTo>
                  <a:lnTo>
                    <a:pt x="131" y="71"/>
                  </a:lnTo>
                  <a:lnTo>
                    <a:pt x="148" y="78"/>
                  </a:lnTo>
                  <a:lnTo>
                    <a:pt x="165" y="92"/>
                  </a:lnTo>
                  <a:lnTo>
                    <a:pt x="183" y="98"/>
                  </a:lnTo>
                  <a:lnTo>
                    <a:pt x="200" y="111"/>
                  </a:lnTo>
                  <a:lnTo>
                    <a:pt x="217" y="118"/>
                  </a:lnTo>
                  <a:lnTo>
                    <a:pt x="234" y="130"/>
                  </a:lnTo>
                  <a:lnTo>
                    <a:pt x="251" y="137"/>
                  </a:lnTo>
                  <a:lnTo>
                    <a:pt x="268" y="144"/>
                  </a:lnTo>
                  <a:lnTo>
                    <a:pt x="286" y="163"/>
                  </a:lnTo>
                  <a:lnTo>
                    <a:pt x="309" y="170"/>
                  </a:lnTo>
                  <a:lnTo>
                    <a:pt x="326" y="177"/>
                  </a:lnTo>
                  <a:lnTo>
                    <a:pt x="343" y="184"/>
                  </a:lnTo>
                  <a:lnTo>
                    <a:pt x="360" y="189"/>
                  </a:lnTo>
                  <a:lnTo>
                    <a:pt x="377" y="196"/>
                  </a:lnTo>
                  <a:lnTo>
                    <a:pt x="395" y="196"/>
                  </a:lnTo>
                  <a:lnTo>
                    <a:pt x="418" y="203"/>
                  </a:lnTo>
                  <a:lnTo>
                    <a:pt x="435" y="203"/>
                  </a:lnTo>
                  <a:lnTo>
                    <a:pt x="452" y="210"/>
                  </a:lnTo>
                  <a:lnTo>
                    <a:pt x="469" y="222"/>
                  </a:lnTo>
                  <a:lnTo>
                    <a:pt x="486" y="229"/>
                  </a:lnTo>
                  <a:lnTo>
                    <a:pt x="504" y="236"/>
                  </a:lnTo>
                  <a:lnTo>
                    <a:pt x="527" y="243"/>
                  </a:lnTo>
                  <a:lnTo>
                    <a:pt x="538" y="250"/>
                  </a:lnTo>
                  <a:lnTo>
                    <a:pt x="544" y="25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20760" y="2898720"/>
              <a:ext cx="1582560" cy="455760"/>
            </a:xfrm>
            <a:custGeom>
              <a:avLst/>
              <a:gdLst/>
              <a:ahLst/>
              <a:rect l="l" t="t" r="r" b="b"/>
              <a:pathLst>
                <a:path w="997" h="287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45"/>
                  </a:lnTo>
                  <a:lnTo>
                    <a:pt x="75" y="65"/>
                  </a:lnTo>
                  <a:lnTo>
                    <a:pt x="91" y="78"/>
                  </a:lnTo>
                  <a:lnTo>
                    <a:pt x="108" y="84"/>
                  </a:lnTo>
                  <a:lnTo>
                    <a:pt x="126" y="104"/>
                  </a:lnTo>
                  <a:lnTo>
                    <a:pt x="143" y="111"/>
                  </a:lnTo>
                  <a:lnTo>
                    <a:pt x="160" y="116"/>
                  </a:lnTo>
                  <a:lnTo>
                    <a:pt x="178" y="123"/>
                  </a:lnTo>
                  <a:lnTo>
                    <a:pt x="194" y="136"/>
                  </a:lnTo>
                  <a:lnTo>
                    <a:pt x="217" y="142"/>
                  </a:lnTo>
                  <a:lnTo>
                    <a:pt x="235" y="155"/>
                  </a:lnTo>
                  <a:lnTo>
                    <a:pt x="252" y="162"/>
                  </a:lnTo>
                  <a:lnTo>
                    <a:pt x="269" y="174"/>
                  </a:lnTo>
                  <a:lnTo>
                    <a:pt x="286" y="181"/>
                  </a:lnTo>
                  <a:lnTo>
                    <a:pt x="303" y="188"/>
                  </a:lnTo>
                  <a:lnTo>
                    <a:pt x="326" y="200"/>
                  </a:lnTo>
                  <a:lnTo>
                    <a:pt x="383" y="214"/>
                  </a:lnTo>
                  <a:lnTo>
                    <a:pt x="400" y="220"/>
                  </a:lnTo>
                  <a:lnTo>
                    <a:pt x="418" y="227"/>
                  </a:lnTo>
                  <a:lnTo>
                    <a:pt x="435" y="233"/>
                  </a:lnTo>
                  <a:lnTo>
                    <a:pt x="452" y="240"/>
                  </a:lnTo>
                  <a:lnTo>
                    <a:pt x="469" y="240"/>
                  </a:lnTo>
                  <a:lnTo>
                    <a:pt x="486" y="246"/>
                  </a:lnTo>
                  <a:lnTo>
                    <a:pt x="503" y="253"/>
                  </a:lnTo>
                  <a:lnTo>
                    <a:pt x="521" y="260"/>
                  </a:lnTo>
                  <a:lnTo>
                    <a:pt x="538" y="260"/>
                  </a:lnTo>
                  <a:lnTo>
                    <a:pt x="555" y="265"/>
                  </a:lnTo>
                  <a:lnTo>
                    <a:pt x="572" y="265"/>
                  </a:lnTo>
                  <a:lnTo>
                    <a:pt x="589" y="265"/>
                  </a:lnTo>
                  <a:lnTo>
                    <a:pt x="607" y="272"/>
                  </a:lnTo>
                  <a:lnTo>
                    <a:pt x="624" y="279"/>
                  </a:lnTo>
                  <a:lnTo>
                    <a:pt x="640" y="279"/>
                  </a:lnTo>
                  <a:lnTo>
                    <a:pt x="658" y="279"/>
                  </a:lnTo>
                  <a:lnTo>
                    <a:pt x="675" y="279"/>
                  </a:lnTo>
                  <a:lnTo>
                    <a:pt x="692" y="279"/>
                  </a:lnTo>
                  <a:lnTo>
                    <a:pt x="710" y="286"/>
                  </a:lnTo>
                  <a:lnTo>
                    <a:pt x="732" y="286"/>
                  </a:lnTo>
                  <a:lnTo>
                    <a:pt x="749" y="286"/>
                  </a:lnTo>
                  <a:lnTo>
                    <a:pt x="767" y="286"/>
                  </a:lnTo>
                  <a:lnTo>
                    <a:pt x="784" y="286"/>
                  </a:lnTo>
                  <a:lnTo>
                    <a:pt x="801" y="286"/>
                  </a:lnTo>
                  <a:lnTo>
                    <a:pt x="818" y="279"/>
                  </a:lnTo>
                  <a:lnTo>
                    <a:pt x="835" y="272"/>
                  </a:lnTo>
                  <a:lnTo>
                    <a:pt x="852" y="260"/>
                  </a:lnTo>
                  <a:lnTo>
                    <a:pt x="870" y="253"/>
                  </a:lnTo>
                  <a:lnTo>
                    <a:pt x="887" y="253"/>
                  </a:lnTo>
                  <a:lnTo>
                    <a:pt x="904" y="240"/>
                  </a:lnTo>
                  <a:lnTo>
                    <a:pt x="921" y="240"/>
                  </a:lnTo>
                  <a:lnTo>
                    <a:pt x="938" y="227"/>
                  </a:lnTo>
                  <a:lnTo>
                    <a:pt x="955" y="220"/>
                  </a:lnTo>
                  <a:lnTo>
                    <a:pt x="973" y="214"/>
                  </a:lnTo>
                  <a:lnTo>
                    <a:pt x="990" y="195"/>
                  </a:lnTo>
                  <a:lnTo>
                    <a:pt x="996" y="1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19160" y="2039760"/>
              <a:ext cx="1681200" cy="1149480"/>
            </a:xfrm>
            <a:custGeom>
              <a:avLst/>
              <a:gdLst/>
              <a:ahLst/>
              <a:rect l="l" t="t" r="r" b="b"/>
              <a:pathLst>
                <a:path w="1059" h="724">
                  <a:moveTo>
                    <a:pt x="0" y="723"/>
                  </a:moveTo>
                  <a:lnTo>
                    <a:pt x="23" y="710"/>
                  </a:lnTo>
                  <a:lnTo>
                    <a:pt x="40" y="703"/>
                  </a:lnTo>
                  <a:lnTo>
                    <a:pt x="57" y="697"/>
                  </a:lnTo>
                  <a:lnTo>
                    <a:pt x="75" y="690"/>
                  </a:lnTo>
                  <a:lnTo>
                    <a:pt x="92" y="683"/>
                  </a:lnTo>
                  <a:lnTo>
                    <a:pt x="109" y="671"/>
                  </a:lnTo>
                  <a:lnTo>
                    <a:pt x="127" y="657"/>
                  </a:lnTo>
                  <a:lnTo>
                    <a:pt x="144" y="645"/>
                  </a:lnTo>
                  <a:lnTo>
                    <a:pt x="160" y="631"/>
                  </a:lnTo>
                  <a:lnTo>
                    <a:pt x="172" y="612"/>
                  </a:lnTo>
                  <a:lnTo>
                    <a:pt x="189" y="605"/>
                  </a:lnTo>
                  <a:lnTo>
                    <a:pt x="207" y="592"/>
                  </a:lnTo>
                  <a:lnTo>
                    <a:pt x="224" y="586"/>
                  </a:lnTo>
                  <a:lnTo>
                    <a:pt x="241" y="573"/>
                  </a:lnTo>
                  <a:lnTo>
                    <a:pt x="259" y="560"/>
                  </a:lnTo>
                  <a:lnTo>
                    <a:pt x="276" y="554"/>
                  </a:lnTo>
                  <a:lnTo>
                    <a:pt x="293" y="533"/>
                  </a:lnTo>
                  <a:lnTo>
                    <a:pt x="304" y="514"/>
                  </a:lnTo>
                  <a:lnTo>
                    <a:pt x="321" y="502"/>
                  </a:lnTo>
                  <a:lnTo>
                    <a:pt x="333" y="482"/>
                  </a:lnTo>
                  <a:lnTo>
                    <a:pt x="350" y="469"/>
                  </a:lnTo>
                  <a:lnTo>
                    <a:pt x="368" y="449"/>
                  </a:lnTo>
                  <a:lnTo>
                    <a:pt x="385" y="436"/>
                  </a:lnTo>
                  <a:lnTo>
                    <a:pt x="402" y="423"/>
                  </a:lnTo>
                  <a:lnTo>
                    <a:pt x="420" y="416"/>
                  </a:lnTo>
                  <a:lnTo>
                    <a:pt x="437" y="404"/>
                  </a:lnTo>
                  <a:lnTo>
                    <a:pt x="453" y="390"/>
                  </a:lnTo>
                  <a:lnTo>
                    <a:pt x="471" y="371"/>
                  </a:lnTo>
                  <a:lnTo>
                    <a:pt x="488" y="352"/>
                  </a:lnTo>
                  <a:lnTo>
                    <a:pt x="505" y="338"/>
                  </a:lnTo>
                  <a:lnTo>
                    <a:pt x="517" y="319"/>
                  </a:lnTo>
                  <a:lnTo>
                    <a:pt x="534" y="299"/>
                  </a:lnTo>
                  <a:lnTo>
                    <a:pt x="552" y="292"/>
                  </a:lnTo>
                  <a:lnTo>
                    <a:pt x="569" y="273"/>
                  </a:lnTo>
                  <a:lnTo>
                    <a:pt x="586" y="266"/>
                  </a:lnTo>
                  <a:lnTo>
                    <a:pt x="604" y="261"/>
                  </a:lnTo>
                  <a:lnTo>
                    <a:pt x="620" y="247"/>
                  </a:lnTo>
                  <a:lnTo>
                    <a:pt x="638" y="241"/>
                  </a:lnTo>
                  <a:lnTo>
                    <a:pt x="655" y="234"/>
                  </a:lnTo>
                  <a:lnTo>
                    <a:pt x="672" y="215"/>
                  </a:lnTo>
                  <a:lnTo>
                    <a:pt x="690" y="202"/>
                  </a:lnTo>
                  <a:lnTo>
                    <a:pt x="707" y="182"/>
                  </a:lnTo>
                  <a:lnTo>
                    <a:pt x="724" y="170"/>
                  </a:lnTo>
                  <a:lnTo>
                    <a:pt x="742" y="149"/>
                  </a:lnTo>
                  <a:lnTo>
                    <a:pt x="758" y="137"/>
                  </a:lnTo>
                  <a:lnTo>
                    <a:pt x="775" y="130"/>
                  </a:lnTo>
                  <a:lnTo>
                    <a:pt x="793" y="117"/>
                  </a:lnTo>
                  <a:lnTo>
                    <a:pt x="804" y="97"/>
                  </a:lnTo>
                  <a:lnTo>
                    <a:pt x="822" y="91"/>
                  </a:lnTo>
                  <a:lnTo>
                    <a:pt x="839" y="78"/>
                  </a:lnTo>
                  <a:lnTo>
                    <a:pt x="856" y="72"/>
                  </a:lnTo>
                  <a:lnTo>
                    <a:pt x="874" y="65"/>
                  </a:lnTo>
                  <a:lnTo>
                    <a:pt x="891" y="65"/>
                  </a:lnTo>
                  <a:lnTo>
                    <a:pt x="907" y="52"/>
                  </a:lnTo>
                  <a:lnTo>
                    <a:pt x="925" y="52"/>
                  </a:lnTo>
                  <a:lnTo>
                    <a:pt x="942" y="32"/>
                  </a:lnTo>
                  <a:lnTo>
                    <a:pt x="959" y="25"/>
                  </a:lnTo>
                  <a:lnTo>
                    <a:pt x="977" y="13"/>
                  </a:lnTo>
                  <a:lnTo>
                    <a:pt x="994" y="6"/>
                  </a:lnTo>
                  <a:lnTo>
                    <a:pt x="1011" y="0"/>
                  </a:lnTo>
                  <a:lnTo>
                    <a:pt x="1058" y="0"/>
                  </a:lnTo>
                  <a:lnTo>
                    <a:pt x="105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6840" y="2079720"/>
              <a:ext cx="2274840" cy="901440"/>
            </a:xfrm>
            <a:custGeom>
              <a:avLst/>
              <a:gdLst/>
              <a:ahLst/>
              <a:rect l="l" t="t" r="r" b="b"/>
              <a:pathLst>
                <a:path w="1433" h="568">
                  <a:moveTo>
                    <a:pt x="0" y="170"/>
                  </a:moveTo>
                  <a:lnTo>
                    <a:pt x="23" y="176"/>
                  </a:lnTo>
                  <a:lnTo>
                    <a:pt x="34" y="196"/>
                  </a:lnTo>
                  <a:lnTo>
                    <a:pt x="46" y="215"/>
                  </a:lnTo>
                  <a:lnTo>
                    <a:pt x="57" y="235"/>
                  </a:lnTo>
                  <a:lnTo>
                    <a:pt x="75" y="254"/>
                  </a:lnTo>
                  <a:lnTo>
                    <a:pt x="86" y="273"/>
                  </a:lnTo>
                  <a:lnTo>
                    <a:pt x="103" y="287"/>
                  </a:lnTo>
                  <a:lnTo>
                    <a:pt x="120" y="299"/>
                  </a:lnTo>
                  <a:lnTo>
                    <a:pt x="137" y="320"/>
                  </a:lnTo>
                  <a:lnTo>
                    <a:pt x="155" y="332"/>
                  </a:lnTo>
                  <a:lnTo>
                    <a:pt x="172" y="352"/>
                  </a:lnTo>
                  <a:lnTo>
                    <a:pt x="195" y="371"/>
                  </a:lnTo>
                  <a:lnTo>
                    <a:pt x="211" y="385"/>
                  </a:lnTo>
                  <a:lnTo>
                    <a:pt x="229" y="397"/>
                  </a:lnTo>
                  <a:lnTo>
                    <a:pt x="246" y="404"/>
                  </a:lnTo>
                  <a:lnTo>
                    <a:pt x="263" y="417"/>
                  </a:lnTo>
                  <a:lnTo>
                    <a:pt x="281" y="423"/>
                  </a:lnTo>
                  <a:lnTo>
                    <a:pt x="298" y="437"/>
                  </a:lnTo>
                  <a:lnTo>
                    <a:pt x="315" y="444"/>
                  </a:lnTo>
                  <a:lnTo>
                    <a:pt x="326" y="463"/>
                  </a:lnTo>
                  <a:lnTo>
                    <a:pt x="343" y="476"/>
                  </a:lnTo>
                  <a:lnTo>
                    <a:pt x="361" y="489"/>
                  </a:lnTo>
                  <a:lnTo>
                    <a:pt x="384" y="495"/>
                  </a:lnTo>
                  <a:lnTo>
                    <a:pt x="401" y="502"/>
                  </a:lnTo>
                  <a:lnTo>
                    <a:pt x="418" y="515"/>
                  </a:lnTo>
                  <a:lnTo>
                    <a:pt x="435" y="515"/>
                  </a:lnTo>
                  <a:lnTo>
                    <a:pt x="452" y="521"/>
                  </a:lnTo>
                  <a:lnTo>
                    <a:pt x="475" y="535"/>
                  </a:lnTo>
                  <a:lnTo>
                    <a:pt x="493" y="541"/>
                  </a:lnTo>
                  <a:lnTo>
                    <a:pt x="532" y="554"/>
                  </a:lnTo>
                  <a:lnTo>
                    <a:pt x="550" y="561"/>
                  </a:lnTo>
                  <a:lnTo>
                    <a:pt x="584" y="561"/>
                  </a:lnTo>
                  <a:lnTo>
                    <a:pt x="602" y="567"/>
                  </a:lnTo>
                  <a:lnTo>
                    <a:pt x="624" y="567"/>
                  </a:lnTo>
                  <a:lnTo>
                    <a:pt x="647" y="567"/>
                  </a:lnTo>
                  <a:lnTo>
                    <a:pt x="670" y="567"/>
                  </a:lnTo>
                  <a:lnTo>
                    <a:pt x="687" y="567"/>
                  </a:lnTo>
                  <a:lnTo>
                    <a:pt x="705" y="561"/>
                  </a:lnTo>
                  <a:lnTo>
                    <a:pt x="721" y="561"/>
                  </a:lnTo>
                  <a:lnTo>
                    <a:pt x="739" y="554"/>
                  </a:lnTo>
                  <a:lnTo>
                    <a:pt x="756" y="554"/>
                  </a:lnTo>
                  <a:lnTo>
                    <a:pt x="773" y="547"/>
                  </a:lnTo>
                  <a:lnTo>
                    <a:pt x="791" y="541"/>
                  </a:lnTo>
                  <a:lnTo>
                    <a:pt x="808" y="535"/>
                  </a:lnTo>
                  <a:lnTo>
                    <a:pt x="824" y="528"/>
                  </a:lnTo>
                  <a:lnTo>
                    <a:pt x="842" y="521"/>
                  </a:lnTo>
                  <a:lnTo>
                    <a:pt x="859" y="515"/>
                  </a:lnTo>
                  <a:lnTo>
                    <a:pt x="876" y="502"/>
                  </a:lnTo>
                  <a:lnTo>
                    <a:pt x="894" y="495"/>
                  </a:lnTo>
                  <a:lnTo>
                    <a:pt x="911" y="489"/>
                  </a:lnTo>
                  <a:lnTo>
                    <a:pt x="927" y="476"/>
                  </a:lnTo>
                  <a:lnTo>
                    <a:pt x="945" y="463"/>
                  </a:lnTo>
                  <a:lnTo>
                    <a:pt x="962" y="449"/>
                  </a:lnTo>
                  <a:lnTo>
                    <a:pt x="979" y="430"/>
                  </a:lnTo>
                  <a:lnTo>
                    <a:pt x="997" y="417"/>
                  </a:lnTo>
                  <a:lnTo>
                    <a:pt x="1014" y="404"/>
                  </a:lnTo>
                  <a:lnTo>
                    <a:pt x="1031" y="397"/>
                  </a:lnTo>
                  <a:lnTo>
                    <a:pt x="1048" y="385"/>
                  </a:lnTo>
                  <a:lnTo>
                    <a:pt x="1059" y="365"/>
                  </a:lnTo>
                  <a:lnTo>
                    <a:pt x="1077" y="352"/>
                  </a:lnTo>
                  <a:lnTo>
                    <a:pt x="1088" y="332"/>
                  </a:lnTo>
                  <a:lnTo>
                    <a:pt x="1100" y="313"/>
                  </a:lnTo>
                  <a:lnTo>
                    <a:pt x="1117" y="294"/>
                  </a:lnTo>
                  <a:lnTo>
                    <a:pt x="1134" y="273"/>
                  </a:lnTo>
                  <a:lnTo>
                    <a:pt x="1151" y="261"/>
                  </a:lnTo>
                  <a:lnTo>
                    <a:pt x="1168" y="241"/>
                  </a:lnTo>
                  <a:lnTo>
                    <a:pt x="1186" y="215"/>
                  </a:lnTo>
                  <a:lnTo>
                    <a:pt x="1203" y="202"/>
                  </a:lnTo>
                  <a:lnTo>
                    <a:pt x="1220" y="182"/>
                  </a:lnTo>
                  <a:lnTo>
                    <a:pt x="1231" y="163"/>
                  </a:lnTo>
                  <a:lnTo>
                    <a:pt x="1248" y="144"/>
                  </a:lnTo>
                  <a:lnTo>
                    <a:pt x="1266" y="130"/>
                  </a:lnTo>
                  <a:lnTo>
                    <a:pt x="1277" y="111"/>
                  </a:lnTo>
                  <a:lnTo>
                    <a:pt x="1295" y="98"/>
                  </a:lnTo>
                  <a:lnTo>
                    <a:pt x="1312" y="91"/>
                  </a:lnTo>
                  <a:lnTo>
                    <a:pt x="1329" y="72"/>
                  </a:lnTo>
                  <a:lnTo>
                    <a:pt x="1346" y="52"/>
                  </a:lnTo>
                  <a:lnTo>
                    <a:pt x="1363" y="39"/>
                  </a:lnTo>
                  <a:lnTo>
                    <a:pt x="1380" y="27"/>
                  </a:lnTo>
                  <a:lnTo>
                    <a:pt x="1427" y="0"/>
                  </a:lnTo>
                  <a:lnTo>
                    <a:pt x="143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9200" y="1843200"/>
              <a:ext cx="1704960" cy="690480"/>
            </a:xfrm>
            <a:custGeom>
              <a:avLst/>
              <a:gdLst/>
              <a:ahLst/>
              <a:rect l="l" t="t" r="r" b="b"/>
              <a:pathLst>
                <a:path w="1074" h="435">
                  <a:moveTo>
                    <a:pt x="0" y="129"/>
                  </a:moveTo>
                  <a:lnTo>
                    <a:pt x="17" y="155"/>
                  </a:lnTo>
                  <a:lnTo>
                    <a:pt x="28" y="175"/>
                  </a:lnTo>
                  <a:lnTo>
                    <a:pt x="40" y="194"/>
                  </a:lnTo>
                  <a:lnTo>
                    <a:pt x="57" y="213"/>
                  </a:lnTo>
                  <a:lnTo>
                    <a:pt x="75" y="233"/>
                  </a:lnTo>
                  <a:lnTo>
                    <a:pt x="86" y="252"/>
                  </a:lnTo>
                  <a:lnTo>
                    <a:pt x="103" y="265"/>
                  </a:lnTo>
                  <a:lnTo>
                    <a:pt x="126" y="291"/>
                  </a:lnTo>
                  <a:lnTo>
                    <a:pt x="143" y="310"/>
                  </a:lnTo>
                  <a:lnTo>
                    <a:pt x="160" y="324"/>
                  </a:lnTo>
                  <a:lnTo>
                    <a:pt x="178" y="329"/>
                  </a:lnTo>
                  <a:lnTo>
                    <a:pt x="195" y="336"/>
                  </a:lnTo>
                  <a:lnTo>
                    <a:pt x="212" y="350"/>
                  </a:lnTo>
                  <a:lnTo>
                    <a:pt x="230" y="362"/>
                  </a:lnTo>
                  <a:lnTo>
                    <a:pt x="246" y="369"/>
                  </a:lnTo>
                  <a:lnTo>
                    <a:pt x="263" y="382"/>
                  </a:lnTo>
                  <a:lnTo>
                    <a:pt x="281" y="394"/>
                  </a:lnTo>
                  <a:lnTo>
                    <a:pt x="298" y="401"/>
                  </a:lnTo>
                  <a:lnTo>
                    <a:pt x="315" y="408"/>
                  </a:lnTo>
                  <a:lnTo>
                    <a:pt x="333" y="408"/>
                  </a:lnTo>
                  <a:lnTo>
                    <a:pt x="350" y="413"/>
                  </a:lnTo>
                  <a:lnTo>
                    <a:pt x="367" y="413"/>
                  </a:lnTo>
                  <a:lnTo>
                    <a:pt x="384" y="413"/>
                  </a:lnTo>
                  <a:lnTo>
                    <a:pt x="442" y="427"/>
                  </a:lnTo>
                  <a:lnTo>
                    <a:pt x="459" y="434"/>
                  </a:lnTo>
                  <a:lnTo>
                    <a:pt x="476" y="434"/>
                  </a:lnTo>
                  <a:lnTo>
                    <a:pt x="493" y="434"/>
                  </a:lnTo>
                  <a:lnTo>
                    <a:pt x="510" y="434"/>
                  </a:lnTo>
                  <a:lnTo>
                    <a:pt x="527" y="434"/>
                  </a:lnTo>
                  <a:lnTo>
                    <a:pt x="545" y="434"/>
                  </a:lnTo>
                  <a:lnTo>
                    <a:pt x="562" y="434"/>
                  </a:lnTo>
                  <a:lnTo>
                    <a:pt x="580" y="427"/>
                  </a:lnTo>
                  <a:lnTo>
                    <a:pt x="596" y="420"/>
                  </a:lnTo>
                  <a:lnTo>
                    <a:pt x="613" y="413"/>
                  </a:lnTo>
                  <a:lnTo>
                    <a:pt x="631" y="413"/>
                  </a:lnTo>
                  <a:lnTo>
                    <a:pt x="648" y="401"/>
                  </a:lnTo>
                  <a:lnTo>
                    <a:pt x="665" y="394"/>
                  </a:lnTo>
                  <a:lnTo>
                    <a:pt x="683" y="388"/>
                  </a:lnTo>
                  <a:lnTo>
                    <a:pt x="700" y="375"/>
                  </a:lnTo>
                  <a:lnTo>
                    <a:pt x="716" y="362"/>
                  </a:lnTo>
                  <a:lnTo>
                    <a:pt x="734" y="355"/>
                  </a:lnTo>
                  <a:lnTo>
                    <a:pt x="745" y="336"/>
                  </a:lnTo>
                  <a:lnTo>
                    <a:pt x="763" y="324"/>
                  </a:lnTo>
                  <a:lnTo>
                    <a:pt x="780" y="304"/>
                  </a:lnTo>
                  <a:lnTo>
                    <a:pt x="797" y="291"/>
                  </a:lnTo>
                  <a:lnTo>
                    <a:pt x="815" y="278"/>
                  </a:lnTo>
                  <a:lnTo>
                    <a:pt x="832" y="265"/>
                  </a:lnTo>
                  <a:lnTo>
                    <a:pt x="843" y="246"/>
                  </a:lnTo>
                  <a:lnTo>
                    <a:pt x="860" y="227"/>
                  </a:lnTo>
                  <a:lnTo>
                    <a:pt x="877" y="206"/>
                  </a:lnTo>
                  <a:lnTo>
                    <a:pt x="895" y="187"/>
                  </a:lnTo>
                  <a:lnTo>
                    <a:pt x="906" y="168"/>
                  </a:lnTo>
                  <a:lnTo>
                    <a:pt x="924" y="155"/>
                  </a:lnTo>
                  <a:lnTo>
                    <a:pt x="941" y="136"/>
                  </a:lnTo>
                  <a:lnTo>
                    <a:pt x="957" y="123"/>
                  </a:lnTo>
                  <a:lnTo>
                    <a:pt x="969" y="104"/>
                  </a:lnTo>
                  <a:lnTo>
                    <a:pt x="975" y="85"/>
                  </a:lnTo>
                  <a:lnTo>
                    <a:pt x="992" y="71"/>
                  </a:lnTo>
                  <a:lnTo>
                    <a:pt x="1004" y="52"/>
                  </a:lnTo>
                  <a:lnTo>
                    <a:pt x="1021" y="32"/>
                  </a:lnTo>
                  <a:lnTo>
                    <a:pt x="1038" y="20"/>
                  </a:lnTo>
                  <a:lnTo>
                    <a:pt x="1056" y="6"/>
                  </a:lnTo>
                  <a:lnTo>
                    <a:pt x="1073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66920" y="4479840"/>
              <a:ext cx="554040" cy="687600"/>
            </a:xfrm>
            <a:custGeom>
              <a:avLst/>
              <a:gdLst/>
              <a:ahLst/>
              <a:rect l="l" t="t" r="r" b="b"/>
              <a:pathLst>
                <a:path w="349" h="433">
                  <a:moveTo>
                    <a:pt x="39" y="39"/>
                  </a:moveTo>
                  <a:lnTo>
                    <a:pt x="62" y="32"/>
                  </a:lnTo>
                  <a:lnTo>
                    <a:pt x="80" y="19"/>
                  </a:lnTo>
                  <a:lnTo>
                    <a:pt x="96" y="13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188" y="13"/>
                  </a:lnTo>
                  <a:lnTo>
                    <a:pt x="205" y="19"/>
                  </a:lnTo>
                  <a:lnTo>
                    <a:pt x="222" y="32"/>
                  </a:lnTo>
                  <a:lnTo>
                    <a:pt x="234" y="52"/>
                  </a:lnTo>
                  <a:lnTo>
                    <a:pt x="251" y="65"/>
                  </a:lnTo>
                  <a:lnTo>
                    <a:pt x="262" y="84"/>
                  </a:lnTo>
                  <a:lnTo>
                    <a:pt x="279" y="98"/>
                  </a:lnTo>
                  <a:lnTo>
                    <a:pt x="291" y="117"/>
                  </a:lnTo>
                  <a:lnTo>
                    <a:pt x="308" y="136"/>
                  </a:lnTo>
                  <a:lnTo>
                    <a:pt x="320" y="157"/>
                  </a:lnTo>
                  <a:lnTo>
                    <a:pt x="331" y="176"/>
                  </a:lnTo>
                  <a:lnTo>
                    <a:pt x="331" y="195"/>
                  </a:lnTo>
                  <a:lnTo>
                    <a:pt x="337" y="216"/>
                  </a:lnTo>
                  <a:lnTo>
                    <a:pt x="343" y="235"/>
                  </a:lnTo>
                  <a:lnTo>
                    <a:pt x="348" y="254"/>
                  </a:lnTo>
                  <a:lnTo>
                    <a:pt x="348" y="274"/>
                  </a:lnTo>
                  <a:lnTo>
                    <a:pt x="348" y="294"/>
                  </a:lnTo>
                  <a:lnTo>
                    <a:pt x="348" y="314"/>
                  </a:lnTo>
                  <a:lnTo>
                    <a:pt x="348" y="333"/>
                  </a:lnTo>
                  <a:lnTo>
                    <a:pt x="348" y="352"/>
                  </a:lnTo>
                  <a:lnTo>
                    <a:pt x="348" y="373"/>
                  </a:lnTo>
                  <a:lnTo>
                    <a:pt x="348" y="392"/>
                  </a:lnTo>
                  <a:lnTo>
                    <a:pt x="331" y="404"/>
                  </a:lnTo>
                  <a:lnTo>
                    <a:pt x="320" y="425"/>
                  </a:lnTo>
                  <a:lnTo>
                    <a:pt x="302" y="432"/>
                  </a:lnTo>
                  <a:lnTo>
                    <a:pt x="285" y="432"/>
                  </a:lnTo>
                  <a:lnTo>
                    <a:pt x="268" y="432"/>
                  </a:lnTo>
                  <a:lnTo>
                    <a:pt x="251" y="432"/>
                  </a:lnTo>
                  <a:lnTo>
                    <a:pt x="234" y="432"/>
                  </a:lnTo>
                  <a:lnTo>
                    <a:pt x="216" y="425"/>
                  </a:lnTo>
                  <a:lnTo>
                    <a:pt x="199" y="418"/>
                  </a:lnTo>
                  <a:lnTo>
                    <a:pt x="182" y="411"/>
                  </a:lnTo>
                  <a:lnTo>
                    <a:pt x="165" y="399"/>
                  </a:lnTo>
                  <a:lnTo>
                    <a:pt x="148" y="385"/>
                  </a:lnTo>
                  <a:lnTo>
                    <a:pt x="131" y="373"/>
                  </a:lnTo>
                  <a:lnTo>
                    <a:pt x="113" y="359"/>
                  </a:lnTo>
                  <a:lnTo>
                    <a:pt x="90" y="340"/>
                  </a:lnTo>
                  <a:lnTo>
                    <a:pt x="74" y="326"/>
                  </a:lnTo>
                  <a:lnTo>
                    <a:pt x="56" y="307"/>
                  </a:lnTo>
                  <a:lnTo>
                    <a:pt x="39" y="287"/>
                  </a:lnTo>
                  <a:lnTo>
                    <a:pt x="28" y="268"/>
                  </a:lnTo>
                  <a:lnTo>
                    <a:pt x="16" y="248"/>
                  </a:lnTo>
                  <a:lnTo>
                    <a:pt x="10" y="228"/>
                  </a:lnTo>
                  <a:lnTo>
                    <a:pt x="4" y="209"/>
                  </a:lnTo>
                  <a:lnTo>
                    <a:pt x="0" y="189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16" y="78"/>
                  </a:lnTo>
                  <a:lnTo>
                    <a:pt x="39" y="3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24360" y="4379760"/>
              <a:ext cx="141120" cy="414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8" y="6"/>
                  </a:moveTo>
                  <a:lnTo>
                    <a:pt x="64" y="0"/>
                  </a:lnTo>
                  <a:lnTo>
                    <a:pt x="46" y="6"/>
                  </a:lnTo>
                  <a:lnTo>
                    <a:pt x="23" y="13"/>
                  </a:lnTo>
                  <a:lnTo>
                    <a:pt x="6" y="18"/>
                  </a:lnTo>
                  <a:lnTo>
                    <a:pt x="0" y="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68760" y="4443480"/>
              <a:ext cx="185760" cy="1350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0"/>
                  </a:moveTo>
                  <a:lnTo>
                    <a:pt x="93" y="12"/>
                  </a:lnTo>
                  <a:lnTo>
                    <a:pt x="75" y="25"/>
                  </a:lnTo>
                  <a:lnTo>
                    <a:pt x="58" y="39"/>
                  </a:lnTo>
                  <a:lnTo>
                    <a:pt x="41" y="44"/>
                  </a:lnTo>
                  <a:lnTo>
                    <a:pt x="17" y="64"/>
                  </a:lnTo>
                  <a:lnTo>
                    <a:pt x="0" y="8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2520" y="464652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0"/>
                  </a:moveTo>
                  <a:lnTo>
                    <a:pt x="81" y="27"/>
                  </a:lnTo>
                  <a:lnTo>
                    <a:pt x="63" y="46"/>
                  </a:lnTo>
                  <a:lnTo>
                    <a:pt x="46" y="65"/>
                  </a:lnTo>
                  <a:lnTo>
                    <a:pt x="35" y="86"/>
                  </a:lnTo>
                  <a:lnTo>
                    <a:pt x="17" y="98"/>
                  </a:lnTo>
                  <a:lnTo>
                    <a:pt x="6" y="119"/>
                  </a:lnTo>
                  <a:lnTo>
                    <a:pt x="0" y="119"/>
                  </a:lnTo>
                  <a:lnTo>
                    <a:pt x="6" y="98"/>
                  </a:lnTo>
                  <a:lnTo>
                    <a:pt x="6" y="11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79600" y="4959360"/>
              <a:ext cx="92160" cy="250920"/>
            </a:xfrm>
            <a:custGeom>
              <a:avLst/>
              <a:gdLst/>
              <a:ahLst/>
              <a:rect l="l" t="t" r="r" b="b"/>
              <a:pathLst>
                <a:path w="58" h="158">
                  <a:moveTo>
                    <a:pt x="57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28" y="65"/>
                  </a:lnTo>
                  <a:lnTo>
                    <a:pt x="22" y="84"/>
                  </a:lnTo>
                  <a:lnTo>
                    <a:pt x="11" y="103"/>
                  </a:lnTo>
                  <a:lnTo>
                    <a:pt x="5" y="124"/>
                  </a:lnTo>
                  <a:lnTo>
                    <a:pt x="5" y="143"/>
                  </a:lnTo>
                  <a:lnTo>
                    <a:pt x="0" y="15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27400" y="5332320"/>
              <a:ext cx="34920" cy="271440"/>
            </a:xfrm>
            <a:custGeom>
              <a:avLst/>
              <a:gdLst/>
              <a:ahLst/>
              <a:rect l="l" t="t" r="r" b="b"/>
              <a:pathLst>
                <a:path w="22" h="171">
                  <a:moveTo>
                    <a:pt x="21" y="0"/>
                  </a:moveTo>
                  <a:lnTo>
                    <a:pt x="21" y="26"/>
                  </a:lnTo>
                  <a:lnTo>
                    <a:pt x="21" y="46"/>
                  </a:lnTo>
                  <a:lnTo>
                    <a:pt x="15" y="65"/>
                  </a:lnTo>
                  <a:lnTo>
                    <a:pt x="15" y="85"/>
                  </a:lnTo>
                  <a:lnTo>
                    <a:pt x="10" y="105"/>
                  </a:lnTo>
                  <a:lnTo>
                    <a:pt x="4" y="124"/>
                  </a:lnTo>
                  <a:lnTo>
                    <a:pt x="0" y="143"/>
                  </a:lnTo>
                  <a:lnTo>
                    <a:pt x="0" y="17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73240" y="191124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36" y="0"/>
                  </a:lnTo>
                  <a:lnTo>
                    <a:pt x="18" y="7"/>
                  </a:lnTo>
                  <a:lnTo>
                    <a:pt x="0" y="19"/>
                  </a:lnTo>
                  <a:lnTo>
                    <a:pt x="0" y="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1240" y="1984320"/>
              <a:ext cx="112680" cy="1587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70" y="0"/>
                  </a:moveTo>
                  <a:lnTo>
                    <a:pt x="52" y="26"/>
                  </a:lnTo>
                  <a:lnTo>
                    <a:pt x="41" y="46"/>
                  </a:lnTo>
                  <a:lnTo>
                    <a:pt x="23" y="66"/>
                  </a:lnTo>
                  <a:lnTo>
                    <a:pt x="12" y="86"/>
                  </a:lnTo>
                  <a:lnTo>
                    <a:pt x="0" y="9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95400" y="2205000"/>
              <a:ext cx="31680" cy="268200"/>
            </a:xfrm>
            <a:custGeom>
              <a:avLst/>
              <a:gdLst/>
              <a:ahLst/>
              <a:rect l="l" t="t" r="r" b="b"/>
              <a:pathLst>
                <a:path w="20" h="169">
                  <a:moveTo>
                    <a:pt x="19" y="0"/>
                  </a:moveTo>
                  <a:lnTo>
                    <a:pt x="0" y="25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3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374840" y="1911240"/>
              <a:ext cx="16668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0"/>
                  </a:moveTo>
                  <a:lnTo>
                    <a:pt x="23" y="6"/>
                  </a:lnTo>
                  <a:lnTo>
                    <a:pt x="40" y="12"/>
                  </a:lnTo>
                  <a:lnTo>
                    <a:pt x="57" y="33"/>
                  </a:lnTo>
                  <a:lnTo>
                    <a:pt x="75" y="45"/>
                  </a:lnTo>
                  <a:lnTo>
                    <a:pt x="98" y="66"/>
                  </a:lnTo>
                  <a:lnTo>
                    <a:pt x="104" y="7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7720" y="2130480"/>
              <a:ext cx="60480" cy="237960"/>
            </a:xfrm>
            <a:custGeom>
              <a:avLst/>
              <a:gdLst/>
              <a:ahLst/>
              <a:rect l="l" t="t" r="r" b="b"/>
              <a:pathLst>
                <a:path w="38" h="150">
                  <a:moveTo>
                    <a:pt x="0" y="0"/>
                  </a:moveTo>
                  <a:lnTo>
                    <a:pt x="12" y="25"/>
                  </a:lnTo>
                  <a:lnTo>
                    <a:pt x="17" y="45"/>
                  </a:lnTo>
                  <a:lnTo>
                    <a:pt x="24" y="6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37" y="123"/>
                  </a:lnTo>
                  <a:lnTo>
                    <a:pt x="37" y="143"/>
                  </a:lnTo>
                  <a:lnTo>
                    <a:pt x="37" y="14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12800" y="2500200"/>
              <a:ext cx="85680" cy="200160"/>
            </a:xfrm>
            <a:custGeom>
              <a:avLst/>
              <a:gdLst/>
              <a:ahLst/>
              <a:rect l="l" t="t" r="r" b="b"/>
              <a:pathLst>
                <a:path w="54" h="126">
                  <a:moveTo>
                    <a:pt x="53" y="0"/>
                  </a:moveTo>
                  <a:lnTo>
                    <a:pt x="46" y="27"/>
                  </a:lnTo>
                  <a:lnTo>
                    <a:pt x="40" y="46"/>
                  </a:lnTo>
                  <a:lnTo>
                    <a:pt x="29" y="65"/>
                  </a:lnTo>
                  <a:lnTo>
                    <a:pt x="23" y="86"/>
                  </a:lnTo>
                  <a:lnTo>
                    <a:pt x="6" y="112"/>
                  </a:lnTo>
                  <a:lnTo>
                    <a:pt x="0" y="125"/>
                  </a:lnTo>
                  <a:lnTo>
                    <a:pt x="23" y="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0080" y="2784600"/>
              <a:ext cx="210960" cy="33120"/>
            </a:xfrm>
            <a:custGeom>
              <a:avLst/>
              <a:gdLst/>
              <a:ahLst/>
              <a:rect l="l" t="t" r="r" b="b"/>
              <a:pathLst>
                <a:path w="133" h="21">
                  <a:moveTo>
                    <a:pt x="132" y="0"/>
                  </a:moveTo>
                  <a:lnTo>
                    <a:pt x="109" y="0"/>
                  </a:lnTo>
                  <a:lnTo>
                    <a:pt x="92" y="20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31760" y="256536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0"/>
                  </a:moveTo>
                  <a:lnTo>
                    <a:pt x="22" y="25"/>
                  </a:lnTo>
                  <a:lnTo>
                    <a:pt x="32" y="46"/>
                  </a:lnTo>
                  <a:lnTo>
                    <a:pt x="44" y="65"/>
                  </a:lnTo>
                  <a:lnTo>
                    <a:pt x="60" y="79"/>
                  </a:lnTo>
                  <a:lnTo>
                    <a:pt x="72" y="98"/>
                  </a:lnTo>
                  <a:lnTo>
                    <a:pt x="89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095560" y="1930320"/>
              <a:ext cx="46080" cy="262080"/>
            </a:xfrm>
            <a:custGeom>
              <a:avLst/>
              <a:gdLst/>
              <a:ahLst/>
              <a:rect l="l" t="t" r="r" b="b"/>
              <a:pathLst>
                <a:path w="29" h="165">
                  <a:moveTo>
                    <a:pt x="0" y="0"/>
                  </a:moveTo>
                  <a:lnTo>
                    <a:pt x="17" y="27"/>
                  </a:lnTo>
                  <a:lnTo>
                    <a:pt x="17" y="46"/>
                  </a:lnTo>
                  <a:lnTo>
                    <a:pt x="23" y="65"/>
                  </a:lnTo>
                  <a:lnTo>
                    <a:pt x="23" y="85"/>
                  </a:lnTo>
                  <a:lnTo>
                    <a:pt x="28" y="111"/>
                  </a:lnTo>
                  <a:lnTo>
                    <a:pt x="28" y="131"/>
                  </a:lnTo>
                  <a:lnTo>
                    <a:pt x="28" y="150"/>
                  </a:lnTo>
                  <a:lnTo>
                    <a:pt x="28" y="1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85840" y="2305080"/>
              <a:ext cx="63720" cy="249120"/>
            </a:xfrm>
            <a:custGeom>
              <a:avLst/>
              <a:gdLst/>
              <a:ahLst/>
              <a:rect l="l" t="t" r="r" b="b"/>
              <a:pathLst>
                <a:path w="40" h="157">
                  <a:moveTo>
                    <a:pt x="39" y="0"/>
                  </a:moveTo>
                  <a:lnTo>
                    <a:pt x="39" y="26"/>
                  </a:lnTo>
                  <a:lnTo>
                    <a:pt x="39" y="45"/>
                  </a:lnTo>
                  <a:lnTo>
                    <a:pt x="33" y="64"/>
                  </a:lnTo>
                  <a:lnTo>
                    <a:pt x="28" y="84"/>
                  </a:lnTo>
                  <a:lnTo>
                    <a:pt x="28" y="104"/>
                  </a:lnTo>
                  <a:lnTo>
                    <a:pt x="22" y="123"/>
                  </a:lnTo>
                  <a:lnTo>
                    <a:pt x="16" y="143"/>
                  </a:lnTo>
                  <a:lnTo>
                    <a:pt x="0" y="15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943280" y="2719440"/>
              <a:ext cx="117360" cy="21276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73" y="0"/>
                  </a:moveTo>
                  <a:lnTo>
                    <a:pt x="62" y="26"/>
                  </a:lnTo>
                  <a:lnTo>
                    <a:pt x="56" y="45"/>
                  </a:lnTo>
                  <a:lnTo>
                    <a:pt x="44" y="66"/>
                  </a:lnTo>
                  <a:lnTo>
                    <a:pt x="39" y="85"/>
                  </a:lnTo>
                  <a:lnTo>
                    <a:pt x="22" y="105"/>
                  </a:lnTo>
                  <a:lnTo>
                    <a:pt x="5" y="126"/>
                  </a:lnTo>
                  <a:lnTo>
                    <a:pt x="0" y="13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68600" y="3030480"/>
              <a:ext cx="18396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5" y="0"/>
                  </a:moveTo>
                  <a:lnTo>
                    <a:pt x="92" y="20"/>
                  </a:lnTo>
                  <a:lnTo>
                    <a:pt x="75" y="26"/>
                  </a:lnTo>
                  <a:lnTo>
                    <a:pt x="57" y="32"/>
                  </a:lnTo>
                  <a:lnTo>
                    <a:pt x="34" y="45"/>
                  </a:lnTo>
                  <a:lnTo>
                    <a:pt x="17" y="52"/>
                  </a:lnTo>
                  <a:lnTo>
                    <a:pt x="0" y="58"/>
                  </a:lnTo>
                  <a:lnTo>
                    <a:pt x="0" y="6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74840" y="3187800"/>
              <a:ext cx="172800" cy="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5440" y="2543040"/>
              <a:ext cx="83880" cy="16848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0" y="0"/>
                  </a:moveTo>
                  <a:lnTo>
                    <a:pt x="17" y="26"/>
                  </a:lnTo>
                  <a:lnTo>
                    <a:pt x="23" y="45"/>
                  </a:lnTo>
                  <a:lnTo>
                    <a:pt x="34" y="65"/>
                  </a:lnTo>
                  <a:lnTo>
                    <a:pt x="40" y="85"/>
                  </a:lnTo>
                  <a:lnTo>
                    <a:pt x="46" y="105"/>
                  </a:lnTo>
                  <a:lnTo>
                    <a:pt x="52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9280" y="2182680"/>
              <a:ext cx="90360" cy="22716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11" y="25"/>
                  </a:lnTo>
                  <a:lnTo>
                    <a:pt x="23" y="45"/>
                  </a:lnTo>
                  <a:lnTo>
                    <a:pt x="28" y="64"/>
                  </a:lnTo>
                  <a:lnTo>
                    <a:pt x="33" y="83"/>
                  </a:lnTo>
                  <a:lnTo>
                    <a:pt x="39" y="103"/>
                  </a:lnTo>
                  <a:lnTo>
                    <a:pt x="45" y="122"/>
                  </a:lnTo>
                  <a:lnTo>
                    <a:pt x="51" y="136"/>
                  </a:lnTo>
                  <a:lnTo>
                    <a:pt x="56" y="14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49160" y="2824200"/>
              <a:ext cx="9072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17" y="26"/>
                  </a:lnTo>
                  <a:lnTo>
                    <a:pt x="28" y="45"/>
                  </a:lnTo>
                  <a:lnTo>
                    <a:pt x="39" y="65"/>
                  </a:lnTo>
                  <a:lnTo>
                    <a:pt x="56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95400" y="3084480"/>
              <a:ext cx="212760" cy="9360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39"/>
                  </a:lnTo>
                  <a:lnTo>
                    <a:pt x="75" y="39"/>
                  </a:lnTo>
                  <a:lnTo>
                    <a:pt x="92" y="45"/>
                  </a:lnTo>
                  <a:lnTo>
                    <a:pt x="109" y="52"/>
                  </a:lnTo>
                  <a:lnTo>
                    <a:pt x="133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39720" y="4605480"/>
              <a:ext cx="17496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28" y="0"/>
                  </a:lnTo>
                  <a:lnTo>
                    <a:pt x="46" y="6"/>
                  </a:lnTo>
                  <a:lnTo>
                    <a:pt x="63" y="13"/>
                  </a:lnTo>
                  <a:lnTo>
                    <a:pt x="109" y="2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68320" y="471024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22" y="6"/>
                  </a:lnTo>
                  <a:lnTo>
                    <a:pt x="45" y="32"/>
                  </a:lnTo>
                  <a:lnTo>
                    <a:pt x="62" y="45"/>
                  </a:lnTo>
                  <a:lnTo>
                    <a:pt x="73" y="65"/>
                  </a:lnTo>
                  <a:lnTo>
                    <a:pt x="79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951200" y="5022720"/>
              <a:ext cx="31680" cy="217440"/>
            </a:xfrm>
            <a:custGeom>
              <a:avLst/>
              <a:gdLst/>
              <a:ahLst/>
              <a:rect l="l" t="t" r="r" b="b"/>
              <a:pathLst>
                <a:path w="20" h="137">
                  <a:moveTo>
                    <a:pt x="0" y="0"/>
                  </a:moveTo>
                  <a:lnTo>
                    <a:pt x="12" y="25"/>
                  </a:lnTo>
                  <a:lnTo>
                    <a:pt x="19" y="44"/>
                  </a:lnTo>
                  <a:lnTo>
                    <a:pt x="19" y="64"/>
                  </a:lnTo>
                  <a:lnTo>
                    <a:pt x="19" y="84"/>
                  </a:lnTo>
                  <a:lnTo>
                    <a:pt x="19" y="110"/>
                  </a:lnTo>
                  <a:lnTo>
                    <a:pt x="12" y="129"/>
                  </a:lnTo>
                  <a:lnTo>
                    <a:pt x="6" y="13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87520" y="4710240"/>
              <a:ext cx="30240" cy="272880"/>
            </a:xfrm>
            <a:custGeom>
              <a:avLst/>
              <a:gdLst/>
              <a:ahLst/>
              <a:rect l="l" t="t" r="r" b="b"/>
              <a:pathLst>
                <a:path w="19" h="17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10"/>
                  </a:lnTo>
                  <a:lnTo>
                    <a:pt x="0" y="131"/>
                  </a:lnTo>
                  <a:lnTo>
                    <a:pt x="9" y="150"/>
                  </a:lnTo>
                  <a:lnTo>
                    <a:pt x="18" y="1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58800" y="5122800"/>
              <a:ext cx="139680" cy="16056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0" y="0"/>
                  </a:moveTo>
                  <a:lnTo>
                    <a:pt x="12" y="27"/>
                  </a:lnTo>
                  <a:lnTo>
                    <a:pt x="23" y="47"/>
                  </a:lnTo>
                  <a:lnTo>
                    <a:pt x="41" y="66"/>
                  </a:lnTo>
                  <a:lnTo>
                    <a:pt x="58" y="80"/>
                  </a:lnTo>
                  <a:lnTo>
                    <a:pt x="81" y="93"/>
                  </a:lnTo>
                  <a:lnTo>
                    <a:pt x="87" y="10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95280" y="4605480"/>
              <a:ext cx="0" cy="290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49280" y="5003640"/>
              <a:ext cx="112680" cy="1447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0"/>
                  </a:moveTo>
                  <a:lnTo>
                    <a:pt x="23" y="18"/>
                  </a:lnTo>
                  <a:lnTo>
                    <a:pt x="35" y="38"/>
                  </a:lnTo>
                  <a:lnTo>
                    <a:pt x="46" y="57"/>
                  </a:lnTo>
                  <a:lnTo>
                    <a:pt x="58" y="83"/>
                  </a:lnTo>
                  <a:lnTo>
                    <a:pt x="70" y="9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58800" y="5291280"/>
              <a:ext cx="117720" cy="13788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0" y="0"/>
                  </a:moveTo>
                  <a:lnTo>
                    <a:pt x="5" y="26"/>
                  </a:lnTo>
                  <a:lnTo>
                    <a:pt x="22" y="45"/>
                  </a:lnTo>
                  <a:lnTo>
                    <a:pt x="39" y="66"/>
                  </a:lnTo>
                  <a:lnTo>
                    <a:pt x="56" y="79"/>
                  </a:lnTo>
                  <a:lnTo>
                    <a:pt x="73" y="8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78040" y="5427720"/>
              <a:ext cx="203040" cy="5076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0" y="18"/>
                  </a:moveTo>
                  <a:lnTo>
                    <a:pt x="23" y="31"/>
                  </a:lnTo>
                  <a:lnTo>
                    <a:pt x="46" y="31"/>
                  </a:lnTo>
                  <a:lnTo>
                    <a:pt x="64" y="31"/>
                  </a:lnTo>
                  <a:lnTo>
                    <a:pt x="81" y="31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127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50920" y="5165640"/>
              <a:ext cx="30240" cy="23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0" y="145"/>
                  </a:moveTo>
                  <a:lnTo>
                    <a:pt x="12" y="118"/>
                  </a:lnTo>
                  <a:lnTo>
                    <a:pt x="18" y="98"/>
                  </a:lnTo>
                  <a:lnTo>
                    <a:pt x="18" y="78"/>
                  </a:lnTo>
                  <a:lnTo>
                    <a:pt x="18" y="59"/>
                  </a:lnTo>
                  <a:lnTo>
                    <a:pt x="18" y="31"/>
                  </a:lnTo>
                  <a:lnTo>
                    <a:pt x="18" y="12"/>
                  </a:lnTo>
                  <a:lnTo>
                    <a:pt x="12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60560" y="479124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0" y="0"/>
                  </a:moveTo>
                  <a:lnTo>
                    <a:pt x="17" y="27"/>
                  </a:lnTo>
                  <a:lnTo>
                    <a:pt x="23" y="46"/>
                  </a:lnTo>
                  <a:lnTo>
                    <a:pt x="29" y="65"/>
                  </a:lnTo>
                  <a:lnTo>
                    <a:pt x="34" y="85"/>
                  </a:lnTo>
                  <a:lnTo>
                    <a:pt x="46" y="104"/>
                  </a:lnTo>
                  <a:lnTo>
                    <a:pt x="52" y="130"/>
                  </a:lnTo>
                  <a:lnTo>
                    <a:pt x="57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41320" y="455436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01" y="113"/>
                  </a:moveTo>
                  <a:lnTo>
                    <a:pt x="84" y="86"/>
                  </a:lnTo>
                  <a:lnTo>
                    <a:pt x="67" y="73"/>
                  </a:lnTo>
                  <a:lnTo>
                    <a:pt x="50" y="53"/>
                  </a:lnTo>
                  <a:lnTo>
                    <a:pt x="33" y="33"/>
                  </a:lnTo>
                  <a:lnTo>
                    <a:pt x="16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67000" y="4432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79" y="17"/>
                  </a:lnTo>
                  <a:lnTo>
                    <a:pt x="62" y="12"/>
                  </a:lnTo>
                  <a:lnTo>
                    <a:pt x="40" y="6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03200" y="44514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57" y="0"/>
                  </a:moveTo>
                  <a:lnTo>
                    <a:pt x="34" y="5"/>
                  </a:lnTo>
                  <a:lnTo>
                    <a:pt x="17" y="26"/>
                  </a:lnTo>
                  <a:lnTo>
                    <a:pt x="11" y="45"/>
                  </a:lnTo>
                  <a:lnTo>
                    <a:pt x="0" y="65"/>
                  </a:lnTo>
                  <a:lnTo>
                    <a:pt x="11" y="4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77880" y="4773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6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4"/>
                  </a:lnTo>
                  <a:lnTo>
                    <a:pt x="6" y="143"/>
                  </a:lnTo>
                  <a:lnTo>
                    <a:pt x="11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28640" y="5041800"/>
              <a:ext cx="12564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0"/>
                  </a:moveTo>
                  <a:lnTo>
                    <a:pt x="22" y="11"/>
                  </a:lnTo>
                  <a:lnTo>
                    <a:pt x="38" y="14"/>
                  </a:lnTo>
                  <a:lnTo>
                    <a:pt x="78" y="2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697040" y="4782960"/>
              <a:ext cx="8244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0" y="0"/>
                  </a:moveTo>
                  <a:lnTo>
                    <a:pt x="22" y="5"/>
                  </a:lnTo>
                  <a:lnTo>
                    <a:pt x="28" y="25"/>
                  </a:lnTo>
                  <a:lnTo>
                    <a:pt x="39" y="45"/>
                  </a:lnTo>
                  <a:lnTo>
                    <a:pt x="51" y="64"/>
                  </a:lnTo>
                  <a:lnTo>
                    <a:pt x="51" y="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4940280"/>
              <a:ext cx="32040" cy="1033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19" y="0"/>
                  </a:moveTo>
                  <a:lnTo>
                    <a:pt x="19" y="25"/>
                  </a:lnTo>
                  <a:lnTo>
                    <a:pt x="19" y="45"/>
                  </a:lnTo>
                  <a:lnTo>
                    <a:pt x="0" y="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81280" y="2190600"/>
              <a:ext cx="619200" cy="212760"/>
            </a:xfrm>
            <a:custGeom>
              <a:avLst/>
              <a:gdLst/>
              <a:ahLst/>
              <a:rect l="l" t="t" r="r" b="b"/>
              <a:pathLst>
                <a:path w="390" h="134">
                  <a:moveTo>
                    <a:pt x="389" y="6"/>
                  </a:moveTo>
                  <a:lnTo>
                    <a:pt x="365" y="0"/>
                  </a:lnTo>
                  <a:lnTo>
                    <a:pt x="348" y="0"/>
                  </a:lnTo>
                  <a:lnTo>
                    <a:pt x="331" y="0"/>
                  </a:lnTo>
                  <a:lnTo>
                    <a:pt x="319" y="19"/>
                  </a:lnTo>
                  <a:lnTo>
                    <a:pt x="303" y="33"/>
                  </a:lnTo>
                  <a:lnTo>
                    <a:pt x="285" y="45"/>
                  </a:lnTo>
                  <a:lnTo>
                    <a:pt x="268" y="59"/>
                  </a:lnTo>
                  <a:lnTo>
                    <a:pt x="251" y="52"/>
                  </a:lnTo>
                  <a:lnTo>
                    <a:pt x="233" y="45"/>
                  </a:lnTo>
                  <a:lnTo>
                    <a:pt x="217" y="52"/>
                  </a:lnTo>
                  <a:lnTo>
                    <a:pt x="200" y="40"/>
                  </a:lnTo>
                  <a:lnTo>
                    <a:pt x="182" y="26"/>
                  </a:lnTo>
                  <a:lnTo>
                    <a:pt x="165" y="45"/>
                  </a:lnTo>
                  <a:lnTo>
                    <a:pt x="154" y="66"/>
                  </a:lnTo>
                  <a:lnTo>
                    <a:pt x="137" y="79"/>
                  </a:lnTo>
                  <a:lnTo>
                    <a:pt x="120" y="85"/>
                  </a:lnTo>
                  <a:lnTo>
                    <a:pt x="102" y="92"/>
                  </a:lnTo>
                  <a:lnTo>
                    <a:pt x="85" y="106"/>
                  </a:lnTo>
                  <a:lnTo>
                    <a:pt x="69" y="112"/>
                  </a:lnTo>
                  <a:lnTo>
                    <a:pt x="45" y="133"/>
                  </a:lnTo>
                  <a:lnTo>
                    <a:pt x="0" y="1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06720" y="198432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177" y="130"/>
                  </a:moveTo>
                  <a:lnTo>
                    <a:pt x="154" y="104"/>
                  </a:lnTo>
                  <a:lnTo>
                    <a:pt x="136" y="90"/>
                  </a:lnTo>
                  <a:lnTo>
                    <a:pt x="119" y="71"/>
                  </a:lnTo>
                  <a:lnTo>
                    <a:pt x="103" y="65"/>
                  </a:lnTo>
                  <a:lnTo>
                    <a:pt x="85" y="52"/>
                  </a:lnTo>
                  <a:lnTo>
                    <a:pt x="62" y="39"/>
                  </a:lnTo>
                  <a:lnTo>
                    <a:pt x="40" y="25"/>
                  </a:lnTo>
                  <a:lnTo>
                    <a:pt x="23" y="20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81360" y="203976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96" y="0"/>
                  </a:moveTo>
                  <a:lnTo>
                    <a:pt x="79" y="25"/>
                  </a:lnTo>
                  <a:lnTo>
                    <a:pt x="61" y="45"/>
                  </a:lnTo>
                  <a:lnTo>
                    <a:pt x="61" y="63"/>
                  </a:lnTo>
                  <a:lnTo>
                    <a:pt x="50" y="82"/>
                  </a:lnTo>
                  <a:lnTo>
                    <a:pt x="34" y="95"/>
                  </a:lnTo>
                  <a:lnTo>
                    <a:pt x="16" y="108"/>
                  </a:lnTo>
                  <a:lnTo>
                    <a:pt x="5" y="121"/>
                  </a:lnTo>
                  <a:lnTo>
                    <a:pt x="0" y="1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54440" y="237960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0" y="0"/>
                  </a:moveTo>
                  <a:lnTo>
                    <a:pt x="22" y="6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3" y="19"/>
                  </a:lnTo>
                  <a:lnTo>
                    <a:pt x="91" y="19"/>
                  </a:lnTo>
                  <a:lnTo>
                    <a:pt x="108" y="19"/>
                  </a:lnTo>
                  <a:lnTo>
                    <a:pt x="124" y="19"/>
                  </a:lnTo>
                  <a:lnTo>
                    <a:pt x="136" y="39"/>
                  </a:lnTo>
                  <a:lnTo>
                    <a:pt x="147" y="58"/>
                  </a:lnTo>
                  <a:lnTo>
                    <a:pt x="165" y="77"/>
                  </a:lnTo>
                  <a:lnTo>
                    <a:pt x="18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43520" y="2263680"/>
              <a:ext cx="212400" cy="674640"/>
            </a:xfrm>
            <a:custGeom>
              <a:avLst/>
              <a:gdLst/>
              <a:ahLst/>
              <a:rect l="l" t="t" r="r" b="b"/>
              <a:pathLst>
                <a:path w="134" h="425">
                  <a:moveTo>
                    <a:pt x="110" y="0"/>
                  </a:moveTo>
                  <a:lnTo>
                    <a:pt x="87" y="0"/>
                  </a:lnTo>
                  <a:lnTo>
                    <a:pt x="70" y="13"/>
                  </a:lnTo>
                  <a:lnTo>
                    <a:pt x="58" y="32"/>
                  </a:lnTo>
                  <a:lnTo>
                    <a:pt x="46" y="53"/>
                  </a:lnTo>
                  <a:lnTo>
                    <a:pt x="29" y="65"/>
                  </a:lnTo>
                  <a:lnTo>
                    <a:pt x="12" y="72"/>
                  </a:lnTo>
                  <a:lnTo>
                    <a:pt x="0" y="91"/>
                  </a:lnTo>
                  <a:lnTo>
                    <a:pt x="6" y="111"/>
                  </a:lnTo>
                  <a:lnTo>
                    <a:pt x="6" y="130"/>
                  </a:lnTo>
                  <a:lnTo>
                    <a:pt x="6" y="149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6" y="209"/>
                  </a:lnTo>
                  <a:lnTo>
                    <a:pt x="6" y="228"/>
                  </a:lnTo>
                  <a:lnTo>
                    <a:pt x="6" y="248"/>
                  </a:lnTo>
                  <a:lnTo>
                    <a:pt x="6" y="268"/>
                  </a:lnTo>
                  <a:lnTo>
                    <a:pt x="12" y="287"/>
                  </a:lnTo>
                  <a:lnTo>
                    <a:pt x="23" y="306"/>
                  </a:lnTo>
                  <a:lnTo>
                    <a:pt x="41" y="327"/>
                  </a:lnTo>
                  <a:lnTo>
                    <a:pt x="46" y="346"/>
                  </a:lnTo>
                  <a:lnTo>
                    <a:pt x="58" y="365"/>
                  </a:lnTo>
                  <a:lnTo>
                    <a:pt x="75" y="411"/>
                  </a:lnTo>
                  <a:lnTo>
                    <a:pt x="93" y="424"/>
                  </a:lnTo>
                  <a:lnTo>
                    <a:pt x="110" y="424"/>
                  </a:lnTo>
                  <a:lnTo>
                    <a:pt x="127" y="424"/>
                  </a:lnTo>
                  <a:lnTo>
                    <a:pt x="133" y="404"/>
                  </a:lnTo>
                  <a:lnTo>
                    <a:pt x="133" y="385"/>
                  </a:lnTo>
                  <a:lnTo>
                    <a:pt x="133" y="365"/>
                  </a:lnTo>
                  <a:lnTo>
                    <a:pt x="133" y="346"/>
                  </a:lnTo>
                  <a:lnTo>
                    <a:pt x="127" y="327"/>
                  </a:lnTo>
                  <a:lnTo>
                    <a:pt x="122" y="306"/>
                  </a:lnTo>
                  <a:lnTo>
                    <a:pt x="116" y="287"/>
                  </a:lnTo>
                  <a:lnTo>
                    <a:pt x="104" y="268"/>
                  </a:lnTo>
                  <a:lnTo>
                    <a:pt x="99" y="248"/>
                  </a:lnTo>
                  <a:lnTo>
                    <a:pt x="87" y="228"/>
                  </a:lnTo>
                  <a:lnTo>
                    <a:pt x="87" y="209"/>
                  </a:lnTo>
                  <a:lnTo>
                    <a:pt x="87" y="189"/>
                  </a:lnTo>
                  <a:lnTo>
                    <a:pt x="81" y="170"/>
                  </a:lnTo>
                  <a:lnTo>
                    <a:pt x="87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05160" y="294804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0"/>
                  </a:moveTo>
                  <a:lnTo>
                    <a:pt x="6" y="25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0" y="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49200" y="4646520"/>
              <a:ext cx="453960" cy="881280"/>
            </a:xfrm>
            <a:custGeom>
              <a:avLst/>
              <a:gdLst/>
              <a:ahLst/>
              <a:rect l="l" t="t" r="r" b="b"/>
              <a:pathLst>
                <a:path w="286" h="555">
                  <a:moveTo>
                    <a:pt x="0" y="0"/>
                  </a:moveTo>
                  <a:lnTo>
                    <a:pt x="22" y="20"/>
                  </a:lnTo>
                  <a:lnTo>
                    <a:pt x="34" y="39"/>
                  </a:lnTo>
                  <a:lnTo>
                    <a:pt x="51" y="59"/>
                  </a:lnTo>
                  <a:lnTo>
                    <a:pt x="62" y="78"/>
                  </a:lnTo>
                  <a:lnTo>
                    <a:pt x="73" y="97"/>
                  </a:lnTo>
                  <a:lnTo>
                    <a:pt x="85" y="118"/>
                  </a:lnTo>
                  <a:lnTo>
                    <a:pt x="96" y="137"/>
                  </a:lnTo>
                  <a:lnTo>
                    <a:pt x="108" y="156"/>
                  </a:lnTo>
                  <a:lnTo>
                    <a:pt x="119" y="176"/>
                  </a:lnTo>
                  <a:lnTo>
                    <a:pt x="131" y="202"/>
                  </a:lnTo>
                  <a:lnTo>
                    <a:pt x="142" y="228"/>
                  </a:lnTo>
                  <a:lnTo>
                    <a:pt x="159" y="247"/>
                  </a:lnTo>
                  <a:lnTo>
                    <a:pt x="165" y="267"/>
                  </a:lnTo>
                  <a:lnTo>
                    <a:pt x="176" y="313"/>
                  </a:lnTo>
                  <a:lnTo>
                    <a:pt x="182" y="352"/>
                  </a:lnTo>
                  <a:lnTo>
                    <a:pt x="193" y="371"/>
                  </a:lnTo>
                  <a:lnTo>
                    <a:pt x="205" y="397"/>
                  </a:lnTo>
                  <a:lnTo>
                    <a:pt x="211" y="417"/>
                  </a:lnTo>
                  <a:lnTo>
                    <a:pt x="221" y="436"/>
                  </a:lnTo>
                  <a:lnTo>
                    <a:pt x="233" y="456"/>
                  </a:lnTo>
                  <a:lnTo>
                    <a:pt x="239" y="476"/>
                  </a:lnTo>
                  <a:lnTo>
                    <a:pt x="256" y="495"/>
                  </a:lnTo>
                  <a:lnTo>
                    <a:pt x="262" y="514"/>
                  </a:lnTo>
                  <a:lnTo>
                    <a:pt x="273" y="534"/>
                  </a:lnTo>
                  <a:lnTo>
                    <a:pt x="285" y="55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33840" y="1984320"/>
              <a:ext cx="145800" cy="200160"/>
            </a:xfrm>
            <a:custGeom>
              <a:avLst/>
              <a:gdLst/>
              <a:ahLst/>
              <a:rect l="l" t="t" r="r" b="b"/>
              <a:pathLst>
                <a:path w="92" h="126">
                  <a:moveTo>
                    <a:pt x="91" y="0"/>
                  </a:moveTo>
                  <a:lnTo>
                    <a:pt x="68" y="20"/>
                  </a:lnTo>
                  <a:lnTo>
                    <a:pt x="56" y="39"/>
                  </a:lnTo>
                  <a:lnTo>
                    <a:pt x="45" y="59"/>
                  </a:lnTo>
                  <a:lnTo>
                    <a:pt x="28" y="79"/>
                  </a:lnTo>
                  <a:lnTo>
                    <a:pt x="17" y="98"/>
                  </a:lnTo>
                  <a:lnTo>
                    <a:pt x="5" y="118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598840" y="2297160"/>
              <a:ext cx="7776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14520" y="2589120"/>
              <a:ext cx="120600" cy="203400"/>
            </a:xfrm>
            <a:custGeom>
              <a:avLst/>
              <a:gdLst/>
              <a:ahLst/>
              <a:rect l="l" t="t" r="r" b="b"/>
              <a:pathLst>
                <a:path w="76" h="128">
                  <a:moveTo>
                    <a:pt x="75" y="0"/>
                  </a:moveTo>
                  <a:lnTo>
                    <a:pt x="58" y="25"/>
                  </a:lnTo>
                  <a:lnTo>
                    <a:pt x="40" y="44"/>
                  </a:lnTo>
                  <a:lnTo>
                    <a:pt x="35" y="64"/>
                  </a:lnTo>
                  <a:lnTo>
                    <a:pt x="23" y="82"/>
                  </a:lnTo>
                  <a:lnTo>
                    <a:pt x="11" y="101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44600" y="2948040"/>
              <a:ext cx="108000" cy="1569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67" y="0"/>
                  </a:moveTo>
                  <a:lnTo>
                    <a:pt x="56" y="25"/>
                  </a:lnTo>
                  <a:lnTo>
                    <a:pt x="38" y="46"/>
                  </a:lnTo>
                  <a:lnTo>
                    <a:pt x="22" y="58"/>
                  </a:lnTo>
                  <a:lnTo>
                    <a:pt x="10" y="78"/>
                  </a:lnTo>
                  <a:lnTo>
                    <a:pt x="0" y="9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68560" y="3247920"/>
              <a:ext cx="131760" cy="2001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82" y="0"/>
                  </a:moveTo>
                  <a:lnTo>
                    <a:pt x="64" y="26"/>
                  </a:lnTo>
                  <a:lnTo>
                    <a:pt x="52" y="45"/>
                  </a:lnTo>
                  <a:lnTo>
                    <a:pt x="41" y="65"/>
                  </a:lnTo>
                  <a:lnTo>
                    <a:pt x="29" y="85"/>
                  </a:lnTo>
                  <a:lnTo>
                    <a:pt x="17" y="104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03240" y="349740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104" y="0"/>
                  </a:moveTo>
                  <a:lnTo>
                    <a:pt x="81" y="19"/>
                  </a:lnTo>
                  <a:lnTo>
                    <a:pt x="64" y="33"/>
                  </a:lnTo>
                  <a:lnTo>
                    <a:pt x="47" y="46"/>
                  </a:lnTo>
                  <a:lnTo>
                    <a:pt x="29" y="60"/>
                  </a:lnTo>
                  <a:lnTo>
                    <a:pt x="12" y="66"/>
                  </a:lnTo>
                  <a:lnTo>
                    <a:pt x="0" y="7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87520" y="3675240"/>
              <a:ext cx="189000" cy="34920"/>
            </a:xfrm>
            <a:custGeom>
              <a:avLst/>
              <a:gdLst/>
              <a:ahLst/>
              <a:rect l="l" t="t" r="r" b="b"/>
              <a:pathLst>
                <a:path w="119" h="22">
                  <a:moveTo>
                    <a:pt x="118" y="0"/>
                  </a:moveTo>
                  <a:lnTo>
                    <a:pt x="95" y="7"/>
                  </a:lnTo>
                  <a:lnTo>
                    <a:pt x="78" y="13"/>
                  </a:lnTo>
                  <a:lnTo>
                    <a:pt x="61" y="13"/>
                  </a:lnTo>
                  <a:lnTo>
                    <a:pt x="28" y="13"/>
                  </a:lnTo>
                  <a:lnTo>
                    <a:pt x="10" y="13"/>
                  </a:lnTo>
                  <a:lnTo>
                    <a:pt x="0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66840" y="32907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23" y="19"/>
                  </a:lnTo>
                  <a:lnTo>
                    <a:pt x="40" y="40"/>
                  </a:lnTo>
                  <a:lnTo>
                    <a:pt x="51" y="60"/>
                  </a:lnTo>
                  <a:lnTo>
                    <a:pt x="57" y="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3640" y="3478320"/>
              <a:ext cx="220680" cy="93600"/>
            </a:xfrm>
            <a:custGeom>
              <a:avLst/>
              <a:gdLst/>
              <a:ahLst/>
              <a:rect l="l" t="t" r="r" b="b"/>
              <a:pathLst>
                <a:path w="139" h="59">
                  <a:moveTo>
                    <a:pt x="0" y="0"/>
                  </a:moveTo>
                  <a:lnTo>
                    <a:pt x="22" y="6"/>
                  </a:lnTo>
                  <a:lnTo>
                    <a:pt x="39" y="25"/>
                  </a:lnTo>
                  <a:lnTo>
                    <a:pt x="63" y="39"/>
                  </a:lnTo>
                  <a:lnTo>
                    <a:pt x="80" y="51"/>
                  </a:lnTo>
                  <a:lnTo>
                    <a:pt x="126" y="58"/>
                  </a:lnTo>
                  <a:lnTo>
                    <a:pt x="138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01800" y="3622680"/>
              <a:ext cx="228600" cy="6336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0" y="0"/>
                  </a:moveTo>
                  <a:lnTo>
                    <a:pt x="22" y="13"/>
                  </a:lnTo>
                  <a:lnTo>
                    <a:pt x="57" y="13"/>
                  </a:lnTo>
                  <a:lnTo>
                    <a:pt x="74" y="18"/>
                  </a:lnTo>
                  <a:lnTo>
                    <a:pt x="132" y="32"/>
                  </a:lnTo>
                  <a:lnTo>
                    <a:pt x="143" y="3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20760" y="3703680"/>
              <a:ext cx="13824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22" y="0"/>
                  </a:lnTo>
                  <a:lnTo>
                    <a:pt x="40" y="21"/>
                  </a:lnTo>
                  <a:lnTo>
                    <a:pt x="57" y="21"/>
                  </a:lnTo>
                  <a:lnTo>
                    <a:pt x="74" y="21"/>
                  </a:lnTo>
                  <a:lnTo>
                    <a:pt x="86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2762280" y="3144960"/>
              <a:ext cx="29844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105000" y="4089240"/>
              <a:ext cx="2113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60720" y="4191120"/>
              <a:ext cx="7308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81160" y="4203720"/>
              <a:ext cx="1080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727360" y="3178080"/>
              <a:ext cx="712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9560" y="3133800"/>
              <a:ext cx="69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60560" y="3170160"/>
              <a:ext cx="5400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754360" y="2057400"/>
              <a:ext cx="26172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649600" y="2171880"/>
              <a:ext cx="10296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693880" y="2130480"/>
              <a:ext cx="1047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41760" y="2097000"/>
              <a:ext cx="918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4200" y="2119320"/>
              <a:ext cx="540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1114560" y="3517560"/>
              <a:ext cx="3283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22480" y="3335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158840" y="3362400"/>
              <a:ext cx="648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6360" y="3344760"/>
              <a:ext cx="2700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70080" y="3467160"/>
              <a:ext cx="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9200" y="3733920"/>
              <a:ext cx="263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28200" y="3581280"/>
              <a:ext cx="493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77520" y="3646440"/>
              <a:ext cx="4284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89080" y="2732040"/>
              <a:ext cx="3794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636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3984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278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32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374840" y="2668680"/>
              <a:ext cx="79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487600" y="2865600"/>
              <a:ext cx="228600" cy="21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68440" y="2936880"/>
              <a:ext cx="13968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24240" y="2908440"/>
              <a:ext cx="101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468520" y="2865600"/>
              <a:ext cx="10152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1942920" y="4089240"/>
              <a:ext cx="982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68480" y="4462200"/>
              <a:ext cx="82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1979640" y="4379760"/>
              <a:ext cx="6192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95360" y="4214880"/>
              <a:ext cx="1573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47760" y="4410000"/>
              <a:ext cx="1558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716200" y="4992480"/>
              <a:ext cx="2556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71840" y="5311800"/>
              <a:ext cx="1443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2058840" y="4668480"/>
              <a:ext cx="4464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1996920" y="5003280"/>
              <a:ext cx="986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2041560" y="4917600"/>
              <a:ext cx="442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2000" y="5386320"/>
              <a:ext cx="21564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332000" y="5238720"/>
              <a:ext cx="11088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1382760" y="5375160"/>
              <a:ext cx="3816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196640" y="4470480"/>
              <a:ext cx="1062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3200" y="4479840"/>
              <a:ext cx="1396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285920" y="4554360"/>
              <a:ext cx="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6960" y="4273560"/>
              <a:ext cx="14112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03080" y="4191120"/>
              <a:ext cx="9828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741240" y="4295880"/>
              <a:ext cx="36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985320" y="5189400"/>
              <a:ext cx="7308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1058760" y="5156280"/>
              <a:ext cx="15408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332080" y="3569760"/>
              <a:ext cx="1760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25520" y="3778200"/>
              <a:ext cx="1508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03640" y="375768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851120" y="3757680"/>
              <a:ext cx="17280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68320" y="3860640"/>
              <a:ext cx="9072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59040" y="3840120"/>
              <a:ext cx="2700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93680" y="192420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6" y="96"/>
                  </a:moveTo>
                  <a:lnTo>
                    <a:pt x="35" y="117"/>
                  </a:lnTo>
                  <a:lnTo>
                    <a:pt x="41" y="96"/>
                  </a:lnTo>
                  <a:lnTo>
                    <a:pt x="41" y="77"/>
                  </a:lnTo>
                  <a:lnTo>
                    <a:pt x="41" y="58"/>
                  </a:lnTo>
                  <a:lnTo>
                    <a:pt x="35" y="38"/>
                  </a:lnTo>
                  <a:lnTo>
                    <a:pt x="23" y="19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16240" y="2979720"/>
              <a:ext cx="128520" cy="3492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0" y="21"/>
                  </a:moveTo>
                  <a:lnTo>
                    <a:pt x="22" y="10"/>
                  </a:lnTo>
                  <a:lnTo>
                    <a:pt x="45" y="10"/>
                  </a:lnTo>
                  <a:lnTo>
                    <a:pt x="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632040" y="3456000"/>
              <a:ext cx="82800" cy="334800"/>
            </a:xfrm>
            <a:custGeom>
              <a:avLst/>
              <a:gdLst/>
              <a:ahLst/>
              <a:rect l="l" t="t" r="r" b="b"/>
              <a:pathLst>
                <a:path w="52" h="211">
                  <a:moveTo>
                    <a:pt x="0" y="0"/>
                  </a:moveTo>
                  <a:lnTo>
                    <a:pt x="5" y="27"/>
                  </a:lnTo>
                  <a:lnTo>
                    <a:pt x="10" y="46"/>
                  </a:lnTo>
                  <a:lnTo>
                    <a:pt x="16" y="65"/>
                  </a:lnTo>
                  <a:lnTo>
                    <a:pt x="16" y="85"/>
                  </a:lnTo>
                  <a:lnTo>
                    <a:pt x="22" y="105"/>
                  </a:lnTo>
                  <a:lnTo>
                    <a:pt x="28" y="124"/>
                  </a:lnTo>
                  <a:lnTo>
                    <a:pt x="34" y="144"/>
                  </a:lnTo>
                  <a:lnTo>
                    <a:pt x="39" y="163"/>
                  </a:lnTo>
                  <a:lnTo>
                    <a:pt x="39" y="182"/>
                  </a:lnTo>
                  <a:lnTo>
                    <a:pt x="51" y="2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60800" y="3890880"/>
              <a:ext cx="2700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97360" y="4257720"/>
              <a:ext cx="131760" cy="463680"/>
            </a:xfrm>
            <a:custGeom>
              <a:avLst/>
              <a:gdLst/>
              <a:ahLst/>
              <a:rect l="l" t="t" r="r" b="b"/>
              <a:pathLst>
                <a:path w="83" h="292">
                  <a:moveTo>
                    <a:pt x="0" y="0"/>
                  </a:moveTo>
                  <a:lnTo>
                    <a:pt x="5" y="25"/>
                  </a:lnTo>
                  <a:lnTo>
                    <a:pt x="11" y="44"/>
                  </a:lnTo>
                  <a:lnTo>
                    <a:pt x="11" y="64"/>
                  </a:lnTo>
                  <a:lnTo>
                    <a:pt x="17" y="83"/>
                  </a:lnTo>
                  <a:lnTo>
                    <a:pt x="34" y="102"/>
                  </a:lnTo>
                  <a:lnTo>
                    <a:pt x="46" y="123"/>
                  </a:lnTo>
                  <a:lnTo>
                    <a:pt x="63" y="142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5" y="207"/>
                  </a:lnTo>
                  <a:lnTo>
                    <a:pt x="75" y="226"/>
                  </a:lnTo>
                  <a:lnTo>
                    <a:pt x="75" y="245"/>
                  </a:lnTo>
                  <a:lnTo>
                    <a:pt x="75" y="265"/>
                  </a:lnTo>
                  <a:lnTo>
                    <a:pt x="75" y="291"/>
                  </a:lnTo>
                  <a:lnTo>
                    <a:pt x="82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968480" y="2793600"/>
              <a:ext cx="26496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874880" y="2960640"/>
              <a:ext cx="1126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949400" y="2890800"/>
              <a:ext cx="8424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987560" y="2822400"/>
              <a:ext cx="1270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11240" y="2930400"/>
              <a:ext cx="936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390680" y="4465800"/>
              <a:ext cx="480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8680" y="177480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73360" y="175896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2080" y="2398680"/>
              <a:ext cx="7095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13040" y="3733920"/>
              <a:ext cx="716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78280" y="4202280"/>
              <a:ext cx="4222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4440" y="5315040"/>
              <a:ext cx="41112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46280" y="512280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38400" y="173520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095480" y="1900080"/>
              <a:ext cx="48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17640" y="168912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87680" y="4884840"/>
              <a:ext cx="8208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60000">
              <a:off x="3525480" y="5038560"/>
              <a:ext cx="963720" cy="2998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-T</a:t>
              </a:r>
              <a:r>
                <a:rPr b="1" lang="en-US" sz="12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en-US" sz="1200" spc="-1" strike="noStrike">
                  <a:solidFill>
                    <a:srgbClr val="cc0000"/>
                  </a:solidFill>
                  <a:latin typeface="WP MathA"/>
                  <a:ea typeface="WP MathA"/>
                </a:rPr>
                <a:t>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79680" y="4805280"/>
              <a:ext cx="20304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251000" y="2224080"/>
              <a:ext cx="20160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 flipV="1">
              <a:off x="1386000" y="4669920"/>
              <a:ext cx="936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66920" y="44323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0" y="0"/>
                  </a:moveTo>
                  <a:lnTo>
                    <a:pt x="17" y="27"/>
                  </a:lnTo>
                  <a:lnTo>
                    <a:pt x="23" y="47"/>
                  </a:lnTo>
                  <a:lnTo>
                    <a:pt x="30" y="68"/>
                  </a:lnTo>
                  <a:lnTo>
                    <a:pt x="36" y="88"/>
                  </a:lnTo>
                  <a:lnTo>
                    <a:pt x="36" y="108"/>
                  </a:lnTo>
                  <a:lnTo>
                    <a:pt x="41" y="129"/>
                  </a:lnTo>
                  <a:lnTo>
                    <a:pt x="41" y="150"/>
                  </a:lnTo>
                  <a:lnTo>
                    <a:pt x="47" y="170"/>
                  </a:lnTo>
                  <a:lnTo>
                    <a:pt x="54" y="191"/>
                  </a:lnTo>
                  <a:lnTo>
                    <a:pt x="66" y="211"/>
                  </a:lnTo>
                  <a:lnTo>
                    <a:pt x="66" y="231"/>
                  </a:lnTo>
                  <a:lnTo>
                    <a:pt x="71" y="272"/>
                  </a:lnTo>
                  <a:lnTo>
                    <a:pt x="78" y="294"/>
                  </a:lnTo>
                  <a:lnTo>
                    <a:pt x="84" y="314"/>
                  </a:lnTo>
                  <a:lnTo>
                    <a:pt x="101" y="327"/>
                  </a:lnTo>
                  <a:lnTo>
                    <a:pt x="120" y="341"/>
                  </a:lnTo>
                  <a:lnTo>
                    <a:pt x="138" y="395"/>
                  </a:lnTo>
                  <a:lnTo>
                    <a:pt x="156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62040" y="5227560"/>
              <a:ext cx="308160" cy="39852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0"/>
                  </a:moveTo>
                  <a:lnTo>
                    <a:pt x="23" y="13"/>
                  </a:lnTo>
                  <a:lnTo>
                    <a:pt x="41" y="20"/>
                  </a:lnTo>
                  <a:lnTo>
                    <a:pt x="59" y="34"/>
                  </a:lnTo>
                  <a:lnTo>
                    <a:pt x="71" y="55"/>
                  </a:lnTo>
                  <a:lnTo>
                    <a:pt x="89" y="69"/>
                  </a:lnTo>
                  <a:lnTo>
                    <a:pt x="108" y="82"/>
                  </a:lnTo>
                  <a:lnTo>
                    <a:pt x="126" y="97"/>
                  </a:lnTo>
                  <a:lnTo>
                    <a:pt x="138" y="117"/>
                  </a:lnTo>
                  <a:lnTo>
                    <a:pt x="156" y="132"/>
                  </a:lnTo>
                  <a:lnTo>
                    <a:pt x="174" y="152"/>
                  </a:lnTo>
                  <a:lnTo>
                    <a:pt x="186" y="173"/>
                  </a:lnTo>
                  <a:lnTo>
                    <a:pt x="186" y="222"/>
                  </a:lnTo>
                  <a:lnTo>
                    <a:pt x="193" y="242"/>
                  </a:lnTo>
                  <a:lnTo>
                    <a:pt x="193" y="2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47720" y="4680000"/>
              <a:ext cx="639720" cy="933480"/>
            </a:xfrm>
            <a:custGeom>
              <a:avLst/>
              <a:gdLst/>
              <a:ahLst/>
              <a:rect l="l" t="t" r="r" b="b"/>
              <a:pathLst>
                <a:path w="403" h="588">
                  <a:moveTo>
                    <a:pt x="0" y="0"/>
                  </a:moveTo>
                  <a:lnTo>
                    <a:pt x="23" y="5"/>
                  </a:lnTo>
                  <a:lnTo>
                    <a:pt x="42" y="20"/>
                  </a:lnTo>
                  <a:lnTo>
                    <a:pt x="60" y="34"/>
                  </a:lnTo>
                  <a:lnTo>
                    <a:pt x="78" y="47"/>
                  </a:lnTo>
                  <a:lnTo>
                    <a:pt x="90" y="67"/>
                  </a:lnTo>
                  <a:lnTo>
                    <a:pt x="102" y="88"/>
                  </a:lnTo>
                  <a:lnTo>
                    <a:pt x="113" y="142"/>
                  </a:lnTo>
                  <a:lnTo>
                    <a:pt x="120" y="162"/>
                  </a:lnTo>
                  <a:lnTo>
                    <a:pt x="126" y="184"/>
                  </a:lnTo>
                  <a:lnTo>
                    <a:pt x="126" y="204"/>
                  </a:lnTo>
                  <a:lnTo>
                    <a:pt x="132" y="224"/>
                  </a:lnTo>
                  <a:lnTo>
                    <a:pt x="144" y="245"/>
                  </a:lnTo>
                  <a:lnTo>
                    <a:pt x="156" y="265"/>
                  </a:lnTo>
                  <a:lnTo>
                    <a:pt x="174" y="272"/>
                  </a:lnTo>
                  <a:lnTo>
                    <a:pt x="186" y="292"/>
                  </a:lnTo>
                  <a:lnTo>
                    <a:pt x="204" y="314"/>
                  </a:lnTo>
                  <a:lnTo>
                    <a:pt x="221" y="327"/>
                  </a:lnTo>
                  <a:lnTo>
                    <a:pt x="234" y="348"/>
                  </a:lnTo>
                  <a:lnTo>
                    <a:pt x="251" y="361"/>
                  </a:lnTo>
                  <a:lnTo>
                    <a:pt x="264" y="381"/>
                  </a:lnTo>
                  <a:lnTo>
                    <a:pt x="288" y="437"/>
                  </a:lnTo>
                  <a:lnTo>
                    <a:pt x="324" y="449"/>
                  </a:lnTo>
                  <a:lnTo>
                    <a:pt x="348" y="477"/>
                  </a:lnTo>
                  <a:lnTo>
                    <a:pt x="365" y="491"/>
                  </a:lnTo>
                  <a:lnTo>
                    <a:pt x="378" y="511"/>
                  </a:lnTo>
                  <a:lnTo>
                    <a:pt x="389" y="532"/>
                  </a:lnTo>
                  <a:lnTo>
                    <a:pt x="402" y="559"/>
                  </a:lnTo>
                  <a:lnTo>
                    <a:pt x="395" y="579"/>
                  </a:lnTo>
                  <a:lnTo>
                    <a:pt x="389" y="5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46280" y="4684680"/>
              <a:ext cx="309600" cy="730440"/>
            </a:xfrm>
            <a:custGeom>
              <a:avLst/>
              <a:gdLst/>
              <a:ahLst/>
              <a:rect l="l" t="t" r="r" b="b"/>
              <a:pathLst>
                <a:path w="195" h="460">
                  <a:moveTo>
                    <a:pt x="0" y="0"/>
                  </a:moveTo>
                  <a:lnTo>
                    <a:pt x="0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0" y="170"/>
                  </a:lnTo>
                  <a:lnTo>
                    <a:pt x="12" y="192"/>
                  </a:lnTo>
                  <a:lnTo>
                    <a:pt x="30" y="212"/>
                  </a:lnTo>
                  <a:lnTo>
                    <a:pt x="49" y="226"/>
                  </a:lnTo>
                  <a:lnTo>
                    <a:pt x="67" y="246"/>
                  </a:lnTo>
                  <a:lnTo>
                    <a:pt x="79" y="266"/>
                  </a:lnTo>
                  <a:lnTo>
                    <a:pt x="97" y="281"/>
                  </a:lnTo>
                  <a:lnTo>
                    <a:pt x="109" y="301"/>
                  </a:lnTo>
                  <a:lnTo>
                    <a:pt x="121" y="322"/>
                  </a:lnTo>
                  <a:lnTo>
                    <a:pt x="121" y="342"/>
                  </a:lnTo>
                  <a:lnTo>
                    <a:pt x="127" y="384"/>
                  </a:lnTo>
                  <a:lnTo>
                    <a:pt x="127" y="404"/>
                  </a:lnTo>
                  <a:lnTo>
                    <a:pt x="194" y="445"/>
                  </a:lnTo>
                  <a:lnTo>
                    <a:pt x="194" y="4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880" y="4843440"/>
              <a:ext cx="4064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7920" y="4767120"/>
              <a:ext cx="4935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4295880" y="3184560"/>
              <a:ext cx="28728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285840" y="5791320"/>
              <a:ext cx="27637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500 HEIGHTS AND VORT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4809960" y="1646280"/>
            <a:ext cx="4143600" cy="4798800"/>
            <a:chOff x="4809960" y="1646280"/>
            <a:chExt cx="4143600" cy="4798800"/>
          </a:xfrm>
        </p:grpSpPr>
        <p:sp>
          <p:nvSpPr>
            <p:cNvPr id="1841" name=""/>
            <p:cNvSpPr/>
            <p:nvPr/>
          </p:nvSpPr>
          <p:spPr>
            <a:xfrm>
              <a:off x="4826160" y="1646280"/>
              <a:ext cx="4127400" cy="40734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9920000">
              <a:off x="6165720" y="3889080"/>
              <a:ext cx="692280" cy="3096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22840" y="1930320"/>
              <a:ext cx="190440" cy="311400"/>
            </a:xfrm>
            <a:custGeom>
              <a:avLst/>
              <a:gdLst/>
              <a:ahLst/>
              <a:rect l="l" t="t" r="r" b="b"/>
              <a:pathLst>
                <a:path w="120" h="196">
                  <a:moveTo>
                    <a:pt x="119" y="195"/>
                  </a:moveTo>
                  <a:lnTo>
                    <a:pt x="101" y="168"/>
                  </a:lnTo>
                  <a:lnTo>
                    <a:pt x="89" y="148"/>
                  </a:lnTo>
                  <a:lnTo>
                    <a:pt x="71" y="134"/>
                  </a:lnTo>
                  <a:lnTo>
                    <a:pt x="65" y="114"/>
                  </a:lnTo>
                  <a:lnTo>
                    <a:pt x="59" y="94"/>
                  </a:lnTo>
                  <a:lnTo>
                    <a:pt x="59" y="74"/>
                  </a:lnTo>
                  <a:lnTo>
                    <a:pt x="42" y="67"/>
                  </a:lnTo>
                  <a:lnTo>
                    <a:pt x="24" y="47"/>
                  </a:lnTo>
                  <a:lnTo>
                    <a:pt x="12" y="27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538960" y="2252520"/>
              <a:ext cx="766440" cy="2946600"/>
            </a:xfrm>
            <a:custGeom>
              <a:avLst/>
              <a:gdLst/>
              <a:ahLst/>
              <a:rect l="l" t="t" r="r" b="b"/>
              <a:pathLst>
                <a:path w="483" h="1856">
                  <a:moveTo>
                    <a:pt x="184" y="19"/>
                  </a:moveTo>
                  <a:lnTo>
                    <a:pt x="161" y="0"/>
                  </a:lnTo>
                  <a:lnTo>
                    <a:pt x="142" y="19"/>
                  </a:lnTo>
                  <a:lnTo>
                    <a:pt x="142" y="40"/>
                  </a:lnTo>
                  <a:lnTo>
                    <a:pt x="142" y="60"/>
                  </a:lnTo>
                  <a:lnTo>
                    <a:pt x="142" y="80"/>
                  </a:lnTo>
                  <a:lnTo>
                    <a:pt x="142" y="101"/>
                  </a:lnTo>
                  <a:lnTo>
                    <a:pt x="149" y="121"/>
                  </a:lnTo>
                  <a:lnTo>
                    <a:pt x="149" y="141"/>
                  </a:lnTo>
                  <a:lnTo>
                    <a:pt x="142" y="162"/>
                  </a:lnTo>
                  <a:lnTo>
                    <a:pt x="136" y="182"/>
                  </a:lnTo>
                  <a:lnTo>
                    <a:pt x="136" y="201"/>
                  </a:lnTo>
                  <a:lnTo>
                    <a:pt x="136" y="222"/>
                  </a:lnTo>
                  <a:lnTo>
                    <a:pt x="125" y="242"/>
                  </a:lnTo>
                  <a:lnTo>
                    <a:pt x="119" y="262"/>
                  </a:lnTo>
                  <a:lnTo>
                    <a:pt x="119" y="283"/>
                  </a:lnTo>
                  <a:lnTo>
                    <a:pt x="119" y="303"/>
                  </a:lnTo>
                  <a:lnTo>
                    <a:pt x="101" y="324"/>
                  </a:lnTo>
                  <a:lnTo>
                    <a:pt x="101" y="344"/>
                  </a:lnTo>
                  <a:lnTo>
                    <a:pt x="95" y="364"/>
                  </a:lnTo>
                  <a:lnTo>
                    <a:pt x="95" y="385"/>
                  </a:lnTo>
                  <a:lnTo>
                    <a:pt x="78" y="404"/>
                  </a:lnTo>
                  <a:lnTo>
                    <a:pt x="65" y="424"/>
                  </a:lnTo>
                  <a:lnTo>
                    <a:pt x="53" y="445"/>
                  </a:lnTo>
                  <a:lnTo>
                    <a:pt x="48" y="465"/>
                  </a:lnTo>
                  <a:lnTo>
                    <a:pt x="48" y="485"/>
                  </a:lnTo>
                  <a:lnTo>
                    <a:pt x="42" y="506"/>
                  </a:lnTo>
                  <a:lnTo>
                    <a:pt x="42" y="526"/>
                  </a:lnTo>
                  <a:lnTo>
                    <a:pt x="42" y="553"/>
                  </a:lnTo>
                  <a:lnTo>
                    <a:pt x="29" y="572"/>
                  </a:lnTo>
                  <a:lnTo>
                    <a:pt x="24" y="593"/>
                  </a:lnTo>
                  <a:lnTo>
                    <a:pt x="12" y="613"/>
                  </a:lnTo>
                  <a:lnTo>
                    <a:pt x="0" y="634"/>
                  </a:lnTo>
                  <a:lnTo>
                    <a:pt x="0" y="654"/>
                  </a:lnTo>
                  <a:lnTo>
                    <a:pt x="0" y="674"/>
                  </a:lnTo>
                  <a:lnTo>
                    <a:pt x="6" y="695"/>
                  </a:lnTo>
                  <a:lnTo>
                    <a:pt x="12" y="715"/>
                  </a:lnTo>
                  <a:lnTo>
                    <a:pt x="12" y="735"/>
                  </a:lnTo>
                  <a:lnTo>
                    <a:pt x="12" y="756"/>
                  </a:lnTo>
                  <a:lnTo>
                    <a:pt x="12" y="775"/>
                  </a:lnTo>
                  <a:lnTo>
                    <a:pt x="12" y="795"/>
                  </a:lnTo>
                  <a:lnTo>
                    <a:pt x="12" y="816"/>
                  </a:lnTo>
                  <a:lnTo>
                    <a:pt x="29" y="822"/>
                  </a:lnTo>
                  <a:lnTo>
                    <a:pt x="35" y="843"/>
                  </a:lnTo>
                  <a:lnTo>
                    <a:pt x="35" y="863"/>
                  </a:lnTo>
                  <a:lnTo>
                    <a:pt x="35" y="883"/>
                  </a:lnTo>
                  <a:lnTo>
                    <a:pt x="48" y="904"/>
                  </a:lnTo>
                  <a:lnTo>
                    <a:pt x="59" y="924"/>
                  </a:lnTo>
                  <a:lnTo>
                    <a:pt x="59" y="945"/>
                  </a:lnTo>
                  <a:lnTo>
                    <a:pt x="59" y="964"/>
                  </a:lnTo>
                  <a:lnTo>
                    <a:pt x="65" y="984"/>
                  </a:lnTo>
                  <a:lnTo>
                    <a:pt x="71" y="1011"/>
                  </a:lnTo>
                  <a:lnTo>
                    <a:pt x="65" y="1032"/>
                  </a:lnTo>
                  <a:lnTo>
                    <a:pt x="65" y="1052"/>
                  </a:lnTo>
                  <a:lnTo>
                    <a:pt x="83" y="1066"/>
                  </a:lnTo>
                  <a:lnTo>
                    <a:pt x="83" y="1086"/>
                  </a:lnTo>
                  <a:lnTo>
                    <a:pt x="83" y="1106"/>
                  </a:lnTo>
                  <a:lnTo>
                    <a:pt x="101" y="1113"/>
                  </a:lnTo>
                  <a:lnTo>
                    <a:pt x="107" y="1132"/>
                  </a:lnTo>
                  <a:lnTo>
                    <a:pt x="113" y="1153"/>
                  </a:lnTo>
                  <a:lnTo>
                    <a:pt x="113" y="1173"/>
                  </a:lnTo>
                  <a:lnTo>
                    <a:pt x="113" y="1193"/>
                  </a:lnTo>
                  <a:lnTo>
                    <a:pt x="131" y="1207"/>
                  </a:lnTo>
                  <a:lnTo>
                    <a:pt x="149" y="1221"/>
                  </a:lnTo>
                  <a:lnTo>
                    <a:pt x="166" y="1234"/>
                  </a:lnTo>
                  <a:lnTo>
                    <a:pt x="184" y="1255"/>
                  </a:lnTo>
                  <a:lnTo>
                    <a:pt x="202" y="1268"/>
                  </a:lnTo>
                  <a:lnTo>
                    <a:pt x="219" y="1282"/>
                  </a:lnTo>
                  <a:lnTo>
                    <a:pt x="238" y="1295"/>
                  </a:lnTo>
                  <a:lnTo>
                    <a:pt x="249" y="1316"/>
                  </a:lnTo>
                  <a:lnTo>
                    <a:pt x="268" y="1335"/>
                  </a:lnTo>
                  <a:lnTo>
                    <a:pt x="285" y="1355"/>
                  </a:lnTo>
                  <a:lnTo>
                    <a:pt x="303" y="1376"/>
                  </a:lnTo>
                  <a:lnTo>
                    <a:pt x="309" y="1396"/>
                  </a:lnTo>
                  <a:lnTo>
                    <a:pt x="309" y="1416"/>
                  </a:lnTo>
                  <a:lnTo>
                    <a:pt x="309" y="1437"/>
                  </a:lnTo>
                  <a:lnTo>
                    <a:pt x="315" y="1457"/>
                  </a:lnTo>
                  <a:lnTo>
                    <a:pt x="327" y="1477"/>
                  </a:lnTo>
                  <a:lnTo>
                    <a:pt x="332" y="1498"/>
                  </a:lnTo>
                  <a:lnTo>
                    <a:pt x="345" y="1517"/>
                  </a:lnTo>
                  <a:lnTo>
                    <a:pt x="345" y="1537"/>
                  </a:lnTo>
                  <a:lnTo>
                    <a:pt x="356" y="1558"/>
                  </a:lnTo>
                  <a:lnTo>
                    <a:pt x="362" y="1578"/>
                  </a:lnTo>
                  <a:lnTo>
                    <a:pt x="368" y="1598"/>
                  </a:lnTo>
                  <a:lnTo>
                    <a:pt x="381" y="1626"/>
                  </a:lnTo>
                  <a:lnTo>
                    <a:pt x="386" y="1646"/>
                  </a:lnTo>
                  <a:lnTo>
                    <a:pt x="386" y="1666"/>
                  </a:lnTo>
                  <a:lnTo>
                    <a:pt x="386" y="1687"/>
                  </a:lnTo>
                  <a:lnTo>
                    <a:pt x="386" y="1706"/>
                  </a:lnTo>
                  <a:lnTo>
                    <a:pt x="386" y="1726"/>
                  </a:lnTo>
                  <a:lnTo>
                    <a:pt x="410" y="1726"/>
                  </a:lnTo>
                  <a:lnTo>
                    <a:pt x="428" y="1747"/>
                  </a:lnTo>
                  <a:lnTo>
                    <a:pt x="439" y="1767"/>
                  </a:lnTo>
                  <a:lnTo>
                    <a:pt x="452" y="1787"/>
                  </a:lnTo>
                  <a:lnTo>
                    <a:pt x="464" y="1808"/>
                  </a:lnTo>
                  <a:lnTo>
                    <a:pt x="469" y="1828"/>
                  </a:lnTo>
                  <a:lnTo>
                    <a:pt x="482" y="1848"/>
                  </a:lnTo>
                  <a:lnTo>
                    <a:pt x="464" y="1855"/>
                  </a:lnTo>
                  <a:lnTo>
                    <a:pt x="458" y="1848"/>
                  </a:lnTo>
                  <a:lnTo>
                    <a:pt x="458" y="18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27640" y="5316480"/>
              <a:ext cx="304920" cy="385920"/>
            </a:xfrm>
            <a:custGeom>
              <a:avLst/>
              <a:gdLst/>
              <a:ahLst/>
              <a:rect l="l" t="t" r="r" b="b"/>
              <a:pathLst>
                <a:path w="192" h="243">
                  <a:moveTo>
                    <a:pt x="0" y="0"/>
                  </a:moveTo>
                  <a:lnTo>
                    <a:pt x="23" y="12"/>
                  </a:lnTo>
                  <a:lnTo>
                    <a:pt x="41" y="19"/>
                  </a:lnTo>
                  <a:lnTo>
                    <a:pt x="58" y="33"/>
                  </a:lnTo>
                  <a:lnTo>
                    <a:pt x="71" y="53"/>
                  </a:lnTo>
                  <a:lnTo>
                    <a:pt x="88" y="67"/>
                  </a:lnTo>
                  <a:lnTo>
                    <a:pt x="107" y="80"/>
                  </a:lnTo>
                  <a:lnTo>
                    <a:pt x="124" y="94"/>
                  </a:lnTo>
                  <a:lnTo>
                    <a:pt x="137" y="114"/>
                  </a:lnTo>
                  <a:lnTo>
                    <a:pt x="154" y="127"/>
                  </a:lnTo>
                  <a:lnTo>
                    <a:pt x="172" y="147"/>
                  </a:lnTo>
                  <a:lnTo>
                    <a:pt x="184" y="167"/>
                  </a:lnTo>
                  <a:lnTo>
                    <a:pt x="184" y="215"/>
                  </a:lnTo>
                  <a:lnTo>
                    <a:pt x="191" y="235"/>
                  </a:lnTo>
                  <a:lnTo>
                    <a:pt x="191" y="2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84880" y="4673520"/>
              <a:ext cx="303120" cy="717480"/>
            </a:xfrm>
            <a:custGeom>
              <a:avLst/>
              <a:gdLst/>
              <a:ahLst/>
              <a:rect l="l" t="t" r="r" b="b"/>
              <a:pathLst>
                <a:path w="191" h="45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0" y="167"/>
                  </a:lnTo>
                  <a:lnTo>
                    <a:pt x="12" y="188"/>
                  </a:lnTo>
                  <a:lnTo>
                    <a:pt x="29" y="208"/>
                  </a:lnTo>
                  <a:lnTo>
                    <a:pt x="48" y="222"/>
                  </a:lnTo>
                  <a:lnTo>
                    <a:pt x="65" y="242"/>
                  </a:lnTo>
                  <a:lnTo>
                    <a:pt x="78" y="262"/>
                  </a:lnTo>
                  <a:lnTo>
                    <a:pt x="95" y="276"/>
                  </a:lnTo>
                  <a:lnTo>
                    <a:pt x="106" y="296"/>
                  </a:lnTo>
                  <a:lnTo>
                    <a:pt x="119" y="316"/>
                  </a:lnTo>
                  <a:lnTo>
                    <a:pt x="119" y="336"/>
                  </a:lnTo>
                  <a:lnTo>
                    <a:pt x="125" y="377"/>
                  </a:lnTo>
                  <a:lnTo>
                    <a:pt x="125" y="397"/>
                  </a:lnTo>
                  <a:lnTo>
                    <a:pt x="190" y="438"/>
                  </a:lnTo>
                  <a:lnTo>
                    <a:pt x="190" y="4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84880" y="4684680"/>
              <a:ext cx="635040" cy="924120"/>
            </a:xfrm>
            <a:custGeom>
              <a:avLst/>
              <a:gdLst/>
              <a:ahLst/>
              <a:rect l="l" t="t" r="r" b="b"/>
              <a:pathLst>
                <a:path w="400" h="582">
                  <a:moveTo>
                    <a:pt x="0" y="0"/>
                  </a:moveTo>
                  <a:lnTo>
                    <a:pt x="23" y="5"/>
                  </a:lnTo>
                  <a:lnTo>
                    <a:pt x="42" y="19"/>
                  </a:lnTo>
                  <a:lnTo>
                    <a:pt x="59" y="33"/>
                  </a:lnTo>
                  <a:lnTo>
                    <a:pt x="78" y="46"/>
                  </a:lnTo>
                  <a:lnTo>
                    <a:pt x="89" y="66"/>
                  </a:lnTo>
                  <a:lnTo>
                    <a:pt x="101" y="87"/>
                  </a:lnTo>
                  <a:lnTo>
                    <a:pt x="113" y="141"/>
                  </a:lnTo>
                  <a:lnTo>
                    <a:pt x="119" y="161"/>
                  </a:lnTo>
                  <a:lnTo>
                    <a:pt x="125" y="182"/>
                  </a:lnTo>
                  <a:lnTo>
                    <a:pt x="125" y="202"/>
                  </a:lnTo>
                  <a:lnTo>
                    <a:pt x="131" y="222"/>
                  </a:lnTo>
                  <a:lnTo>
                    <a:pt x="142" y="243"/>
                  </a:lnTo>
                  <a:lnTo>
                    <a:pt x="155" y="263"/>
                  </a:lnTo>
                  <a:lnTo>
                    <a:pt x="172" y="270"/>
                  </a:lnTo>
                  <a:lnTo>
                    <a:pt x="185" y="289"/>
                  </a:lnTo>
                  <a:lnTo>
                    <a:pt x="202" y="310"/>
                  </a:lnTo>
                  <a:lnTo>
                    <a:pt x="220" y="323"/>
                  </a:lnTo>
                  <a:lnTo>
                    <a:pt x="232" y="344"/>
                  </a:lnTo>
                  <a:lnTo>
                    <a:pt x="249" y="357"/>
                  </a:lnTo>
                  <a:lnTo>
                    <a:pt x="262" y="377"/>
                  </a:lnTo>
                  <a:lnTo>
                    <a:pt x="285" y="432"/>
                  </a:lnTo>
                  <a:lnTo>
                    <a:pt x="321" y="445"/>
                  </a:lnTo>
                  <a:lnTo>
                    <a:pt x="345" y="472"/>
                  </a:lnTo>
                  <a:lnTo>
                    <a:pt x="363" y="486"/>
                  </a:lnTo>
                  <a:lnTo>
                    <a:pt x="375" y="506"/>
                  </a:lnTo>
                  <a:lnTo>
                    <a:pt x="386" y="527"/>
                  </a:lnTo>
                  <a:lnTo>
                    <a:pt x="399" y="554"/>
                  </a:lnTo>
                  <a:lnTo>
                    <a:pt x="392" y="573"/>
                  </a:lnTo>
                  <a:lnTo>
                    <a:pt x="386" y="5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192800" y="4714920"/>
              <a:ext cx="1200240" cy="797040"/>
            </a:xfrm>
            <a:custGeom>
              <a:avLst/>
              <a:gdLst/>
              <a:ahLst/>
              <a:rect l="l" t="t" r="r" b="b"/>
              <a:pathLst>
                <a:path w="756" h="502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0" y="67"/>
                  </a:lnTo>
                  <a:lnTo>
                    <a:pt x="88" y="80"/>
                  </a:lnTo>
                  <a:lnTo>
                    <a:pt x="106" y="94"/>
                  </a:lnTo>
                  <a:lnTo>
                    <a:pt x="118" y="114"/>
                  </a:lnTo>
                  <a:lnTo>
                    <a:pt x="130" y="135"/>
                  </a:lnTo>
                  <a:lnTo>
                    <a:pt x="130" y="155"/>
                  </a:lnTo>
                  <a:lnTo>
                    <a:pt x="136" y="175"/>
                  </a:lnTo>
                  <a:lnTo>
                    <a:pt x="141" y="196"/>
                  </a:lnTo>
                  <a:lnTo>
                    <a:pt x="160" y="209"/>
                  </a:lnTo>
                  <a:lnTo>
                    <a:pt x="177" y="223"/>
                  </a:lnTo>
                  <a:lnTo>
                    <a:pt x="195" y="230"/>
                  </a:lnTo>
                  <a:lnTo>
                    <a:pt x="213" y="243"/>
                  </a:lnTo>
                  <a:lnTo>
                    <a:pt x="231" y="250"/>
                  </a:lnTo>
                  <a:lnTo>
                    <a:pt x="249" y="257"/>
                  </a:lnTo>
                  <a:lnTo>
                    <a:pt x="267" y="236"/>
                  </a:lnTo>
                  <a:lnTo>
                    <a:pt x="284" y="223"/>
                  </a:lnTo>
                  <a:lnTo>
                    <a:pt x="297" y="202"/>
                  </a:lnTo>
                  <a:lnTo>
                    <a:pt x="314" y="196"/>
                  </a:lnTo>
                  <a:lnTo>
                    <a:pt x="333" y="182"/>
                  </a:lnTo>
                  <a:lnTo>
                    <a:pt x="350" y="182"/>
                  </a:lnTo>
                  <a:lnTo>
                    <a:pt x="368" y="182"/>
                  </a:lnTo>
                  <a:lnTo>
                    <a:pt x="386" y="189"/>
                  </a:lnTo>
                  <a:lnTo>
                    <a:pt x="404" y="196"/>
                  </a:lnTo>
                  <a:lnTo>
                    <a:pt x="421" y="209"/>
                  </a:lnTo>
                  <a:lnTo>
                    <a:pt x="434" y="230"/>
                  </a:lnTo>
                  <a:lnTo>
                    <a:pt x="457" y="250"/>
                  </a:lnTo>
                  <a:lnTo>
                    <a:pt x="475" y="270"/>
                  </a:lnTo>
                  <a:lnTo>
                    <a:pt x="493" y="277"/>
                  </a:lnTo>
                  <a:lnTo>
                    <a:pt x="511" y="291"/>
                  </a:lnTo>
                  <a:lnTo>
                    <a:pt x="523" y="311"/>
                  </a:lnTo>
                  <a:lnTo>
                    <a:pt x="541" y="331"/>
                  </a:lnTo>
                  <a:lnTo>
                    <a:pt x="553" y="352"/>
                  </a:lnTo>
                  <a:lnTo>
                    <a:pt x="564" y="372"/>
                  </a:lnTo>
                  <a:lnTo>
                    <a:pt x="564" y="392"/>
                  </a:lnTo>
                  <a:lnTo>
                    <a:pt x="570" y="433"/>
                  </a:lnTo>
                  <a:lnTo>
                    <a:pt x="588" y="447"/>
                  </a:lnTo>
                  <a:lnTo>
                    <a:pt x="606" y="453"/>
                  </a:lnTo>
                  <a:lnTo>
                    <a:pt x="630" y="481"/>
                  </a:lnTo>
                  <a:lnTo>
                    <a:pt x="648" y="493"/>
                  </a:lnTo>
                  <a:lnTo>
                    <a:pt x="665" y="493"/>
                  </a:lnTo>
                  <a:lnTo>
                    <a:pt x="684" y="501"/>
                  </a:lnTo>
                  <a:lnTo>
                    <a:pt x="701" y="501"/>
                  </a:lnTo>
                  <a:lnTo>
                    <a:pt x="718" y="501"/>
                  </a:lnTo>
                  <a:lnTo>
                    <a:pt x="737" y="501"/>
                  </a:lnTo>
                  <a:lnTo>
                    <a:pt x="755" y="50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91400" y="4394160"/>
              <a:ext cx="123840" cy="46368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0" y="0"/>
                  </a:moveTo>
                  <a:lnTo>
                    <a:pt x="0" y="28"/>
                  </a:lnTo>
                  <a:lnTo>
                    <a:pt x="5" y="47"/>
                  </a:lnTo>
                  <a:lnTo>
                    <a:pt x="5" y="67"/>
                  </a:lnTo>
                  <a:lnTo>
                    <a:pt x="17" y="88"/>
                  </a:lnTo>
                  <a:lnTo>
                    <a:pt x="34" y="108"/>
                  </a:lnTo>
                  <a:lnTo>
                    <a:pt x="53" y="122"/>
                  </a:lnTo>
                  <a:lnTo>
                    <a:pt x="70" y="142"/>
                  </a:lnTo>
                  <a:lnTo>
                    <a:pt x="77" y="162"/>
                  </a:lnTo>
                  <a:lnTo>
                    <a:pt x="77" y="183"/>
                  </a:lnTo>
                  <a:lnTo>
                    <a:pt x="77" y="203"/>
                  </a:lnTo>
                  <a:lnTo>
                    <a:pt x="77" y="223"/>
                  </a:lnTo>
                  <a:lnTo>
                    <a:pt x="77" y="244"/>
                  </a:lnTo>
                  <a:lnTo>
                    <a:pt x="77" y="264"/>
                  </a:lnTo>
                  <a:lnTo>
                    <a:pt x="77" y="283"/>
                  </a:lnTo>
                  <a:lnTo>
                    <a:pt x="77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64600" y="4835520"/>
              <a:ext cx="453960" cy="836640"/>
            </a:xfrm>
            <a:custGeom>
              <a:avLst/>
              <a:gdLst/>
              <a:ahLst/>
              <a:rect l="l" t="t" r="r" b="b"/>
              <a:pathLst>
                <a:path w="286" h="527">
                  <a:moveTo>
                    <a:pt x="285" y="0"/>
                  </a:moveTo>
                  <a:lnTo>
                    <a:pt x="261" y="0"/>
                  </a:lnTo>
                  <a:lnTo>
                    <a:pt x="243" y="12"/>
                  </a:lnTo>
                  <a:lnTo>
                    <a:pt x="226" y="26"/>
                  </a:lnTo>
                  <a:lnTo>
                    <a:pt x="207" y="32"/>
                  </a:lnTo>
                  <a:lnTo>
                    <a:pt x="190" y="39"/>
                  </a:lnTo>
                  <a:lnTo>
                    <a:pt x="172" y="39"/>
                  </a:lnTo>
                  <a:lnTo>
                    <a:pt x="148" y="60"/>
                  </a:lnTo>
                  <a:lnTo>
                    <a:pt x="143" y="80"/>
                  </a:lnTo>
                  <a:lnTo>
                    <a:pt x="143" y="100"/>
                  </a:lnTo>
                  <a:lnTo>
                    <a:pt x="136" y="121"/>
                  </a:lnTo>
                  <a:lnTo>
                    <a:pt x="119" y="141"/>
                  </a:lnTo>
                  <a:lnTo>
                    <a:pt x="100" y="155"/>
                  </a:lnTo>
                  <a:lnTo>
                    <a:pt x="83" y="160"/>
                  </a:lnTo>
                  <a:lnTo>
                    <a:pt x="64" y="160"/>
                  </a:lnTo>
                  <a:lnTo>
                    <a:pt x="53" y="181"/>
                  </a:lnTo>
                  <a:lnTo>
                    <a:pt x="36" y="194"/>
                  </a:lnTo>
                  <a:lnTo>
                    <a:pt x="23" y="215"/>
                  </a:lnTo>
                  <a:lnTo>
                    <a:pt x="11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6"/>
                  </a:lnTo>
                  <a:lnTo>
                    <a:pt x="0" y="316"/>
                  </a:lnTo>
                  <a:lnTo>
                    <a:pt x="0" y="337"/>
                  </a:lnTo>
                  <a:lnTo>
                    <a:pt x="0" y="356"/>
                  </a:lnTo>
                  <a:lnTo>
                    <a:pt x="6" y="376"/>
                  </a:lnTo>
                  <a:lnTo>
                    <a:pt x="11" y="397"/>
                  </a:lnTo>
                  <a:lnTo>
                    <a:pt x="23" y="417"/>
                  </a:lnTo>
                  <a:lnTo>
                    <a:pt x="36" y="437"/>
                  </a:lnTo>
                  <a:lnTo>
                    <a:pt x="41" y="458"/>
                  </a:lnTo>
                  <a:lnTo>
                    <a:pt x="47" y="478"/>
                  </a:lnTo>
                  <a:lnTo>
                    <a:pt x="41" y="526"/>
                  </a:lnTo>
                  <a:lnTo>
                    <a:pt x="23" y="526"/>
                  </a:lnTo>
                  <a:lnTo>
                    <a:pt x="17" y="526"/>
                  </a:lnTo>
                  <a:lnTo>
                    <a:pt x="17" y="51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81840" y="2371680"/>
              <a:ext cx="173160" cy="676440"/>
            </a:xfrm>
            <a:custGeom>
              <a:avLst/>
              <a:gdLst/>
              <a:ahLst/>
              <a:rect l="l" t="t" r="r" b="b"/>
              <a:pathLst>
                <a:path w="109" h="426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6" y="87"/>
                  </a:lnTo>
                  <a:lnTo>
                    <a:pt x="17" y="107"/>
                  </a:lnTo>
                  <a:lnTo>
                    <a:pt x="23" y="127"/>
                  </a:lnTo>
                  <a:lnTo>
                    <a:pt x="30" y="148"/>
                  </a:lnTo>
                  <a:lnTo>
                    <a:pt x="30" y="168"/>
                  </a:lnTo>
                  <a:lnTo>
                    <a:pt x="36" y="187"/>
                  </a:lnTo>
                  <a:lnTo>
                    <a:pt x="54" y="208"/>
                  </a:lnTo>
                  <a:lnTo>
                    <a:pt x="54" y="228"/>
                  </a:lnTo>
                  <a:lnTo>
                    <a:pt x="54" y="249"/>
                  </a:lnTo>
                  <a:lnTo>
                    <a:pt x="47" y="269"/>
                  </a:lnTo>
                  <a:lnTo>
                    <a:pt x="65" y="276"/>
                  </a:lnTo>
                  <a:lnTo>
                    <a:pt x="77" y="296"/>
                  </a:lnTo>
                  <a:lnTo>
                    <a:pt x="84" y="316"/>
                  </a:lnTo>
                  <a:lnTo>
                    <a:pt x="84" y="337"/>
                  </a:lnTo>
                  <a:lnTo>
                    <a:pt x="90" y="357"/>
                  </a:lnTo>
                  <a:lnTo>
                    <a:pt x="95" y="377"/>
                  </a:lnTo>
                  <a:lnTo>
                    <a:pt x="101" y="398"/>
                  </a:lnTo>
                  <a:lnTo>
                    <a:pt x="108" y="417"/>
                  </a:lnTo>
                  <a:lnTo>
                    <a:pt x="108" y="4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6360" y="2371680"/>
              <a:ext cx="361800" cy="631800"/>
            </a:xfrm>
            <a:custGeom>
              <a:avLst/>
              <a:gdLst/>
              <a:ahLst/>
              <a:rect l="l" t="t" r="r" b="b"/>
              <a:pathLst>
                <a:path w="228" h="398">
                  <a:moveTo>
                    <a:pt x="0" y="0"/>
                  </a:moveTo>
                  <a:lnTo>
                    <a:pt x="6" y="26"/>
                  </a:lnTo>
                  <a:lnTo>
                    <a:pt x="6" y="46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6" y="107"/>
                  </a:lnTo>
                  <a:lnTo>
                    <a:pt x="6" y="126"/>
                  </a:lnTo>
                  <a:lnTo>
                    <a:pt x="23" y="147"/>
                  </a:lnTo>
                  <a:lnTo>
                    <a:pt x="36" y="167"/>
                  </a:lnTo>
                  <a:lnTo>
                    <a:pt x="53" y="181"/>
                  </a:lnTo>
                  <a:lnTo>
                    <a:pt x="66" y="201"/>
                  </a:lnTo>
                  <a:lnTo>
                    <a:pt x="66" y="221"/>
                  </a:lnTo>
                  <a:lnTo>
                    <a:pt x="53" y="242"/>
                  </a:lnTo>
                  <a:lnTo>
                    <a:pt x="53" y="261"/>
                  </a:lnTo>
                  <a:lnTo>
                    <a:pt x="53" y="281"/>
                  </a:lnTo>
                  <a:lnTo>
                    <a:pt x="72" y="288"/>
                  </a:lnTo>
                  <a:lnTo>
                    <a:pt x="89" y="302"/>
                  </a:lnTo>
                  <a:lnTo>
                    <a:pt x="95" y="322"/>
                  </a:lnTo>
                  <a:lnTo>
                    <a:pt x="101" y="342"/>
                  </a:lnTo>
                  <a:lnTo>
                    <a:pt x="113" y="363"/>
                  </a:lnTo>
                  <a:lnTo>
                    <a:pt x="131" y="376"/>
                  </a:lnTo>
                  <a:lnTo>
                    <a:pt x="143" y="397"/>
                  </a:lnTo>
                  <a:lnTo>
                    <a:pt x="160" y="397"/>
                  </a:lnTo>
                  <a:lnTo>
                    <a:pt x="179" y="397"/>
                  </a:lnTo>
                  <a:lnTo>
                    <a:pt x="197" y="397"/>
                  </a:lnTo>
                  <a:lnTo>
                    <a:pt x="214" y="397"/>
                  </a:lnTo>
                  <a:lnTo>
                    <a:pt x="227" y="39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37360" y="2724120"/>
              <a:ext cx="115920" cy="514440"/>
            </a:xfrm>
            <a:custGeom>
              <a:avLst/>
              <a:gdLst/>
              <a:ahLst/>
              <a:rect l="l" t="t" r="r" b="b"/>
              <a:pathLst>
                <a:path w="73" h="324">
                  <a:moveTo>
                    <a:pt x="53" y="0"/>
                  </a:moveTo>
                  <a:lnTo>
                    <a:pt x="72" y="27"/>
                  </a:lnTo>
                  <a:lnTo>
                    <a:pt x="72" y="47"/>
                  </a:lnTo>
                  <a:lnTo>
                    <a:pt x="65" y="67"/>
                  </a:lnTo>
                  <a:lnTo>
                    <a:pt x="48" y="81"/>
                  </a:lnTo>
                  <a:lnTo>
                    <a:pt x="36" y="101"/>
                  </a:lnTo>
                  <a:lnTo>
                    <a:pt x="24" y="120"/>
                  </a:lnTo>
                  <a:lnTo>
                    <a:pt x="24" y="141"/>
                  </a:lnTo>
                  <a:lnTo>
                    <a:pt x="24" y="161"/>
                  </a:lnTo>
                  <a:lnTo>
                    <a:pt x="24" y="182"/>
                  </a:lnTo>
                  <a:lnTo>
                    <a:pt x="24" y="202"/>
                  </a:lnTo>
                  <a:lnTo>
                    <a:pt x="24" y="221"/>
                  </a:lnTo>
                  <a:lnTo>
                    <a:pt x="24" y="242"/>
                  </a:lnTo>
                  <a:lnTo>
                    <a:pt x="18" y="262"/>
                  </a:lnTo>
                  <a:lnTo>
                    <a:pt x="12" y="282"/>
                  </a:lnTo>
                  <a:lnTo>
                    <a:pt x="6" y="303"/>
                  </a:lnTo>
                  <a:lnTo>
                    <a:pt x="0" y="3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75480" y="2530440"/>
              <a:ext cx="539640" cy="195120"/>
            </a:xfrm>
            <a:custGeom>
              <a:avLst/>
              <a:gdLst/>
              <a:ahLst/>
              <a:rect l="l" t="t" r="r" b="b"/>
              <a:pathLst>
                <a:path w="340" h="123">
                  <a:moveTo>
                    <a:pt x="0" y="0"/>
                  </a:moveTo>
                  <a:lnTo>
                    <a:pt x="23" y="21"/>
                  </a:lnTo>
                  <a:lnTo>
                    <a:pt x="29" y="41"/>
                  </a:lnTo>
                  <a:lnTo>
                    <a:pt x="29" y="61"/>
                  </a:lnTo>
                  <a:lnTo>
                    <a:pt x="35" y="82"/>
                  </a:lnTo>
                  <a:lnTo>
                    <a:pt x="53" y="95"/>
                  </a:lnTo>
                  <a:lnTo>
                    <a:pt x="70" y="95"/>
                  </a:lnTo>
                  <a:lnTo>
                    <a:pt x="89" y="95"/>
                  </a:lnTo>
                  <a:lnTo>
                    <a:pt x="106" y="95"/>
                  </a:lnTo>
                  <a:lnTo>
                    <a:pt x="124" y="102"/>
                  </a:lnTo>
                  <a:lnTo>
                    <a:pt x="142" y="102"/>
                  </a:lnTo>
                  <a:lnTo>
                    <a:pt x="166" y="102"/>
                  </a:lnTo>
                  <a:lnTo>
                    <a:pt x="183" y="102"/>
                  </a:lnTo>
                  <a:lnTo>
                    <a:pt x="202" y="102"/>
                  </a:lnTo>
                  <a:lnTo>
                    <a:pt x="219" y="102"/>
                  </a:lnTo>
                  <a:lnTo>
                    <a:pt x="237" y="102"/>
                  </a:lnTo>
                  <a:lnTo>
                    <a:pt x="255" y="102"/>
                  </a:lnTo>
                  <a:lnTo>
                    <a:pt x="273" y="102"/>
                  </a:lnTo>
                  <a:lnTo>
                    <a:pt x="290" y="102"/>
                  </a:lnTo>
                  <a:lnTo>
                    <a:pt x="309" y="109"/>
                  </a:lnTo>
                  <a:lnTo>
                    <a:pt x="326" y="116"/>
                  </a:lnTo>
                  <a:lnTo>
                    <a:pt x="339" y="12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72480" y="2306520"/>
              <a:ext cx="955440" cy="266760"/>
            </a:xfrm>
            <a:custGeom>
              <a:avLst/>
              <a:gdLst/>
              <a:ahLst/>
              <a:rect l="l" t="t" r="r" b="b"/>
              <a:pathLst>
                <a:path w="602" h="168">
                  <a:moveTo>
                    <a:pt x="0" y="40"/>
                  </a:moveTo>
                  <a:lnTo>
                    <a:pt x="23" y="33"/>
                  </a:lnTo>
                  <a:lnTo>
                    <a:pt x="42" y="33"/>
                  </a:lnTo>
                  <a:lnTo>
                    <a:pt x="59" y="33"/>
                  </a:lnTo>
                  <a:lnTo>
                    <a:pt x="77" y="33"/>
                  </a:lnTo>
                  <a:lnTo>
                    <a:pt x="95" y="19"/>
                  </a:lnTo>
                  <a:lnTo>
                    <a:pt x="95" y="0"/>
                  </a:lnTo>
                  <a:lnTo>
                    <a:pt x="113" y="12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2" y="26"/>
                  </a:lnTo>
                  <a:lnTo>
                    <a:pt x="190" y="26"/>
                  </a:lnTo>
                  <a:lnTo>
                    <a:pt x="208" y="26"/>
                  </a:lnTo>
                  <a:lnTo>
                    <a:pt x="226" y="33"/>
                  </a:lnTo>
                  <a:lnTo>
                    <a:pt x="243" y="40"/>
                  </a:lnTo>
                  <a:lnTo>
                    <a:pt x="262" y="40"/>
                  </a:lnTo>
                  <a:lnTo>
                    <a:pt x="279" y="46"/>
                  </a:lnTo>
                  <a:lnTo>
                    <a:pt x="297" y="46"/>
                  </a:lnTo>
                  <a:lnTo>
                    <a:pt x="315" y="46"/>
                  </a:lnTo>
                  <a:lnTo>
                    <a:pt x="333" y="46"/>
                  </a:lnTo>
                  <a:lnTo>
                    <a:pt x="350" y="46"/>
                  </a:lnTo>
                  <a:lnTo>
                    <a:pt x="339" y="67"/>
                  </a:lnTo>
                  <a:lnTo>
                    <a:pt x="327" y="86"/>
                  </a:lnTo>
                  <a:lnTo>
                    <a:pt x="315" y="106"/>
                  </a:lnTo>
                  <a:lnTo>
                    <a:pt x="309" y="127"/>
                  </a:lnTo>
                  <a:lnTo>
                    <a:pt x="297" y="147"/>
                  </a:lnTo>
                  <a:lnTo>
                    <a:pt x="303" y="167"/>
                  </a:lnTo>
                  <a:lnTo>
                    <a:pt x="327" y="167"/>
                  </a:lnTo>
                  <a:lnTo>
                    <a:pt x="345" y="167"/>
                  </a:lnTo>
                  <a:lnTo>
                    <a:pt x="363" y="154"/>
                  </a:lnTo>
                  <a:lnTo>
                    <a:pt x="374" y="134"/>
                  </a:lnTo>
                  <a:lnTo>
                    <a:pt x="393" y="120"/>
                  </a:lnTo>
                  <a:lnTo>
                    <a:pt x="404" y="100"/>
                  </a:lnTo>
                  <a:lnTo>
                    <a:pt x="416" y="80"/>
                  </a:lnTo>
                  <a:lnTo>
                    <a:pt x="429" y="60"/>
                  </a:lnTo>
                  <a:lnTo>
                    <a:pt x="446" y="53"/>
                  </a:lnTo>
                  <a:lnTo>
                    <a:pt x="464" y="60"/>
                  </a:lnTo>
                  <a:lnTo>
                    <a:pt x="476" y="80"/>
                  </a:lnTo>
                  <a:lnTo>
                    <a:pt x="493" y="86"/>
                  </a:lnTo>
                  <a:lnTo>
                    <a:pt x="517" y="86"/>
                  </a:lnTo>
                  <a:lnTo>
                    <a:pt x="536" y="86"/>
                  </a:lnTo>
                  <a:lnTo>
                    <a:pt x="553" y="80"/>
                  </a:lnTo>
                  <a:lnTo>
                    <a:pt x="566" y="60"/>
                  </a:lnTo>
                  <a:lnTo>
                    <a:pt x="583" y="40"/>
                  </a:lnTo>
                  <a:lnTo>
                    <a:pt x="601" y="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98000" y="2565360"/>
              <a:ext cx="350640" cy="801720"/>
            </a:xfrm>
            <a:custGeom>
              <a:avLst/>
              <a:gdLst/>
              <a:ahLst/>
              <a:rect l="l" t="t" r="r" b="b"/>
              <a:pathLst>
                <a:path w="221" h="505">
                  <a:moveTo>
                    <a:pt x="42" y="0"/>
                  </a:moveTo>
                  <a:lnTo>
                    <a:pt x="29" y="26"/>
                  </a:lnTo>
                  <a:lnTo>
                    <a:pt x="29" y="46"/>
                  </a:lnTo>
                  <a:lnTo>
                    <a:pt x="23" y="66"/>
                  </a:lnTo>
                  <a:lnTo>
                    <a:pt x="6" y="80"/>
                  </a:lnTo>
                  <a:lnTo>
                    <a:pt x="0" y="100"/>
                  </a:lnTo>
                  <a:lnTo>
                    <a:pt x="12" y="121"/>
                  </a:lnTo>
                  <a:lnTo>
                    <a:pt x="18" y="140"/>
                  </a:lnTo>
                  <a:lnTo>
                    <a:pt x="18" y="160"/>
                  </a:lnTo>
                  <a:lnTo>
                    <a:pt x="18" y="181"/>
                  </a:lnTo>
                  <a:lnTo>
                    <a:pt x="35" y="194"/>
                  </a:lnTo>
                  <a:lnTo>
                    <a:pt x="53" y="194"/>
                  </a:lnTo>
                  <a:lnTo>
                    <a:pt x="71" y="194"/>
                  </a:lnTo>
                  <a:lnTo>
                    <a:pt x="89" y="201"/>
                  </a:lnTo>
                  <a:lnTo>
                    <a:pt x="106" y="208"/>
                  </a:lnTo>
                  <a:lnTo>
                    <a:pt x="125" y="221"/>
                  </a:lnTo>
                  <a:lnTo>
                    <a:pt x="136" y="242"/>
                  </a:lnTo>
                  <a:lnTo>
                    <a:pt x="142" y="261"/>
                  </a:lnTo>
                  <a:lnTo>
                    <a:pt x="155" y="282"/>
                  </a:lnTo>
                  <a:lnTo>
                    <a:pt x="172" y="295"/>
                  </a:lnTo>
                  <a:lnTo>
                    <a:pt x="185" y="315"/>
                  </a:lnTo>
                  <a:lnTo>
                    <a:pt x="202" y="329"/>
                  </a:lnTo>
                  <a:lnTo>
                    <a:pt x="214" y="349"/>
                  </a:lnTo>
                  <a:lnTo>
                    <a:pt x="220" y="370"/>
                  </a:lnTo>
                  <a:lnTo>
                    <a:pt x="214" y="389"/>
                  </a:lnTo>
                  <a:lnTo>
                    <a:pt x="196" y="403"/>
                  </a:lnTo>
                  <a:lnTo>
                    <a:pt x="196" y="423"/>
                  </a:lnTo>
                  <a:lnTo>
                    <a:pt x="196" y="443"/>
                  </a:lnTo>
                  <a:lnTo>
                    <a:pt x="196" y="464"/>
                  </a:lnTo>
                  <a:lnTo>
                    <a:pt x="190" y="484"/>
                  </a:lnTo>
                  <a:lnTo>
                    <a:pt x="185" y="5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591400" y="3357720"/>
              <a:ext cx="29556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0" y="0"/>
                  </a:moveTo>
                  <a:lnTo>
                    <a:pt x="17" y="26"/>
                  </a:lnTo>
                  <a:lnTo>
                    <a:pt x="35" y="39"/>
                  </a:lnTo>
                  <a:lnTo>
                    <a:pt x="53" y="53"/>
                  </a:lnTo>
                  <a:lnTo>
                    <a:pt x="65" y="73"/>
                  </a:lnTo>
                  <a:lnTo>
                    <a:pt x="83" y="87"/>
                  </a:lnTo>
                  <a:lnTo>
                    <a:pt x="101" y="94"/>
                  </a:lnTo>
                  <a:lnTo>
                    <a:pt x="113" y="113"/>
                  </a:lnTo>
                  <a:lnTo>
                    <a:pt x="113" y="133"/>
                  </a:lnTo>
                  <a:lnTo>
                    <a:pt x="118" y="154"/>
                  </a:lnTo>
                  <a:lnTo>
                    <a:pt x="118" y="174"/>
                  </a:lnTo>
                  <a:lnTo>
                    <a:pt x="137" y="174"/>
                  </a:lnTo>
                  <a:lnTo>
                    <a:pt x="155" y="181"/>
                  </a:lnTo>
                  <a:lnTo>
                    <a:pt x="172" y="201"/>
                  </a:lnTo>
                  <a:lnTo>
                    <a:pt x="185" y="20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429760" y="2176560"/>
              <a:ext cx="426960" cy="217440"/>
            </a:xfrm>
            <a:custGeom>
              <a:avLst/>
              <a:gdLst/>
              <a:ahLst/>
              <a:rect l="l" t="t" r="r" b="b"/>
              <a:pathLst>
                <a:path w="269" h="137">
                  <a:moveTo>
                    <a:pt x="268" y="75"/>
                  </a:moveTo>
                  <a:lnTo>
                    <a:pt x="243" y="55"/>
                  </a:lnTo>
                  <a:lnTo>
                    <a:pt x="225" y="41"/>
                  </a:lnTo>
                  <a:lnTo>
                    <a:pt x="208" y="34"/>
                  </a:lnTo>
                  <a:lnTo>
                    <a:pt x="189" y="34"/>
                  </a:lnTo>
                  <a:lnTo>
                    <a:pt x="172" y="34"/>
                  </a:lnTo>
                  <a:lnTo>
                    <a:pt x="160" y="14"/>
                  </a:lnTo>
                  <a:lnTo>
                    <a:pt x="142" y="14"/>
                  </a:lnTo>
                  <a:lnTo>
                    <a:pt x="125" y="14"/>
                  </a:lnTo>
                  <a:lnTo>
                    <a:pt x="106" y="14"/>
                  </a:lnTo>
                  <a:lnTo>
                    <a:pt x="89" y="0"/>
                  </a:lnTo>
                  <a:lnTo>
                    <a:pt x="78" y="21"/>
                  </a:lnTo>
                  <a:lnTo>
                    <a:pt x="65" y="41"/>
                  </a:lnTo>
                  <a:lnTo>
                    <a:pt x="53" y="62"/>
                  </a:lnTo>
                  <a:lnTo>
                    <a:pt x="42" y="82"/>
                  </a:lnTo>
                  <a:lnTo>
                    <a:pt x="42" y="102"/>
                  </a:lnTo>
                  <a:lnTo>
                    <a:pt x="23" y="109"/>
                  </a:lnTo>
                  <a:lnTo>
                    <a:pt x="6" y="123"/>
                  </a:lnTo>
                  <a:lnTo>
                    <a:pt x="0" y="1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00920" y="4297320"/>
              <a:ext cx="671760" cy="88920"/>
            </a:xfrm>
            <a:custGeom>
              <a:avLst/>
              <a:gdLst/>
              <a:ahLst/>
              <a:rect l="l" t="t" r="r" b="b"/>
              <a:pathLst>
                <a:path w="423" h="56">
                  <a:moveTo>
                    <a:pt x="0" y="0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5" y="28"/>
                  </a:lnTo>
                  <a:lnTo>
                    <a:pt x="112" y="33"/>
                  </a:lnTo>
                  <a:lnTo>
                    <a:pt x="131" y="33"/>
                  </a:lnTo>
                  <a:lnTo>
                    <a:pt x="148" y="33"/>
                  </a:lnTo>
                  <a:lnTo>
                    <a:pt x="166" y="40"/>
                  </a:lnTo>
                  <a:lnTo>
                    <a:pt x="184" y="40"/>
                  </a:lnTo>
                  <a:lnTo>
                    <a:pt x="202" y="40"/>
                  </a:lnTo>
                  <a:lnTo>
                    <a:pt x="219" y="47"/>
                  </a:lnTo>
                  <a:lnTo>
                    <a:pt x="238" y="55"/>
                  </a:lnTo>
                  <a:lnTo>
                    <a:pt x="255" y="40"/>
                  </a:lnTo>
                  <a:lnTo>
                    <a:pt x="273" y="33"/>
                  </a:lnTo>
                  <a:lnTo>
                    <a:pt x="291" y="28"/>
                  </a:lnTo>
                  <a:lnTo>
                    <a:pt x="309" y="21"/>
                  </a:lnTo>
                  <a:lnTo>
                    <a:pt x="327" y="21"/>
                  </a:lnTo>
                  <a:lnTo>
                    <a:pt x="344" y="21"/>
                  </a:lnTo>
                  <a:lnTo>
                    <a:pt x="362" y="14"/>
                  </a:lnTo>
                  <a:lnTo>
                    <a:pt x="380" y="14"/>
                  </a:lnTo>
                  <a:lnTo>
                    <a:pt x="398" y="14"/>
                  </a:lnTo>
                  <a:lnTo>
                    <a:pt x="415" y="14"/>
                  </a:lnTo>
                  <a:lnTo>
                    <a:pt x="415" y="40"/>
                  </a:lnTo>
                  <a:lnTo>
                    <a:pt x="422" y="5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61320" y="2487600"/>
              <a:ext cx="114480" cy="527040"/>
            </a:xfrm>
            <a:custGeom>
              <a:avLst/>
              <a:gdLst/>
              <a:ahLst/>
              <a:rect l="l" t="t" r="r" b="b"/>
              <a:pathLst>
                <a:path w="72" h="332">
                  <a:moveTo>
                    <a:pt x="71" y="0"/>
                  </a:moveTo>
                  <a:lnTo>
                    <a:pt x="47" y="20"/>
                  </a:lnTo>
                  <a:lnTo>
                    <a:pt x="29" y="33"/>
                  </a:lnTo>
                  <a:lnTo>
                    <a:pt x="11" y="40"/>
                  </a:lnTo>
                  <a:lnTo>
                    <a:pt x="0" y="60"/>
                  </a:lnTo>
                  <a:lnTo>
                    <a:pt x="17" y="87"/>
                  </a:lnTo>
                  <a:lnTo>
                    <a:pt x="17" y="108"/>
                  </a:lnTo>
                  <a:lnTo>
                    <a:pt x="11" y="128"/>
                  </a:lnTo>
                  <a:lnTo>
                    <a:pt x="6" y="148"/>
                  </a:lnTo>
                  <a:lnTo>
                    <a:pt x="6" y="168"/>
                  </a:lnTo>
                  <a:lnTo>
                    <a:pt x="6" y="188"/>
                  </a:lnTo>
                  <a:lnTo>
                    <a:pt x="6" y="208"/>
                  </a:lnTo>
                  <a:lnTo>
                    <a:pt x="11" y="229"/>
                  </a:lnTo>
                  <a:lnTo>
                    <a:pt x="23" y="249"/>
                  </a:lnTo>
                  <a:lnTo>
                    <a:pt x="29" y="269"/>
                  </a:lnTo>
                  <a:lnTo>
                    <a:pt x="47" y="283"/>
                  </a:lnTo>
                  <a:lnTo>
                    <a:pt x="53" y="303"/>
                  </a:lnTo>
                  <a:lnTo>
                    <a:pt x="53" y="324"/>
                  </a:lnTo>
                  <a:lnTo>
                    <a:pt x="53" y="331"/>
                  </a:lnTo>
                  <a:lnTo>
                    <a:pt x="59" y="33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458200" y="2541600"/>
              <a:ext cx="324000" cy="139680"/>
            </a:xfrm>
            <a:custGeom>
              <a:avLst/>
              <a:gdLst/>
              <a:ahLst/>
              <a:rect l="l" t="t" r="r" b="b"/>
              <a:pathLst>
                <a:path w="204" h="88">
                  <a:moveTo>
                    <a:pt x="0" y="0"/>
                  </a:moveTo>
                  <a:lnTo>
                    <a:pt x="23" y="0"/>
                  </a:lnTo>
                  <a:lnTo>
                    <a:pt x="41" y="13"/>
                  </a:lnTo>
                  <a:lnTo>
                    <a:pt x="60" y="19"/>
                  </a:lnTo>
                  <a:lnTo>
                    <a:pt x="77" y="19"/>
                  </a:lnTo>
                  <a:lnTo>
                    <a:pt x="95" y="19"/>
                  </a:lnTo>
                  <a:lnTo>
                    <a:pt x="113" y="13"/>
                  </a:lnTo>
                  <a:lnTo>
                    <a:pt x="131" y="13"/>
                  </a:lnTo>
                  <a:lnTo>
                    <a:pt x="142" y="33"/>
                  </a:lnTo>
                  <a:lnTo>
                    <a:pt x="161" y="47"/>
                  </a:lnTo>
                  <a:lnTo>
                    <a:pt x="179" y="60"/>
                  </a:lnTo>
                  <a:lnTo>
                    <a:pt x="191" y="80"/>
                  </a:lnTo>
                  <a:lnTo>
                    <a:pt x="203" y="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97520" y="223056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71" y="0"/>
                  </a:moveTo>
                  <a:lnTo>
                    <a:pt x="52" y="27"/>
                  </a:lnTo>
                  <a:lnTo>
                    <a:pt x="46" y="47"/>
                  </a:lnTo>
                  <a:lnTo>
                    <a:pt x="41" y="67"/>
                  </a:lnTo>
                  <a:lnTo>
                    <a:pt x="35" y="88"/>
                  </a:lnTo>
                  <a:lnTo>
                    <a:pt x="18" y="94"/>
                  </a:lnTo>
                  <a:lnTo>
                    <a:pt x="0" y="108"/>
                  </a:lnTo>
                  <a:lnTo>
                    <a:pt x="6" y="88"/>
                  </a:lnTo>
                  <a:lnTo>
                    <a:pt x="6" y="67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61000" y="1833480"/>
              <a:ext cx="219240" cy="452520"/>
            </a:xfrm>
            <a:custGeom>
              <a:avLst/>
              <a:gdLst/>
              <a:ahLst/>
              <a:rect l="l" t="t" r="r" b="b"/>
              <a:pathLst>
                <a:path w="138" h="285">
                  <a:moveTo>
                    <a:pt x="0" y="0"/>
                  </a:moveTo>
                  <a:lnTo>
                    <a:pt x="23" y="7"/>
                  </a:lnTo>
                  <a:lnTo>
                    <a:pt x="41" y="28"/>
                  </a:lnTo>
                  <a:lnTo>
                    <a:pt x="53" y="47"/>
                  </a:lnTo>
                  <a:lnTo>
                    <a:pt x="58" y="67"/>
                  </a:lnTo>
                  <a:lnTo>
                    <a:pt x="64" y="88"/>
                  </a:lnTo>
                  <a:lnTo>
                    <a:pt x="71" y="108"/>
                  </a:lnTo>
                  <a:lnTo>
                    <a:pt x="77" y="128"/>
                  </a:lnTo>
                  <a:lnTo>
                    <a:pt x="83" y="149"/>
                  </a:lnTo>
                  <a:lnTo>
                    <a:pt x="94" y="169"/>
                  </a:lnTo>
                  <a:lnTo>
                    <a:pt x="100" y="189"/>
                  </a:lnTo>
                  <a:lnTo>
                    <a:pt x="107" y="210"/>
                  </a:lnTo>
                  <a:lnTo>
                    <a:pt x="124" y="230"/>
                  </a:lnTo>
                  <a:lnTo>
                    <a:pt x="130" y="250"/>
                  </a:lnTo>
                  <a:lnTo>
                    <a:pt x="137" y="271"/>
                  </a:lnTo>
                  <a:lnTo>
                    <a:pt x="118" y="2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40320" y="3976560"/>
              <a:ext cx="106560" cy="27000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6" y="0"/>
                  </a:moveTo>
                  <a:lnTo>
                    <a:pt x="59" y="26"/>
                  </a:lnTo>
                  <a:lnTo>
                    <a:pt x="59" y="46"/>
                  </a:lnTo>
                  <a:lnTo>
                    <a:pt x="42" y="67"/>
                  </a:lnTo>
                  <a:lnTo>
                    <a:pt x="23" y="60"/>
                  </a:lnTo>
                  <a:lnTo>
                    <a:pt x="6" y="74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0" y="155"/>
                  </a:lnTo>
                  <a:lnTo>
                    <a:pt x="0" y="16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3320" y="4254480"/>
              <a:ext cx="6696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17" y="0"/>
                  </a:moveTo>
                  <a:lnTo>
                    <a:pt x="41" y="21"/>
                  </a:lnTo>
                  <a:lnTo>
                    <a:pt x="41" y="40"/>
                  </a:lnTo>
                  <a:lnTo>
                    <a:pt x="41" y="60"/>
                  </a:lnTo>
                  <a:lnTo>
                    <a:pt x="23" y="67"/>
                  </a:lnTo>
                  <a:lnTo>
                    <a:pt x="11" y="87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5" y="149"/>
                  </a:lnTo>
                  <a:lnTo>
                    <a:pt x="17" y="169"/>
                  </a:lnTo>
                  <a:lnTo>
                    <a:pt x="5" y="189"/>
                  </a:lnTo>
                  <a:lnTo>
                    <a:pt x="0" y="19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37200" y="4714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54"/>
                  </a:moveTo>
                  <a:lnTo>
                    <a:pt x="24" y="61"/>
                  </a:lnTo>
                  <a:lnTo>
                    <a:pt x="42" y="69"/>
                  </a:lnTo>
                  <a:lnTo>
                    <a:pt x="48" y="47"/>
                  </a:lnTo>
                  <a:lnTo>
                    <a:pt x="48" y="27"/>
                  </a:lnTo>
                  <a:lnTo>
                    <a:pt x="65" y="20"/>
                  </a:lnTo>
                  <a:lnTo>
                    <a:pt x="83" y="20"/>
                  </a:lnTo>
                  <a:lnTo>
                    <a:pt x="101" y="20"/>
                  </a:lnTo>
                  <a:lnTo>
                    <a:pt x="118" y="14"/>
                  </a:lnTo>
                  <a:lnTo>
                    <a:pt x="136" y="7"/>
                  </a:lnTo>
                  <a:lnTo>
                    <a:pt x="160" y="7"/>
                  </a:lnTo>
                  <a:lnTo>
                    <a:pt x="16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41920" y="3087720"/>
              <a:ext cx="33012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981760" y="3206880"/>
              <a:ext cx="5396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83240" y="3292560"/>
              <a:ext cx="29232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759360" y="2938320"/>
              <a:ext cx="44280" cy="4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04000" y="2938320"/>
              <a:ext cx="56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342200" y="2433600"/>
              <a:ext cx="47520" cy="10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353360" y="2744640"/>
              <a:ext cx="614160" cy="6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7342200" y="2381400"/>
              <a:ext cx="558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45080" y="2347920"/>
              <a:ext cx="4827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99400" y="2422440"/>
              <a:ext cx="4744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899040" y="1790640"/>
              <a:ext cx="284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580160" y="1770120"/>
              <a:ext cx="5580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8072280" y="2949120"/>
              <a:ext cx="433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8601120" y="2970360"/>
              <a:ext cx="23652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205840" y="3322440"/>
              <a:ext cx="4032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628040" y="3495600"/>
              <a:ext cx="642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7400880" y="3152880"/>
              <a:ext cx="52884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40520" y="3152880"/>
              <a:ext cx="1209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07160" y="3462480"/>
              <a:ext cx="28800" cy="48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551720" y="3881520"/>
              <a:ext cx="8398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542360" y="4019400"/>
              <a:ext cx="2844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37200" y="39988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6975360" y="3452400"/>
              <a:ext cx="49068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475400" y="3441240"/>
              <a:ext cx="1224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6936840" y="3471840"/>
              <a:ext cx="828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210440" y="4684320"/>
              <a:ext cx="36036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1400" y="4330800"/>
              <a:ext cx="273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420040" y="3849840"/>
              <a:ext cx="39708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6444720" y="3281400"/>
              <a:ext cx="5724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5878440" y="3184560"/>
              <a:ext cx="8568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88160" y="3568680"/>
              <a:ext cx="46332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40440" y="4502160"/>
              <a:ext cx="2728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30960" y="4565520"/>
              <a:ext cx="37944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10400" y="4781520"/>
              <a:ext cx="22680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04000" y="4800600"/>
              <a:ext cx="9720" cy="85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94200" y="4565520"/>
              <a:ext cx="36036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75440" y="4705200"/>
              <a:ext cx="4521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70720" y="4824360"/>
              <a:ext cx="4730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34040" y="4897440"/>
              <a:ext cx="66996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96080" y="4994280"/>
              <a:ext cx="614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04240" y="5197320"/>
              <a:ext cx="759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7532640" y="4032000"/>
              <a:ext cx="339840" cy="2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53400" y="4019400"/>
              <a:ext cx="3816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412120" y="3956040"/>
              <a:ext cx="7632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496360" y="4192560"/>
              <a:ext cx="3816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94680" y="3419640"/>
              <a:ext cx="219240" cy="537840"/>
            </a:xfrm>
            <a:custGeom>
              <a:avLst/>
              <a:gdLst/>
              <a:ahLst/>
              <a:rect l="l" t="t" r="r" b="b"/>
              <a:pathLst>
                <a:path w="138" h="339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1" y="74"/>
                  </a:lnTo>
                  <a:lnTo>
                    <a:pt x="77" y="94"/>
                  </a:lnTo>
                  <a:lnTo>
                    <a:pt x="88" y="115"/>
                  </a:lnTo>
                  <a:lnTo>
                    <a:pt x="94" y="135"/>
                  </a:lnTo>
                  <a:lnTo>
                    <a:pt x="100" y="155"/>
                  </a:lnTo>
                  <a:lnTo>
                    <a:pt x="100" y="176"/>
                  </a:lnTo>
                  <a:lnTo>
                    <a:pt x="107" y="196"/>
                  </a:lnTo>
                  <a:lnTo>
                    <a:pt x="107" y="216"/>
                  </a:lnTo>
                  <a:lnTo>
                    <a:pt x="113" y="237"/>
                  </a:lnTo>
                  <a:lnTo>
                    <a:pt x="118" y="257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30" y="318"/>
                  </a:lnTo>
                  <a:lnTo>
                    <a:pt x="137" y="33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875120" y="1814400"/>
              <a:ext cx="625680" cy="16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16400" y="1790640"/>
              <a:ext cx="1890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508720" y="1952640"/>
              <a:ext cx="36972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4760" y="2090880"/>
              <a:ext cx="22680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200" y="2187720"/>
              <a:ext cx="4348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07080" y="2274840"/>
              <a:ext cx="3762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5360" y="2274480"/>
              <a:ext cx="604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513560" y="2198160"/>
              <a:ext cx="50976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8004240" y="2135160"/>
              <a:ext cx="3985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71000" y="1758960"/>
              <a:ext cx="1681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053560" y="3076560"/>
              <a:ext cx="160200" cy="34452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0" y="0"/>
                  </a:moveTo>
                  <a:lnTo>
                    <a:pt x="0" y="26"/>
                  </a:lnTo>
                  <a:lnTo>
                    <a:pt x="0" y="47"/>
                  </a:lnTo>
                  <a:lnTo>
                    <a:pt x="12" y="67"/>
                  </a:lnTo>
                  <a:lnTo>
                    <a:pt x="29" y="81"/>
                  </a:lnTo>
                  <a:lnTo>
                    <a:pt x="35" y="101"/>
                  </a:lnTo>
                  <a:lnTo>
                    <a:pt x="40" y="121"/>
                  </a:lnTo>
                  <a:lnTo>
                    <a:pt x="46" y="142"/>
                  </a:lnTo>
                  <a:lnTo>
                    <a:pt x="46" y="162"/>
                  </a:lnTo>
                  <a:lnTo>
                    <a:pt x="59" y="182"/>
                  </a:lnTo>
                  <a:lnTo>
                    <a:pt x="70" y="203"/>
                  </a:lnTo>
                  <a:lnTo>
                    <a:pt x="88" y="208"/>
                  </a:lnTo>
                  <a:lnTo>
                    <a:pt x="10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67240" y="2112840"/>
              <a:ext cx="1874880" cy="430200"/>
            </a:xfrm>
            <a:custGeom>
              <a:avLst/>
              <a:gdLst/>
              <a:ahLst/>
              <a:rect l="l" t="t" r="r" b="b"/>
              <a:pathLst>
                <a:path w="1181" h="271">
                  <a:moveTo>
                    <a:pt x="0" y="0"/>
                  </a:moveTo>
                  <a:lnTo>
                    <a:pt x="23" y="12"/>
                  </a:lnTo>
                  <a:lnTo>
                    <a:pt x="36" y="33"/>
                  </a:lnTo>
                  <a:lnTo>
                    <a:pt x="48" y="53"/>
                  </a:lnTo>
                  <a:lnTo>
                    <a:pt x="65" y="73"/>
                  </a:lnTo>
                  <a:lnTo>
                    <a:pt x="83" y="94"/>
                  </a:lnTo>
                  <a:lnTo>
                    <a:pt x="101" y="107"/>
                  </a:lnTo>
                  <a:lnTo>
                    <a:pt x="119" y="121"/>
                  </a:lnTo>
                  <a:lnTo>
                    <a:pt x="136" y="134"/>
                  </a:lnTo>
                  <a:lnTo>
                    <a:pt x="155" y="141"/>
                  </a:lnTo>
                  <a:lnTo>
                    <a:pt x="172" y="148"/>
                  </a:lnTo>
                  <a:lnTo>
                    <a:pt x="190" y="162"/>
                  </a:lnTo>
                  <a:lnTo>
                    <a:pt x="209" y="175"/>
                  </a:lnTo>
                  <a:lnTo>
                    <a:pt x="226" y="189"/>
                  </a:lnTo>
                  <a:lnTo>
                    <a:pt x="244" y="195"/>
                  </a:lnTo>
                  <a:lnTo>
                    <a:pt x="262" y="209"/>
                  </a:lnTo>
                  <a:lnTo>
                    <a:pt x="280" y="216"/>
                  </a:lnTo>
                  <a:lnTo>
                    <a:pt x="297" y="229"/>
                  </a:lnTo>
                  <a:lnTo>
                    <a:pt x="316" y="236"/>
                  </a:lnTo>
                  <a:lnTo>
                    <a:pt x="333" y="243"/>
                  </a:lnTo>
                  <a:lnTo>
                    <a:pt x="352" y="257"/>
                  </a:lnTo>
                  <a:lnTo>
                    <a:pt x="369" y="262"/>
                  </a:lnTo>
                  <a:lnTo>
                    <a:pt x="387" y="270"/>
                  </a:lnTo>
                  <a:lnTo>
                    <a:pt x="405" y="270"/>
                  </a:lnTo>
                  <a:lnTo>
                    <a:pt x="423" y="270"/>
                  </a:lnTo>
                  <a:lnTo>
                    <a:pt x="440" y="270"/>
                  </a:lnTo>
                  <a:lnTo>
                    <a:pt x="459" y="270"/>
                  </a:lnTo>
                  <a:lnTo>
                    <a:pt x="476" y="270"/>
                  </a:lnTo>
                  <a:lnTo>
                    <a:pt x="494" y="270"/>
                  </a:lnTo>
                  <a:lnTo>
                    <a:pt x="512" y="270"/>
                  </a:lnTo>
                  <a:lnTo>
                    <a:pt x="530" y="270"/>
                  </a:lnTo>
                  <a:lnTo>
                    <a:pt x="547" y="270"/>
                  </a:lnTo>
                  <a:lnTo>
                    <a:pt x="566" y="270"/>
                  </a:lnTo>
                  <a:lnTo>
                    <a:pt x="583" y="270"/>
                  </a:lnTo>
                  <a:lnTo>
                    <a:pt x="601" y="262"/>
                  </a:lnTo>
                  <a:lnTo>
                    <a:pt x="619" y="257"/>
                  </a:lnTo>
                  <a:lnTo>
                    <a:pt x="637" y="257"/>
                  </a:lnTo>
                  <a:lnTo>
                    <a:pt x="655" y="250"/>
                  </a:lnTo>
                  <a:lnTo>
                    <a:pt x="679" y="243"/>
                  </a:lnTo>
                  <a:lnTo>
                    <a:pt x="697" y="236"/>
                  </a:lnTo>
                  <a:lnTo>
                    <a:pt x="714" y="229"/>
                  </a:lnTo>
                  <a:lnTo>
                    <a:pt x="733" y="223"/>
                  </a:lnTo>
                  <a:lnTo>
                    <a:pt x="750" y="216"/>
                  </a:lnTo>
                  <a:lnTo>
                    <a:pt x="768" y="209"/>
                  </a:lnTo>
                  <a:lnTo>
                    <a:pt x="786" y="202"/>
                  </a:lnTo>
                  <a:lnTo>
                    <a:pt x="804" y="195"/>
                  </a:lnTo>
                  <a:lnTo>
                    <a:pt x="821" y="195"/>
                  </a:lnTo>
                  <a:lnTo>
                    <a:pt x="840" y="182"/>
                  </a:lnTo>
                  <a:lnTo>
                    <a:pt x="857" y="175"/>
                  </a:lnTo>
                  <a:lnTo>
                    <a:pt x="876" y="168"/>
                  </a:lnTo>
                  <a:lnTo>
                    <a:pt x="893" y="162"/>
                  </a:lnTo>
                  <a:lnTo>
                    <a:pt x="911" y="155"/>
                  </a:lnTo>
                  <a:lnTo>
                    <a:pt x="929" y="141"/>
                  </a:lnTo>
                  <a:lnTo>
                    <a:pt x="947" y="134"/>
                  </a:lnTo>
                  <a:lnTo>
                    <a:pt x="964" y="128"/>
                  </a:lnTo>
                  <a:lnTo>
                    <a:pt x="983" y="121"/>
                  </a:lnTo>
                  <a:lnTo>
                    <a:pt x="1000" y="114"/>
                  </a:lnTo>
                  <a:lnTo>
                    <a:pt x="1018" y="101"/>
                  </a:lnTo>
                  <a:lnTo>
                    <a:pt x="1036" y="101"/>
                  </a:lnTo>
                  <a:lnTo>
                    <a:pt x="1054" y="94"/>
                  </a:lnTo>
                  <a:lnTo>
                    <a:pt x="1071" y="80"/>
                  </a:lnTo>
                  <a:lnTo>
                    <a:pt x="1090" y="73"/>
                  </a:lnTo>
                  <a:lnTo>
                    <a:pt x="1107" y="60"/>
                  </a:lnTo>
                  <a:lnTo>
                    <a:pt x="1125" y="53"/>
                  </a:lnTo>
                  <a:lnTo>
                    <a:pt x="1143" y="39"/>
                  </a:lnTo>
                  <a:lnTo>
                    <a:pt x="1161" y="26"/>
                  </a:lnTo>
                  <a:lnTo>
                    <a:pt x="1180" y="1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52880" y="2468520"/>
              <a:ext cx="1683000" cy="642960"/>
            </a:xfrm>
            <a:custGeom>
              <a:avLst/>
              <a:gdLst/>
              <a:ahLst/>
              <a:rect l="l" t="t" r="r" b="b"/>
              <a:pathLst>
                <a:path w="1060" h="405">
                  <a:moveTo>
                    <a:pt x="0" y="0"/>
                  </a:moveTo>
                  <a:lnTo>
                    <a:pt x="29" y="12"/>
                  </a:lnTo>
                  <a:lnTo>
                    <a:pt x="41" y="33"/>
                  </a:lnTo>
                  <a:lnTo>
                    <a:pt x="59" y="46"/>
                  </a:lnTo>
                  <a:lnTo>
                    <a:pt x="77" y="60"/>
                  </a:lnTo>
                  <a:lnTo>
                    <a:pt x="94" y="73"/>
                  </a:lnTo>
                  <a:lnTo>
                    <a:pt x="113" y="87"/>
                  </a:lnTo>
                  <a:lnTo>
                    <a:pt x="130" y="100"/>
                  </a:lnTo>
                  <a:lnTo>
                    <a:pt x="154" y="121"/>
                  </a:lnTo>
                  <a:lnTo>
                    <a:pt x="172" y="126"/>
                  </a:lnTo>
                  <a:lnTo>
                    <a:pt x="184" y="147"/>
                  </a:lnTo>
                  <a:lnTo>
                    <a:pt x="201" y="154"/>
                  </a:lnTo>
                  <a:lnTo>
                    <a:pt x="220" y="167"/>
                  </a:lnTo>
                  <a:lnTo>
                    <a:pt x="237" y="181"/>
                  </a:lnTo>
                  <a:lnTo>
                    <a:pt x="255" y="194"/>
                  </a:lnTo>
                  <a:lnTo>
                    <a:pt x="273" y="208"/>
                  </a:lnTo>
                  <a:lnTo>
                    <a:pt x="291" y="221"/>
                  </a:lnTo>
                  <a:lnTo>
                    <a:pt x="309" y="228"/>
                  </a:lnTo>
                  <a:lnTo>
                    <a:pt x="327" y="242"/>
                  </a:lnTo>
                  <a:lnTo>
                    <a:pt x="344" y="254"/>
                  </a:lnTo>
                  <a:lnTo>
                    <a:pt x="363" y="275"/>
                  </a:lnTo>
                  <a:lnTo>
                    <a:pt x="380" y="281"/>
                  </a:lnTo>
                  <a:lnTo>
                    <a:pt x="398" y="295"/>
                  </a:lnTo>
                  <a:lnTo>
                    <a:pt x="416" y="309"/>
                  </a:lnTo>
                  <a:lnTo>
                    <a:pt x="434" y="315"/>
                  </a:lnTo>
                  <a:lnTo>
                    <a:pt x="451" y="322"/>
                  </a:lnTo>
                  <a:lnTo>
                    <a:pt x="470" y="329"/>
                  </a:lnTo>
                  <a:lnTo>
                    <a:pt x="487" y="336"/>
                  </a:lnTo>
                  <a:lnTo>
                    <a:pt x="505" y="343"/>
                  </a:lnTo>
                  <a:lnTo>
                    <a:pt x="530" y="356"/>
                  </a:lnTo>
                  <a:lnTo>
                    <a:pt x="547" y="370"/>
                  </a:lnTo>
                  <a:lnTo>
                    <a:pt x="565" y="376"/>
                  </a:lnTo>
                  <a:lnTo>
                    <a:pt x="588" y="383"/>
                  </a:lnTo>
                  <a:lnTo>
                    <a:pt x="607" y="397"/>
                  </a:lnTo>
                  <a:lnTo>
                    <a:pt x="624" y="397"/>
                  </a:lnTo>
                  <a:lnTo>
                    <a:pt x="642" y="404"/>
                  </a:lnTo>
                  <a:lnTo>
                    <a:pt x="660" y="404"/>
                  </a:lnTo>
                  <a:lnTo>
                    <a:pt x="684" y="404"/>
                  </a:lnTo>
                  <a:lnTo>
                    <a:pt x="701" y="404"/>
                  </a:lnTo>
                  <a:lnTo>
                    <a:pt x="720" y="404"/>
                  </a:lnTo>
                  <a:lnTo>
                    <a:pt x="737" y="404"/>
                  </a:lnTo>
                  <a:lnTo>
                    <a:pt x="755" y="397"/>
                  </a:lnTo>
                  <a:lnTo>
                    <a:pt x="773" y="390"/>
                  </a:lnTo>
                  <a:lnTo>
                    <a:pt x="791" y="390"/>
                  </a:lnTo>
                  <a:lnTo>
                    <a:pt x="808" y="383"/>
                  </a:lnTo>
                  <a:lnTo>
                    <a:pt x="827" y="383"/>
                  </a:lnTo>
                  <a:lnTo>
                    <a:pt x="844" y="376"/>
                  </a:lnTo>
                  <a:lnTo>
                    <a:pt x="862" y="370"/>
                  </a:lnTo>
                  <a:lnTo>
                    <a:pt x="880" y="363"/>
                  </a:lnTo>
                  <a:lnTo>
                    <a:pt x="898" y="363"/>
                  </a:lnTo>
                  <a:lnTo>
                    <a:pt x="916" y="356"/>
                  </a:lnTo>
                  <a:lnTo>
                    <a:pt x="934" y="349"/>
                  </a:lnTo>
                  <a:lnTo>
                    <a:pt x="951" y="343"/>
                  </a:lnTo>
                  <a:lnTo>
                    <a:pt x="970" y="336"/>
                  </a:lnTo>
                  <a:lnTo>
                    <a:pt x="987" y="329"/>
                  </a:lnTo>
                  <a:lnTo>
                    <a:pt x="1005" y="322"/>
                  </a:lnTo>
                  <a:lnTo>
                    <a:pt x="1024" y="309"/>
                  </a:lnTo>
                  <a:lnTo>
                    <a:pt x="1041" y="302"/>
                  </a:lnTo>
                  <a:lnTo>
                    <a:pt x="1059" y="2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07080" y="2413080"/>
              <a:ext cx="965160" cy="515880"/>
            </a:xfrm>
            <a:custGeom>
              <a:avLst/>
              <a:gdLst/>
              <a:ahLst/>
              <a:rect l="l" t="t" r="r" b="b"/>
              <a:pathLst>
                <a:path w="608" h="325">
                  <a:moveTo>
                    <a:pt x="607" y="0"/>
                  </a:moveTo>
                  <a:lnTo>
                    <a:pt x="583" y="26"/>
                  </a:lnTo>
                  <a:lnTo>
                    <a:pt x="564" y="46"/>
                  </a:lnTo>
                  <a:lnTo>
                    <a:pt x="547" y="60"/>
                  </a:lnTo>
                  <a:lnTo>
                    <a:pt x="529" y="67"/>
                  </a:lnTo>
                  <a:lnTo>
                    <a:pt x="511" y="80"/>
                  </a:lnTo>
                  <a:lnTo>
                    <a:pt x="493" y="94"/>
                  </a:lnTo>
                  <a:lnTo>
                    <a:pt x="476" y="100"/>
                  </a:lnTo>
                  <a:lnTo>
                    <a:pt x="457" y="114"/>
                  </a:lnTo>
                  <a:lnTo>
                    <a:pt x="440" y="121"/>
                  </a:lnTo>
                  <a:lnTo>
                    <a:pt x="422" y="134"/>
                  </a:lnTo>
                  <a:lnTo>
                    <a:pt x="410" y="155"/>
                  </a:lnTo>
                  <a:lnTo>
                    <a:pt x="393" y="161"/>
                  </a:lnTo>
                  <a:lnTo>
                    <a:pt x="374" y="168"/>
                  </a:lnTo>
                  <a:lnTo>
                    <a:pt x="356" y="182"/>
                  </a:lnTo>
                  <a:lnTo>
                    <a:pt x="339" y="189"/>
                  </a:lnTo>
                  <a:lnTo>
                    <a:pt x="320" y="202"/>
                  </a:lnTo>
                  <a:lnTo>
                    <a:pt x="303" y="209"/>
                  </a:lnTo>
                  <a:lnTo>
                    <a:pt x="286" y="216"/>
                  </a:lnTo>
                  <a:lnTo>
                    <a:pt x="267" y="223"/>
                  </a:lnTo>
                  <a:lnTo>
                    <a:pt x="250" y="236"/>
                  </a:lnTo>
                  <a:lnTo>
                    <a:pt x="232" y="236"/>
                  </a:lnTo>
                  <a:lnTo>
                    <a:pt x="213" y="243"/>
                  </a:lnTo>
                  <a:lnTo>
                    <a:pt x="190" y="256"/>
                  </a:lnTo>
                  <a:lnTo>
                    <a:pt x="166" y="270"/>
                  </a:lnTo>
                  <a:lnTo>
                    <a:pt x="143" y="277"/>
                  </a:lnTo>
                  <a:lnTo>
                    <a:pt x="124" y="277"/>
                  </a:lnTo>
                  <a:lnTo>
                    <a:pt x="106" y="284"/>
                  </a:lnTo>
                  <a:lnTo>
                    <a:pt x="89" y="290"/>
                  </a:lnTo>
                  <a:lnTo>
                    <a:pt x="70" y="290"/>
                  </a:lnTo>
                  <a:lnTo>
                    <a:pt x="53" y="297"/>
                  </a:lnTo>
                  <a:lnTo>
                    <a:pt x="29" y="304"/>
                  </a:lnTo>
                  <a:lnTo>
                    <a:pt x="12" y="316"/>
                  </a:lnTo>
                  <a:lnTo>
                    <a:pt x="0" y="3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15080" y="3110040"/>
              <a:ext cx="2487600" cy="706320"/>
            </a:xfrm>
            <a:custGeom>
              <a:avLst/>
              <a:gdLst/>
              <a:ahLst/>
              <a:rect l="l" t="t" r="r" b="b"/>
              <a:pathLst>
                <a:path w="1567" h="445">
                  <a:moveTo>
                    <a:pt x="1566" y="0"/>
                  </a:moveTo>
                  <a:lnTo>
                    <a:pt x="1542" y="19"/>
                  </a:lnTo>
                  <a:lnTo>
                    <a:pt x="1523" y="32"/>
                  </a:lnTo>
                  <a:lnTo>
                    <a:pt x="1506" y="53"/>
                  </a:lnTo>
                  <a:lnTo>
                    <a:pt x="1488" y="73"/>
                  </a:lnTo>
                  <a:lnTo>
                    <a:pt x="1470" y="94"/>
                  </a:lnTo>
                  <a:lnTo>
                    <a:pt x="1452" y="100"/>
                  </a:lnTo>
                  <a:lnTo>
                    <a:pt x="1440" y="121"/>
                  </a:lnTo>
                  <a:lnTo>
                    <a:pt x="1422" y="127"/>
                  </a:lnTo>
                  <a:lnTo>
                    <a:pt x="1405" y="141"/>
                  </a:lnTo>
                  <a:lnTo>
                    <a:pt x="1386" y="154"/>
                  </a:lnTo>
                  <a:lnTo>
                    <a:pt x="1369" y="167"/>
                  </a:lnTo>
                  <a:lnTo>
                    <a:pt x="1351" y="181"/>
                  </a:lnTo>
                  <a:lnTo>
                    <a:pt x="1333" y="187"/>
                  </a:lnTo>
                  <a:lnTo>
                    <a:pt x="1315" y="194"/>
                  </a:lnTo>
                  <a:lnTo>
                    <a:pt x="1298" y="208"/>
                  </a:lnTo>
                  <a:lnTo>
                    <a:pt x="1279" y="215"/>
                  </a:lnTo>
                  <a:lnTo>
                    <a:pt x="1262" y="228"/>
                  </a:lnTo>
                  <a:lnTo>
                    <a:pt x="1244" y="235"/>
                  </a:lnTo>
                  <a:lnTo>
                    <a:pt x="1226" y="249"/>
                  </a:lnTo>
                  <a:lnTo>
                    <a:pt x="1208" y="255"/>
                  </a:lnTo>
                  <a:lnTo>
                    <a:pt x="1190" y="269"/>
                  </a:lnTo>
                  <a:lnTo>
                    <a:pt x="1172" y="282"/>
                  </a:lnTo>
                  <a:lnTo>
                    <a:pt x="1155" y="296"/>
                  </a:lnTo>
                  <a:lnTo>
                    <a:pt x="1136" y="309"/>
                  </a:lnTo>
                  <a:lnTo>
                    <a:pt x="1119" y="315"/>
                  </a:lnTo>
                  <a:lnTo>
                    <a:pt x="1101" y="329"/>
                  </a:lnTo>
                  <a:lnTo>
                    <a:pt x="1083" y="342"/>
                  </a:lnTo>
                  <a:lnTo>
                    <a:pt x="1065" y="349"/>
                  </a:lnTo>
                  <a:lnTo>
                    <a:pt x="1048" y="363"/>
                  </a:lnTo>
                  <a:lnTo>
                    <a:pt x="1029" y="370"/>
                  </a:lnTo>
                  <a:lnTo>
                    <a:pt x="1012" y="376"/>
                  </a:lnTo>
                  <a:lnTo>
                    <a:pt x="994" y="383"/>
                  </a:lnTo>
                  <a:lnTo>
                    <a:pt x="976" y="397"/>
                  </a:lnTo>
                  <a:lnTo>
                    <a:pt x="958" y="404"/>
                  </a:lnTo>
                  <a:lnTo>
                    <a:pt x="941" y="410"/>
                  </a:lnTo>
                  <a:lnTo>
                    <a:pt x="922" y="410"/>
                  </a:lnTo>
                  <a:lnTo>
                    <a:pt x="898" y="424"/>
                  </a:lnTo>
                  <a:lnTo>
                    <a:pt x="881" y="431"/>
                  </a:lnTo>
                  <a:lnTo>
                    <a:pt x="862" y="431"/>
                  </a:lnTo>
                  <a:lnTo>
                    <a:pt x="845" y="431"/>
                  </a:lnTo>
                  <a:lnTo>
                    <a:pt x="827" y="437"/>
                  </a:lnTo>
                  <a:lnTo>
                    <a:pt x="809" y="437"/>
                  </a:lnTo>
                  <a:lnTo>
                    <a:pt x="791" y="444"/>
                  </a:lnTo>
                  <a:lnTo>
                    <a:pt x="774" y="444"/>
                  </a:lnTo>
                  <a:lnTo>
                    <a:pt x="755" y="444"/>
                  </a:lnTo>
                  <a:lnTo>
                    <a:pt x="738" y="444"/>
                  </a:lnTo>
                  <a:lnTo>
                    <a:pt x="720" y="444"/>
                  </a:lnTo>
                  <a:lnTo>
                    <a:pt x="702" y="444"/>
                  </a:lnTo>
                  <a:lnTo>
                    <a:pt x="678" y="444"/>
                  </a:lnTo>
                  <a:lnTo>
                    <a:pt x="660" y="431"/>
                  </a:lnTo>
                  <a:lnTo>
                    <a:pt x="642" y="424"/>
                  </a:lnTo>
                  <a:lnTo>
                    <a:pt x="624" y="417"/>
                  </a:lnTo>
                  <a:lnTo>
                    <a:pt x="607" y="417"/>
                  </a:lnTo>
                  <a:lnTo>
                    <a:pt x="588" y="410"/>
                  </a:lnTo>
                  <a:lnTo>
                    <a:pt x="565" y="397"/>
                  </a:lnTo>
                  <a:lnTo>
                    <a:pt x="541" y="376"/>
                  </a:lnTo>
                  <a:lnTo>
                    <a:pt x="524" y="370"/>
                  </a:lnTo>
                  <a:lnTo>
                    <a:pt x="488" y="370"/>
                  </a:lnTo>
                  <a:lnTo>
                    <a:pt x="470" y="356"/>
                  </a:lnTo>
                  <a:lnTo>
                    <a:pt x="451" y="342"/>
                  </a:lnTo>
                  <a:lnTo>
                    <a:pt x="428" y="329"/>
                  </a:lnTo>
                  <a:lnTo>
                    <a:pt x="410" y="315"/>
                  </a:lnTo>
                  <a:lnTo>
                    <a:pt x="392" y="296"/>
                  </a:lnTo>
                  <a:lnTo>
                    <a:pt x="357" y="289"/>
                  </a:lnTo>
                  <a:lnTo>
                    <a:pt x="333" y="269"/>
                  </a:lnTo>
                  <a:lnTo>
                    <a:pt x="315" y="262"/>
                  </a:lnTo>
                  <a:lnTo>
                    <a:pt x="279" y="249"/>
                  </a:lnTo>
                  <a:lnTo>
                    <a:pt x="261" y="235"/>
                  </a:lnTo>
                  <a:lnTo>
                    <a:pt x="237" y="228"/>
                  </a:lnTo>
                  <a:lnTo>
                    <a:pt x="220" y="215"/>
                  </a:lnTo>
                  <a:lnTo>
                    <a:pt x="201" y="194"/>
                  </a:lnTo>
                  <a:lnTo>
                    <a:pt x="184" y="181"/>
                  </a:lnTo>
                  <a:lnTo>
                    <a:pt x="142" y="160"/>
                  </a:lnTo>
                  <a:lnTo>
                    <a:pt x="124" y="141"/>
                  </a:lnTo>
                  <a:lnTo>
                    <a:pt x="107" y="121"/>
                  </a:lnTo>
                  <a:lnTo>
                    <a:pt x="88" y="100"/>
                  </a:lnTo>
                  <a:lnTo>
                    <a:pt x="71" y="80"/>
                  </a:lnTo>
                  <a:lnTo>
                    <a:pt x="53" y="66"/>
                  </a:lnTo>
                  <a:lnTo>
                    <a:pt x="5" y="39"/>
                  </a:lnTo>
                  <a:lnTo>
                    <a:pt x="0" y="1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304040" y="3849840"/>
              <a:ext cx="1440000" cy="1692000"/>
            </a:xfrm>
            <a:custGeom>
              <a:avLst/>
              <a:gdLst/>
              <a:ahLst/>
              <a:rect l="l" t="t" r="r" b="b"/>
              <a:pathLst>
                <a:path w="907" h="1066">
                  <a:moveTo>
                    <a:pt x="906" y="5"/>
                  </a:moveTo>
                  <a:lnTo>
                    <a:pt x="882" y="0"/>
                  </a:lnTo>
                  <a:lnTo>
                    <a:pt x="858" y="5"/>
                  </a:lnTo>
                  <a:lnTo>
                    <a:pt x="834" y="19"/>
                  </a:lnTo>
                  <a:lnTo>
                    <a:pt x="811" y="32"/>
                  </a:lnTo>
                  <a:lnTo>
                    <a:pt x="792" y="46"/>
                  </a:lnTo>
                  <a:lnTo>
                    <a:pt x="768" y="60"/>
                  </a:lnTo>
                  <a:lnTo>
                    <a:pt x="751" y="66"/>
                  </a:lnTo>
                  <a:lnTo>
                    <a:pt x="727" y="73"/>
                  </a:lnTo>
                  <a:lnTo>
                    <a:pt x="709" y="87"/>
                  </a:lnTo>
                  <a:lnTo>
                    <a:pt x="691" y="94"/>
                  </a:lnTo>
                  <a:lnTo>
                    <a:pt x="674" y="107"/>
                  </a:lnTo>
                  <a:lnTo>
                    <a:pt x="655" y="114"/>
                  </a:lnTo>
                  <a:lnTo>
                    <a:pt x="638" y="127"/>
                  </a:lnTo>
                  <a:lnTo>
                    <a:pt x="620" y="141"/>
                  </a:lnTo>
                  <a:lnTo>
                    <a:pt x="595" y="160"/>
                  </a:lnTo>
                  <a:lnTo>
                    <a:pt x="572" y="174"/>
                  </a:lnTo>
                  <a:lnTo>
                    <a:pt x="554" y="194"/>
                  </a:lnTo>
                  <a:lnTo>
                    <a:pt x="537" y="208"/>
                  </a:lnTo>
                  <a:lnTo>
                    <a:pt x="518" y="221"/>
                  </a:lnTo>
                  <a:lnTo>
                    <a:pt x="500" y="235"/>
                  </a:lnTo>
                  <a:lnTo>
                    <a:pt x="483" y="255"/>
                  </a:lnTo>
                  <a:lnTo>
                    <a:pt x="464" y="269"/>
                  </a:lnTo>
                  <a:lnTo>
                    <a:pt x="447" y="282"/>
                  </a:lnTo>
                  <a:lnTo>
                    <a:pt x="428" y="296"/>
                  </a:lnTo>
                  <a:lnTo>
                    <a:pt x="411" y="310"/>
                  </a:lnTo>
                  <a:lnTo>
                    <a:pt x="393" y="330"/>
                  </a:lnTo>
                  <a:lnTo>
                    <a:pt x="375" y="337"/>
                  </a:lnTo>
                  <a:lnTo>
                    <a:pt x="357" y="356"/>
                  </a:lnTo>
                  <a:lnTo>
                    <a:pt x="340" y="370"/>
                  </a:lnTo>
                  <a:lnTo>
                    <a:pt x="321" y="383"/>
                  </a:lnTo>
                  <a:lnTo>
                    <a:pt x="304" y="404"/>
                  </a:lnTo>
                  <a:lnTo>
                    <a:pt x="286" y="417"/>
                  </a:lnTo>
                  <a:lnTo>
                    <a:pt x="267" y="437"/>
                  </a:lnTo>
                  <a:lnTo>
                    <a:pt x="250" y="451"/>
                  </a:lnTo>
                  <a:lnTo>
                    <a:pt x="238" y="471"/>
                  </a:lnTo>
                  <a:lnTo>
                    <a:pt x="220" y="492"/>
                  </a:lnTo>
                  <a:lnTo>
                    <a:pt x="208" y="512"/>
                  </a:lnTo>
                  <a:lnTo>
                    <a:pt x="196" y="531"/>
                  </a:lnTo>
                  <a:lnTo>
                    <a:pt x="184" y="552"/>
                  </a:lnTo>
                  <a:lnTo>
                    <a:pt x="179" y="572"/>
                  </a:lnTo>
                  <a:lnTo>
                    <a:pt x="160" y="599"/>
                  </a:lnTo>
                  <a:lnTo>
                    <a:pt x="149" y="620"/>
                  </a:lnTo>
                  <a:lnTo>
                    <a:pt x="137" y="640"/>
                  </a:lnTo>
                  <a:lnTo>
                    <a:pt x="124" y="660"/>
                  </a:lnTo>
                  <a:lnTo>
                    <a:pt x="113" y="681"/>
                  </a:lnTo>
                  <a:lnTo>
                    <a:pt x="107" y="701"/>
                  </a:lnTo>
                  <a:lnTo>
                    <a:pt x="95" y="720"/>
                  </a:lnTo>
                  <a:lnTo>
                    <a:pt x="89" y="741"/>
                  </a:lnTo>
                  <a:lnTo>
                    <a:pt x="83" y="761"/>
                  </a:lnTo>
                  <a:lnTo>
                    <a:pt x="71" y="781"/>
                  </a:lnTo>
                  <a:lnTo>
                    <a:pt x="65" y="802"/>
                  </a:lnTo>
                  <a:lnTo>
                    <a:pt x="59" y="829"/>
                  </a:lnTo>
                  <a:lnTo>
                    <a:pt x="47" y="856"/>
                  </a:lnTo>
                  <a:lnTo>
                    <a:pt x="42" y="876"/>
                  </a:lnTo>
                  <a:lnTo>
                    <a:pt x="36" y="897"/>
                  </a:lnTo>
                  <a:lnTo>
                    <a:pt x="29" y="916"/>
                  </a:lnTo>
                  <a:lnTo>
                    <a:pt x="23" y="936"/>
                  </a:lnTo>
                  <a:lnTo>
                    <a:pt x="17" y="957"/>
                  </a:lnTo>
                  <a:lnTo>
                    <a:pt x="17" y="977"/>
                  </a:lnTo>
                  <a:lnTo>
                    <a:pt x="12" y="997"/>
                  </a:lnTo>
                  <a:lnTo>
                    <a:pt x="12" y="1025"/>
                  </a:lnTo>
                  <a:lnTo>
                    <a:pt x="6" y="1045"/>
                  </a:lnTo>
                  <a:lnTo>
                    <a:pt x="0" y="106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462280" y="4192560"/>
              <a:ext cx="312840" cy="145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94200" y="3057480"/>
              <a:ext cx="1238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27760" y="3130560"/>
              <a:ext cx="33948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7240" y="3260880"/>
              <a:ext cx="1904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75320" y="3965400"/>
              <a:ext cx="480960" cy="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10200" y="2252520"/>
              <a:ext cx="35892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6323040" y="2371680"/>
              <a:ext cx="460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 flipV="1">
              <a:off x="5897520" y="2176200"/>
              <a:ext cx="936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97520" y="2112480"/>
              <a:ext cx="97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11800" y="264780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0"/>
                  </a:moveTo>
                  <a:lnTo>
                    <a:pt x="24" y="19"/>
                  </a:lnTo>
                  <a:lnTo>
                    <a:pt x="29" y="41"/>
                  </a:lnTo>
                  <a:lnTo>
                    <a:pt x="41" y="61"/>
                  </a:lnTo>
                  <a:lnTo>
                    <a:pt x="48" y="8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43560" y="2914560"/>
              <a:ext cx="125280" cy="1098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11" y="28"/>
                  </a:lnTo>
                  <a:lnTo>
                    <a:pt x="23" y="48"/>
                  </a:lnTo>
                  <a:lnTo>
                    <a:pt x="47" y="62"/>
                  </a:lnTo>
                  <a:lnTo>
                    <a:pt x="65" y="68"/>
                  </a:lnTo>
                  <a:lnTo>
                    <a:pt x="78" y="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89440" y="30654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21"/>
                  </a:moveTo>
                  <a:lnTo>
                    <a:pt x="23" y="14"/>
                  </a:lnTo>
                  <a:lnTo>
                    <a:pt x="41" y="14"/>
                  </a:lnTo>
                  <a:lnTo>
                    <a:pt x="59" y="14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13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981760" y="2914560"/>
              <a:ext cx="169920" cy="9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284880" y="2755800"/>
              <a:ext cx="160200" cy="108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502320" y="2595600"/>
              <a:ext cx="17964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765840" y="2401920"/>
              <a:ext cx="27468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7135920" y="2125440"/>
              <a:ext cx="1983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557680" y="1952640"/>
              <a:ext cx="74880" cy="173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661000" y="2252520"/>
              <a:ext cx="10332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916600" y="2392200"/>
              <a:ext cx="198360" cy="2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19720" y="2284200"/>
              <a:ext cx="169920" cy="75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512040" y="2166480"/>
              <a:ext cx="142920" cy="63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738840" y="2038320"/>
              <a:ext cx="1684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87960" y="3462480"/>
              <a:ext cx="20808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519880" y="3719520"/>
              <a:ext cx="198360" cy="33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830920" y="3603600"/>
              <a:ext cx="179280" cy="8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6114960" y="3419280"/>
              <a:ext cx="160560" cy="10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6369120" y="3281040"/>
              <a:ext cx="17280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6634080" y="3034800"/>
              <a:ext cx="238320" cy="171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975360" y="2852280"/>
              <a:ext cx="187560" cy="117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267680" y="2714400"/>
              <a:ext cx="19836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580160" y="2521080"/>
              <a:ext cx="15876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481720" y="4244760"/>
              <a:ext cx="255600" cy="44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916600" y="4084560"/>
              <a:ext cx="22716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284880" y="3814920"/>
              <a:ext cx="208080" cy="17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586560" y="3579480"/>
              <a:ext cx="20952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918480" y="3378240"/>
              <a:ext cx="21744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7240680" y="3260520"/>
              <a:ext cx="263520" cy="104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5443560" y="4703760"/>
              <a:ext cx="2826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5811840" y="4384800"/>
              <a:ext cx="255600" cy="225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143760" y="4061880"/>
              <a:ext cx="234720" cy="204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6437160" y="3814560"/>
              <a:ext cx="196920" cy="161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727680" y="3592440"/>
              <a:ext cx="217800" cy="169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7051680" y="3471840"/>
              <a:ext cx="149400" cy="77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24560" y="3333240"/>
              <a:ext cx="24624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656480" y="3236760"/>
              <a:ext cx="206280" cy="66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802480" y="4973760"/>
              <a:ext cx="56880" cy="342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5897520" y="4640400"/>
              <a:ext cx="93600" cy="257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056280" y="4393800"/>
              <a:ext cx="12528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227640" y="4170240"/>
              <a:ext cx="141480" cy="1605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407280" y="3987720"/>
              <a:ext cx="15084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643800" y="3827520"/>
              <a:ext cx="16020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891480" y="3645000"/>
              <a:ext cx="17748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162920" y="3516480"/>
              <a:ext cx="21744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542360" y="3398760"/>
              <a:ext cx="24588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891560" y="3311280"/>
              <a:ext cx="264960" cy="66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6122880" y="5046480"/>
              <a:ext cx="58680" cy="387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219720" y="4565160"/>
              <a:ext cx="158760" cy="36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445080" y="4192200"/>
              <a:ext cx="198720" cy="2761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759720" y="3987360"/>
              <a:ext cx="223560" cy="149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7059600" y="3858840"/>
              <a:ext cx="217440" cy="8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7380360" y="3762360"/>
              <a:ext cx="226800" cy="76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7731000" y="3719520"/>
              <a:ext cx="209520" cy="22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993000" y="5208480"/>
              <a:ext cx="169920" cy="35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7257960" y="4897080"/>
              <a:ext cx="152640" cy="235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7542360" y="4703760"/>
              <a:ext cx="293400" cy="131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7940520" y="4535640"/>
              <a:ext cx="36684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8391600" y="4448160"/>
              <a:ext cx="26496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05360" y="5178600"/>
              <a:ext cx="501840" cy="447480"/>
            </a:xfrm>
            <a:custGeom>
              <a:avLst/>
              <a:gdLst/>
              <a:ahLst/>
              <a:rect l="l" t="t" r="r" b="b"/>
              <a:pathLst>
                <a:path w="316" h="282">
                  <a:moveTo>
                    <a:pt x="0" y="0"/>
                  </a:moveTo>
                  <a:lnTo>
                    <a:pt x="23" y="5"/>
                  </a:lnTo>
                  <a:lnTo>
                    <a:pt x="47" y="26"/>
                  </a:lnTo>
                  <a:lnTo>
                    <a:pt x="71" y="53"/>
                  </a:lnTo>
                  <a:lnTo>
                    <a:pt x="89" y="73"/>
                  </a:lnTo>
                  <a:lnTo>
                    <a:pt x="113" y="94"/>
                  </a:lnTo>
                  <a:lnTo>
                    <a:pt x="130" y="113"/>
                  </a:lnTo>
                  <a:lnTo>
                    <a:pt x="154" y="133"/>
                  </a:lnTo>
                  <a:lnTo>
                    <a:pt x="172" y="154"/>
                  </a:lnTo>
                  <a:lnTo>
                    <a:pt x="190" y="167"/>
                  </a:lnTo>
                  <a:lnTo>
                    <a:pt x="207" y="188"/>
                  </a:lnTo>
                  <a:lnTo>
                    <a:pt x="226" y="200"/>
                  </a:lnTo>
                  <a:lnTo>
                    <a:pt x="237" y="220"/>
                  </a:lnTo>
                  <a:lnTo>
                    <a:pt x="256" y="241"/>
                  </a:lnTo>
                  <a:lnTo>
                    <a:pt x="261" y="241"/>
                  </a:lnTo>
                  <a:lnTo>
                    <a:pt x="261" y="248"/>
                  </a:lnTo>
                  <a:lnTo>
                    <a:pt x="309" y="254"/>
                  </a:lnTo>
                  <a:lnTo>
                    <a:pt x="315" y="261"/>
                  </a:lnTo>
                  <a:lnTo>
                    <a:pt x="297" y="28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221600" y="4043160"/>
              <a:ext cx="15228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107120" y="4254480"/>
              <a:ext cx="12384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796080" y="4684680"/>
              <a:ext cx="131760" cy="3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6690960" y="4867200"/>
              <a:ext cx="11268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40440" y="34844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19920" y="3322800"/>
              <a:ext cx="93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067440" y="3322800"/>
              <a:ext cx="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29080" y="2401920"/>
              <a:ext cx="217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340240" y="2295360"/>
              <a:ext cx="9360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5366880" y="2347920"/>
              <a:ext cx="954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33840" y="2455920"/>
              <a:ext cx="28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18040" y="2817720"/>
              <a:ext cx="322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018040" y="2638440"/>
              <a:ext cx="4752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75280" y="2776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79880" y="357984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4990680" y="3430440"/>
              <a:ext cx="6516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6975360" y="3087360"/>
              <a:ext cx="28260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872400" y="3139920"/>
              <a:ext cx="11088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75360" y="3184560"/>
              <a:ext cx="2880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6775560" y="2509560"/>
              <a:ext cx="341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91320" y="2468520"/>
              <a:ext cx="10476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65840" y="2478240"/>
              <a:ext cx="572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3720" y="2444760"/>
              <a:ext cx="7776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830920" y="2776680"/>
              <a:ext cx="2919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823000" y="2606760"/>
              <a:ext cx="792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5859000" y="2606760"/>
              <a:ext cx="190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07240" y="2583000"/>
              <a:ext cx="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54760" y="2647800"/>
              <a:ext cx="93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205840" y="4170240"/>
              <a:ext cx="24444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061480" y="4297320"/>
              <a:ext cx="15048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205840" y="4941360"/>
              <a:ext cx="185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74160" y="5154480"/>
              <a:ext cx="759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7580160" y="5122800"/>
              <a:ext cx="842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427880" y="5413320"/>
              <a:ext cx="16344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512040" y="4254120"/>
              <a:ext cx="0" cy="32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00800" y="4543560"/>
              <a:ext cx="24588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5557320" y="4492800"/>
              <a:ext cx="1764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7051680" y="3700080"/>
              <a:ext cx="24444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59600" y="3773520"/>
              <a:ext cx="28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983280" y="3762360"/>
              <a:ext cx="5724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6029280" y="3935160"/>
              <a:ext cx="3319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029280" y="3762360"/>
              <a:ext cx="302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9120" y="4554360"/>
              <a:ext cx="14292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23200" y="3711600"/>
              <a:ext cx="550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08720" y="2786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21400" y="215280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34040" y="1778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52960" y="1806480"/>
              <a:ext cx="47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410680" y="433872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97680" y="351936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096400" y="307008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72400" y="29732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59520" y="406224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537320" y="249408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6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122960" y="204480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8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5040" y="524016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78560" y="52196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51600" y="480996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09960" y="5803920"/>
              <a:ext cx="274968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700 HEIGHTS AND DEWPO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372960" y="879480"/>
            <a:ext cx="876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TRONG UPPER LEVEL DIVERGENCE IS PRESENT, OFTEN ENHANCED BY ENTRANCE REGION OF UPPER LEVEL JET ST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76280" y="2419200"/>
            <a:ext cx="27000" cy="303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403280" y="2887560"/>
            <a:ext cx="28800" cy="412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32080" y="3438360"/>
            <a:ext cx="0" cy="357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175360" y="1820880"/>
            <a:ext cx="3493800" cy="35481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 old front or surface boundary and weak mean flow are usually prese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603360" y="1636560"/>
            <a:ext cx="4292640" cy="4226040"/>
            <a:chOff x="603360" y="1636560"/>
            <a:chExt cx="4292640" cy="4226040"/>
          </a:xfrm>
        </p:grpSpPr>
        <p:pic>
          <p:nvPicPr>
            <p:cNvPr id="2064" name="" descr=""/>
            <p:cNvPicPr/>
            <p:nvPr/>
          </p:nvPicPr>
          <p:blipFill>
            <a:blip r:embed="rId2"/>
            <a:stretch/>
          </p:blipFill>
          <p:spPr>
            <a:xfrm>
              <a:off x="676440" y="1647720"/>
              <a:ext cx="4173480" cy="41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5" name=""/>
            <p:cNvSpPr/>
            <p:nvPr/>
          </p:nvSpPr>
          <p:spPr>
            <a:xfrm>
              <a:off x="603360" y="1636560"/>
              <a:ext cx="4292640" cy="4218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20220000">
              <a:off x="2530440" y="3987360"/>
              <a:ext cx="684360" cy="204840"/>
            </a:xfrm>
            <a:prstGeom prst="rect">
              <a:avLst/>
            </a:prstGeom>
            <a:solidFill>
              <a:srgbClr val="cc0000"/>
            </a:solidFill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854440" y="3987720"/>
              <a:ext cx="4316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77880" y="1832040"/>
              <a:ext cx="314280" cy="1101600"/>
            </a:xfrm>
            <a:custGeom>
              <a:avLst/>
              <a:gdLst/>
              <a:ahLst/>
              <a:rect l="l" t="t" r="r" b="b"/>
              <a:pathLst>
                <a:path w="198" h="694">
                  <a:moveTo>
                    <a:pt x="75" y="0"/>
                  </a:moveTo>
                  <a:lnTo>
                    <a:pt x="99" y="0"/>
                  </a:lnTo>
                  <a:lnTo>
                    <a:pt x="104" y="17"/>
                  </a:lnTo>
                  <a:lnTo>
                    <a:pt x="116" y="34"/>
                  </a:lnTo>
                  <a:lnTo>
                    <a:pt x="133" y="46"/>
                  </a:lnTo>
                  <a:lnTo>
                    <a:pt x="151" y="63"/>
                  </a:lnTo>
                  <a:lnTo>
                    <a:pt x="168" y="80"/>
                  </a:lnTo>
                  <a:lnTo>
                    <a:pt x="180" y="98"/>
                  </a:lnTo>
                  <a:lnTo>
                    <a:pt x="180" y="115"/>
                  </a:lnTo>
                  <a:lnTo>
                    <a:pt x="180" y="133"/>
                  </a:lnTo>
                  <a:lnTo>
                    <a:pt x="185" y="150"/>
                  </a:lnTo>
                  <a:lnTo>
                    <a:pt x="185" y="173"/>
                  </a:lnTo>
                  <a:lnTo>
                    <a:pt x="185" y="190"/>
                  </a:lnTo>
                  <a:lnTo>
                    <a:pt x="191" y="208"/>
                  </a:lnTo>
                  <a:lnTo>
                    <a:pt x="197" y="225"/>
                  </a:lnTo>
                  <a:lnTo>
                    <a:pt x="197" y="260"/>
                  </a:lnTo>
                  <a:lnTo>
                    <a:pt x="197" y="277"/>
                  </a:lnTo>
                  <a:lnTo>
                    <a:pt x="197" y="294"/>
                  </a:lnTo>
                  <a:lnTo>
                    <a:pt x="197" y="312"/>
                  </a:lnTo>
                  <a:lnTo>
                    <a:pt x="197" y="329"/>
                  </a:lnTo>
                  <a:lnTo>
                    <a:pt x="191" y="346"/>
                  </a:lnTo>
                  <a:lnTo>
                    <a:pt x="180" y="364"/>
                  </a:lnTo>
                  <a:lnTo>
                    <a:pt x="168" y="404"/>
                  </a:lnTo>
                  <a:lnTo>
                    <a:pt x="156" y="422"/>
                  </a:lnTo>
                  <a:lnTo>
                    <a:pt x="145" y="439"/>
                  </a:lnTo>
                  <a:lnTo>
                    <a:pt x="139" y="456"/>
                  </a:lnTo>
                  <a:lnTo>
                    <a:pt x="128" y="479"/>
                  </a:lnTo>
                  <a:lnTo>
                    <a:pt x="116" y="497"/>
                  </a:lnTo>
                  <a:lnTo>
                    <a:pt x="110" y="514"/>
                  </a:lnTo>
                  <a:lnTo>
                    <a:pt x="104" y="532"/>
                  </a:lnTo>
                  <a:lnTo>
                    <a:pt x="81" y="555"/>
                  </a:lnTo>
                  <a:lnTo>
                    <a:pt x="75" y="572"/>
                  </a:lnTo>
                  <a:lnTo>
                    <a:pt x="64" y="589"/>
                  </a:lnTo>
                  <a:lnTo>
                    <a:pt x="52" y="607"/>
                  </a:lnTo>
                  <a:lnTo>
                    <a:pt x="41" y="624"/>
                  </a:lnTo>
                  <a:lnTo>
                    <a:pt x="35" y="641"/>
                  </a:lnTo>
                  <a:lnTo>
                    <a:pt x="23" y="659"/>
                  </a:lnTo>
                  <a:lnTo>
                    <a:pt x="6" y="676"/>
                  </a:lnTo>
                  <a:lnTo>
                    <a:pt x="0" y="6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6240" y="1876320"/>
              <a:ext cx="644400" cy="1627200"/>
            </a:xfrm>
            <a:custGeom>
              <a:avLst/>
              <a:gdLst/>
              <a:ahLst/>
              <a:rect l="l" t="t" r="r" b="b"/>
              <a:pathLst>
                <a:path w="406" h="1025">
                  <a:moveTo>
                    <a:pt x="405" y="0"/>
                  </a:moveTo>
                  <a:lnTo>
                    <a:pt x="399" y="24"/>
                  </a:lnTo>
                  <a:lnTo>
                    <a:pt x="394" y="58"/>
                  </a:lnTo>
                  <a:lnTo>
                    <a:pt x="388" y="81"/>
                  </a:lnTo>
                  <a:lnTo>
                    <a:pt x="376" y="105"/>
                  </a:lnTo>
                  <a:lnTo>
                    <a:pt x="365" y="122"/>
                  </a:lnTo>
                  <a:lnTo>
                    <a:pt x="359" y="139"/>
                  </a:lnTo>
                  <a:lnTo>
                    <a:pt x="353" y="162"/>
                  </a:lnTo>
                  <a:lnTo>
                    <a:pt x="342" y="180"/>
                  </a:lnTo>
                  <a:lnTo>
                    <a:pt x="336" y="197"/>
                  </a:lnTo>
                  <a:lnTo>
                    <a:pt x="336" y="214"/>
                  </a:lnTo>
                  <a:lnTo>
                    <a:pt x="324" y="238"/>
                  </a:lnTo>
                  <a:lnTo>
                    <a:pt x="318" y="255"/>
                  </a:lnTo>
                  <a:lnTo>
                    <a:pt x="313" y="272"/>
                  </a:lnTo>
                  <a:lnTo>
                    <a:pt x="301" y="290"/>
                  </a:lnTo>
                  <a:lnTo>
                    <a:pt x="295" y="307"/>
                  </a:lnTo>
                  <a:lnTo>
                    <a:pt x="289" y="324"/>
                  </a:lnTo>
                  <a:lnTo>
                    <a:pt x="272" y="342"/>
                  </a:lnTo>
                  <a:lnTo>
                    <a:pt x="261" y="359"/>
                  </a:lnTo>
                  <a:lnTo>
                    <a:pt x="249" y="376"/>
                  </a:lnTo>
                  <a:lnTo>
                    <a:pt x="237" y="394"/>
                  </a:lnTo>
                  <a:lnTo>
                    <a:pt x="226" y="411"/>
                  </a:lnTo>
                  <a:lnTo>
                    <a:pt x="214" y="428"/>
                  </a:lnTo>
                  <a:lnTo>
                    <a:pt x="209" y="446"/>
                  </a:lnTo>
                  <a:lnTo>
                    <a:pt x="197" y="463"/>
                  </a:lnTo>
                  <a:lnTo>
                    <a:pt x="180" y="486"/>
                  </a:lnTo>
                  <a:lnTo>
                    <a:pt x="168" y="504"/>
                  </a:lnTo>
                  <a:lnTo>
                    <a:pt x="156" y="521"/>
                  </a:lnTo>
                  <a:lnTo>
                    <a:pt x="145" y="538"/>
                  </a:lnTo>
                  <a:lnTo>
                    <a:pt x="133" y="556"/>
                  </a:lnTo>
                  <a:lnTo>
                    <a:pt x="128" y="573"/>
                  </a:lnTo>
                  <a:lnTo>
                    <a:pt x="122" y="590"/>
                  </a:lnTo>
                  <a:lnTo>
                    <a:pt x="110" y="613"/>
                  </a:lnTo>
                  <a:lnTo>
                    <a:pt x="104" y="631"/>
                  </a:lnTo>
                  <a:lnTo>
                    <a:pt x="99" y="648"/>
                  </a:lnTo>
                  <a:lnTo>
                    <a:pt x="87" y="665"/>
                  </a:lnTo>
                  <a:lnTo>
                    <a:pt x="81" y="683"/>
                  </a:lnTo>
                  <a:lnTo>
                    <a:pt x="75" y="700"/>
                  </a:lnTo>
                  <a:lnTo>
                    <a:pt x="64" y="717"/>
                  </a:lnTo>
                  <a:lnTo>
                    <a:pt x="58" y="735"/>
                  </a:lnTo>
                  <a:lnTo>
                    <a:pt x="52" y="758"/>
                  </a:lnTo>
                  <a:lnTo>
                    <a:pt x="47" y="775"/>
                  </a:lnTo>
                  <a:lnTo>
                    <a:pt x="41" y="793"/>
                  </a:lnTo>
                  <a:lnTo>
                    <a:pt x="41" y="810"/>
                  </a:lnTo>
                  <a:lnTo>
                    <a:pt x="35" y="827"/>
                  </a:lnTo>
                  <a:lnTo>
                    <a:pt x="35" y="845"/>
                  </a:lnTo>
                  <a:lnTo>
                    <a:pt x="29" y="862"/>
                  </a:lnTo>
                  <a:lnTo>
                    <a:pt x="23" y="879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23" y="931"/>
                  </a:lnTo>
                  <a:lnTo>
                    <a:pt x="18" y="949"/>
                  </a:lnTo>
                  <a:lnTo>
                    <a:pt x="18" y="966"/>
                  </a:lnTo>
                  <a:lnTo>
                    <a:pt x="12" y="983"/>
                  </a:lnTo>
                  <a:lnTo>
                    <a:pt x="12" y="1001"/>
                  </a:lnTo>
                  <a:lnTo>
                    <a:pt x="6" y="1018"/>
                  </a:lnTo>
                  <a:lnTo>
                    <a:pt x="6" y="1024"/>
                  </a:lnTo>
                  <a:lnTo>
                    <a:pt x="0" y="10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6320" y="3502080"/>
              <a:ext cx="451080" cy="1130400"/>
            </a:xfrm>
            <a:custGeom>
              <a:avLst/>
              <a:gdLst/>
              <a:ahLst/>
              <a:rect l="l" t="t" r="r" b="b"/>
              <a:pathLst>
                <a:path w="284" h="712">
                  <a:moveTo>
                    <a:pt x="283" y="0"/>
                  </a:moveTo>
                  <a:lnTo>
                    <a:pt x="283" y="23"/>
                  </a:lnTo>
                  <a:lnTo>
                    <a:pt x="283" y="40"/>
                  </a:lnTo>
                  <a:lnTo>
                    <a:pt x="283" y="58"/>
                  </a:lnTo>
                  <a:lnTo>
                    <a:pt x="283" y="75"/>
                  </a:lnTo>
                  <a:lnTo>
                    <a:pt x="276" y="92"/>
                  </a:lnTo>
                  <a:lnTo>
                    <a:pt x="271" y="110"/>
                  </a:lnTo>
                  <a:lnTo>
                    <a:pt x="259" y="127"/>
                  </a:lnTo>
                  <a:lnTo>
                    <a:pt x="253" y="145"/>
                  </a:lnTo>
                  <a:lnTo>
                    <a:pt x="247" y="162"/>
                  </a:lnTo>
                  <a:lnTo>
                    <a:pt x="242" y="179"/>
                  </a:lnTo>
                  <a:lnTo>
                    <a:pt x="242" y="197"/>
                  </a:lnTo>
                  <a:lnTo>
                    <a:pt x="242" y="214"/>
                  </a:lnTo>
                  <a:lnTo>
                    <a:pt x="236" y="231"/>
                  </a:lnTo>
                  <a:lnTo>
                    <a:pt x="236" y="249"/>
                  </a:lnTo>
                  <a:lnTo>
                    <a:pt x="230" y="266"/>
                  </a:lnTo>
                  <a:lnTo>
                    <a:pt x="223" y="283"/>
                  </a:lnTo>
                  <a:lnTo>
                    <a:pt x="217" y="301"/>
                  </a:lnTo>
                  <a:lnTo>
                    <a:pt x="212" y="324"/>
                  </a:lnTo>
                  <a:lnTo>
                    <a:pt x="206" y="341"/>
                  </a:lnTo>
                  <a:lnTo>
                    <a:pt x="200" y="358"/>
                  </a:lnTo>
                  <a:lnTo>
                    <a:pt x="194" y="376"/>
                  </a:lnTo>
                  <a:lnTo>
                    <a:pt x="189" y="393"/>
                  </a:lnTo>
                  <a:lnTo>
                    <a:pt x="183" y="411"/>
                  </a:lnTo>
                  <a:lnTo>
                    <a:pt x="171" y="428"/>
                  </a:lnTo>
                  <a:lnTo>
                    <a:pt x="164" y="445"/>
                  </a:lnTo>
                  <a:lnTo>
                    <a:pt x="159" y="463"/>
                  </a:lnTo>
                  <a:lnTo>
                    <a:pt x="147" y="480"/>
                  </a:lnTo>
                  <a:lnTo>
                    <a:pt x="147" y="497"/>
                  </a:lnTo>
                  <a:lnTo>
                    <a:pt x="135" y="515"/>
                  </a:lnTo>
                  <a:lnTo>
                    <a:pt x="130" y="532"/>
                  </a:lnTo>
                  <a:lnTo>
                    <a:pt x="118" y="555"/>
                  </a:lnTo>
                  <a:lnTo>
                    <a:pt x="111" y="572"/>
                  </a:lnTo>
                  <a:lnTo>
                    <a:pt x="100" y="590"/>
                  </a:lnTo>
                  <a:lnTo>
                    <a:pt x="88" y="607"/>
                  </a:lnTo>
                  <a:lnTo>
                    <a:pt x="82" y="624"/>
                  </a:lnTo>
                  <a:lnTo>
                    <a:pt x="71" y="642"/>
                  </a:lnTo>
                  <a:lnTo>
                    <a:pt x="52" y="653"/>
                  </a:lnTo>
                  <a:lnTo>
                    <a:pt x="41" y="671"/>
                  </a:lnTo>
                  <a:lnTo>
                    <a:pt x="29" y="688"/>
                  </a:lnTo>
                  <a:lnTo>
                    <a:pt x="12" y="700"/>
                  </a:lnTo>
                  <a:lnTo>
                    <a:pt x="0" y="71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313080" y="2519280"/>
              <a:ext cx="590760" cy="1498680"/>
            </a:xfrm>
            <a:custGeom>
              <a:avLst/>
              <a:gdLst/>
              <a:ahLst/>
              <a:rect l="l" t="t" r="r" b="b"/>
              <a:pathLst>
                <a:path w="372" h="944">
                  <a:moveTo>
                    <a:pt x="371" y="0"/>
                  </a:moveTo>
                  <a:lnTo>
                    <a:pt x="359" y="23"/>
                  </a:lnTo>
                  <a:lnTo>
                    <a:pt x="342" y="35"/>
                  </a:lnTo>
                  <a:lnTo>
                    <a:pt x="330" y="52"/>
                  </a:lnTo>
                  <a:lnTo>
                    <a:pt x="313" y="64"/>
                  </a:lnTo>
                  <a:lnTo>
                    <a:pt x="295" y="75"/>
                  </a:lnTo>
                  <a:lnTo>
                    <a:pt x="278" y="93"/>
                  </a:lnTo>
                  <a:lnTo>
                    <a:pt x="261" y="110"/>
                  </a:lnTo>
                  <a:lnTo>
                    <a:pt x="249" y="127"/>
                  </a:lnTo>
                  <a:lnTo>
                    <a:pt x="232" y="145"/>
                  </a:lnTo>
                  <a:lnTo>
                    <a:pt x="214" y="156"/>
                  </a:lnTo>
                  <a:lnTo>
                    <a:pt x="203" y="174"/>
                  </a:lnTo>
                  <a:lnTo>
                    <a:pt x="191" y="191"/>
                  </a:lnTo>
                  <a:lnTo>
                    <a:pt x="174" y="203"/>
                  </a:lnTo>
                  <a:lnTo>
                    <a:pt x="162" y="220"/>
                  </a:lnTo>
                  <a:lnTo>
                    <a:pt x="151" y="237"/>
                  </a:lnTo>
                  <a:lnTo>
                    <a:pt x="133" y="255"/>
                  </a:lnTo>
                  <a:lnTo>
                    <a:pt x="122" y="272"/>
                  </a:lnTo>
                  <a:lnTo>
                    <a:pt x="110" y="289"/>
                  </a:lnTo>
                  <a:lnTo>
                    <a:pt x="93" y="312"/>
                  </a:lnTo>
                  <a:lnTo>
                    <a:pt x="81" y="330"/>
                  </a:lnTo>
                  <a:lnTo>
                    <a:pt x="76" y="347"/>
                  </a:lnTo>
                  <a:lnTo>
                    <a:pt x="64" y="365"/>
                  </a:lnTo>
                  <a:lnTo>
                    <a:pt x="52" y="382"/>
                  </a:lnTo>
                  <a:lnTo>
                    <a:pt x="41" y="399"/>
                  </a:lnTo>
                  <a:lnTo>
                    <a:pt x="29" y="417"/>
                  </a:lnTo>
                  <a:lnTo>
                    <a:pt x="23" y="434"/>
                  </a:lnTo>
                  <a:lnTo>
                    <a:pt x="12" y="451"/>
                  </a:lnTo>
                  <a:lnTo>
                    <a:pt x="6" y="469"/>
                  </a:lnTo>
                  <a:lnTo>
                    <a:pt x="6" y="486"/>
                  </a:lnTo>
                  <a:lnTo>
                    <a:pt x="0" y="503"/>
                  </a:lnTo>
                  <a:lnTo>
                    <a:pt x="0" y="521"/>
                  </a:lnTo>
                  <a:lnTo>
                    <a:pt x="0" y="538"/>
                  </a:lnTo>
                  <a:lnTo>
                    <a:pt x="0" y="555"/>
                  </a:lnTo>
                  <a:lnTo>
                    <a:pt x="0" y="573"/>
                  </a:lnTo>
                  <a:lnTo>
                    <a:pt x="0" y="590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6" y="648"/>
                  </a:lnTo>
                  <a:lnTo>
                    <a:pt x="18" y="665"/>
                  </a:lnTo>
                  <a:lnTo>
                    <a:pt x="35" y="683"/>
                  </a:lnTo>
                  <a:lnTo>
                    <a:pt x="41" y="700"/>
                  </a:lnTo>
                  <a:lnTo>
                    <a:pt x="58" y="717"/>
                  </a:lnTo>
                  <a:lnTo>
                    <a:pt x="70" y="735"/>
                  </a:lnTo>
                  <a:lnTo>
                    <a:pt x="81" y="752"/>
                  </a:lnTo>
                  <a:lnTo>
                    <a:pt x="99" y="769"/>
                  </a:lnTo>
                  <a:lnTo>
                    <a:pt x="110" y="787"/>
                  </a:lnTo>
                  <a:lnTo>
                    <a:pt x="128" y="804"/>
                  </a:lnTo>
                  <a:lnTo>
                    <a:pt x="139" y="821"/>
                  </a:lnTo>
                  <a:lnTo>
                    <a:pt x="151" y="839"/>
                  </a:lnTo>
                  <a:lnTo>
                    <a:pt x="168" y="850"/>
                  </a:lnTo>
                  <a:lnTo>
                    <a:pt x="185" y="868"/>
                  </a:lnTo>
                  <a:lnTo>
                    <a:pt x="203" y="885"/>
                  </a:lnTo>
                  <a:lnTo>
                    <a:pt x="220" y="897"/>
                  </a:lnTo>
                  <a:lnTo>
                    <a:pt x="232" y="914"/>
                  </a:lnTo>
                  <a:lnTo>
                    <a:pt x="249" y="925"/>
                  </a:lnTo>
                  <a:lnTo>
                    <a:pt x="261" y="94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35360" y="3987720"/>
              <a:ext cx="590400" cy="755640"/>
            </a:xfrm>
            <a:custGeom>
              <a:avLst/>
              <a:gdLst/>
              <a:ahLst/>
              <a:rect l="l" t="t" r="r" b="b"/>
              <a:pathLst>
                <a:path w="372" h="476">
                  <a:moveTo>
                    <a:pt x="371" y="475"/>
                  </a:moveTo>
                  <a:lnTo>
                    <a:pt x="342" y="457"/>
                  </a:lnTo>
                  <a:lnTo>
                    <a:pt x="324" y="446"/>
                  </a:lnTo>
                  <a:lnTo>
                    <a:pt x="307" y="434"/>
                  </a:lnTo>
                  <a:lnTo>
                    <a:pt x="290" y="417"/>
                  </a:lnTo>
                  <a:lnTo>
                    <a:pt x="272" y="399"/>
                  </a:lnTo>
                  <a:lnTo>
                    <a:pt x="255" y="382"/>
                  </a:lnTo>
                  <a:lnTo>
                    <a:pt x="238" y="371"/>
                  </a:lnTo>
                  <a:lnTo>
                    <a:pt x="226" y="353"/>
                  </a:lnTo>
                  <a:lnTo>
                    <a:pt x="209" y="342"/>
                  </a:lnTo>
                  <a:lnTo>
                    <a:pt x="197" y="324"/>
                  </a:lnTo>
                  <a:lnTo>
                    <a:pt x="180" y="307"/>
                  </a:lnTo>
                  <a:lnTo>
                    <a:pt x="168" y="290"/>
                  </a:lnTo>
                  <a:lnTo>
                    <a:pt x="151" y="278"/>
                  </a:lnTo>
                  <a:lnTo>
                    <a:pt x="139" y="261"/>
                  </a:lnTo>
                  <a:lnTo>
                    <a:pt x="122" y="243"/>
                  </a:lnTo>
                  <a:lnTo>
                    <a:pt x="105" y="232"/>
                  </a:lnTo>
                  <a:lnTo>
                    <a:pt x="93" y="214"/>
                  </a:lnTo>
                  <a:lnTo>
                    <a:pt x="81" y="197"/>
                  </a:lnTo>
                  <a:lnTo>
                    <a:pt x="70" y="174"/>
                  </a:lnTo>
                  <a:lnTo>
                    <a:pt x="64" y="157"/>
                  </a:lnTo>
                  <a:lnTo>
                    <a:pt x="58" y="139"/>
                  </a:lnTo>
                  <a:lnTo>
                    <a:pt x="52" y="122"/>
                  </a:lnTo>
                  <a:lnTo>
                    <a:pt x="47" y="105"/>
                  </a:lnTo>
                  <a:lnTo>
                    <a:pt x="35" y="87"/>
                  </a:lnTo>
                  <a:lnTo>
                    <a:pt x="24" y="70"/>
                  </a:lnTo>
                  <a:lnTo>
                    <a:pt x="12" y="52"/>
                  </a:lnTo>
                  <a:lnTo>
                    <a:pt x="6" y="3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174760" y="3768840"/>
              <a:ext cx="1600200" cy="1652400"/>
            </a:xfrm>
            <a:custGeom>
              <a:avLst/>
              <a:gdLst/>
              <a:ahLst/>
              <a:rect l="l" t="t" r="r" b="b"/>
              <a:pathLst>
                <a:path w="1008" h="1041">
                  <a:moveTo>
                    <a:pt x="0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0" y="23"/>
                  </a:lnTo>
                  <a:lnTo>
                    <a:pt x="127" y="34"/>
                  </a:lnTo>
                  <a:lnTo>
                    <a:pt x="145" y="46"/>
                  </a:lnTo>
                  <a:lnTo>
                    <a:pt x="162" y="63"/>
                  </a:lnTo>
                  <a:lnTo>
                    <a:pt x="179" y="81"/>
                  </a:lnTo>
                  <a:lnTo>
                    <a:pt x="191" y="98"/>
                  </a:lnTo>
                  <a:lnTo>
                    <a:pt x="208" y="110"/>
                  </a:lnTo>
                  <a:lnTo>
                    <a:pt x="226" y="121"/>
                  </a:lnTo>
                  <a:lnTo>
                    <a:pt x="243" y="138"/>
                  </a:lnTo>
                  <a:lnTo>
                    <a:pt x="260" y="156"/>
                  </a:lnTo>
                  <a:lnTo>
                    <a:pt x="278" y="173"/>
                  </a:lnTo>
                  <a:lnTo>
                    <a:pt x="295" y="190"/>
                  </a:lnTo>
                  <a:lnTo>
                    <a:pt x="307" y="208"/>
                  </a:lnTo>
                  <a:lnTo>
                    <a:pt x="324" y="225"/>
                  </a:lnTo>
                  <a:lnTo>
                    <a:pt x="336" y="243"/>
                  </a:lnTo>
                  <a:lnTo>
                    <a:pt x="353" y="266"/>
                  </a:lnTo>
                  <a:lnTo>
                    <a:pt x="370" y="283"/>
                  </a:lnTo>
                  <a:lnTo>
                    <a:pt x="376" y="300"/>
                  </a:lnTo>
                  <a:lnTo>
                    <a:pt x="393" y="318"/>
                  </a:lnTo>
                  <a:lnTo>
                    <a:pt x="399" y="335"/>
                  </a:lnTo>
                  <a:lnTo>
                    <a:pt x="417" y="352"/>
                  </a:lnTo>
                  <a:lnTo>
                    <a:pt x="422" y="370"/>
                  </a:lnTo>
                  <a:lnTo>
                    <a:pt x="440" y="387"/>
                  </a:lnTo>
                  <a:lnTo>
                    <a:pt x="451" y="404"/>
                  </a:lnTo>
                  <a:lnTo>
                    <a:pt x="463" y="422"/>
                  </a:lnTo>
                  <a:lnTo>
                    <a:pt x="480" y="439"/>
                  </a:lnTo>
                  <a:lnTo>
                    <a:pt x="486" y="456"/>
                  </a:lnTo>
                  <a:lnTo>
                    <a:pt x="498" y="474"/>
                  </a:lnTo>
                  <a:lnTo>
                    <a:pt x="509" y="491"/>
                  </a:lnTo>
                  <a:lnTo>
                    <a:pt x="526" y="509"/>
                  </a:lnTo>
                  <a:lnTo>
                    <a:pt x="538" y="526"/>
                  </a:lnTo>
                  <a:lnTo>
                    <a:pt x="550" y="543"/>
                  </a:lnTo>
                  <a:lnTo>
                    <a:pt x="555" y="561"/>
                  </a:lnTo>
                  <a:lnTo>
                    <a:pt x="573" y="578"/>
                  </a:lnTo>
                  <a:lnTo>
                    <a:pt x="579" y="595"/>
                  </a:lnTo>
                  <a:lnTo>
                    <a:pt x="596" y="613"/>
                  </a:lnTo>
                  <a:lnTo>
                    <a:pt x="607" y="636"/>
                  </a:lnTo>
                  <a:lnTo>
                    <a:pt x="625" y="653"/>
                  </a:lnTo>
                  <a:lnTo>
                    <a:pt x="631" y="670"/>
                  </a:lnTo>
                  <a:lnTo>
                    <a:pt x="648" y="688"/>
                  </a:lnTo>
                  <a:lnTo>
                    <a:pt x="654" y="705"/>
                  </a:lnTo>
                  <a:lnTo>
                    <a:pt x="665" y="722"/>
                  </a:lnTo>
                  <a:lnTo>
                    <a:pt x="683" y="740"/>
                  </a:lnTo>
                  <a:lnTo>
                    <a:pt x="694" y="757"/>
                  </a:lnTo>
                  <a:lnTo>
                    <a:pt x="706" y="775"/>
                  </a:lnTo>
                  <a:lnTo>
                    <a:pt x="712" y="792"/>
                  </a:lnTo>
                  <a:lnTo>
                    <a:pt x="729" y="809"/>
                  </a:lnTo>
                  <a:lnTo>
                    <a:pt x="740" y="827"/>
                  </a:lnTo>
                  <a:lnTo>
                    <a:pt x="758" y="844"/>
                  </a:lnTo>
                  <a:lnTo>
                    <a:pt x="775" y="861"/>
                  </a:lnTo>
                  <a:lnTo>
                    <a:pt x="787" y="879"/>
                  </a:lnTo>
                  <a:lnTo>
                    <a:pt x="804" y="896"/>
                  </a:lnTo>
                  <a:lnTo>
                    <a:pt x="821" y="913"/>
                  </a:lnTo>
                  <a:lnTo>
                    <a:pt x="839" y="931"/>
                  </a:lnTo>
                  <a:lnTo>
                    <a:pt x="874" y="942"/>
                  </a:lnTo>
                  <a:lnTo>
                    <a:pt x="891" y="960"/>
                  </a:lnTo>
                  <a:lnTo>
                    <a:pt x="908" y="971"/>
                  </a:lnTo>
                  <a:lnTo>
                    <a:pt x="926" y="983"/>
                  </a:lnTo>
                  <a:lnTo>
                    <a:pt x="943" y="994"/>
                  </a:lnTo>
                  <a:lnTo>
                    <a:pt x="960" y="1006"/>
                  </a:lnTo>
                  <a:lnTo>
                    <a:pt x="978" y="1017"/>
                  </a:lnTo>
                  <a:lnTo>
                    <a:pt x="1001" y="1035"/>
                  </a:lnTo>
                  <a:lnTo>
                    <a:pt x="1007" y="104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73240" y="3759120"/>
              <a:ext cx="185760" cy="1846440"/>
            </a:xfrm>
            <a:custGeom>
              <a:avLst/>
              <a:gdLst/>
              <a:ahLst/>
              <a:rect l="l" t="t" r="r" b="b"/>
              <a:pathLst>
                <a:path w="117" h="1163">
                  <a:moveTo>
                    <a:pt x="70" y="0"/>
                  </a:moveTo>
                  <a:lnTo>
                    <a:pt x="47" y="0"/>
                  </a:lnTo>
                  <a:lnTo>
                    <a:pt x="29" y="17"/>
                  </a:lnTo>
                  <a:lnTo>
                    <a:pt x="18" y="35"/>
                  </a:lnTo>
                  <a:lnTo>
                    <a:pt x="6" y="52"/>
                  </a:lnTo>
                  <a:lnTo>
                    <a:pt x="6" y="69"/>
                  </a:lnTo>
                  <a:lnTo>
                    <a:pt x="0" y="87"/>
                  </a:lnTo>
                  <a:lnTo>
                    <a:pt x="0" y="104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6" y="220"/>
                  </a:lnTo>
                  <a:lnTo>
                    <a:pt x="6" y="243"/>
                  </a:lnTo>
                  <a:lnTo>
                    <a:pt x="12" y="260"/>
                  </a:lnTo>
                  <a:lnTo>
                    <a:pt x="12" y="306"/>
                  </a:lnTo>
                  <a:lnTo>
                    <a:pt x="18" y="329"/>
                  </a:lnTo>
                  <a:lnTo>
                    <a:pt x="24" y="353"/>
                  </a:lnTo>
                  <a:lnTo>
                    <a:pt x="29" y="370"/>
                  </a:lnTo>
                  <a:lnTo>
                    <a:pt x="35" y="393"/>
                  </a:lnTo>
                  <a:lnTo>
                    <a:pt x="47" y="410"/>
                  </a:lnTo>
                  <a:lnTo>
                    <a:pt x="47" y="428"/>
                  </a:lnTo>
                  <a:lnTo>
                    <a:pt x="53" y="451"/>
                  </a:lnTo>
                  <a:lnTo>
                    <a:pt x="58" y="468"/>
                  </a:lnTo>
                  <a:lnTo>
                    <a:pt x="64" y="486"/>
                  </a:lnTo>
                  <a:lnTo>
                    <a:pt x="64" y="503"/>
                  </a:lnTo>
                  <a:lnTo>
                    <a:pt x="70" y="543"/>
                  </a:lnTo>
                  <a:lnTo>
                    <a:pt x="76" y="590"/>
                  </a:lnTo>
                  <a:lnTo>
                    <a:pt x="76" y="607"/>
                  </a:lnTo>
                  <a:lnTo>
                    <a:pt x="81" y="624"/>
                  </a:lnTo>
                  <a:lnTo>
                    <a:pt x="81" y="642"/>
                  </a:lnTo>
                  <a:lnTo>
                    <a:pt x="81" y="659"/>
                  </a:lnTo>
                  <a:lnTo>
                    <a:pt x="87" y="705"/>
                  </a:lnTo>
                  <a:lnTo>
                    <a:pt x="93" y="723"/>
                  </a:lnTo>
                  <a:lnTo>
                    <a:pt x="93" y="746"/>
                  </a:lnTo>
                  <a:lnTo>
                    <a:pt x="93" y="781"/>
                  </a:lnTo>
                  <a:lnTo>
                    <a:pt x="99" y="798"/>
                  </a:lnTo>
                  <a:lnTo>
                    <a:pt x="99" y="815"/>
                  </a:lnTo>
                  <a:lnTo>
                    <a:pt x="105" y="833"/>
                  </a:lnTo>
                  <a:lnTo>
                    <a:pt x="105" y="867"/>
                  </a:lnTo>
                  <a:lnTo>
                    <a:pt x="105" y="890"/>
                  </a:lnTo>
                  <a:lnTo>
                    <a:pt x="110" y="913"/>
                  </a:lnTo>
                  <a:lnTo>
                    <a:pt x="110" y="937"/>
                  </a:lnTo>
                  <a:lnTo>
                    <a:pt x="110" y="954"/>
                  </a:lnTo>
                  <a:lnTo>
                    <a:pt x="110" y="971"/>
                  </a:lnTo>
                  <a:lnTo>
                    <a:pt x="110" y="989"/>
                  </a:lnTo>
                  <a:lnTo>
                    <a:pt x="110" y="1006"/>
                  </a:lnTo>
                  <a:lnTo>
                    <a:pt x="116" y="1023"/>
                  </a:lnTo>
                  <a:lnTo>
                    <a:pt x="116" y="1041"/>
                  </a:lnTo>
                  <a:lnTo>
                    <a:pt x="116" y="1064"/>
                  </a:lnTo>
                  <a:lnTo>
                    <a:pt x="116" y="1081"/>
                  </a:lnTo>
                  <a:lnTo>
                    <a:pt x="116" y="1099"/>
                  </a:lnTo>
                  <a:lnTo>
                    <a:pt x="116" y="1116"/>
                  </a:lnTo>
                  <a:lnTo>
                    <a:pt x="116" y="1139"/>
                  </a:lnTo>
                  <a:lnTo>
                    <a:pt x="116" y="1156"/>
                  </a:lnTo>
                  <a:lnTo>
                    <a:pt x="110" y="116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368440" y="4264200"/>
              <a:ext cx="120600" cy="625320"/>
            </a:xfrm>
            <a:custGeom>
              <a:avLst/>
              <a:gdLst/>
              <a:ahLst/>
              <a:rect l="l" t="t" r="r" b="b"/>
              <a:pathLst>
                <a:path w="76" h="394">
                  <a:moveTo>
                    <a:pt x="52" y="0"/>
                  </a:moveTo>
                  <a:lnTo>
                    <a:pt x="34" y="23"/>
                  </a:lnTo>
                  <a:lnTo>
                    <a:pt x="23" y="40"/>
                  </a:lnTo>
                  <a:lnTo>
                    <a:pt x="11" y="58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0" y="214"/>
                  </a:lnTo>
                  <a:lnTo>
                    <a:pt x="5" y="231"/>
                  </a:lnTo>
                  <a:lnTo>
                    <a:pt x="11" y="249"/>
                  </a:lnTo>
                  <a:lnTo>
                    <a:pt x="17" y="266"/>
                  </a:lnTo>
                  <a:lnTo>
                    <a:pt x="28" y="283"/>
                  </a:lnTo>
                  <a:lnTo>
                    <a:pt x="34" y="301"/>
                  </a:lnTo>
                  <a:lnTo>
                    <a:pt x="46" y="318"/>
                  </a:lnTo>
                  <a:lnTo>
                    <a:pt x="52" y="335"/>
                  </a:lnTo>
                  <a:lnTo>
                    <a:pt x="57" y="353"/>
                  </a:lnTo>
                  <a:lnTo>
                    <a:pt x="63" y="370"/>
                  </a:lnTo>
                  <a:lnTo>
                    <a:pt x="75" y="387"/>
                  </a:lnTo>
                  <a:lnTo>
                    <a:pt x="75" y="3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51240" y="4264200"/>
              <a:ext cx="368280" cy="80928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6"/>
                  </a:lnTo>
                  <a:lnTo>
                    <a:pt x="40" y="11"/>
                  </a:lnTo>
                  <a:lnTo>
                    <a:pt x="57" y="23"/>
                  </a:lnTo>
                  <a:lnTo>
                    <a:pt x="75" y="40"/>
                  </a:lnTo>
                  <a:lnTo>
                    <a:pt x="92" y="52"/>
                  </a:lnTo>
                  <a:lnTo>
                    <a:pt x="104" y="69"/>
                  </a:lnTo>
                  <a:lnTo>
                    <a:pt x="121" y="81"/>
                  </a:lnTo>
                  <a:lnTo>
                    <a:pt x="133" y="98"/>
                  </a:lnTo>
                  <a:lnTo>
                    <a:pt x="144" y="116"/>
                  </a:lnTo>
                  <a:lnTo>
                    <a:pt x="156" y="133"/>
                  </a:lnTo>
                  <a:lnTo>
                    <a:pt x="167" y="150"/>
                  </a:lnTo>
                  <a:lnTo>
                    <a:pt x="173" y="168"/>
                  </a:lnTo>
                  <a:lnTo>
                    <a:pt x="179" y="185"/>
                  </a:lnTo>
                  <a:lnTo>
                    <a:pt x="191" y="202"/>
                  </a:lnTo>
                  <a:lnTo>
                    <a:pt x="196" y="220"/>
                  </a:lnTo>
                  <a:lnTo>
                    <a:pt x="202" y="237"/>
                  </a:lnTo>
                  <a:lnTo>
                    <a:pt x="208" y="254"/>
                  </a:lnTo>
                  <a:lnTo>
                    <a:pt x="214" y="272"/>
                  </a:lnTo>
                  <a:lnTo>
                    <a:pt x="219" y="289"/>
                  </a:lnTo>
                  <a:lnTo>
                    <a:pt x="219" y="312"/>
                  </a:lnTo>
                  <a:lnTo>
                    <a:pt x="225" y="330"/>
                  </a:lnTo>
                  <a:lnTo>
                    <a:pt x="225" y="347"/>
                  </a:lnTo>
                  <a:lnTo>
                    <a:pt x="225" y="364"/>
                  </a:lnTo>
                  <a:lnTo>
                    <a:pt x="225" y="382"/>
                  </a:lnTo>
                  <a:lnTo>
                    <a:pt x="225" y="399"/>
                  </a:lnTo>
                  <a:lnTo>
                    <a:pt x="231" y="416"/>
                  </a:lnTo>
                  <a:lnTo>
                    <a:pt x="231" y="434"/>
                  </a:lnTo>
                  <a:lnTo>
                    <a:pt x="231" y="451"/>
                  </a:lnTo>
                  <a:lnTo>
                    <a:pt x="231" y="468"/>
                  </a:lnTo>
                  <a:lnTo>
                    <a:pt x="225" y="486"/>
                  </a:lnTo>
                  <a:lnTo>
                    <a:pt x="219" y="503"/>
                  </a:lnTo>
                  <a:lnTo>
                    <a:pt x="202" y="509"/>
                  </a:lnTo>
                  <a:lnTo>
                    <a:pt x="185" y="509"/>
                  </a:lnTo>
                  <a:lnTo>
                    <a:pt x="167" y="509"/>
                  </a:lnTo>
                  <a:lnTo>
                    <a:pt x="150" y="503"/>
                  </a:lnTo>
                  <a:lnTo>
                    <a:pt x="133" y="497"/>
                  </a:lnTo>
                  <a:lnTo>
                    <a:pt x="115" y="491"/>
                  </a:lnTo>
                  <a:lnTo>
                    <a:pt x="104" y="486"/>
                  </a:lnTo>
                  <a:lnTo>
                    <a:pt x="104" y="49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81360" y="2290680"/>
              <a:ext cx="568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32160" y="2381400"/>
              <a:ext cx="531720" cy="3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73600" y="2427120"/>
              <a:ext cx="93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3873600" y="2803320"/>
              <a:ext cx="7077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203640" y="2905200"/>
              <a:ext cx="669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3138480" y="2895480"/>
              <a:ext cx="55440" cy="55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38480" y="3436920"/>
              <a:ext cx="9558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3239640" y="3465360"/>
              <a:ext cx="10980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13080" y="4070520"/>
              <a:ext cx="8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113360" y="4033800"/>
              <a:ext cx="69660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4113360" y="3603600"/>
              <a:ext cx="71568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863880" y="239040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892680" y="3207960"/>
              <a:ext cx="550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64160" y="3098520"/>
              <a:ext cx="17460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211480" y="3098880"/>
              <a:ext cx="61596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7720" y="3254400"/>
              <a:ext cx="330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670120" y="2262240"/>
              <a:ext cx="5544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03640" y="2133720"/>
              <a:ext cx="5238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487240" y="1684440"/>
              <a:ext cx="1285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49440" y="1711440"/>
              <a:ext cx="74520" cy="66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89200" y="2978280"/>
              <a:ext cx="104760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17720" y="3244680"/>
              <a:ext cx="33012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101680" y="3106800"/>
              <a:ext cx="10008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01680" y="3521160"/>
              <a:ext cx="524160" cy="75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715840" y="3263760"/>
              <a:ext cx="11124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14600" y="2538360"/>
              <a:ext cx="176040" cy="635040"/>
            </a:xfrm>
            <a:custGeom>
              <a:avLst/>
              <a:gdLst/>
              <a:ahLst/>
              <a:rect l="l" t="t" r="r" b="b"/>
              <a:pathLst>
                <a:path w="111" h="400">
                  <a:moveTo>
                    <a:pt x="104" y="0"/>
                  </a:moveTo>
                  <a:lnTo>
                    <a:pt x="104" y="23"/>
                  </a:lnTo>
                  <a:lnTo>
                    <a:pt x="104" y="40"/>
                  </a:lnTo>
                  <a:lnTo>
                    <a:pt x="98" y="58"/>
                  </a:lnTo>
                  <a:lnTo>
                    <a:pt x="98" y="75"/>
                  </a:lnTo>
                  <a:lnTo>
                    <a:pt x="104" y="92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93" y="139"/>
                  </a:lnTo>
                  <a:lnTo>
                    <a:pt x="81" y="156"/>
                  </a:lnTo>
                  <a:lnTo>
                    <a:pt x="70" y="173"/>
                  </a:lnTo>
                  <a:lnTo>
                    <a:pt x="58" y="191"/>
                  </a:lnTo>
                  <a:lnTo>
                    <a:pt x="52" y="208"/>
                  </a:lnTo>
                  <a:lnTo>
                    <a:pt x="52" y="225"/>
                  </a:lnTo>
                  <a:lnTo>
                    <a:pt x="46" y="243"/>
                  </a:lnTo>
                  <a:lnTo>
                    <a:pt x="46" y="260"/>
                  </a:lnTo>
                  <a:lnTo>
                    <a:pt x="35" y="277"/>
                  </a:lnTo>
                  <a:lnTo>
                    <a:pt x="29" y="295"/>
                  </a:lnTo>
                  <a:lnTo>
                    <a:pt x="23" y="312"/>
                  </a:lnTo>
                  <a:lnTo>
                    <a:pt x="17" y="329"/>
                  </a:lnTo>
                  <a:lnTo>
                    <a:pt x="12" y="347"/>
                  </a:lnTo>
                  <a:lnTo>
                    <a:pt x="12" y="364"/>
                  </a:lnTo>
                  <a:lnTo>
                    <a:pt x="6" y="381"/>
                  </a:lnTo>
                  <a:lnTo>
                    <a:pt x="0" y="3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71640" y="2298600"/>
              <a:ext cx="397080" cy="663840"/>
            </a:xfrm>
            <a:custGeom>
              <a:avLst/>
              <a:gdLst/>
              <a:ahLst/>
              <a:rect l="l" t="t" r="r" b="b"/>
              <a:pathLst>
                <a:path w="250" h="418">
                  <a:moveTo>
                    <a:pt x="23" y="0"/>
                  </a:moveTo>
                  <a:lnTo>
                    <a:pt x="6" y="24"/>
                  </a:lnTo>
                  <a:lnTo>
                    <a:pt x="6" y="41"/>
                  </a:lnTo>
                  <a:lnTo>
                    <a:pt x="0" y="58"/>
                  </a:lnTo>
                  <a:lnTo>
                    <a:pt x="6" y="76"/>
                  </a:lnTo>
                  <a:lnTo>
                    <a:pt x="17" y="93"/>
                  </a:lnTo>
                  <a:lnTo>
                    <a:pt x="23" y="110"/>
                  </a:lnTo>
                  <a:lnTo>
                    <a:pt x="23" y="128"/>
                  </a:lnTo>
                  <a:lnTo>
                    <a:pt x="23" y="145"/>
                  </a:lnTo>
                  <a:lnTo>
                    <a:pt x="41" y="157"/>
                  </a:lnTo>
                  <a:lnTo>
                    <a:pt x="58" y="168"/>
                  </a:lnTo>
                  <a:lnTo>
                    <a:pt x="58" y="185"/>
                  </a:lnTo>
                  <a:lnTo>
                    <a:pt x="75" y="197"/>
                  </a:lnTo>
                  <a:lnTo>
                    <a:pt x="87" y="214"/>
                  </a:lnTo>
                  <a:lnTo>
                    <a:pt x="87" y="232"/>
                  </a:lnTo>
                  <a:lnTo>
                    <a:pt x="75" y="249"/>
                  </a:lnTo>
                  <a:lnTo>
                    <a:pt x="64" y="266"/>
                  </a:lnTo>
                  <a:lnTo>
                    <a:pt x="58" y="284"/>
                  </a:lnTo>
                  <a:lnTo>
                    <a:pt x="75" y="301"/>
                  </a:lnTo>
                  <a:lnTo>
                    <a:pt x="93" y="313"/>
                  </a:lnTo>
                  <a:lnTo>
                    <a:pt x="104" y="330"/>
                  </a:lnTo>
                  <a:lnTo>
                    <a:pt x="110" y="347"/>
                  </a:lnTo>
                  <a:lnTo>
                    <a:pt x="122" y="365"/>
                  </a:lnTo>
                  <a:lnTo>
                    <a:pt x="127" y="382"/>
                  </a:lnTo>
                  <a:lnTo>
                    <a:pt x="133" y="399"/>
                  </a:lnTo>
                  <a:lnTo>
                    <a:pt x="145" y="417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7" y="411"/>
                  </a:lnTo>
                  <a:lnTo>
                    <a:pt x="214" y="411"/>
                  </a:lnTo>
                  <a:lnTo>
                    <a:pt x="231" y="411"/>
                  </a:lnTo>
                  <a:lnTo>
                    <a:pt x="249" y="41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93840" y="197820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1" y="0"/>
                  </a:moveTo>
                  <a:lnTo>
                    <a:pt x="5" y="23"/>
                  </a:lnTo>
                  <a:lnTo>
                    <a:pt x="0" y="41"/>
                  </a:lnTo>
                  <a:lnTo>
                    <a:pt x="5" y="58"/>
                  </a:lnTo>
                  <a:lnTo>
                    <a:pt x="23" y="69"/>
                  </a:lnTo>
                  <a:lnTo>
                    <a:pt x="40" y="87"/>
                  </a:lnTo>
                  <a:lnTo>
                    <a:pt x="58" y="98"/>
                  </a:lnTo>
                  <a:lnTo>
                    <a:pt x="58" y="1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1760" y="2152800"/>
              <a:ext cx="66600" cy="12060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1" y="0"/>
                  </a:moveTo>
                  <a:lnTo>
                    <a:pt x="41" y="23"/>
                  </a:lnTo>
                  <a:lnTo>
                    <a:pt x="41" y="40"/>
                  </a:lnTo>
                  <a:lnTo>
                    <a:pt x="29" y="58"/>
                  </a:lnTo>
                  <a:lnTo>
                    <a:pt x="18" y="75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670040" y="2152800"/>
              <a:ext cx="588960" cy="2608200"/>
            </a:xfrm>
            <a:custGeom>
              <a:avLst/>
              <a:gdLst/>
              <a:ahLst/>
              <a:rect l="l" t="t" r="r" b="b"/>
              <a:pathLst>
                <a:path w="371" h="1643">
                  <a:moveTo>
                    <a:pt x="307" y="23"/>
                  </a:moveTo>
                  <a:lnTo>
                    <a:pt x="283" y="23"/>
                  </a:lnTo>
                  <a:lnTo>
                    <a:pt x="266" y="6"/>
                  </a:lnTo>
                  <a:lnTo>
                    <a:pt x="249" y="0"/>
                  </a:lnTo>
                  <a:lnTo>
                    <a:pt x="231" y="0"/>
                  </a:lnTo>
                  <a:lnTo>
                    <a:pt x="220" y="17"/>
                  </a:lnTo>
                  <a:lnTo>
                    <a:pt x="220" y="35"/>
                  </a:lnTo>
                  <a:lnTo>
                    <a:pt x="220" y="52"/>
                  </a:lnTo>
                  <a:lnTo>
                    <a:pt x="220" y="69"/>
                  </a:lnTo>
                  <a:lnTo>
                    <a:pt x="220" y="87"/>
                  </a:lnTo>
                  <a:lnTo>
                    <a:pt x="220" y="104"/>
                  </a:lnTo>
                  <a:lnTo>
                    <a:pt x="220" y="121"/>
                  </a:lnTo>
                  <a:lnTo>
                    <a:pt x="214" y="139"/>
                  </a:lnTo>
                  <a:lnTo>
                    <a:pt x="208" y="156"/>
                  </a:lnTo>
                  <a:lnTo>
                    <a:pt x="208" y="173"/>
                  </a:lnTo>
                  <a:lnTo>
                    <a:pt x="202" y="191"/>
                  </a:lnTo>
                  <a:lnTo>
                    <a:pt x="197" y="208"/>
                  </a:lnTo>
                  <a:lnTo>
                    <a:pt x="191" y="225"/>
                  </a:lnTo>
                  <a:lnTo>
                    <a:pt x="185" y="243"/>
                  </a:lnTo>
                  <a:lnTo>
                    <a:pt x="185" y="260"/>
                  </a:lnTo>
                  <a:lnTo>
                    <a:pt x="185" y="277"/>
                  </a:lnTo>
                  <a:lnTo>
                    <a:pt x="174" y="295"/>
                  </a:lnTo>
                  <a:lnTo>
                    <a:pt x="168" y="312"/>
                  </a:lnTo>
                  <a:lnTo>
                    <a:pt x="150" y="330"/>
                  </a:lnTo>
                  <a:lnTo>
                    <a:pt x="145" y="347"/>
                  </a:lnTo>
                  <a:lnTo>
                    <a:pt x="133" y="370"/>
                  </a:lnTo>
                  <a:lnTo>
                    <a:pt x="139" y="387"/>
                  </a:lnTo>
                  <a:lnTo>
                    <a:pt x="121" y="405"/>
                  </a:lnTo>
                  <a:lnTo>
                    <a:pt x="104" y="422"/>
                  </a:lnTo>
                  <a:lnTo>
                    <a:pt x="93" y="439"/>
                  </a:lnTo>
                  <a:lnTo>
                    <a:pt x="81" y="457"/>
                  </a:lnTo>
                  <a:lnTo>
                    <a:pt x="69" y="474"/>
                  </a:lnTo>
                  <a:lnTo>
                    <a:pt x="64" y="491"/>
                  </a:lnTo>
                  <a:lnTo>
                    <a:pt x="64" y="509"/>
                  </a:lnTo>
                  <a:lnTo>
                    <a:pt x="64" y="526"/>
                  </a:lnTo>
                  <a:lnTo>
                    <a:pt x="64" y="543"/>
                  </a:lnTo>
                  <a:lnTo>
                    <a:pt x="64" y="561"/>
                  </a:lnTo>
                  <a:lnTo>
                    <a:pt x="58" y="578"/>
                  </a:lnTo>
                  <a:lnTo>
                    <a:pt x="46" y="596"/>
                  </a:lnTo>
                  <a:lnTo>
                    <a:pt x="29" y="607"/>
                  </a:lnTo>
                  <a:lnTo>
                    <a:pt x="17" y="624"/>
                  </a:lnTo>
                  <a:lnTo>
                    <a:pt x="12" y="642"/>
                  </a:lnTo>
                  <a:lnTo>
                    <a:pt x="12" y="659"/>
                  </a:lnTo>
                  <a:lnTo>
                    <a:pt x="12" y="676"/>
                  </a:lnTo>
                  <a:lnTo>
                    <a:pt x="12" y="694"/>
                  </a:lnTo>
                  <a:lnTo>
                    <a:pt x="12" y="711"/>
                  </a:lnTo>
                  <a:lnTo>
                    <a:pt x="6" y="729"/>
                  </a:lnTo>
                  <a:lnTo>
                    <a:pt x="0" y="746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798"/>
                  </a:lnTo>
                  <a:lnTo>
                    <a:pt x="6" y="815"/>
                  </a:lnTo>
                  <a:lnTo>
                    <a:pt x="23" y="821"/>
                  </a:lnTo>
                  <a:lnTo>
                    <a:pt x="35" y="838"/>
                  </a:lnTo>
                  <a:lnTo>
                    <a:pt x="35" y="856"/>
                  </a:lnTo>
                  <a:lnTo>
                    <a:pt x="40" y="873"/>
                  </a:lnTo>
                  <a:lnTo>
                    <a:pt x="40" y="890"/>
                  </a:lnTo>
                  <a:lnTo>
                    <a:pt x="40" y="914"/>
                  </a:lnTo>
                  <a:lnTo>
                    <a:pt x="58" y="919"/>
                  </a:lnTo>
                  <a:lnTo>
                    <a:pt x="69" y="937"/>
                  </a:lnTo>
                  <a:lnTo>
                    <a:pt x="69" y="960"/>
                  </a:lnTo>
                  <a:lnTo>
                    <a:pt x="69" y="995"/>
                  </a:lnTo>
                  <a:lnTo>
                    <a:pt x="75" y="1012"/>
                  </a:lnTo>
                  <a:lnTo>
                    <a:pt x="75" y="1029"/>
                  </a:lnTo>
                  <a:lnTo>
                    <a:pt x="69" y="1047"/>
                  </a:lnTo>
                  <a:lnTo>
                    <a:pt x="64" y="1064"/>
                  </a:lnTo>
                  <a:lnTo>
                    <a:pt x="58" y="1104"/>
                  </a:lnTo>
                  <a:lnTo>
                    <a:pt x="75" y="1110"/>
                  </a:lnTo>
                  <a:lnTo>
                    <a:pt x="87" y="1128"/>
                  </a:lnTo>
                  <a:lnTo>
                    <a:pt x="93" y="1145"/>
                  </a:lnTo>
                  <a:lnTo>
                    <a:pt x="104" y="1162"/>
                  </a:lnTo>
                  <a:lnTo>
                    <a:pt x="104" y="1180"/>
                  </a:lnTo>
                  <a:lnTo>
                    <a:pt x="104" y="1197"/>
                  </a:lnTo>
                  <a:lnTo>
                    <a:pt x="121" y="1197"/>
                  </a:lnTo>
                  <a:lnTo>
                    <a:pt x="121" y="1214"/>
                  </a:lnTo>
                  <a:lnTo>
                    <a:pt x="121" y="1232"/>
                  </a:lnTo>
                  <a:lnTo>
                    <a:pt x="145" y="1237"/>
                  </a:lnTo>
                  <a:lnTo>
                    <a:pt x="162" y="1249"/>
                  </a:lnTo>
                  <a:lnTo>
                    <a:pt x="179" y="1255"/>
                  </a:lnTo>
                  <a:lnTo>
                    <a:pt x="202" y="1261"/>
                  </a:lnTo>
                  <a:lnTo>
                    <a:pt x="220" y="1272"/>
                  </a:lnTo>
                  <a:lnTo>
                    <a:pt x="231" y="1295"/>
                  </a:lnTo>
                  <a:lnTo>
                    <a:pt x="249" y="1313"/>
                  </a:lnTo>
                  <a:lnTo>
                    <a:pt x="260" y="1330"/>
                  </a:lnTo>
                  <a:lnTo>
                    <a:pt x="278" y="1347"/>
                  </a:lnTo>
                  <a:lnTo>
                    <a:pt x="283" y="1365"/>
                  </a:lnTo>
                  <a:lnTo>
                    <a:pt x="289" y="1382"/>
                  </a:lnTo>
                  <a:lnTo>
                    <a:pt x="307" y="1394"/>
                  </a:lnTo>
                  <a:lnTo>
                    <a:pt x="318" y="1411"/>
                  </a:lnTo>
                  <a:lnTo>
                    <a:pt x="335" y="1417"/>
                  </a:lnTo>
                  <a:lnTo>
                    <a:pt x="341" y="1434"/>
                  </a:lnTo>
                  <a:lnTo>
                    <a:pt x="341" y="1451"/>
                  </a:lnTo>
                  <a:lnTo>
                    <a:pt x="341" y="1469"/>
                  </a:lnTo>
                  <a:lnTo>
                    <a:pt x="341" y="1492"/>
                  </a:lnTo>
                  <a:lnTo>
                    <a:pt x="341" y="1509"/>
                  </a:lnTo>
                  <a:lnTo>
                    <a:pt x="341" y="1527"/>
                  </a:lnTo>
                  <a:lnTo>
                    <a:pt x="359" y="1544"/>
                  </a:lnTo>
                  <a:lnTo>
                    <a:pt x="364" y="1561"/>
                  </a:lnTo>
                  <a:lnTo>
                    <a:pt x="364" y="1579"/>
                  </a:lnTo>
                  <a:lnTo>
                    <a:pt x="364" y="1596"/>
                  </a:lnTo>
                  <a:lnTo>
                    <a:pt x="364" y="1613"/>
                  </a:lnTo>
                  <a:lnTo>
                    <a:pt x="364" y="1631"/>
                  </a:lnTo>
                  <a:lnTo>
                    <a:pt x="370" y="16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76640" y="4778280"/>
              <a:ext cx="441000" cy="1084320"/>
            </a:xfrm>
            <a:custGeom>
              <a:avLst/>
              <a:gdLst/>
              <a:ahLst/>
              <a:rect l="l" t="t" r="r" b="b"/>
              <a:pathLst>
                <a:path w="278" h="683">
                  <a:moveTo>
                    <a:pt x="0" y="0"/>
                  </a:moveTo>
                  <a:lnTo>
                    <a:pt x="17" y="23"/>
                  </a:lnTo>
                  <a:lnTo>
                    <a:pt x="17" y="40"/>
                  </a:lnTo>
                  <a:lnTo>
                    <a:pt x="23" y="58"/>
                  </a:lnTo>
                  <a:lnTo>
                    <a:pt x="23" y="75"/>
                  </a:lnTo>
                  <a:lnTo>
                    <a:pt x="29" y="92"/>
                  </a:lnTo>
                  <a:lnTo>
                    <a:pt x="29" y="110"/>
                  </a:lnTo>
                  <a:lnTo>
                    <a:pt x="23" y="127"/>
                  </a:lnTo>
                  <a:lnTo>
                    <a:pt x="23" y="144"/>
                  </a:lnTo>
                  <a:lnTo>
                    <a:pt x="40" y="150"/>
                  </a:lnTo>
                  <a:lnTo>
                    <a:pt x="46" y="173"/>
                  </a:lnTo>
                  <a:lnTo>
                    <a:pt x="63" y="185"/>
                  </a:lnTo>
                  <a:lnTo>
                    <a:pt x="75" y="202"/>
                  </a:lnTo>
                  <a:lnTo>
                    <a:pt x="92" y="219"/>
                  </a:lnTo>
                  <a:lnTo>
                    <a:pt x="110" y="237"/>
                  </a:lnTo>
                  <a:lnTo>
                    <a:pt x="127" y="254"/>
                  </a:lnTo>
                  <a:lnTo>
                    <a:pt x="133" y="277"/>
                  </a:lnTo>
                  <a:lnTo>
                    <a:pt x="144" y="324"/>
                  </a:lnTo>
                  <a:lnTo>
                    <a:pt x="156" y="341"/>
                  </a:lnTo>
                  <a:lnTo>
                    <a:pt x="139" y="347"/>
                  </a:lnTo>
                  <a:lnTo>
                    <a:pt x="121" y="335"/>
                  </a:lnTo>
                  <a:lnTo>
                    <a:pt x="104" y="335"/>
                  </a:lnTo>
                  <a:lnTo>
                    <a:pt x="81" y="329"/>
                  </a:lnTo>
                  <a:lnTo>
                    <a:pt x="69" y="347"/>
                  </a:lnTo>
                  <a:lnTo>
                    <a:pt x="75" y="364"/>
                  </a:lnTo>
                  <a:lnTo>
                    <a:pt x="92" y="376"/>
                  </a:lnTo>
                  <a:lnTo>
                    <a:pt x="110" y="393"/>
                  </a:lnTo>
                  <a:lnTo>
                    <a:pt x="127" y="404"/>
                  </a:lnTo>
                  <a:lnTo>
                    <a:pt x="139" y="422"/>
                  </a:lnTo>
                  <a:lnTo>
                    <a:pt x="156" y="439"/>
                  </a:lnTo>
                  <a:lnTo>
                    <a:pt x="173" y="451"/>
                  </a:lnTo>
                  <a:lnTo>
                    <a:pt x="191" y="462"/>
                  </a:lnTo>
                  <a:lnTo>
                    <a:pt x="208" y="468"/>
                  </a:lnTo>
                  <a:lnTo>
                    <a:pt x="225" y="480"/>
                  </a:lnTo>
                  <a:lnTo>
                    <a:pt x="231" y="503"/>
                  </a:lnTo>
                  <a:lnTo>
                    <a:pt x="237" y="520"/>
                  </a:lnTo>
                  <a:lnTo>
                    <a:pt x="254" y="526"/>
                  </a:lnTo>
                  <a:lnTo>
                    <a:pt x="266" y="543"/>
                  </a:lnTo>
                  <a:lnTo>
                    <a:pt x="277" y="561"/>
                  </a:lnTo>
                  <a:lnTo>
                    <a:pt x="277" y="578"/>
                  </a:lnTo>
                  <a:lnTo>
                    <a:pt x="277" y="595"/>
                  </a:lnTo>
                  <a:lnTo>
                    <a:pt x="277" y="613"/>
                  </a:lnTo>
                  <a:lnTo>
                    <a:pt x="277" y="670"/>
                  </a:lnTo>
                  <a:lnTo>
                    <a:pt x="277" y="68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23960" y="5043600"/>
              <a:ext cx="368640" cy="80964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18"/>
                  </a:lnTo>
                  <a:lnTo>
                    <a:pt x="35" y="35"/>
                  </a:lnTo>
                  <a:lnTo>
                    <a:pt x="52" y="47"/>
                  </a:lnTo>
                  <a:lnTo>
                    <a:pt x="64" y="64"/>
                  </a:lnTo>
                  <a:lnTo>
                    <a:pt x="81" y="76"/>
                  </a:lnTo>
                  <a:lnTo>
                    <a:pt x="92" y="93"/>
                  </a:lnTo>
                  <a:lnTo>
                    <a:pt x="98" y="110"/>
                  </a:lnTo>
                  <a:lnTo>
                    <a:pt x="104" y="128"/>
                  </a:lnTo>
                  <a:lnTo>
                    <a:pt x="110" y="145"/>
                  </a:lnTo>
                  <a:lnTo>
                    <a:pt x="116" y="168"/>
                  </a:lnTo>
                  <a:lnTo>
                    <a:pt x="121" y="185"/>
                  </a:lnTo>
                  <a:lnTo>
                    <a:pt x="121" y="203"/>
                  </a:lnTo>
                  <a:lnTo>
                    <a:pt x="133" y="220"/>
                  </a:lnTo>
                  <a:lnTo>
                    <a:pt x="139" y="237"/>
                  </a:lnTo>
                  <a:lnTo>
                    <a:pt x="145" y="255"/>
                  </a:lnTo>
                  <a:lnTo>
                    <a:pt x="150" y="278"/>
                  </a:lnTo>
                  <a:lnTo>
                    <a:pt x="156" y="295"/>
                  </a:lnTo>
                  <a:lnTo>
                    <a:pt x="168" y="313"/>
                  </a:lnTo>
                  <a:lnTo>
                    <a:pt x="173" y="330"/>
                  </a:lnTo>
                  <a:lnTo>
                    <a:pt x="179" y="347"/>
                  </a:lnTo>
                  <a:lnTo>
                    <a:pt x="185" y="365"/>
                  </a:lnTo>
                  <a:lnTo>
                    <a:pt x="191" y="382"/>
                  </a:lnTo>
                  <a:lnTo>
                    <a:pt x="202" y="399"/>
                  </a:lnTo>
                  <a:lnTo>
                    <a:pt x="214" y="417"/>
                  </a:lnTo>
                  <a:lnTo>
                    <a:pt x="220" y="440"/>
                  </a:lnTo>
                  <a:lnTo>
                    <a:pt x="220" y="457"/>
                  </a:lnTo>
                  <a:lnTo>
                    <a:pt x="231" y="503"/>
                  </a:lnTo>
                  <a:lnTo>
                    <a:pt x="231" y="5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735280" y="5118120"/>
              <a:ext cx="387360" cy="496800"/>
            </a:xfrm>
            <a:custGeom>
              <a:avLst/>
              <a:gdLst/>
              <a:ahLst/>
              <a:rect l="l" t="t" r="r" b="b"/>
              <a:pathLst>
                <a:path w="244" h="313">
                  <a:moveTo>
                    <a:pt x="0" y="0"/>
                  </a:moveTo>
                  <a:lnTo>
                    <a:pt x="23" y="17"/>
                  </a:lnTo>
                  <a:lnTo>
                    <a:pt x="35" y="34"/>
                  </a:lnTo>
                  <a:lnTo>
                    <a:pt x="40" y="52"/>
                  </a:lnTo>
                  <a:lnTo>
                    <a:pt x="52" y="69"/>
                  </a:lnTo>
                  <a:lnTo>
                    <a:pt x="69" y="81"/>
                  </a:lnTo>
                  <a:lnTo>
                    <a:pt x="87" y="92"/>
                  </a:lnTo>
                  <a:lnTo>
                    <a:pt x="98" y="110"/>
                  </a:lnTo>
                  <a:lnTo>
                    <a:pt x="110" y="127"/>
                  </a:lnTo>
                  <a:lnTo>
                    <a:pt x="121" y="144"/>
                  </a:lnTo>
                  <a:lnTo>
                    <a:pt x="133" y="162"/>
                  </a:lnTo>
                  <a:lnTo>
                    <a:pt x="145" y="179"/>
                  </a:lnTo>
                  <a:lnTo>
                    <a:pt x="150" y="196"/>
                  </a:lnTo>
                  <a:lnTo>
                    <a:pt x="156" y="214"/>
                  </a:lnTo>
                  <a:lnTo>
                    <a:pt x="162" y="231"/>
                  </a:lnTo>
                  <a:lnTo>
                    <a:pt x="173" y="248"/>
                  </a:lnTo>
                  <a:lnTo>
                    <a:pt x="191" y="266"/>
                  </a:lnTo>
                  <a:lnTo>
                    <a:pt x="208" y="277"/>
                  </a:lnTo>
                  <a:lnTo>
                    <a:pt x="220" y="295"/>
                  </a:lnTo>
                  <a:lnTo>
                    <a:pt x="231" y="312"/>
                  </a:lnTo>
                  <a:lnTo>
                    <a:pt x="237" y="312"/>
                  </a:lnTo>
                  <a:lnTo>
                    <a:pt x="243" y="3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579840" y="4861080"/>
              <a:ext cx="1260360" cy="826920"/>
            </a:xfrm>
            <a:custGeom>
              <a:avLst/>
              <a:gdLst/>
              <a:ahLst/>
              <a:rect l="l" t="t" r="r" b="b"/>
              <a:pathLst>
                <a:path w="794" h="521">
                  <a:moveTo>
                    <a:pt x="0" y="0"/>
                  </a:moveTo>
                  <a:lnTo>
                    <a:pt x="23" y="11"/>
                  </a:lnTo>
                  <a:lnTo>
                    <a:pt x="35" y="29"/>
                  </a:lnTo>
                  <a:lnTo>
                    <a:pt x="52" y="40"/>
                  </a:lnTo>
                  <a:lnTo>
                    <a:pt x="69" y="58"/>
                  </a:lnTo>
                  <a:lnTo>
                    <a:pt x="87" y="69"/>
                  </a:lnTo>
                  <a:lnTo>
                    <a:pt x="104" y="81"/>
                  </a:lnTo>
                  <a:lnTo>
                    <a:pt x="122" y="98"/>
                  </a:lnTo>
                  <a:lnTo>
                    <a:pt x="133" y="115"/>
                  </a:lnTo>
                  <a:lnTo>
                    <a:pt x="139" y="133"/>
                  </a:lnTo>
                  <a:lnTo>
                    <a:pt x="139" y="150"/>
                  </a:lnTo>
                  <a:lnTo>
                    <a:pt x="145" y="167"/>
                  </a:lnTo>
                  <a:lnTo>
                    <a:pt x="150" y="185"/>
                  </a:lnTo>
                  <a:lnTo>
                    <a:pt x="156" y="202"/>
                  </a:lnTo>
                  <a:lnTo>
                    <a:pt x="174" y="214"/>
                  </a:lnTo>
                  <a:lnTo>
                    <a:pt x="185" y="231"/>
                  </a:lnTo>
                  <a:lnTo>
                    <a:pt x="203" y="237"/>
                  </a:lnTo>
                  <a:lnTo>
                    <a:pt x="220" y="243"/>
                  </a:lnTo>
                  <a:lnTo>
                    <a:pt x="231" y="260"/>
                  </a:lnTo>
                  <a:lnTo>
                    <a:pt x="249" y="266"/>
                  </a:lnTo>
                  <a:lnTo>
                    <a:pt x="266" y="266"/>
                  </a:lnTo>
                  <a:lnTo>
                    <a:pt x="283" y="266"/>
                  </a:lnTo>
                  <a:lnTo>
                    <a:pt x="301" y="254"/>
                  </a:lnTo>
                  <a:lnTo>
                    <a:pt x="312" y="237"/>
                  </a:lnTo>
                  <a:lnTo>
                    <a:pt x="330" y="231"/>
                  </a:lnTo>
                  <a:lnTo>
                    <a:pt x="347" y="219"/>
                  </a:lnTo>
                  <a:lnTo>
                    <a:pt x="353" y="202"/>
                  </a:lnTo>
                  <a:lnTo>
                    <a:pt x="370" y="196"/>
                  </a:lnTo>
                  <a:lnTo>
                    <a:pt x="388" y="191"/>
                  </a:lnTo>
                  <a:lnTo>
                    <a:pt x="405" y="191"/>
                  </a:lnTo>
                  <a:lnTo>
                    <a:pt x="422" y="191"/>
                  </a:lnTo>
                  <a:lnTo>
                    <a:pt x="440" y="202"/>
                  </a:lnTo>
                  <a:lnTo>
                    <a:pt x="457" y="214"/>
                  </a:lnTo>
                  <a:lnTo>
                    <a:pt x="474" y="231"/>
                  </a:lnTo>
                  <a:lnTo>
                    <a:pt x="492" y="254"/>
                  </a:lnTo>
                  <a:lnTo>
                    <a:pt x="509" y="266"/>
                  </a:lnTo>
                  <a:lnTo>
                    <a:pt x="509" y="283"/>
                  </a:lnTo>
                  <a:lnTo>
                    <a:pt x="532" y="335"/>
                  </a:lnTo>
                  <a:lnTo>
                    <a:pt x="550" y="341"/>
                  </a:lnTo>
                  <a:lnTo>
                    <a:pt x="561" y="358"/>
                  </a:lnTo>
                  <a:lnTo>
                    <a:pt x="578" y="376"/>
                  </a:lnTo>
                  <a:lnTo>
                    <a:pt x="631" y="428"/>
                  </a:lnTo>
                  <a:lnTo>
                    <a:pt x="648" y="445"/>
                  </a:lnTo>
                  <a:lnTo>
                    <a:pt x="659" y="462"/>
                  </a:lnTo>
                  <a:lnTo>
                    <a:pt x="683" y="485"/>
                  </a:lnTo>
                  <a:lnTo>
                    <a:pt x="694" y="503"/>
                  </a:lnTo>
                  <a:lnTo>
                    <a:pt x="712" y="503"/>
                  </a:lnTo>
                  <a:lnTo>
                    <a:pt x="764" y="520"/>
                  </a:lnTo>
                  <a:lnTo>
                    <a:pt x="781" y="520"/>
                  </a:lnTo>
                  <a:lnTo>
                    <a:pt x="787" y="520"/>
                  </a:lnTo>
                  <a:lnTo>
                    <a:pt x="793" y="5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02120" y="4089240"/>
              <a:ext cx="936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06840" y="4815000"/>
              <a:ext cx="3855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4011480" y="4154400"/>
              <a:ext cx="3589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370400" y="4162320"/>
              <a:ext cx="27000" cy="2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387680" y="4448160"/>
              <a:ext cx="424080" cy="55440"/>
            </a:xfrm>
            <a:custGeom>
              <a:avLst/>
              <a:gdLst/>
              <a:ahLst/>
              <a:rect l="l" t="t" r="r" b="b"/>
              <a:pathLst>
                <a:path w="267" h="35">
                  <a:moveTo>
                    <a:pt x="0" y="0"/>
                  </a:moveTo>
                  <a:lnTo>
                    <a:pt x="23" y="5"/>
                  </a:lnTo>
                  <a:lnTo>
                    <a:pt x="41" y="5"/>
                  </a:lnTo>
                  <a:lnTo>
                    <a:pt x="58" y="11"/>
                  </a:lnTo>
                  <a:lnTo>
                    <a:pt x="75" y="17"/>
                  </a:lnTo>
                  <a:lnTo>
                    <a:pt x="93" y="23"/>
                  </a:lnTo>
                  <a:lnTo>
                    <a:pt x="110" y="28"/>
                  </a:lnTo>
                  <a:lnTo>
                    <a:pt x="127" y="34"/>
                  </a:lnTo>
                  <a:lnTo>
                    <a:pt x="145" y="34"/>
                  </a:lnTo>
                  <a:lnTo>
                    <a:pt x="162" y="34"/>
                  </a:lnTo>
                  <a:lnTo>
                    <a:pt x="179" y="3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49" y="28"/>
                  </a:lnTo>
                  <a:lnTo>
                    <a:pt x="266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497480" y="2390760"/>
              <a:ext cx="333360" cy="1231920"/>
            </a:xfrm>
            <a:custGeom>
              <a:avLst/>
              <a:gdLst/>
              <a:ahLst/>
              <a:rect l="l" t="t" r="r" b="b"/>
              <a:pathLst>
                <a:path w="210" h="776">
                  <a:moveTo>
                    <a:pt x="0" y="0"/>
                  </a:moveTo>
                  <a:lnTo>
                    <a:pt x="0" y="23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18" y="133"/>
                  </a:lnTo>
                  <a:lnTo>
                    <a:pt x="29" y="151"/>
                  </a:lnTo>
                  <a:lnTo>
                    <a:pt x="29" y="168"/>
                  </a:lnTo>
                  <a:lnTo>
                    <a:pt x="29" y="185"/>
                  </a:lnTo>
                  <a:lnTo>
                    <a:pt x="29" y="203"/>
                  </a:lnTo>
                  <a:lnTo>
                    <a:pt x="41" y="226"/>
                  </a:lnTo>
                  <a:lnTo>
                    <a:pt x="47" y="249"/>
                  </a:lnTo>
                  <a:lnTo>
                    <a:pt x="47" y="266"/>
                  </a:lnTo>
                  <a:lnTo>
                    <a:pt x="47" y="284"/>
                  </a:lnTo>
                  <a:lnTo>
                    <a:pt x="47" y="301"/>
                  </a:lnTo>
                  <a:lnTo>
                    <a:pt x="58" y="318"/>
                  </a:lnTo>
                  <a:lnTo>
                    <a:pt x="76" y="324"/>
                  </a:lnTo>
                  <a:lnTo>
                    <a:pt x="81" y="341"/>
                  </a:lnTo>
                  <a:lnTo>
                    <a:pt x="87" y="359"/>
                  </a:lnTo>
                  <a:lnTo>
                    <a:pt x="87" y="376"/>
                  </a:lnTo>
                  <a:lnTo>
                    <a:pt x="87" y="393"/>
                  </a:lnTo>
                  <a:lnTo>
                    <a:pt x="87" y="411"/>
                  </a:lnTo>
                  <a:lnTo>
                    <a:pt x="87" y="428"/>
                  </a:lnTo>
                  <a:lnTo>
                    <a:pt x="87" y="446"/>
                  </a:lnTo>
                  <a:lnTo>
                    <a:pt x="87" y="463"/>
                  </a:lnTo>
                  <a:lnTo>
                    <a:pt x="87" y="480"/>
                  </a:lnTo>
                  <a:lnTo>
                    <a:pt x="87" y="498"/>
                  </a:lnTo>
                  <a:lnTo>
                    <a:pt x="87" y="515"/>
                  </a:lnTo>
                  <a:lnTo>
                    <a:pt x="87" y="532"/>
                  </a:lnTo>
                  <a:lnTo>
                    <a:pt x="93" y="550"/>
                  </a:lnTo>
                  <a:lnTo>
                    <a:pt x="128" y="561"/>
                  </a:lnTo>
                  <a:lnTo>
                    <a:pt x="139" y="579"/>
                  </a:lnTo>
                  <a:lnTo>
                    <a:pt x="151" y="596"/>
                  </a:lnTo>
                  <a:lnTo>
                    <a:pt x="157" y="613"/>
                  </a:lnTo>
                  <a:lnTo>
                    <a:pt x="157" y="631"/>
                  </a:lnTo>
                  <a:lnTo>
                    <a:pt x="157" y="683"/>
                  </a:lnTo>
                  <a:lnTo>
                    <a:pt x="174" y="694"/>
                  </a:lnTo>
                  <a:lnTo>
                    <a:pt x="180" y="717"/>
                  </a:lnTo>
                  <a:lnTo>
                    <a:pt x="197" y="735"/>
                  </a:lnTo>
                  <a:lnTo>
                    <a:pt x="203" y="758"/>
                  </a:lnTo>
                  <a:lnTo>
                    <a:pt x="209" y="7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443480" y="3218040"/>
              <a:ext cx="193680" cy="5544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0" y="0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6" y="17"/>
                  </a:lnTo>
                  <a:lnTo>
                    <a:pt x="63" y="17"/>
                  </a:lnTo>
                  <a:lnTo>
                    <a:pt x="81" y="17"/>
                  </a:lnTo>
                  <a:lnTo>
                    <a:pt x="98" y="17"/>
                  </a:lnTo>
                  <a:lnTo>
                    <a:pt x="115" y="29"/>
                  </a:lnTo>
                  <a:lnTo>
                    <a:pt x="121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019240" y="2400480"/>
              <a:ext cx="662040" cy="27756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0"/>
                  </a:moveTo>
                  <a:lnTo>
                    <a:pt x="29" y="0"/>
                  </a:lnTo>
                  <a:lnTo>
                    <a:pt x="34" y="17"/>
                  </a:lnTo>
                  <a:lnTo>
                    <a:pt x="46" y="35"/>
                  </a:lnTo>
                  <a:lnTo>
                    <a:pt x="46" y="52"/>
                  </a:lnTo>
                  <a:lnTo>
                    <a:pt x="46" y="69"/>
                  </a:lnTo>
                  <a:lnTo>
                    <a:pt x="46" y="87"/>
                  </a:lnTo>
                  <a:lnTo>
                    <a:pt x="46" y="104"/>
                  </a:lnTo>
                  <a:lnTo>
                    <a:pt x="63" y="104"/>
                  </a:lnTo>
                  <a:lnTo>
                    <a:pt x="81" y="104"/>
                  </a:lnTo>
                  <a:lnTo>
                    <a:pt x="98" y="104"/>
                  </a:lnTo>
                  <a:lnTo>
                    <a:pt x="115" y="104"/>
                  </a:lnTo>
                  <a:lnTo>
                    <a:pt x="133" y="104"/>
                  </a:lnTo>
                  <a:lnTo>
                    <a:pt x="150" y="116"/>
                  </a:lnTo>
                  <a:lnTo>
                    <a:pt x="168" y="121"/>
                  </a:lnTo>
                  <a:lnTo>
                    <a:pt x="185" y="133"/>
                  </a:lnTo>
                  <a:lnTo>
                    <a:pt x="202" y="133"/>
                  </a:lnTo>
                  <a:lnTo>
                    <a:pt x="220" y="133"/>
                  </a:lnTo>
                  <a:lnTo>
                    <a:pt x="237" y="133"/>
                  </a:lnTo>
                  <a:lnTo>
                    <a:pt x="254" y="121"/>
                  </a:lnTo>
                  <a:lnTo>
                    <a:pt x="272" y="121"/>
                  </a:lnTo>
                  <a:lnTo>
                    <a:pt x="289" y="121"/>
                  </a:lnTo>
                  <a:lnTo>
                    <a:pt x="306" y="133"/>
                  </a:lnTo>
                  <a:lnTo>
                    <a:pt x="312" y="150"/>
                  </a:lnTo>
                  <a:lnTo>
                    <a:pt x="335" y="150"/>
                  </a:lnTo>
                  <a:lnTo>
                    <a:pt x="353" y="156"/>
                  </a:lnTo>
                  <a:lnTo>
                    <a:pt x="393" y="162"/>
                  </a:lnTo>
                  <a:lnTo>
                    <a:pt x="410" y="174"/>
                  </a:lnTo>
                  <a:lnTo>
                    <a:pt x="416" y="1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06840" y="233676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0" y="40"/>
                  </a:moveTo>
                  <a:lnTo>
                    <a:pt x="23" y="40"/>
                  </a:lnTo>
                  <a:lnTo>
                    <a:pt x="41" y="40"/>
                  </a:lnTo>
                  <a:lnTo>
                    <a:pt x="58" y="40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23"/>
                  </a:lnTo>
                  <a:lnTo>
                    <a:pt x="93" y="5"/>
                  </a:lnTo>
                  <a:lnTo>
                    <a:pt x="110" y="0"/>
                  </a:lnTo>
                  <a:lnTo>
                    <a:pt x="116" y="17"/>
                  </a:lnTo>
                  <a:lnTo>
                    <a:pt x="122" y="34"/>
                  </a:lnTo>
                  <a:lnTo>
                    <a:pt x="139" y="46"/>
                  </a:lnTo>
                  <a:lnTo>
                    <a:pt x="156" y="52"/>
                  </a:lnTo>
                  <a:lnTo>
                    <a:pt x="174" y="52"/>
                  </a:lnTo>
                  <a:lnTo>
                    <a:pt x="191" y="52"/>
                  </a:lnTo>
                  <a:lnTo>
                    <a:pt x="197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23960" y="2070000"/>
              <a:ext cx="63360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57560" y="2216160"/>
              <a:ext cx="6062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00520" y="2281320"/>
              <a:ext cx="53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4314960" y="2216160"/>
              <a:ext cx="4777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669600" y="1674720"/>
              <a:ext cx="1036440" cy="21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60" y="2776680"/>
              <a:ext cx="39384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063800" y="2978280"/>
              <a:ext cx="60624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87600" y="1693800"/>
              <a:ext cx="42228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990800" y="1876320"/>
              <a:ext cx="53316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459080" y="4145040"/>
              <a:ext cx="458640" cy="158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240" y="4438800"/>
              <a:ext cx="55116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11400" y="4640400"/>
              <a:ext cx="9000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92320" y="4897440"/>
              <a:ext cx="385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1440" y="5043600"/>
              <a:ext cx="9284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497480" y="5484960"/>
              <a:ext cx="936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3028680" y="4878360"/>
              <a:ext cx="7308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084560" y="3511440"/>
              <a:ext cx="2880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570120" y="4815000"/>
              <a:ext cx="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6040" y="4878360"/>
              <a:ext cx="15696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49720" y="489744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49800" y="4832280"/>
              <a:ext cx="3960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41"/>
                  </a:moveTo>
                  <a:lnTo>
                    <a:pt x="12" y="18"/>
                  </a:lnTo>
                  <a:lnTo>
                    <a:pt x="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387600" y="483228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2881080" y="4043160"/>
              <a:ext cx="414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 flipV="1">
              <a:off x="2625840" y="4676760"/>
              <a:ext cx="3664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598920" y="2225520"/>
              <a:ext cx="15696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98" y="0"/>
                  </a:moveTo>
                  <a:lnTo>
                    <a:pt x="92" y="23"/>
                  </a:lnTo>
                  <a:lnTo>
                    <a:pt x="86" y="41"/>
                  </a:lnTo>
                  <a:lnTo>
                    <a:pt x="75" y="58"/>
                  </a:lnTo>
                  <a:lnTo>
                    <a:pt x="57" y="64"/>
                  </a:lnTo>
                  <a:lnTo>
                    <a:pt x="40" y="81"/>
                  </a:lnTo>
                  <a:lnTo>
                    <a:pt x="23" y="93"/>
                  </a:lnTo>
                  <a:lnTo>
                    <a:pt x="0" y="1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3368520" y="2465280"/>
              <a:ext cx="1749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038040" y="2739960"/>
              <a:ext cx="174600" cy="10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798280" y="2116080"/>
              <a:ext cx="120600" cy="29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688840" y="2519280"/>
              <a:ext cx="651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662200" y="2832120"/>
              <a:ext cx="92160" cy="11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2827440" y="2868120"/>
              <a:ext cx="15552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3598560" y="2759040"/>
              <a:ext cx="18252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3368160" y="2749680"/>
              <a:ext cx="1479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3075120" y="2832120"/>
              <a:ext cx="155520" cy="100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2844720" y="2978280"/>
              <a:ext cx="147600" cy="128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597040" y="3198960"/>
              <a:ext cx="138240" cy="110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2376360" y="3336840"/>
              <a:ext cx="147600" cy="82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990800" y="3456000"/>
              <a:ext cx="25704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1604880" y="3548160"/>
              <a:ext cx="276480" cy="73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863880" y="2766600"/>
              <a:ext cx="31284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277880" y="3905280"/>
              <a:ext cx="22860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3763800" y="4006800"/>
              <a:ext cx="20160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3147480" y="4043520"/>
              <a:ext cx="220680" cy="18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2550960" y="4033800"/>
              <a:ext cx="239760" cy="74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2329920" y="4191120"/>
              <a:ext cx="147960" cy="118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091960" y="4429080"/>
              <a:ext cx="165240" cy="1843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1817280" y="4732200"/>
              <a:ext cx="211320" cy="2746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2927520" y="4025880"/>
              <a:ext cx="110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3497040" y="4025880"/>
              <a:ext cx="137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075200" y="3979800"/>
              <a:ext cx="11088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195440" y="4382640"/>
              <a:ext cx="165240" cy="270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3809520" y="4309920"/>
              <a:ext cx="257400" cy="36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3368520" y="4273200"/>
              <a:ext cx="24768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3009960" y="4273560"/>
              <a:ext cx="2397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2669760" y="4319640"/>
              <a:ext cx="266760" cy="1191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2478240" y="4521240"/>
              <a:ext cx="118800" cy="191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2376360" y="4870440"/>
              <a:ext cx="46080" cy="3477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4094280" y="4952880"/>
              <a:ext cx="20160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3698640" y="4897440"/>
              <a:ext cx="27612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3332160" y="4906800"/>
              <a:ext cx="25704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3121200" y="4943520"/>
              <a:ext cx="109440" cy="155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074760" y="5200560"/>
              <a:ext cx="19080" cy="3668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30640" y="4594320"/>
              <a:ext cx="7254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521160" y="1863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786040" y="18082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824280" y="237816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95360" y="172080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109520" y="51721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3892320" y="3740040"/>
              <a:ext cx="742680" cy="239760"/>
            </a:xfrm>
            <a:prstGeom prst="line">
              <a:avLst/>
            </a:prstGeom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1440" y="3970440"/>
              <a:ext cx="1012680" cy="8388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7" y="0"/>
                  </a:moveTo>
                  <a:lnTo>
                    <a:pt x="614" y="17"/>
                  </a:lnTo>
                  <a:lnTo>
                    <a:pt x="596" y="17"/>
                  </a:lnTo>
                  <a:lnTo>
                    <a:pt x="573" y="17"/>
                  </a:lnTo>
                  <a:lnTo>
                    <a:pt x="556" y="17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486" y="17"/>
                  </a:lnTo>
                  <a:lnTo>
                    <a:pt x="469" y="17"/>
                  </a:lnTo>
                  <a:lnTo>
                    <a:pt x="452" y="17"/>
                  </a:lnTo>
                  <a:lnTo>
                    <a:pt x="429" y="23"/>
                  </a:lnTo>
                  <a:lnTo>
                    <a:pt x="411" y="23"/>
                  </a:lnTo>
                  <a:lnTo>
                    <a:pt x="394" y="29"/>
                  </a:lnTo>
                  <a:lnTo>
                    <a:pt x="376" y="29"/>
                  </a:lnTo>
                  <a:lnTo>
                    <a:pt x="353" y="35"/>
                  </a:lnTo>
                  <a:lnTo>
                    <a:pt x="336" y="35"/>
                  </a:lnTo>
                  <a:lnTo>
                    <a:pt x="319" y="35"/>
                  </a:lnTo>
                  <a:lnTo>
                    <a:pt x="272" y="35"/>
                  </a:lnTo>
                  <a:lnTo>
                    <a:pt x="255" y="35"/>
                  </a:lnTo>
                  <a:lnTo>
                    <a:pt x="238" y="35"/>
                  </a:lnTo>
                  <a:lnTo>
                    <a:pt x="220" y="35"/>
                  </a:lnTo>
                  <a:lnTo>
                    <a:pt x="203" y="35"/>
                  </a:lnTo>
                  <a:lnTo>
                    <a:pt x="180" y="40"/>
                  </a:lnTo>
                  <a:lnTo>
                    <a:pt x="157" y="40"/>
                  </a:lnTo>
                  <a:lnTo>
                    <a:pt x="139" y="40"/>
                  </a:lnTo>
                  <a:lnTo>
                    <a:pt x="122" y="46"/>
                  </a:lnTo>
                  <a:lnTo>
                    <a:pt x="99" y="46"/>
                  </a:lnTo>
                  <a:lnTo>
                    <a:pt x="81" y="46"/>
                  </a:lnTo>
                  <a:lnTo>
                    <a:pt x="64" y="46"/>
                  </a:lnTo>
                  <a:lnTo>
                    <a:pt x="47" y="52"/>
                  </a:lnTo>
                  <a:lnTo>
                    <a:pt x="24" y="52"/>
                  </a:lnTo>
                  <a:lnTo>
                    <a:pt x="6" y="52"/>
                  </a:lnTo>
                  <a:lnTo>
                    <a:pt x="0" y="52"/>
                  </a:lnTo>
                </a:path>
              </a:pathLst>
            </a:custGeom>
            <a:noFill/>
            <a:ln cap="rnd" w="5076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41600" y="3930480"/>
              <a:ext cx="77760" cy="51120"/>
            </a:xfrm>
            <a:prstGeom prst="ellipse">
              <a:avLst/>
            </a:prstGeom>
            <a:noFill/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2580000">
              <a:off x="4109760" y="3900600"/>
              <a:ext cx="88920" cy="112680"/>
            </a:xfrm>
            <a:prstGeom prst="triangle">
              <a:avLst>
                <a:gd name="adj" fmla="val 49995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3180000">
              <a:off x="3182760" y="4035240"/>
              <a:ext cx="98280" cy="108000"/>
            </a:xfrm>
            <a:prstGeom prst="triangle">
              <a:avLst>
                <a:gd name="adj" fmla="val 37194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5520" y="53038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62280" y="544824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31800" y="1701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8160" y="4124160"/>
              <a:ext cx="62424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232160" y="49053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275000" y="42321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184400" y="355608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54320" y="266220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2004840"/>
              <a:ext cx="1168560" cy="3232440"/>
            </a:xfrm>
            <a:custGeom>
              <a:avLst/>
              <a:gdLst/>
              <a:ahLst/>
              <a:rect l="l" t="t" r="r" b="b"/>
              <a:pathLst>
                <a:path w="736" h="2036">
                  <a:moveTo>
                    <a:pt x="735" y="0"/>
                  </a:moveTo>
                  <a:lnTo>
                    <a:pt x="717" y="23"/>
                  </a:lnTo>
                  <a:lnTo>
                    <a:pt x="706" y="40"/>
                  </a:lnTo>
                  <a:lnTo>
                    <a:pt x="688" y="57"/>
                  </a:lnTo>
                  <a:lnTo>
                    <a:pt x="683" y="75"/>
                  </a:lnTo>
                  <a:lnTo>
                    <a:pt x="671" y="92"/>
                  </a:lnTo>
                  <a:lnTo>
                    <a:pt x="659" y="109"/>
                  </a:lnTo>
                  <a:lnTo>
                    <a:pt x="648" y="127"/>
                  </a:lnTo>
                  <a:lnTo>
                    <a:pt x="636" y="150"/>
                  </a:lnTo>
                  <a:lnTo>
                    <a:pt x="625" y="167"/>
                  </a:lnTo>
                  <a:lnTo>
                    <a:pt x="613" y="185"/>
                  </a:lnTo>
                  <a:lnTo>
                    <a:pt x="596" y="202"/>
                  </a:lnTo>
                  <a:lnTo>
                    <a:pt x="584" y="225"/>
                  </a:lnTo>
                  <a:lnTo>
                    <a:pt x="573" y="242"/>
                  </a:lnTo>
                  <a:lnTo>
                    <a:pt x="561" y="260"/>
                  </a:lnTo>
                  <a:lnTo>
                    <a:pt x="550" y="277"/>
                  </a:lnTo>
                  <a:lnTo>
                    <a:pt x="532" y="295"/>
                  </a:lnTo>
                  <a:lnTo>
                    <a:pt x="515" y="312"/>
                  </a:lnTo>
                  <a:lnTo>
                    <a:pt x="503" y="335"/>
                  </a:lnTo>
                  <a:lnTo>
                    <a:pt x="486" y="352"/>
                  </a:lnTo>
                  <a:lnTo>
                    <a:pt x="469" y="370"/>
                  </a:lnTo>
                  <a:lnTo>
                    <a:pt x="451" y="387"/>
                  </a:lnTo>
                  <a:lnTo>
                    <a:pt x="434" y="404"/>
                  </a:lnTo>
                  <a:lnTo>
                    <a:pt x="422" y="422"/>
                  </a:lnTo>
                  <a:lnTo>
                    <a:pt x="405" y="439"/>
                  </a:lnTo>
                  <a:lnTo>
                    <a:pt x="388" y="456"/>
                  </a:lnTo>
                  <a:lnTo>
                    <a:pt x="376" y="474"/>
                  </a:lnTo>
                  <a:lnTo>
                    <a:pt x="359" y="491"/>
                  </a:lnTo>
                  <a:lnTo>
                    <a:pt x="341" y="514"/>
                  </a:lnTo>
                  <a:lnTo>
                    <a:pt x="324" y="526"/>
                  </a:lnTo>
                  <a:lnTo>
                    <a:pt x="307" y="537"/>
                  </a:lnTo>
                  <a:lnTo>
                    <a:pt x="295" y="555"/>
                  </a:lnTo>
                  <a:lnTo>
                    <a:pt x="278" y="566"/>
                  </a:lnTo>
                  <a:lnTo>
                    <a:pt x="260" y="578"/>
                  </a:lnTo>
                  <a:lnTo>
                    <a:pt x="249" y="595"/>
                  </a:lnTo>
                  <a:lnTo>
                    <a:pt x="231" y="607"/>
                  </a:lnTo>
                  <a:lnTo>
                    <a:pt x="214" y="624"/>
                  </a:lnTo>
                  <a:lnTo>
                    <a:pt x="197" y="641"/>
                  </a:lnTo>
                  <a:lnTo>
                    <a:pt x="185" y="659"/>
                  </a:lnTo>
                  <a:lnTo>
                    <a:pt x="174" y="676"/>
                  </a:lnTo>
                  <a:lnTo>
                    <a:pt x="162" y="694"/>
                  </a:lnTo>
                  <a:lnTo>
                    <a:pt x="156" y="711"/>
                  </a:lnTo>
                  <a:lnTo>
                    <a:pt x="150" y="728"/>
                  </a:lnTo>
                  <a:lnTo>
                    <a:pt x="145" y="746"/>
                  </a:lnTo>
                  <a:lnTo>
                    <a:pt x="133" y="763"/>
                  </a:lnTo>
                  <a:lnTo>
                    <a:pt x="127" y="780"/>
                  </a:lnTo>
                  <a:lnTo>
                    <a:pt x="127" y="798"/>
                  </a:lnTo>
                  <a:lnTo>
                    <a:pt x="122" y="815"/>
                  </a:lnTo>
                  <a:lnTo>
                    <a:pt x="116" y="832"/>
                  </a:lnTo>
                  <a:lnTo>
                    <a:pt x="110" y="850"/>
                  </a:lnTo>
                  <a:lnTo>
                    <a:pt x="110" y="867"/>
                  </a:lnTo>
                  <a:lnTo>
                    <a:pt x="104" y="884"/>
                  </a:lnTo>
                  <a:lnTo>
                    <a:pt x="98" y="902"/>
                  </a:lnTo>
                  <a:lnTo>
                    <a:pt x="98" y="919"/>
                  </a:lnTo>
                  <a:lnTo>
                    <a:pt x="98" y="936"/>
                  </a:lnTo>
                  <a:lnTo>
                    <a:pt x="98" y="954"/>
                  </a:lnTo>
                  <a:lnTo>
                    <a:pt x="98" y="971"/>
                  </a:lnTo>
                  <a:lnTo>
                    <a:pt x="98" y="988"/>
                  </a:lnTo>
                  <a:lnTo>
                    <a:pt x="98" y="1006"/>
                  </a:lnTo>
                  <a:lnTo>
                    <a:pt x="98" y="1023"/>
                  </a:lnTo>
                  <a:lnTo>
                    <a:pt x="98" y="1040"/>
                  </a:lnTo>
                  <a:lnTo>
                    <a:pt x="98" y="1058"/>
                  </a:lnTo>
                  <a:lnTo>
                    <a:pt x="98" y="1075"/>
                  </a:lnTo>
                  <a:lnTo>
                    <a:pt x="104" y="1093"/>
                  </a:lnTo>
                  <a:lnTo>
                    <a:pt x="122" y="1110"/>
                  </a:lnTo>
                  <a:lnTo>
                    <a:pt x="122" y="1127"/>
                  </a:lnTo>
                  <a:lnTo>
                    <a:pt x="127" y="1145"/>
                  </a:lnTo>
                  <a:lnTo>
                    <a:pt x="133" y="1162"/>
                  </a:lnTo>
                  <a:lnTo>
                    <a:pt x="133" y="1179"/>
                  </a:lnTo>
                  <a:lnTo>
                    <a:pt x="139" y="1197"/>
                  </a:lnTo>
                  <a:lnTo>
                    <a:pt x="139" y="1214"/>
                  </a:lnTo>
                  <a:lnTo>
                    <a:pt x="139" y="1231"/>
                  </a:lnTo>
                  <a:lnTo>
                    <a:pt x="145" y="1278"/>
                  </a:lnTo>
                  <a:lnTo>
                    <a:pt x="150" y="1301"/>
                  </a:lnTo>
                  <a:lnTo>
                    <a:pt x="150" y="1318"/>
                  </a:lnTo>
                  <a:lnTo>
                    <a:pt x="150" y="1335"/>
                  </a:lnTo>
                  <a:lnTo>
                    <a:pt x="150" y="1353"/>
                  </a:lnTo>
                  <a:lnTo>
                    <a:pt x="150" y="1370"/>
                  </a:lnTo>
                  <a:lnTo>
                    <a:pt x="150" y="1387"/>
                  </a:lnTo>
                  <a:lnTo>
                    <a:pt x="150" y="1405"/>
                  </a:lnTo>
                  <a:lnTo>
                    <a:pt x="150" y="1422"/>
                  </a:lnTo>
                  <a:lnTo>
                    <a:pt x="156" y="1439"/>
                  </a:lnTo>
                  <a:lnTo>
                    <a:pt x="156" y="1457"/>
                  </a:lnTo>
                  <a:lnTo>
                    <a:pt x="156" y="1474"/>
                  </a:lnTo>
                  <a:lnTo>
                    <a:pt x="156" y="1492"/>
                  </a:lnTo>
                  <a:lnTo>
                    <a:pt x="156" y="1509"/>
                  </a:lnTo>
                  <a:lnTo>
                    <a:pt x="156" y="1526"/>
                  </a:lnTo>
                  <a:lnTo>
                    <a:pt x="156" y="1561"/>
                  </a:lnTo>
                  <a:lnTo>
                    <a:pt x="156" y="1578"/>
                  </a:lnTo>
                  <a:lnTo>
                    <a:pt x="156" y="1601"/>
                  </a:lnTo>
                  <a:lnTo>
                    <a:pt x="156" y="1619"/>
                  </a:lnTo>
                  <a:lnTo>
                    <a:pt x="150" y="1636"/>
                  </a:lnTo>
                  <a:lnTo>
                    <a:pt x="145" y="1653"/>
                  </a:lnTo>
                  <a:lnTo>
                    <a:pt x="139" y="1677"/>
                  </a:lnTo>
                  <a:lnTo>
                    <a:pt x="133" y="1694"/>
                  </a:lnTo>
                  <a:lnTo>
                    <a:pt x="122" y="1711"/>
                  </a:lnTo>
                  <a:lnTo>
                    <a:pt x="116" y="1729"/>
                  </a:lnTo>
                  <a:lnTo>
                    <a:pt x="110" y="1752"/>
                  </a:lnTo>
                  <a:lnTo>
                    <a:pt x="104" y="1769"/>
                  </a:lnTo>
                  <a:lnTo>
                    <a:pt x="98" y="1786"/>
                  </a:lnTo>
                  <a:lnTo>
                    <a:pt x="93" y="1804"/>
                  </a:lnTo>
                  <a:lnTo>
                    <a:pt x="81" y="1821"/>
                  </a:lnTo>
                  <a:lnTo>
                    <a:pt x="75" y="1844"/>
                  </a:lnTo>
                  <a:lnTo>
                    <a:pt x="64" y="1862"/>
                  </a:lnTo>
                  <a:lnTo>
                    <a:pt x="64" y="1879"/>
                  </a:lnTo>
                  <a:lnTo>
                    <a:pt x="58" y="1902"/>
                  </a:lnTo>
                  <a:lnTo>
                    <a:pt x="46" y="1919"/>
                  </a:lnTo>
                  <a:lnTo>
                    <a:pt x="41" y="1937"/>
                  </a:lnTo>
                  <a:lnTo>
                    <a:pt x="23" y="1960"/>
                  </a:lnTo>
                  <a:lnTo>
                    <a:pt x="23" y="1977"/>
                  </a:lnTo>
                  <a:lnTo>
                    <a:pt x="17" y="1995"/>
                  </a:lnTo>
                  <a:lnTo>
                    <a:pt x="6" y="2012"/>
                  </a:lnTo>
                  <a:lnTo>
                    <a:pt x="0" y="2023"/>
                  </a:lnTo>
                  <a:lnTo>
                    <a:pt x="0" y="203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70040" y="493236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854440" y="538164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990440" y="3098880"/>
              <a:ext cx="74520" cy="274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046240" y="3181320"/>
              <a:ext cx="8244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23960" y="2344680"/>
              <a:ext cx="63720" cy="247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533680" y="2327040"/>
              <a:ext cx="36360" cy="82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3561840" y="4172040"/>
              <a:ext cx="155880" cy="303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3635280" y="4419720"/>
              <a:ext cx="36720" cy="55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 flipV="1">
              <a:off x="3652920" y="3795480"/>
              <a:ext cx="29376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 flipV="1">
              <a:off x="3946320" y="3814920"/>
              <a:ext cx="37800" cy="164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2725200" y="4281480"/>
              <a:ext cx="26676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 flipV="1">
              <a:off x="2991960" y="4309560"/>
              <a:ext cx="6372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 flipV="1">
              <a:off x="2339640" y="4181040"/>
              <a:ext cx="32220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62200" y="4245120"/>
              <a:ext cx="2700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 flipV="1">
              <a:off x="2936880" y="3758760"/>
              <a:ext cx="30312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176640" y="3805200"/>
              <a:ext cx="44280" cy="63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2211480" y="3456000"/>
              <a:ext cx="293760" cy="119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22440" y="3492360"/>
              <a:ext cx="4608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645000" y="2436480"/>
              <a:ext cx="17280" cy="276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3551040" y="2647800"/>
              <a:ext cx="9180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102120" y="2914200"/>
              <a:ext cx="20304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070080"/>
              <a:ext cx="92160" cy="1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1963800" y="2436840"/>
              <a:ext cx="9360" cy="293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973160" y="2492280"/>
              <a:ext cx="8280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2827440" y="5144760"/>
              <a:ext cx="201600" cy="1652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 flipV="1">
              <a:off x="2827440" y="5237280"/>
              <a:ext cx="63360" cy="9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79480" y="3648240"/>
              <a:ext cx="101880" cy="312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789200" y="3630600"/>
              <a:ext cx="10152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3239640" y="4309920"/>
              <a:ext cx="165240" cy="201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349800" y="4475160"/>
              <a:ext cx="18720" cy="73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2" name=""/>
          <p:cNvSpPr/>
          <p:nvPr/>
        </p:nvSpPr>
        <p:spPr>
          <a:xfrm flipV="1">
            <a:off x="6224760" y="2217600"/>
            <a:ext cx="322200" cy="385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05600" y="2400480"/>
            <a:ext cx="183960" cy="120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32520" y="2465280"/>
            <a:ext cx="21096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6280200" y="2987640"/>
            <a:ext cx="357120" cy="395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24680" y="3162240"/>
            <a:ext cx="21888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078600" y="3244680"/>
            <a:ext cx="20160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6352920" y="3787920"/>
            <a:ext cx="330120" cy="366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132600" y="396072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729480" y="4540320"/>
            <a:ext cx="468360" cy="7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197840" y="4540320"/>
            <a:ext cx="128520" cy="23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361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1880" y="2847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2640" y="362412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81720" y="4395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31080" y="1841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219720" y="2664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280200" y="28987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170760" y="209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307200" y="36687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253200" y="34401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1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002360" y="211464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1.15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60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064280" y="3078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RH=6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095960" y="3402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LI=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8200" y="1314360"/>
            <a:ext cx="4729320" cy="523728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5400" y="5603760"/>
            <a:ext cx="851040" cy="432000"/>
          </a:xfrm>
          <a:custGeom>
            <a:avLst/>
            <a:gdLst/>
            <a:ahLst/>
            <a:rect l="l" t="t" r="r" b="b"/>
            <a:pathLst>
              <a:path w="536" h="272">
                <a:moveTo>
                  <a:pt x="0" y="0"/>
                </a:moveTo>
                <a:lnTo>
                  <a:pt x="28" y="25"/>
                </a:lnTo>
                <a:lnTo>
                  <a:pt x="45" y="32"/>
                </a:lnTo>
                <a:lnTo>
                  <a:pt x="63" y="44"/>
                </a:lnTo>
                <a:lnTo>
                  <a:pt x="86" y="51"/>
                </a:lnTo>
                <a:lnTo>
                  <a:pt x="103" y="51"/>
                </a:lnTo>
                <a:lnTo>
                  <a:pt x="121" y="58"/>
                </a:lnTo>
                <a:lnTo>
                  <a:pt x="138" y="63"/>
                </a:lnTo>
                <a:lnTo>
                  <a:pt x="155" y="70"/>
                </a:lnTo>
                <a:lnTo>
                  <a:pt x="173" y="77"/>
                </a:lnTo>
                <a:lnTo>
                  <a:pt x="218" y="83"/>
                </a:lnTo>
                <a:lnTo>
                  <a:pt x="235" y="96"/>
                </a:lnTo>
                <a:lnTo>
                  <a:pt x="293" y="116"/>
                </a:lnTo>
                <a:lnTo>
                  <a:pt x="311" y="128"/>
                </a:lnTo>
                <a:lnTo>
                  <a:pt x="328" y="142"/>
                </a:lnTo>
                <a:lnTo>
                  <a:pt x="345" y="154"/>
                </a:lnTo>
                <a:lnTo>
                  <a:pt x="362" y="167"/>
                </a:lnTo>
                <a:lnTo>
                  <a:pt x="385" y="181"/>
                </a:lnTo>
                <a:lnTo>
                  <a:pt x="402" y="187"/>
                </a:lnTo>
                <a:lnTo>
                  <a:pt x="419" y="187"/>
                </a:lnTo>
                <a:lnTo>
                  <a:pt x="443" y="187"/>
                </a:lnTo>
                <a:lnTo>
                  <a:pt x="460" y="187"/>
                </a:lnTo>
                <a:lnTo>
                  <a:pt x="477" y="193"/>
                </a:lnTo>
                <a:lnTo>
                  <a:pt x="495" y="207"/>
                </a:lnTo>
                <a:lnTo>
                  <a:pt x="512" y="219"/>
                </a:lnTo>
                <a:lnTo>
                  <a:pt x="524" y="239"/>
                </a:lnTo>
                <a:lnTo>
                  <a:pt x="535" y="265"/>
                </a:lnTo>
                <a:lnTo>
                  <a:pt x="518" y="271"/>
                </a:lnTo>
                <a:lnTo>
                  <a:pt x="500" y="271"/>
                </a:lnTo>
                <a:lnTo>
                  <a:pt x="483" y="271"/>
                </a:lnTo>
                <a:lnTo>
                  <a:pt x="466" y="265"/>
                </a:lnTo>
                <a:lnTo>
                  <a:pt x="448" y="265"/>
                </a:lnTo>
                <a:lnTo>
                  <a:pt x="431" y="265"/>
                </a:lnTo>
                <a:lnTo>
                  <a:pt x="414" y="265"/>
                </a:lnTo>
                <a:lnTo>
                  <a:pt x="396" y="265"/>
                </a:lnTo>
                <a:lnTo>
                  <a:pt x="379" y="265"/>
                </a:lnTo>
                <a:lnTo>
                  <a:pt x="356" y="265"/>
                </a:lnTo>
                <a:lnTo>
                  <a:pt x="339" y="265"/>
                </a:lnTo>
                <a:lnTo>
                  <a:pt x="322" y="265"/>
                </a:lnTo>
                <a:lnTo>
                  <a:pt x="264" y="265"/>
                </a:lnTo>
                <a:lnTo>
                  <a:pt x="264" y="245"/>
                </a:lnTo>
                <a:lnTo>
                  <a:pt x="253" y="219"/>
                </a:lnTo>
                <a:lnTo>
                  <a:pt x="195" y="212"/>
                </a:lnTo>
                <a:lnTo>
                  <a:pt x="178" y="207"/>
                </a:lnTo>
                <a:lnTo>
                  <a:pt x="167" y="187"/>
                </a:lnTo>
                <a:lnTo>
                  <a:pt x="150" y="161"/>
                </a:lnTo>
                <a:lnTo>
                  <a:pt x="132" y="148"/>
                </a:lnTo>
                <a:lnTo>
                  <a:pt x="92" y="128"/>
                </a:lnTo>
                <a:lnTo>
                  <a:pt x="74" y="122"/>
                </a:lnTo>
                <a:lnTo>
                  <a:pt x="69" y="103"/>
                </a:lnTo>
                <a:lnTo>
                  <a:pt x="57" y="83"/>
                </a:lnTo>
                <a:lnTo>
                  <a:pt x="45" y="63"/>
                </a:lnTo>
                <a:lnTo>
                  <a:pt x="34" y="44"/>
                </a:lnTo>
                <a:lnTo>
                  <a:pt x="22" y="32"/>
                </a:lnTo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333520"/>
            <a:ext cx="3395880" cy="4199040"/>
          </a:xfrm>
          <a:custGeom>
            <a:avLst/>
            <a:gdLst/>
            <a:ahLst/>
            <a:rect l="l" t="t" r="r" b="b"/>
            <a:pathLst>
              <a:path w="2139" h="2645">
                <a:moveTo>
                  <a:pt x="305" y="1922"/>
                </a:moveTo>
                <a:lnTo>
                  <a:pt x="291" y="1902"/>
                </a:lnTo>
                <a:lnTo>
                  <a:pt x="286" y="1886"/>
                </a:lnTo>
                <a:lnTo>
                  <a:pt x="286" y="1872"/>
                </a:lnTo>
                <a:lnTo>
                  <a:pt x="286" y="1857"/>
                </a:lnTo>
                <a:lnTo>
                  <a:pt x="286" y="1842"/>
                </a:lnTo>
                <a:lnTo>
                  <a:pt x="271" y="1832"/>
                </a:lnTo>
                <a:lnTo>
                  <a:pt x="266" y="1817"/>
                </a:lnTo>
                <a:lnTo>
                  <a:pt x="261" y="1802"/>
                </a:lnTo>
                <a:lnTo>
                  <a:pt x="261" y="1782"/>
                </a:lnTo>
                <a:lnTo>
                  <a:pt x="261" y="1767"/>
                </a:lnTo>
                <a:lnTo>
                  <a:pt x="261" y="1752"/>
                </a:lnTo>
                <a:lnTo>
                  <a:pt x="251" y="1737"/>
                </a:lnTo>
                <a:lnTo>
                  <a:pt x="241" y="1718"/>
                </a:lnTo>
                <a:lnTo>
                  <a:pt x="226" y="1707"/>
                </a:lnTo>
                <a:lnTo>
                  <a:pt x="212" y="1693"/>
                </a:lnTo>
                <a:lnTo>
                  <a:pt x="197" y="1682"/>
                </a:lnTo>
                <a:lnTo>
                  <a:pt x="182" y="1673"/>
                </a:lnTo>
                <a:lnTo>
                  <a:pt x="172" y="1657"/>
                </a:lnTo>
                <a:lnTo>
                  <a:pt x="158" y="1648"/>
                </a:lnTo>
                <a:lnTo>
                  <a:pt x="143" y="1632"/>
                </a:lnTo>
                <a:lnTo>
                  <a:pt x="133" y="1618"/>
                </a:lnTo>
                <a:lnTo>
                  <a:pt x="118" y="1603"/>
                </a:lnTo>
                <a:lnTo>
                  <a:pt x="98" y="1588"/>
                </a:lnTo>
                <a:lnTo>
                  <a:pt x="89" y="1573"/>
                </a:lnTo>
                <a:lnTo>
                  <a:pt x="79" y="1558"/>
                </a:lnTo>
                <a:lnTo>
                  <a:pt x="74" y="1543"/>
                </a:lnTo>
                <a:lnTo>
                  <a:pt x="64" y="1528"/>
                </a:lnTo>
                <a:lnTo>
                  <a:pt x="59" y="1514"/>
                </a:lnTo>
                <a:lnTo>
                  <a:pt x="54" y="1498"/>
                </a:lnTo>
                <a:lnTo>
                  <a:pt x="49" y="1483"/>
                </a:lnTo>
                <a:lnTo>
                  <a:pt x="64" y="1478"/>
                </a:lnTo>
                <a:lnTo>
                  <a:pt x="79" y="1478"/>
                </a:lnTo>
                <a:lnTo>
                  <a:pt x="93" y="1478"/>
                </a:lnTo>
                <a:lnTo>
                  <a:pt x="108" y="1478"/>
                </a:lnTo>
                <a:lnTo>
                  <a:pt x="123" y="1478"/>
                </a:lnTo>
                <a:lnTo>
                  <a:pt x="137" y="1478"/>
                </a:lnTo>
                <a:lnTo>
                  <a:pt x="153" y="1478"/>
                </a:lnTo>
                <a:lnTo>
                  <a:pt x="172" y="1478"/>
                </a:lnTo>
                <a:lnTo>
                  <a:pt x="187" y="1478"/>
                </a:lnTo>
                <a:lnTo>
                  <a:pt x="202" y="1478"/>
                </a:lnTo>
                <a:lnTo>
                  <a:pt x="222" y="1478"/>
                </a:lnTo>
                <a:lnTo>
                  <a:pt x="236" y="1478"/>
                </a:lnTo>
                <a:lnTo>
                  <a:pt x="256" y="1478"/>
                </a:lnTo>
                <a:lnTo>
                  <a:pt x="271" y="1478"/>
                </a:lnTo>
                <a:lnTo>
                  <a:pt x="286" y="1473"/>
                </a:lnTo>
                <a:lnTo>
                  <a:pt x="295" y="1458"/>
                </a:lnTo>
                <a:lnTo>
                  <a:pt x="300" y="1444"/>
                </a:lnTo>
                <a:lnTo>
                  <a:pt x="305" y="1428"/>
                </a:lnTo>
                <a:lnTo>
                  <a:pt x="305" y="1414"/>
                </a:lnTo>
                <a:lnTo>
                  <a:pt x="315" y="1399"/>
                </a:lnTo>
                <a:lnTo>
                  <a:pt x="315" y="1384"/>
                </a:lnTo>
                <a:lnTo>
                  <a:pt x="315" y="1369"/>
                </a:lnTo>
                <a:lnTo>
                  <a:pt x="315" y="1354"/>
                </a:lnTo>
                <a:lnTo>
                  <a:pt x="305" y="1339"/>
                </a:lnTo>
                <a:lnTo>
                  <a:pt x="300" y="1324"/>
                </a:lnTo>
                <a:lnTo>
                  <a:pt x="286" y="1309"/>
                </a:lnTo>
                <a:lnTo>
                  <a:pt x="280" y="1294"/>
                </a:lnTo>
                <a:lnTo>
                  <a:pt x="275" y="1279"/>
                </a:lnTo>
                <a:lnTo>
                  <a:pt x="271" y="1264"/>
                </a:lnTo>
                <a:lnTo>
                  <a:pt x="275" y="1249"/>
                </a:lnTo>
                <a:lnTo>
                  <a:pt x="271" y="1235"/>
                </a:lnTo>
                <a:lnTo>
                  <a:pt x="261" y="1215"/>
                </a:lnTo>
                <a:lnTo>
                  <a:pt x="251" y="1174"/>
                </a:lnTo>
                <a:lnTo>
                  <a:pt x="241" y="1160"/>
                </a:lnTo>
                <a:lnTo>
                  <a:pt x="236" y="1145"/>
                </a:lnTo>
                <a:lnTo>
                  <a:pt x="222" y="1129"/>
                </a:lnTo>
                <a:lnTo>
                  <a:pt x="212" y="1115"/>
                </a:lnTo>
                <a:lnTo>
                  <a:pt x="202" y="1100"/>
                </a:lnTo>
                <a:lnTo>
                  <a:pt x="192" y="1085"/>
                </a:lnTo>
                <a:lnTo>
                  <a:pt x="192" y="1070"/>
                </a:lnTo>
                <a:lnTo>
                  <a:pt x="187" y="1055"/>
                </a:lnTo>
                <a:lnTo>
                  <a:pt x="177" y="1040"/>
                </a:lnTo>
                <a:lnTo>
                  <a:pt x="167" y="1025"/>
                </a:lnTo>
                <a:lnTo>
                  <a:pt x="158" y="1011"/>
                </a:lnTo>
                <a:lnTo>
                  <a:pt x="143" y="995"/>
                </a:lnTo>
                <a:lnTo>
                  <a:pt x="133" y="975"/>
                </a:lnTo>
                <a:lnTo>
                  <a:pt x="128" y="961"/>
                </a:lnTo>
                <a:lnTo>
                  <a:pt x="123" y="945"/>
                </a:lnTo>
                <a:lnTo>
                  <a:pt x="118" y="930"/>
                </a:lnTo>
                <a:lnTo>
                  <a:pt x="113" y="891"/>
                </a:lnTo>
                <a:lnTo>
                  <a:pt x="74" y="801"/>
                </a:lnTo>
                <a:lnTo>
                  <a:pt x="34" y="691"/>
                </a:lnTo>
                <a:lnTo>
                  <a:pt x="5" y="621"/>
                </a:lnTo>
                <a:lnTo>
                  <a:pt x="0" y="637"/>
                </a:lnTo>
                <a:lnTo>
                  <a:pt x="0" y="621"/>
                </a:lnTo>
                <a:lnTo>
                  <a:pt x="5" y="587"/>
                </a:lnTo>
                <a:lnTo>
                  <a:pt x="5" y="557"/>
                </a:lnTo>
                <a:lnTo>
                  <a:pt x="10" y="537"/>
                </a:lnTo>
                <a:lnTo>
                  <a:pt x="10" y="522"/>
                </a:lnTo>
                <a:lnTo>
                  <a:pt x="10" y="507"/>
                </a:lnTo>
                <a:lnTo>
                  <a:pt x="10" y="492"/>
                </a:lnTo>
                <a:lnTo>
                  <a:pt x="10" y="477"/>
                </a:lnTo>
                <a:lnTo>
                  <a:pt x="10" y="458"/>
                </a:lnTo>
                <a:lnTo>
                  <a:pt x="15" y="417"/>
                </a:lnTo>
                <a:lnTo>
                  <a:pt x="15" y="403"/>
                </a:lnTo>
                <a:lnTo>
                  <a:pt x="15" y="388"/>
                </a:lnTo>
                <a:lnTo>
                  <a:pt x="20" y="372"/>
                </a:lnTo>
                <a:lnTo>
                  <a:pt x="24" y="358"/>
                </a:lnTo>
                <a:lnTo>
                  <a:pt x="34" y="343"/>
                </a:lnTo>
                <a:lnTo>
                  <a:pt x="44" y="328"/>
                </a:lnTo>
                <a:lnTo>
                  <a:pt x="49" y="313"/>
                </a:lnTo>
                <a:lnTo>
                  <a:pt x="79" y="254"/>
                </a:lnTo>
                <a:lnTo>
                  <a:pt x="84" y="223"/>
                </a:lnTo>
                <a:lnTo>
                  <a:pt x="84" y="173"/>
                </a:lnTo>
                <a:lnTo>
                  <a:pt x="84" y="124"/>
                </a:lnTo>
                <a:lnTo>
                  <a:pt x="98" y="118"/>
                </a:lnTo>
                <a:lnTo>
                  <a:pt x="108" y="104"/>
                </a:lnTo>
                <a:lnTo>
                  <a:pt x="123" y="89"/>
                </a:lnTo>
                <a:lnTo>
                  <a:pt x="137" y="74"/>
                </a:lnTo>
                <a:lnTo>
                  <a:pt x="148" y="59"/>
                </a:lnTo>
                <a:lnTo>
                  <a:pt x="162" y="49"/>
                </a:lnTo>
                <a:lnTo>
                  <a:pt x="192" y="44"/>
                </a:lnTo>
                <a:lnTo>
                  <a:pt x="206" y="34"/>
                </a:lnTo>
                <a:lnTo>
                  <a:pt x="206" y="19"/>
                </a:lnTo>
                <a:lnTo>
                  <a:pt x="212" y="4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1" y="0"/>
                </a:lnTo>
                <a:lnTo>
                  <a:pt x="291" y="0"/>
                </a:lnTo>
                <a:lnTo>
                  <a:pt x="305" y="4"/>
                </a:lnTo>
                <a:lnTo>
                  <a:pt x="320" y="4"/>
                </a:lnTo>
                <a:lnTo>
                  <a:pt x="335" y="9"/>
                </a:lnTo>
                <a:lnTo>
                  <a:pt x="374" y="9"/>
                </a:lnTo>
                <a:lnTo>
                  <a:pt x="413" y="14"/>
                </a:lnTo>
                <a:lnTo>
                  <a:pt x="473" y="14"/>
                </a:lnTo>
                <a:lnTo>
                  <a:pt x="502" y="14"/>
                </a:lnTo>
                <a:lnTo>
                  <a:pt x="512" y="29"/>
                </a:lnTo>
                <a:lnTo>
                  <a:pt x="522" y="44"/>
                </a:lnTo>
                <a:lnTo>
                  <a:pt x="537" y="59"/>
                </a:lnTo>
                <a:lnTo>
                  <a:pt x="546" y="74"/>
                </a:lnTo>
                <a:lnTo>
                  <a:pt x="561" y="84"/>
                </a:lnTo>
                <a:lnTo>
                  <a:pt x="576" y="99"/>
                </a:lnTo>
                <a:lnTo>
                  <a:pt x="591" y="109"/>
                </a:lnTo>
                <a:lnTo>
                  <a:pt x="596" y="124"/>
                </a:lnTo>
                <a:lnTo>
                  <a:pt x="611" y="134"/>
                </a:lnTo>
                <a:lnTo>
                  <a:pt x="625" y="148"/>
                </a:lnTo>
                <a:lnTo>
                  <a:pt x="640" y="159"/>
                </a:lnTo>
                <a:lnTo>
                  <a:pt x="645" y="173"/>
                </a:lnTo>
                <a:lnTo>
                  <a:pt x="659" y="188"/>
                </a:lnTo>
                <a:lnTo>
                  <a:pt x="675" y="204"/>
                </a:lnTo>
                <a:lnTo>
                  <a:pt x="689" y="218"/>
                </a:lnTo>
                <a:lnTo>
                  <a:pt x="705" y="229"/>
                </a:lnTo>
                <a:lnTo>
                  <a:pt x="719" y="238"/>
                </a:lnTo>
                <a:lnTo>
                  <a:pt x="733" y="248"/>
                </a:lnTo>
                <a:lnTo>
                  <a:pt x="753" y="258"/>
                </a:lnTo>
                <a:lnTo>
                  <a:pt x="768" y="263"/>
                </a:lnTo>
                <a:lnTo>
                  <a:pt x="783" y="273"/>
                </a:lnTo>
                <a:lnTo>
                  <a:pt x="797" y="278"/>
                </a:lnTo>
                <a:lnTo>
                  <a:pt x="808" y="293"/>
                </a:lnTo>
                <a:lnTo>
                  <a:pt x="822" y="298"/>
                </a:lnTo>
                <a:lnTo>
                  <a:pt x="862" y="303"/>
                </a:lnTo>
                <a:lnTo>
                  <a:pt x="876" y="303"/>
                </a:lnTo>
                <a:lnTo>
                  <a:pt x="891" y="308"/>
                </a:lnTo>
                <a:lnTo>
                  <a:pt x="906" y="308"/>
                </a:lnTo>
                <a:lnTo>
                  <a:pt x="926" y="308"/>
                </a:lnTo>
                <a:lnTo>
                  <a:pt x="960" y="308"/>
                </a:lnTo>
                <a:lnTo>
                  <a:pt x="990" y="308"/>
                </a:lnTo>
                <a:lnTo>
                  <a:pt x="1004" y="308"/>
                </a:lnTo>
                <a:lnTo>
                  <a:pt x="1020" y="308"/>
                </a:lnTo>
                <a:lnTo>
                  <a:pt x="1039" y="308"/>
                </a:lnTo>
                <a:lnTo>
                  <a:pt x="1054" y="308"/>
                </a:lnTo>
                <a:lnTo>
                  <a:pt x="1069" y="298"/>
                </a:lnTo>
                <a:lnTo>
                  <a:pt x="1083" y="293"/>
                </a:lnTo>
                <a:lnTo>
                  <a:pt x="1103" y="283"/>
                </a:lnTo>
                <a:lnTo>
                  <a:pt x="1117" y="273"/>
                </a:lnTo>
                <a:lnTo>
                  <a:pt x="1133" y="268"/>
                </a:lnTo>
                <a:lnTo>
                  <a:pt x="1147" y="263"/>
                </a:lnTo>
                <a:lnTo>
                  <a:pt x="1162" y="258"/>
                </a:lnTo>
                <a:lnTo>
                  <a:pt x="1177" y="258"/>
                </a:lnTo>
                <a:lnTo>
                  <a:pt x="1197" y="258"/>
                </a:lnTo>
                <a:lnTo>
                  <a:pt x="1211" y="268"/>
                </a:lnTo>
                <a:lnTo>
                  <a:pt x="1226" y="283"/>
                </a:lnTo>
                <a:lnTo>
                  <a:pt x="1231" y="298"/>
                </a:lnTo>
                <a:lnTo>
                  <a:pt x="1246" y="313"/>
                </a:lnTo>
                <a:lnTo>
                  <a:pt x="1266" y="328"/>
                </a:lnTo>
                <a:lnTo>
                  <a:pt x="1276" y="343"/>
                </a:lnTo>
                <a:lnTo>
                  <a:pt x="1285" y="358"/>
                </a:lnTo>
                <a:lnTo>
                  <a:pt x="1290" y="372"/>
                </a:lnTo>
                <a:lnTo>
                  <a:pt x="1300" y="388"/>
                </a:lnTo>
                <a:lnTo>
                  <a:pt x="1310" y="403"/>
                </a:lnTo>
                <a:lnTo>
                  <a:pt x="1320" y="417"/>
                </a:lnTo>
                <a:lnTo>
                  <a:pt x="1329" y="433"/>
                </a:lnTo>
                <a:lnTo>
                  <a:pt x="1340" y="447"/>
                </a:lnTo>
                <a:lnTo>
                  <a:pt x="1344" y="462"/>
                </a:lnTo>
                <a:lnTo>
                  <a:pt x="1354" y="477"/>
                </a:lnTo>
                <a:lnTo>
                  <a:pt x="1364" y="492"/>
                </a:lnTo>
                <a:lnTo>
                  <a:pt x="1379" y="507"/>
                </a:lnTo>
                <a:lnTo>
                  <a:pt x="1393" y="517"/>
                </a:lnTo>
                <a:lnTo>
                  <a:pt x="1404" y="532"/>
                </a:lnTo>
                <a:lnTo>
                  <a:pt x="1413" y="547"/>
                </a:lnTo>
                <a:lnTo>
                  <a:pt x="1423" y="562"/>
                </a:lnTo>
                <a:lnTo>
                  <a:pt x="1428" y="577"/>
                </a:lnTo>
                <a:lnTo>
                  <a:pt x="1433" y="592"/>
                </a:lnTo>
                <a:lnTo>
                  <a:pt x="1448" y="612"/>
                </a:lnTo>
                <a:lnTo>
                  <a:pt x="1458" y="626"/>
                </a:lnTo>
                <a:lnTo>
                  <a:pt x="1467" y="642"/>
                </a:lnTo>
                <a:lnTo>
                  <a:pt x="1478" y="657"/>
                </a:lnTo>
                <a:lnTo>
                  <a:pt x="1482" y="671"/>
                </a:lnTo>
                <a:lnTo>
                  <a:pt x="1487" y="687"/>
                </a:lnTo>
                <a:lnTo>
                  <a:pt x="1492" y="701"/>
                </a:lnTo>
                <a:lnTo>
                  <a:pt x="1497" y="716"/>
                </a:lnTo>
                <a:lnTo>
                  <a:pt x="1502" y="732"/>
                </a:lnTo>
                <a:lnTo>
                  <a:pt x="1512" y="746"/>
                </a:lnTo>
                <a:lnTo>
                  <a:pt x="1517" y="761"/>
                </a:lnTo>
                <a:lnTo>
                  <a:pt x="1522" y="776"/>
                </a:lnTo>
                <a:lnTo>
                  <a:pt x="1522" y="791"/>
                </a:lnTo>
                <a:lnTo>
                  <a:pt x="1527" y="811"/>
                </a:lnTo>
                <a:lnTo>
                  <a:pt x="1531" y="826"/>
                </a:lnTo>
                <a:lnTo>
                  <a:pt x="1531" y="841"/>
                </a:lnTo>
                <a:lnTo>
                  <a:pt x="1536" y="856"/>
                </a:lnTo>
                <a:lnTo>
                  <a:pt x="1536" y="871"/>
                </a:lnTo>
                <a:lnTo>
                  <a:pt x="1536" y="886"/>
                </a:lnTo>
                <a:lnTo>
                  <a:pt x="1536" y="900"/>
                </a:lnTo>
                <a:lnTo>
                  <a:pt x="1536" y="916"/>
                </a:lnTo>
                <a:lnTo>
                  <a:pt x="1536" y="930"/>
                </a:lnTo>
                <a:lnTo>
                  <a:pt x="1536" y="950"/>
                </a:lnTo>
                <a:lnTo>
                  <a:pt x="1536" y="970"/>
                </a:lnTo>
                <a:lnTo>
                  <a:pt x="1541" y="1000"/>
                </a:lnTo>
                <a:lnTo>
                  <a:pt x="1541" y="1015"/>
                </a:lnTo>
                <a:lnTo>
                  <a:pt x="1541" y="1030"/>
                </a:lnTo>
                <a:lnTo>
                  <a:pt x="1541" y="1045"/>
                </a:lnTo>
                <a:lnTo>
                  <a:pt x="1541" y="1060"/>
                </a:lnTo>
                <a:lnTo>
                  <a:pt x="1541" y="1095"/>
                </a:lnTo>
                <a:lnTo>
                  <a:pt x="1541" y="1110"/>
                </a:lnTo>
                <a:lnTo>
                  <a:pt x="1541" y="1125"/>
                </a:lnTo>
                <a:lnTo>
                  <a:pt x="1541" y="1140"/>
                </a:lnTo>
                <a:lnTo>
                  <a:pt x="1536" y="1160"/>
                </a:lnTo>
                <a:lnTo>
                  <a:pt x="1531" y="1179"/>
                </a:lnTo>
                <a:lnTo>
                  <a:pt x="1527" y="1199"/>
                </a:lnTo>
                <a:lnTo>
                  <a:pt x="1527" y="1215"/>
                </a:lnTo>
                <a:lnTo>
                  <a:pt x="1527" y="1229"/>
                </a:lnTo>
                <a:lnTo>
                  <a:pt x="1527" y="1249"/>
                </a:lnTo>
                <a:lnTo>
                  <a:pt x="1527" y="1264"/>
                </a:lnTo>
                <a:lnTo>
                  <a:pt x="1527" y="1279"/>
                </a:lnTo>
                <a:lnTo>
                  <a:pt x="1541" y="1294"/>
                </a:lnTo>
                <a:lnTo>
                  <a:pt x="1547" y="1309"/>
                </a:lnTo>
                <a:lnTo>
                  <a:pt x="1551" y="1324"/>
                </a:lnTo>
                <a:lnTo>
                  <a:pt x="1561" y="1339"/>
                </a:lnTo>
                <a:lnTo>
                  <a:pt x="1571" y="1354"/>
                </a:lnTo>
                <a:lnTo>
                  <a:pt x="1576" y="1369"/>
                </a:lnTo>
                <a:lnTo>
                  <a:pt x="1586" y="1384"/>
                </a:lnTo>
                <a:lnTo>
                  <a:pt x="1591" y="1403"/>
                </a:lnTo>
                <a:lnTo>
                  <a:pt x="1600" y="1423"/>
                </a:lnTo>
                <a:lnTo>
                  <a:pt x="1610" y="1444"/>
                </a:lnTo>
                <a:lnTo>
                  <a:pt x="1616" y="1458"/>
                </a:lnTo>
                <a:lnTo>
                  <a:pt x="1620" y="1473"/>
                </a:lnTo>
                <a:lnTo>
                  <a:pt x="1625" y="1489"/>
                </a:lnTo>
                <a:lnTo>
                  <a:pt x="1630" y="1503"/>
                </a:lnTo>
                <a:lnTo>
                  <a:pt x="1640" y="1518"/>
                </a:lnTo>
                <a:lnTo>
                  <a:pt x="1650" y="1533"/>
                </a:lnTo>
                <a:lnTo>
                  <a:pt x="1655" y="1548"/>
                </a:lnTo>
                <a:lnTo>
                  <a:pt x="1664" y="1563"/>
                </a:lnTo>
                <a:lnTo>
                  <a:pt x="1669" y="1578"/>
                </a:lnTo>
                <a:lnTo>
                  <a:pt x="1679" y="1593"/>
                </a:lnTo>
                <a:lnTo>
                  <a:pt x="1689" y="1607"/>
                </a:lnTo>
                <a:lnTo>
                  <a:pt x="1699" y="1623"/>
                </a:lnTo>
                <a:lnTo>
                  <a:pt x="1704" y="1643"/>
                </a:lnTo>
                <a:lnTo>
                  <a:pt x="1713" y="1657"/>
                </a:lnTo>
                <a:lnTo>
                  <a:pt x="1724" y="1673"/>
                </a:lnTo>
                <a:lnTo>
                  <a:pt x="1738" y="1688"/>
                </a:lnTo>
                <a:lnTo>
                  <a:pt x="1748" y="1702"/>
                </a:lnTo>
                <a:lnTo>
                  <a:pt x="1758" y="1718"/>
                </a:lnTo>
                <a:lnTo>
                  <a:pt x="1768" y="1732"/>
                </a:lnTo>
                <a:lnTo>
                  <a:pt x="1782" y="1752"/>
                </a:lnTo>
                <a:lnTo>
                  <a:pt x="1798" y="1762"/>
                </a:lnTo>
                <a:lnTo>
                  <a:pt x="1812" y="1777"/>
                </a:lnTo>
                <a:lnTo>
                  <a:pt x="1822" y="1797"/>
                </a:lnTo>
                <a:lnTo>
                  <a:pt x="1837" y="1802"/>
                </a:lnTo>
                <a:lnTo>
                  <a:pt x="1846" y="1817"/>
                </a:lnTo>
                <a:lnTo>
                  <a:pt x="1851" y="1832"/>
                </a:lnTo>
                <a:lnTo>
                  <a:pt x="1867" y="1837"/>
                </a:lnTo>
                <a:lnTo>
                  <a:pt x="1876" y="1852"/>
                </a:lnTo>
                <a:lnTo>
                  <a:pt x="1886" y="1872"/>
                </a:lnTo>
                <a:lnTo>
                  <a:pt x="1901" y="1886"/>
                </a:lnTo>
                <a:lnTo>
                  <a:pt x="1906" y="1902"/>
                </a:lnTo>
                <a:lnTo>
                  <a:pt x="1911" y="1917"/>
                </a:lnTo>
                <a:lnTo>
                  <a:pt x="1915" y="1931"/>
                </a:lnTo>
                <a:lnTo>
                  <a:pt x="1925" y="1947"/>
                </a:lnTo>
                <a:lnTo>
                  <a:pt x="1936" y="1961"/>
                </a:lnTo>
                <a:lnTo>
                  <a:pt x="1945" y="1976"/>
                </a:lnTo>
                <a:lnTo>
                  <a:pt x="1945" y="1992"/>
                </a:lnTo>
                <a:lnTo>
                  <a:pt x="1945" y="2006"/>
                </a:lnTo>
                <a:lnTo>
                  <a:pt x="1950" y="2021"/>
                </a:lnTo>
                <a:lnTo>
                  <a:pt x="1950" y="2036"/>
                </a:lnTo>
                <a:lnTo>
                  <a:pt x="1955" y="2051"/>
                </a:lnTo>
                <a:lnTo>
                  <a:pt x="1955" y="2071"/>
                </a:lnTo>
                <a:lnTo>
                  <a:pt x="1955" y="2091"/>
                </a:lnTo>
                <a:lnTo>
                  <a:pt x="1955" y="2121"/>
                </a:lnTo>
                <a:lnTo>
                  <a:pt x="1955" y="2151"/>
                </a:lnTo>
                <a:lnTo>
                  <a:pt x="1955" y="2180"/>
                </a:lnTo>
                <a:lnTo>
                  <a:pt x="1960" y="2210"/>
                </a:lnTo>
                <a:lnTo>
                  <a:pt x="1960" y="2230"/>
                </a:lnTo>
                <a:lnTo>
                  <a:pt x="1960" y="2246"/>
                </a:lnTo>
                <a:lnTo>
                  <a:pt x="1965" y="2260"/>
                </a:lnTo>
                <a:lnTo>
                  <a:pt x="1965" y="2275"/>
                </a:lnTo>
                <a:lnTo>
                  <a:pt x="1970" y="2290"/>
                </a:lnTo>
                <a:lnTo>
                  <a:pt x="1970" y="2305"/>
                </a:lnTo>
                <a:lnTo>
                  <a:pt x="1980" y="2320"/>
                </a:lnTo>
                <a:lnTo>
                  <a:pt x="1984" y="2339"/>
                </a:lnTo>
                <a:lnTo>
                  <a:pt x="2000" y="2355"/>
                </a:lnTo>
                <a:lnTo>
                  <a:pt x="2005" y="2395"/>
                </a:lnTo>
                <a:lnTo>
                  <a:pt x="2034" y="2464"/>
                </a:lnTo>
                <a:lnTo>
                  <a:pt x="2083" y="2524"/>
                </a:lnTo>
                <a:lnTo>
                  <a:pt x="2097" y="2529"/>
                </a:lnTo>
                <a:lnTo>
                  <a:pt x="2103" y="2544"/>
                </a:lnTo>
                <a:lnTo>
                  <a:pt x="2108" y="2559"/>
                </a:lnTo>
                <a:lnTo>
                  <a:pt x="2108" y="2574"/>
                </a:lnTo>
                <a:lnTo>
                  <a:pt x="2108" y="2589"/>
                </a:lnTo>
                <a:lnTo>
                  <a:pt x="2113" y="2604"/>
                </a:lnTo>
                <a:lnTo>
                  <a:pt x="2113" y="2619"/>
                </a:lnTo>
                <a:lnTo>
                  <a:pt x="2127" y="2634"/>
                </a:lnTo>
                <a:lnTo>
                  <a:pt x="2138" y="2644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78200" y="33908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353052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0" y="35290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6440" y="1609560"/>
            <a:ext cx="1714680" cy="3706920"/>
          </a:xfrm>
          <a:custGeom>
            <a:avLst/>
            <a:gdLst/>
            <a:ahLst/>
            <a:rect l="l" t="t" r="r" b="b"/>
            <a:pathLst>
              <a:path w="1080" h="2335">
                <a:moveTo>
                  <a:pt x="19" y="0"/>
                </a:moveTo>
                <a:lnTo>
                  <a:pt x="53" y="0"/>
                </a:lnTo>
                <a:lnTo>
                  <a:pt x="68" y="0"/>
                </a:lnTo>
                <a:lnTo>
                  <a:pt x="83" y="5"/>
                </a:lnTo>
                <a:lnTo>
                  <a:pt x="98" y="10"/>
                </a:lnTo>
                <a:lnTo>
                  <a:pt x="113" y="15"/>
                </a:lnTo>
                <a:lnTo>
                  <a:pt x="127" y="15"/>
                </a:lnTo>
                <a:lnTo>
                  <a:pt x="143" y="20"/>
                </a:lnTo>
                <a:lnTo>
                  <a:pt x="157" y="20"/>
                </a:lnTo>
                <a:lnTo>
                  <a:pt x="172" y="25"/>
                </a:lnTo>
                <a:lnTo>
                  <a:pt x="212" y="25"/>
                </a:lnTo>
                <a:lnTo>
                  <a:pt x="226" y="30"/>
                </a:lnTo>
                <a:lnTo>
                  <a:pt x="241" y="30"/>
                </a:lnTo>
                <a:lnTo>
                  <a:pt x="256" y="40"/>
                </a:lnTo>
                <a:lnTo>
                  <a:pt x="270" y="45"/>
                </a:lnTo>
                <a:lnTo>
                  <a:pt x="290" y="45"/>
                </a:lnTo>
                <a:lnTo>
                  <a:pt x="325" y="45"/>
                </a:lnTo>
                <a:lnTo>
                  <a:pt x="354" y="50"/>
                </a:lnTo>
                <a:lnTo>
                  <a:pt x="398" y="50"/>
                </a:lnTo>
                <a:lnTo>
                  <a:pt x="413" y="50"/>
                </a:lnTo>
                <a:lnTo>
                  <a:pt x="428" y="55"/>
                </a:lnTo>
                <a:lnTo>
                  <a:pt x="442" y="60"/>
                </a:lnTo>
                <a:lnTo>
                  <a:pt x="463" y="65"/>
                </a:lnTo>
                <a:lnTo>
                  <a:pt x="477" y="65"/>
                </a:lnTo>
                <a:lnTo>
                  <a:pt x="492" y="65"/>
                </a:lnTo>
                <a:lnTo>
                  <a:pt x="507" y="65"/>
                </a:lnTo>
                <a:lnTo>
                  <a:pt x="546" y="65"/>
                </a:lnTo>
                <a:lnTo>
                  <a:pt x="561" y="65"/>
                </a:lnTo>
                <a:lnTo>
                  <a:pt x="591" y="65"/>
                </a:lnTo>
                <a:lnTo>
                  <a:pt x="605" y="65"/>
                </a:lnTo>
                <a:lnTo>
                  <a:pt x="620" y="65"/>
                </a:lnTo>
                <a:lnTo>
                  <a:pt x="640" y="65"/>
                </a:lnTo>
                <a:lnTo>
                  <a:pt x="654" y="70"/>
                </a:lnTo>
                <a:lnTo>
                  <a:pt x="669" y="70"/>
                </a:lnTo>
                <a:lnTo>
                  <a:pt x="684" y="70"/>
                </a:lnTo>
                <a:lnTo>
                  <a:pt x="699" y="70"/>
                </a:lnTo>
                <a:lnTo>
                  <a:pt x="714" y="70"/>
                </a:lnTo>
                <a:lnTo>
                  <a:pt x="734" y="75"/>
                </a:lnTo>
                <a:lnTo>
                  <a:pt x="748" y="75"/>
                </a:lnTo>
                <a:lnTo>
                  <a:pt x="763" y="75"/>
                </a:lnTo>
                <a:lnTo>
                  <a:pt x="783" y="75"/>
                </a:lnTo>
                <a:lnTo>
                  <a:pt x="803" y="75"/>
                </a:lnTo>
                <a:lnTo>
                  <a:pt x="817" y="75"/>
                </a:lnTo>
                <a:lnTo>
                  <a:pt x="856" y="75"/>
                </a:lnTo>
                <a:lnTo>
                  <a:pt x="872" y="75"/>
                </a:lnTo>
                <a:lnTo>
                  <a:pt x="920" y="75"/>
                </a:lnTo>
                <a:lnTo>
                  <a:pt x="950" y="75"/>
                </a:lnTo>
                <a:lnTo>
                  <a:pt x="935" y="75"/>
                </a:lnTo>
                <a:lnTo>
                  <a:pt x="920" y="80"/>
                </a:lnTo>
                <a:lnTo>
                  <a:pt x="916" y="95"/>
                </a:lnTo>
                <a:lnTo>
                  <a:pt x="916" y="110"/>
                </a:lnTo>
                <a:lnTo>
                  <a:pt x="916" y="125"/>
                </a:lnTo>
                <a:lnTo>
                  <a:pt x="916" y="140"/>
                </a:lnTo>
                <a:lnTo>
                  <a:pt x="916" y="155"/>
                </a:lnTo>
                <a:lnTo>
                  <a:pt x="916" y="175"/>
                </a:lnTo>
                <a:lnTo>
                  <a:pt x="916" y="195"/>
                </a:lnTo>
                <a:lnTo>
                  <a:pt x="916" y="210"/>
                </a:lnTo>
                <a:lnTo>
                  <a:pt x="916" y="230"/>
                </a:lnTo>
                <a:lnTo>
                  <a:pt x="916" y="245"/>
                </a:lnTo>
                <a:lnTo>
                  <a:pt x="916" y="260"/>
                </a:lnTo>
                <a:lnTo>
                  <a:pt x="916" y="280"/>
                </a:lnTo>
                <a:lnTo>
                  <a:pt x="916" y="296"/>
                </a:lnTo>
                <a:lnTo>
                  <a:pt x="916" y="310"/>
                </a:lnTo>
                <a:lnTo>
                  <a:pt x="916" y="325"/>
                </a:lnTo>
                <a:lnTo>
                  <a:pt x="916" y="341"/>
                </a:lnTo>
                <a:lnTo>
                  <a:pt x="916" y="361"/>
                </a:lnTo>
                <a:lnTo>
                  <a:pt x="916" y="375"/>
                </a:lnTo>
                <a:lnTo>
                  <a:pt x="916" y="395"/>
                </a:lnTo>
                <a:lnTo>
                  <a:pt x="916" y="411"/>
                </a:lnTo>
                <a:lnTo>
                  <a:pt x="916" y="431"/>
                </a:lnTo>
                <a:lnTo>
                  <a:pt x="916" y="451"/>
                </a:lnTo>
                <a:lnTo>
                  <a:pt x="916" y="471"/>
                </a:lnTo>
                <a:lnTo>
                  <a:pt x="916" y="485"/>
                </a:lnTo>
                <a:lnTo>
                  <a:pt x="920" y="521"/>
                </a:lnTo>
                <a:lnTo>
                  <a:pt x="920" y="536"/>
                </a:lnTo>
                <a:lnTo>
                  <a:pt x="925" y="551"/>
                </a:lnTo>
                <a:lnTo>
                  <a:pt x="930" y="581"/>
                </a:lnTo>
                <a:lnTo>
                  <a:pt x="930" y="596"/>
                </a:lnTo>
                <a:lnTo>
                  <a:pt x="945" y="606"/>
                </a:lnTo>
                <a:lnTo>
                  <a:pt x="960" y="606"/>
                </a:lnTo>
                <a:lnTo>
                  <a:pt x="975" y="606"/>
                </a:lnTo>
                <a:lnTo>
                  <a:pt x="989" y="616"/>
                </a:lnTo>
                <a:lnTo>
                  <a:pt x="999" y="631"/>
                </a:lnTo>
                <a:lnTo>
                  <a:pt x="1014" y="641"/>
                </a:lnTo>
                <a:lnTo>
                  <a:pt x="1044" y="671"/>
                </a:lnTo>
                <a:lnTo>
                  <a:pt x="1073" y="681"/>
                </a:lnTo>
                <a:lnTo>
                  <a:pt x="1079" y="696"/>
                </a:lnTo>
                <a:lnTo>
                  <a:pt x="1079" y="711"/>
                </a:lnTo>
                <a:lnTo>
                  <a:pt x="1073" y="726"/>
                </a:lnTo>
                <a:lnTo>
                  <a:pt x="1073" y="741"/>
                </a:lnTo>
                <a:lnTo>
                  <a:pt x="1073" y="756"/>
                </a:lnTo>
                <a:lnTo>
                  <a:pt x="1068" y="771"/>
                </a:lnTo>
                <a:lnTo>
                  <a:pt x="1068" y="786"/>
                </a:lnTo>
                <a:lnTo>
                  <a:pt x="1068" y="801"/>
                </a:lnTo>
                <a:lnTo>
                  <a:pt x="1068" y="816"/>
                </a:lnTo>
                <a:lnTo>
                  <a:pt x="1063" y="831"/>
                </a:lnTo>
                <a:lnTo>
                  <a:pt x="1054" y="846"/>
                </a:lnTo>
                <a:lnTo>
                  <a:pt x="1049" y="861"/>
                </a:lnTo>
                <a:lnTo>
                  <a:pt x="1044" y="881"/>
                </a:lnTo>
                <a:lnTo>
                  <a:pt x="1034" y="897"/>
                </a:lnTo>
                <a:lnTo>
                  <a:pt x="1019" y="917"/>
                </a:lnTo>
                <a:lnTo>
                  <a:pt x="1004" y="931"/>
                </a:lnTo>
                <a:lnTo>
                  <a:pt x="989" y="942"/>
                </a:lnTo>
                <a:lnTo>
                  <a:pt x="975" y="946"/>
                </a:lnTo>
                <a:lnTo>
                  <a:pt x="960" y="951"/>
                </a:lnTo>
                <a:lnTo>
                  <a:pt x="945" y="956"/>
                </a:lnTo>
                <a:lnTo>
                  <a:pt x="941" y="971"/>
                </a:lnTo>
                <a:lnTo>
                  <a:pt x="941" y="987"/>
                </a:lnTo>
                <a:lnTo>
                  <a:pt x="941" y="1007"/>
                </a:lnTo>
                <a:lnTo>
                  <a:pt x="941" y="1021"/>
                </a:lnTo>
                <a:lnTo>
                  <a:pt x="941" y="1036"/>
                </a:lnTo>
                <a:lnTo>
                  <a:pt x="941" y="1052"/>
                </a:lnTo>
                <a:lnTo>
                  <a:pt x="941" y="1066"/>
                </a:lnTo>
                <a:lnTo>
                  <a:pt x="941" y="1081"/>
                </a:lnTo>
                <a:lnTo>
                  <a:pt x="941" y="1097"/>
                </a:lnTo>
                <a:lnTo>
                  <a:pt x="941" y="1112"/>
                </a:lnTo>
                <a:lnTo>
                  <a:pt x="941" y="1127"/>
                </a:lnTo>
                <a:lnTo>
                  <a:pt x="941" y="1142"/>
                </a:lnTo>
                <a:lnTo>
                  <a:pt x="945" y="1157"/>
                </a:lnTo>
                <a:lnTo>
                  <a:pt x="945" y="1176"/>
                </a:lnTo>
                <a:lnTo>
                  <a:pt x="945" y="1192"/>
                </a:lnTo>
                <a:lnTo>
                  <a:pt x="945" y="1207"/>
                </a:lnTo>
                <a:lnTo>
                  <a:pt x="945" y="1227"/>
                </a:lnTo>
                <a:lnTo>
                  <a:pt x="950" y="1242"/>
                </a:lnTo>
                <a:lnTo>
                  <a:pt x="965" y="1252"/>
                </a:lnTo>
                <a:lnTo>
                  <a:pt x="965" y="1267"/>
                </a:lnTo>
                <a:lnTo>
                  <a:pt x="969" y="1282"/>
                </a:lnTo>
                <a:lnTo>
                  <a:pt x="965" y="1297"/>
                </a:lnTo>
                <a:lnTo>
                  <a:pt x="965" y="1312"/>
                </a:lnTo>
                <a:lnTo>
                  <a:pt x="965" y="1327"/>
                </a:lnTo>
                <a:lnTo>
                  <a:pt x="965" y="1342"/>
                </a:lnTo>
                <a:lnTo>
                  <a:pt x="965" y="1357"/>
                </a:lnTo>
                <a:lnTo>
                  <a:pt x="965" y="1372"/>
                </a:lnTo>
                <a:lnTo>
                  <a:pt x="965" y="1387"/>
                </a:lnTo>
                <a:lnTo>
                  <a:pt x="960" y="1437"/>
                </a:lnTo>
                <a:lnTo>
                  <a:pt x="955" y="1527"/>
                </a:lnTo>
                <a:lnTo>
                  <a:pt x="955" y="1657"/>
                </a:lnTo>
                <a:lnTo>
                  <a:pt x="955" y="1738"/>
                </a:lnTo>
                <a:lnTo>
                  <a:pt x="955" y="1758"/>
                </a:lnTo>
                <a:lnTo>
                  <a:pt x="955" y="1772"/>
                </a:lnTo>
                <a:lnTo>
                  <a:pt x="955" y="1788"/>
                </a:lnTo>
                <a:lnTo>
                  <a:pt x="960" y="1808"/>
                </a:lnTo>
                <a:lnTo>
                  <a:pt x="965" y="1823"/>
                </a:lnTo>
                <a:lnTo>
                  <a:pt x="965" y="1838"/>
                </a:lnTo>
                <a:lnTo>
                  <a:pt x="975" y="1878"/>
                </a:lnTo>
                <a:lnTo>
                  <a:pt x="980" y="1908"/>
                </a:lnTo>
                <a:lnTo>
                  <a:pt x="980" y="1938"/>
                </a:lnTo>
                <a:lnTo>
                  <a:pt x="985" y="1953"/>
                </a:lnTo>
                <a:lnTo>
                  <a:pt x="985" y="1968"/>
                </a:lnTo>
                <a:lnTo>
                  <a:pt x="985" y="1998"/>
                </a:lnTo>
                <a:lnTo>
                  <a:pt x="985" y="2013"/>
                </a:lnTo>
                <a:lnTo>
                  <a:pt x="985" y="2028"/>
                </a:lnTo>
                <a:lnTo>
                  <a:pt x="989" y="2049"/>
                </a:lnTo>
                <a:lnTo>
                  <a:pt x="989" y="2063"/>
                </a:lnTo>
                <a:lnTo>
                  <a:pt x="989" y="2078"/>
                </a:lnTo>
                <a:lnTo>
                  <a:pt x="989" y="2094"/>
                </a:lnTo>
                <a:lnTo>
                  <a:pt x="989" y="2108"/>
                </a:lnTo>
                <a:lnTo>
                  <a:pt x="989" y="2128"/>
                </a:lnTo>
                <a:lnTo>
                  <a:pt x="989" y="2143"/>
                </a:lnTo>
                <a:lnTo>
                  <a:pt x="989" y="2159"/>
                </a:lnTo>
                <a:lnTo>
                  <a:pt x="989" y="2173"/>
                </a:lnTo>
                <a:lnTo>
                  <a:pt x="989" y="2188"/>
                </a:lnTo>
                <a:lnTo>
                  <a:pt x="989" y="2204"/>
                </a:lnTo>
                <a:lnTo>
                  <a:pt x="989" y="2218"/>
                </a:lnTo>
                <a:lnTo>
                  <a:pt x="989" y="2258"/>
                </a:lnTo>
                <a:lnTo>
                  <a:pt x="989" y="2274"/>
                </a:lnTo>
                <a:lnTo>
                  <a:pt x="989" y="2288"/>
                </a:lnTo>
                <a:lnTo>
                  <a:pt x="989" y="2303"/>
                </a:lnTo>
                <a:lnTo>
                  <a:pt x="980" y="2319"/>
                </a:lnTo>
                <a:lnTo>
                  <a:pt x="975" y="2334"/>
                </a:lnTo>
                <a:lnTo>
                  <a:pt x="960" y="2328"/>
                </a:lnTo>
                <a:lnTo>
                  <a:pt x="950" y="2314"/>
                </a:lnTo>
                <a:lnTo>
                  <a:pt x="935" y="2303"/>
                </a:lnTo>
                <a:lnTo>
                  <a:pt x="925" y="2288"/>
                </a:lnTo>
                <a:lnTo>
                  <a:pt x="911" y="2279"/>
                </a:lnTo>
                <a:lnTo>
                  <a:pt x="901" y="2263"/>
                </a:lnTo>
                <a:lnTo>
                  <a:pt x="886" y="2249"/>
                </a:lnTo>
                <a:lnTo>
                  <a:pt x="872" y="2238"/>
                </a:lnTo>
                <a:lnTo>
                  <a:pt x="856" y="2229"/>
                </a:lnTo>
                <a:lnTo>
                  <a:pt x="847" y="2213"/>
                </a:lnTo>
                <a:lnTo>
                  <a:pt x="832" y="2193"/>
                </a:lnTo>
                <a:lnTo>
                  <a:pt x="822" y="2173"/>
                </a:lnTo>
                <a:lnTo>
                  <a:pt x="812" y="2159"/>
                </a:lnTo>
                <a:lnTo>
                  <a:pt x="797" y="2143"/>
                </a:lnTo>
                <a:lnTo>
                  <a:pt x="783" y="2103"/>
                </a:lnTo>
                <a:lnTo>
                  <a:pt x="768" y="2088"/>
                </a:lnTo>
                <a:lnTo>
                  <a:pt x="758" y="2073"/>
                </a:lnTo>
                <a:lnTo>
                  <a:pt x="748" y="2058"/>
                </a:lnTo>
                <a:lnTo>
                  <a:pt x="738" y="2043"/>
                </a:lnTo>
                <a:lnTo>
                  <a:pt x="734" y="2023"/>
                </a:lnTo>
                <a:lnTo>
                  <a:pt x="718" y="1983"/>
                </a:lnTo>
                <a:lnTo>
                  <a:pt x="704" y="1943"/>
                </a:lnTo>
                <a:lnTo>
                  <a:pt x="694" y="1923"/>
                </a:lnTo>
                <a:lnTo>
                  <a:pt x="684" y="1908"/>
                </a:lnTo>
                <a:lnTo>
                  <a:pt x="674" y="1893"/>
                </a:lnTo>
                <a:lnTo>
                  <a:pt x="665" y="1878"/>
                </a:lnTo>
                <a:lnTo>
                  <a:pt x="660" y="1863"/>
                </a:lnTo>
                <a:lnTo>
                  <a:pt x="654" y="1848"/>
                </a:lnTo>
                <a:lnTo>
                  <a:pt x="649" y="1833"/>
                </a:lnTo>
                <a:lnTo>
                  <a:pt x="640" y="1818"/>
                </a:lnTo>
                <a:lnTo>
                  <a:pt x="630" y="1803"/>
                </a:lnTo>
                <a:lnTo>
                  <a:pt x="625" y="1788"/>
                </a:lnTo>
                <a:lnTo>
                  <a:pt x="620" y="1772"/>
                </a:lnTo>
                <a:lnTo>
                  <a:pt x="620" y="1752"/>
                </a:lnTo>
                <a:lnTo>
                  <a:pt x="615" y="1738"/>
                </a:lnTo>
                <a:lnTo>
                  <a:pt x="615" y="1723"/>
                </a:lnTo>
                <a:lnTo>
                  <a:pt x="615" y="1707"/>
                </a:lnTo>
                <a:lnTo>
                  <a:pt x="615" y="1693"/>
                </a:lnTo>
                <a:lnTo>
                  <a:pt x="615" y="1678"/>
                </a:lnTo>
                <a:lnTo>
                  <a:pt x="615" y="1662"/>
                </a:lnTo>
                <a:lnTo>
                  <a:pt x="615" y="1648"/>
                </a:lnTo>
                <a:lnTo>
                  <a:pt x="615" y="1633"/>
                </a:lnTo>
                <a:lnTo>
                  <a:pt x="615" y="1592"/>
                </a:lnTo>
                <a:lnTo>
                  <a:pt x="610" y="1577"/>
                </a:lnTo>
                <a:lnTo>
                  <a:pt x="610" y="1563"/>
                </a:lnTo>
                <a:lnTo>
                  <a:pt x="610" y="1547"/>
                </a:lnTo>
                <a:lnTo>
                  <a:pt x="610" y="1527"/>
                </a:lnTo>
                <a:lnTo>
                  <a:pt x="610" y="1512"/>
                </a:lnTo>
                <a:lnTo>
                  <a:pt x="615" y="1497"/>
                </a:lnTo>
                <a:lnTo>
                  <a:pt x="620" y="1482"/>
                </a:lnTo>
                <a:lnTo>
                  <a:pt x="630" y="1467"/>
                </a:lnTo>
                <a:lnTo>
                  <a:pt x="630" y="1448"/>
                </a:lnTo>
                <a:lnTo>
                  <a:pt x="630" y="1417"/>
                </a:lnTo>
                <a:lnTo>
                  <a:pt x="630" y="1397"/>
                </a:lnTo>
                <a:lnTo>
                  <a:pt x="630" y="1382"/>
                </a:lnTo>
                <a:lnTo>
                  <a:pt x="635" y="1362"/>
                </a:lnTo>
                <a:lnTo>
                  <a:pt x="635" y="1342"/>
                </a:lnTo>
                <a:lnTo>
                  <a:pt x="635" y="1327"/>
                </a:lnTo>
                <a:lnTo>
                  <a:pt x="635" y="1312"/>
                </a:lnTo>
                <a:lnTo>
                  <a:pt x="635" y="1297"/>
                </a:lnTo>
                <a:lnTo>
                  <a:pt x="635" y="1282"/>
                </a:lnTo>
                <a:lnTo>
                  <a:pt x="630" y="1267"/>
                </a:lnTo>
                <a:lnTo>
                  <a:pt x="625" y="1247"/>
                </a:lnTo>
                <a:lnTo>
                  <a:pt x="625" y="1232"/>
                </a:lnTo>
                <a:lnTo>
                  <a:pt x="620" y="1217"/>
                </a:lnTo>
                <a:lnTo>
                  <a:pt x="610" y="1196"/>
                </a:lnTo>
                <a:lnTo>
                  <a:pt x="601" y="1182"/>
                </a:lnTo>
                <a:lnTo>
                  <a:pt x="591" y="1167"/>
                </a:lnTo>
                <a:lnTo>
                  <a:pt x="585" y="1151"/>
                </a:lnTo>
                <a:lnTo>
                  <a:pt x="576" y="1131"/>
                </a:lnTo>
                <a:lnTo>
                  <a:pt x="571" y="1117"/>
                </a:lnTo>
                <a:lnTo>
                  <a:pt x="561" y="1102"/>
                </a:lnTo>
                <a:lnTo>
                  <a:pt x="556" y="1086"/>
                </a:lnTo>
                <a:lnTo>
                  <a:pt x="546" y="1072"/>
                </a:lnTo>
                <a:lnTo>
                  <a:pt x="536" y="1057"/>
                </a:lnTo>
                <a:lnTo>
                  <a:pt x="522" y="1041"/>
                </a:lnTo>
                <a:lnTo>
                  <a:pt x="511" y="1021"/>
                </a:lnTo>
                <a:lnTo>
                  <a:pt x="497" y="1007"/>
                </a:lnTo>
                <a:lnTo>
                  <a:pt x="487" y="991"/>
                </a:lnTo>
                <a:lnTo>
                  <a:pt x="472" y="976"/>
                </a:lnTo>
                <a:lnTo>
                  <a:pt x="463" y="962"/>
                </a:lnTo>
                <a:lnTo>
                  <a:pt x="453" y="946"/>
                </a:lnTo>
                <a:lnTo>
                  <a:pt x="442" y="931"/>
                </a:lnTo>
                <a:lnTo>
                  <a:pt x="433" y="917"/>
                </a:lnTo>
                <a:lnTo>
                  <a:pt x="423" y="881"/>
                </a:lnTo>
                <a:lnTo>
                  <a:pt x="413" y="861"/>
                </a:lnTo>
                <a:lnTo>
                  <a:pt x="398" y="841"/>
                </a:lnTo>
                <a:lnTo>
                  <a:pt x="389" y="827"/>
                </a:lnTo>
                <a:lnTo>
                  <a:pt x="373" y="811"/>
                </a:lnTo>
                <a:lnTo>
                  <a:pt x="369" y="796"/>
                </a:lnTo>
                <a:lnTo>
                  <a:pt x="359" y="782"/>
                </a:lnTo>
                <a:lnTo>
                  <a:pt x="350" y="766"/>
                </a:lnTo>
                <a:lnTo>
                  <a:pt x="339" y="751"/>
                </a:lnTo>
                <a:lnTo>
                  <a:pt x="329" y="736"/>
                </a:lnTo>
                <a:lnTo>
                  <a:pt x="325" y="721"/>
                </a:lnTo>
                <a:lnTo>
                  <a:pt x="320" y="706"/>
                </a:lnTo>
                <a:lnTo>
                  <a:pt x="304" y="666"/>
                </a:lnTo>
                <a:lnTo>
                  <a:pt x="300" y="651"/>
                </a:lnTo>
                <a:lnTo>
                  <a:pt x="290" y="636"/>
                </a:lnTo>
                <a:lnTo>
                  <a:pt x="281" y="616"/>
                </a:lnTo>
                <a:lnTo>
                  <a:pt x="275" y="601"/>
                </a:lnTo>
                <a:lnTo>
                  <a:pt x="260" y="586"/>
                </a:lnTo>
                <a:lnTo>
                  <a:pt x="256" y="571"/>
                </a:lnTo>
                <a:lnTo>
                  <a:pt x="235" y="561"/>
                </a:lnTo>
                <a:lnTo>
                  <a:pt x="231" y="546"/>
                </a:lnTo>
                <a:lnTo>
                  <a:pt x="221" y="530"/>
                </a:lnTo>
                <a:lnTo>
                  <a:pt x="206" y="510"/>
                </a:lnTo>
                <a:lnTo>
                  <a:pt x="201" y="496"/>
                </a:lnTo>
                <a:lnTo>
                  <a:pt x="191" y="481"/>
                </a:lnTo>
                <a:lnTo>
                  <a:pt x="177" y="465"/>
                </a:lnTo>
                <a:lnTo>
                  <a:pt x="147" y="436"/>
                </a:lnTo>
                <a:lnTo>
                  <a:pt x="143" y="420"/>
                </a:lnTo>
                <a:lnTo>
                  <a:pt x="137" y="406"/>
                </a:lnTo>
                <a:lnTo>
                  <a:pt x="127" y="391"/>
                </a:lnTo>
                <a:lnTo>
                  <a:pt x="113" y="375"/>
                </a:lnTo>
                <a:lnTo>
                  <a:pt x="98" y="361"/>
                </a:lnTo>
                <a:lnTo>
                  <a:pt x="88" y="345"/>
                </a:lnTo>
                <a:lnTo>
                  <a:pt x="83" y="330"/>
                </a:lnTo>
                <a:lnTo>
                  <a:pt x="74" y="310"/>
                </a:lnTo>
                <a:lnTo>
                  <a:pt x="68" y="296"/>
                </a:lnTo>
                <a:lnTo>
                  <a:pt x="58" y="280"/>
                </a:lnTo>
                <a:lnTo>
                  <a:pt x="44" y="240"/>
                </a:lnTo>
                <a:lnTo>
                  <a:pt x="39" y="226"/>
                </a:lnTo>
                <a:lnTo>
                  <a:pt x="29" y="210"/>
                </a:lnTo>
                <a:lnTo>
                  <a:pt x="24" y="195"/>
                </a:lnTo>
                <a:lnTo>
                  <a:pt x="24" y="181"/>
                </a:lnTo>
                <a:lnTo>
                  <a:pt x="19" y="165"/>
                </a:lnTo>
                <a:lnTo>
                  <a:pt x="9" y="150"/>
                </a:lnTo>
                <a:lnTo>
                  <a:pt x="5" y="135"/>
                </a:lnTo>
                <a:lnTo>
                  <a:pt x="5" y="120"/>
                </a:lnTo>
                <a:lnTo>
                  <a:pt x="5" y="105"/>
                </a:lnTo>
                <a:lnTo>
                  <a:pt x="5" y="70"/>
                </a:lnTo>
                <a:lnTo>
                  <a:pt x="5" y="40"/>
                </a:lnTo>
                <a:lnTo>
                  <a:pt x="0" y="25"/>
                </a:lnTo>
                <a:lnTo>
                  <a:pt x="0" y="10"/>
                </a:lnTo>
                <a:lnTo>
                  <a:pt x="19" y="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06920" y="2577960"/>
            <a:ext cx="102960" cy="93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577960"/>
            <a:ext cx="1033560" cy="7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43440" y="2644920"/>
            <a:ext cx="25560" cy="9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6920" y="3514680"/>
            <a:ext cx="33336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2360" y="3581280"/>
            <a:ext cx="84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89160" y="3571920"/>
            <a:ext cx="50760" cy="9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9800" y="4525920"/>
            <a:ext cx="9493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19320" y="4538520"/>
            <a:ext cx="60120" cy="998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0840" y="3083040"/>
            <a:ext cx="95724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1320" y="1697040"/>
            <a:ext cx="76212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5520" y="1735200"/>
            <a:ext cx="7920" cy="9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3440" y="1727280"/>
            <a:ext cx="306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24600" y="1704960"/>
            <a:ext cx="2728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51360" y="2391840"/>
            <a:ext cx="7398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25960" y="1568520"/>
            <a:ext cx="8744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9120" y="1360440"/>
            <a:ext cx="61128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89440" y="1521000"/>
            <a:ext cx="87120" cy="37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757600"/>
            <a:ext cx="66060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2480" y="2952720"/>
            <a:ext cx="48564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98520" y="3187800"/>
            <a:ext cx="142920" cy="10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14640" y="2952720"/>
            <a:ext cx="177840" cy="70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4640" y="3665520"/>
            <a:ext cx="771480" cy="120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8760" y="2652840"/>
            <a:ext cx="101520" cy="423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21160" y="2692440"/>
            <a:ext cx="16020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59280" y="3082680"/>
            <a:ext cx="824040" cy="2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86280" y="3591000"/>
            <a:ext cx="3128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9120" y="3591000"/>
            <a:ext cx="42840" cy="973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456408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62680" y="4545000"/>
            <a:ext cx="9360" cy="1265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62680" y="4668480"/>
            <a:ext cx="5713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03880" y="5830560"/>
            <a:ext cx="65880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9800" y="4386240"/>
            <a:ext cx="60156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49680" y="4491000"/>
            <a:ext cx="3301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49800" y="1697040"/>
            <a:ext cx="49212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14800" y="5883120"/>
            <a:ext cx="14436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56120" y="1568520"/>
            <a:ext cx="366480" cy="1133280"/>
          </a:xfrm>
          <a:custGeom>
            <a:avLst/>
            <a:gdLst/>
            <a:ahLst/>
            <a:rect l="l" t="t" r="r" b="b"/>
            <a:pathLst>
              <a:path w="231" h="714">
                <a:moveTo>
                  <a:pt x="25" y="0"/>
                </a:moveTo>
                <a:lnTo>
                  <a:pt x="21" y="23"/>
                </a:lnTo>
                <a:lnTo>
                  <a:pt x="15" y="40"/>
                </a:lnTo>
                <a:lnTo>
                  <a:pt x="10" y="58"/>
                </a:lnTo>
                <a:lnTo>
                  <a:pt x="15" y="76"/>
                </a:lnTo>
                <a:lnTo>
                  <a:pt x="15" y="93"/>
                </a:lnTo>
                <a:lnTo>
                  <a:pt x="0" y="99"/>
                </a:lnTo>
                <a:lnTo>
                  <a:pt x="4" y="117"/>
                </a:lnTo>
                <a:lnTo>
                  <a:pt x="15" y="135"/>
                </a:lnTo>
                <a:lnTo>
                  <a:pt x="15" y="153"/>
                </a:lnTo>
                <a:lnTo>
                  <a:pt x="15" y="170"/>
                </a:lnTo>
                <a:lnTo>
                  <a:pt x="25" y="188"/>
                </a:lnTo>
                <a:lnTo>
                  <a:pt x="25" y="206"/>
                </a:lnTo>
                <a:lnTo>
                  <a:pt x="25" y="223"/>
                </a:lnTo>
                <a:lnTo>
                  <a:pt x="25" y="241"/>
                </a:lnTo>
                <a:lnTo>
                  <a:pt x="42" y="252"/>
                </a:lnTo>
                <a:lnTo>
                  <a:pt x="48" y="271"/>
                </a:lnTo>
                <a:lnTo>
                  <a:pt x="63" y="288"/>
                </a:lnTo>
                <a:lnTo>
                  <a:pt x="69" y="306"/>
                </a:lnTo>
                <a:lnTo>
                  <a:pt x="74" y="324"/>
                </a:lnTo>
                <a:lnTo>
                  <a:pt x="85" y="341"/>
                </a:lnTo>
                <a:lnTo>
                  <a:pt x="101" y="347"/>
                </a:lnTo>
                <a:lnTo>
                  <a:pt x="117" y="359"/>
                </a:lnTo>
                <a:lnTo>
                  <a:pt x="127" y="377"/>
                </a:lnTo>
                <a:lnTo>
                  <a:pt x="123" y="394"/>
                </a:lnTo>
                <a:lnTo>
                  <a:pt x="112" y="412"/>
                </a:lnTo>
                <a:lnTo>
                  <a:pt x="96" y="424"/>
                </a:lnTo>
                <a:lnTo>
                  <a:pt x="96" y="441"/>
                </a:lnTo>
                <a:lnTo>
                  <a:pt x="85" y="460"/>
                </a:lnTo>
                <a:lnTo>
                  <a:pt x="85" y="477"/>
                </a:lnTo>
                <a:lnTo>
                  <a:pt x="96" y="494"/>
                </a:lnTo>
                <a:lnTo>
                  <a:pt x="101" y="513"/>
                </a:lnTo>
                <a:lnTo>
                  <a:pt x="117" y="524"/>
                </a:lnTo>
                <a:lnTo>
                  <a:pt x="133" y="536"/>
                </a:lnTo>
                <a:lnTo>
                  <a:pt x="149" y="547"/>
                </a:lnTo>
                <a:lnTo>
                  <a:pt x="154" y="566"/>
                </a:lnTo>
                <a:lnTo>
                  <a:pt x="160" y="583"/>
                </a:lnTo>
                <a:lnTo>
                  <a:pt x="171" y="600"/>
                </a:lnTo>
                <a:lnTo>
                  <a:pt x="176" y="619"/>
                </a:lnTo>
                <a:lnTo>
                  <a:pt x="181" y="636"/>
                </a:lnTo>
                <a:lnTo>
                  <a:pt x="187" y="653"/>
                </a:lnTo>
                <a:lnTo>
                  <a:pt x="192" y="672"/>
                </a:lnTo>
                <a:lnTo>
                  <a:pt x="208" y="683"/>
                </a:lnTo>
                <a:lnTo>
                  <a:pt x="214" y="701"/>
                </a:lnTo>
                <a:lnTo>
                  <a:pt x="230" y="706"/>
                </a:lnTo>
                <a:lnTo>
                  <a:pt x="230" y="713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16040" y="1352520"/>
            <a:ext cx="399960" cy="1517760"/>
          </a:xfrm>
          <a:custGeom>
            <a:avLst/>
            <a:gdLst/>
            <a:ahLst/>
            <a:rect l="l" t="t" r="r" b="b"/>
            <a:pathLst>
              <a:path w="252" h="956">
                <a:moveTo>
                  <a:pt x="234" y="0"/>
                </a:moveTo>
                <a:lnTo>
                  <a:pt x="245" y="23"/>
                </a:lnTo>
                <a:lnTo>
                  <a:pt x="239" y="40"/>
                </a:lnTo>
                <a:lnTo>
                  <a:pt x="251" y="64"/>
                </a:lnTo>
                <a:lnTo>
                  <a:pt x="251" y="81"/>
                </a:lnTo>
                <a:lnTo>
                  <a:pt x="251" y="99"/>
                </a:lnTo>
                <a:lnTo>
                  <a:pt x="245" y="117"/>
                </a:lnTo>
                <a:lnTo>
                  <a:pt x="239" y="135"/>
                </a:lnTo>
                <a:lnTo>
                  <a:pt x="239" y="153"/>
                </a:lnTo>
                <a:lnTo>
                  <a:pt x="239" y="170"/>
                </a:lnTo>
                <a:lnTo>
                  <a:pt x="251" y="188"/>
                </a:lnTo>
                <a:lnTo>
                  <a:pt x="251" y="206"/>
                </a:lnTo>
                <a:lnTo>
                  <a:pt x="239" y="223"/>
                </a:lnTo>
                <a:lnTo>
                  <a:pt x="224" y="229"/>
                </a:lnTo>
                <a:lnTo>
                  <a:pt x="213" y="246"/>
                </a:lnTo>
                <a:lnTo>
                  <a:pt x="207" y="265"/>
                </a:lnTo>
                <a:lnTo>
                  <a:pt x="203" y="282"/>
                </a:lnTo>
                <a:lnTo>
                  <a:pt x="197" y="299"/>
                </a:lnTo>
                <a:lnTo>
                  <a:pt x="197" y="318"/>
                </a:lnTo>
                <a:lnTo>
                  <a:pt x="191" y="335"/>
                </a:lnTo>
                <a:lnTo>
                  <a:pt x="186" y="353"/>
                </a:lnTo>
                <a:lnTo>
                  <a:pt x="186" y="371"/>
                </a:lnTo>
                <a:lnTo>
                  <a:pt x="186" y="388"/>
                </a:lnTo>
                <a:lnTo>
                  <a:pt x="186" y="407"/>
                </a:lnTo>
                <a:lnTo>
                  <a:pt x="186" y="424"/>
                </a:lnTo>
                <a:lnTo>
                  <a:pt x="186" y="441"/>
                </a:lnTo>
                <a:lnTo>
                  <a:pt x="186" y="460"/>
                </a:lnTo>
                <a:lnTo>
                  <a:pt x="186" y="477"/>
                </a:lnTo>
                <a:lnTo>
                  <a:pt x="186" y="494"/>
                </a:lnTo>
                <a:lnTo>
                  <a:pt x="176" y="513"/>
                </a:lnTo>
                <a:lnTo>
                  <a:pt x="165" y="530"/>
                </a:lnTo>
                <a:lnTo>
                  <a:pt x="159" y="547"/>
                </a:lnTo>
                <a:lnTo>
                  <a:pt x="149" y="566"/>
                </a:lnTo>
                <a:lnTo>
                  <a:pt x="132" y="577"/>
                </a:lnTo>
                <a:lnTo>
                  <a:pt x="117" y="583"/>
                </a:lnTo>
                <a:lnTo>
                  <a:pt x="111" y="600"/>
                </a:lnTo>
                <a:lnTo>
                  <a:pt x="111" y="619"/>
                </a:lnTo>
                <a:lnTo>
                  <a:pt x="111" y="636"/>
                </a:lnTo>
                <a:lnTo>
                  <a:pt x="111" y="654"/>
                </a:lnTo>
                <a:lnTo>
                  <a:pt x="111" y="672"/>
                </a:lnTo>
                <a:lnTo>
                  <a:pt x="95" y="678"/>
                </a:lnTo>
                <a:lnTo>
                  <a:pt x="84" y="695"/>
                </a:lnTo>
                <a:lnTo>
                  <a:pt x="69" y="701"/>
                </a:lnTo>
                <a:lnTo>
                  <a:pt x="58" y="719"/>
                </a:lnTo>
                <a:lnTo>
                  <a:pt x="47" y="736"/>
                </a:lnTo>
                <a:lnTo>
                  <a:pt x="32" y="748"/>
                </a:lnTo>
                <a:lnTo>
                  <a:pt x="21" y="766"/>
                </a:lnTo>
                <a:lnTo>
                  <a:pt x="21" y="784"/>
                </a:lnTo>
                <a:lnTo>
                  <a:pt x="10" y="801"/>
                </a:lnTo>
                <a:lnTo>
                  <a:pt x="0" y="819"/>
                </a:lnTo>
                <a:lnTo>
                  <a:pt x="0" y="837"/>
                </a:lnTo>
                <a:lnTo>
                  <a:pt x="0" y="855"/>
                </a:lnTo>
                <a:lnTo>
                  <a:pt x="0" y="872"/>
                </a:lnTo>
                <a:lnTo>
                  <a:pt x="0" y="890"/>
                </a:lnTo>
                <a:lnTo>
                  <a:pt x="0" y="908"/>
                </a:lnTo>
                <a:lnTo>
                  <a:pt x="0" y="925"/>
                </a:lnTo>
                <a:lnTo>
                  <a:pt x="0" y="943"/>
                </a:lnTo>
                <a:lnTo>
                  <a:pt x="0" y="95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8800" y="1339920"/>
            <a:ext cx="306360" cy="274680"/>
          </a:xfrm>
          <a:custGeom>
            <a:avLst/>
            <a:gdLst/>
            <a:ahLst/>
            <a:rect l="l" t="t" r="r" b="b"/>
            <a:pathLst>
              <a:path w="193" h="173">
                <a:moveTo>
                  <a:pt x="192" y="0"/>
                </a:moveTo>
                <a:lnTo>
                  <a:pt x="175" y="23"/>
                </a:lnTo>
                <a:lnTo>
                  <a:pt x="165" y="41"/>
                </a:lnTo>
                <a:lnTo>
                  <a:pt x="159" y="59"/>
                </a:lnTo>
                <a:lnTo>
                  <a:pt x="154" y="77"/>
                </a:lnTo>
                <a:lnTo>
                  <a:pt x="154" y="94"/>
                </a:lnTo>
                <a:lnTo>
                  <a:pt x="154" y="113"/>
                </a:lnTo>
                <a:lnTo>
                  <a:pt x="144" y="130"/>
                </a:lnTo>
                <a:lnTo>
                  <a:pt x="127" y="136"/>
                </a:lnTo>
                <a:lnTo>
                  <a:pt x="111" y="143"/>
                </a:lnTo>
                <a:lnTo>
                  <a:pt x="100" y="160"/>
                </a:lnTo>
                <a:lnTo>
                  <a:pt x="84" y="166"/>
                </a:lnTo>
                <a:lnTo>
                  <a:pt x="69" y="172"/>
                </a:lnTo>
                <a:lnTo>
                  <a:pt x="69" y="154"/>
                </a:lnTo>
                <a:lnTo>
                  <a:pt x="84" y="148"/>
                </a:lnTo>
                <a:lnTo>
                  <a:pt x="100" y="136"/>
                </a:lnTo>
                <a:lnTo>
                  <a:pt x="111" y="118"/>
                </a:lnTo>
                <a:lnTo>
                  <a:pt x="117" y="100"/>
                </a:lnTo>
                <a:lnTo>
                  <a:pt x="117" y="83"/>
                </a:lnTo>
                <a:lnTo>
                  <a:pt x="111" y="64"/>
                </a:lnTo>
                <a:lnTo>
                  <a:pt x="96" y="59"/>
                </a:lnTo>
                <a:lnTo>
                  <a:pt x="79" y="59"/>
                </a:lnTo>
                <a:lnTo>
                  <a:pt x="63" y="53"/>
                </a:lnTo>
                <a:lnTo>
                  <a:pt x="48" y="35"/>
                </a:lnTo>
                <a:lnTo>
                  <a:pt x="31" y="29"/>
                </a:lnTo>
                <a:lnTo>
                  <a:pt x="15" y="17"/>
                </a:lnTo>
                <a:lnTo>
                  <a:pt x="0" y="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1880" y="4199040"/>
            <a:ext cx="696960" cy="1190520"/>
          </a:xfrm>
          <a:custGeom>
            <a:avLst/>
            <a:gdLst/>
            <a:ahLst/>
            <a:rect l="l" t="t" r="r" b="b"/>
            <a:pathLst>
              <a:path w="439" h="750">
                <a:moveTo>
                  <a:pt x="0" y="0"/>
                </a:moveTo>
                <a:lnTo>
                  <a:pt x="0" y="24"/>
                </a:lnTo>
                <a:lnTo>
                  <a:pt x="0" y="41"/>
                </a:lnTo>
                <a:lnTo>
                  <a:pt x="0" y="59"/>
                </a:lnTo>
                <a:lnTo>
                  <a:pt x="16" y="77"/>
                </a:lnTo>
                <a:lnTo>
                  <a:pt x="26" y="94"/>
                </a:lnTo>
                <a:lnTo>
                  <a:pt x="43" y="100"/>
                </a:lnTo>
                <a:lnTo>
                  <a:pt x="43" y="118"/>
                </a:lnTo>
                <a:lnTo>
                  <a:pt x="43" y="135"/>
                </a:lnTo>
                <a:lnTo>
                  <a:pt x="43" y="153"/>
                </a:lnTo>
                <a:lnTo>
                  <a:pt x="43" y="171"/>
                </a:lnTo>
                <a:lnTo>
                  <a:pt x="53" y="188"/>
                </a:lnTo>
                <a:lnTo>
                  <a:pt x="70" y="200"/>
                </a:lnTo>
                <a:lnTo>
                  <a:pt x="80" y="218"/>
                </a:lnTo>
                <a:lnTo>
                  <a:pt x="85" y="236"/>
                </a:lnTo>
                <a:lnTo>
                  <a:pt x="85" y="253"/>
                </a:lnTo>
                <a:lnTo>
                  <a:pt x="85" y="271"/>
                </a:lnTo>
                <a:lnTo>
                  <a:pt x="74" y="289"/>
                </a:lnTo>
                <a:lnTo>
                  <a:pt x="74" y="306"/>
                </a:lnTo>
                <a:lnTo>
                  <a:pt x="80" y="324"/>
                </a:lnTo>
                <a:lnTo>
                  <a:pt x="95" y="324"/>
                </a:lnTo>
                <a:lnTo>
                  <a:pt x="112" y="336"/>
                </a:lnTo>
                <a:lnTo>
                  <a:pt x="128" y="353"/>
                </a:lnTo>
                <a:lnTo>
                  <a:pt x="144" y="365"/>
                </a:lnTo>
                <a:lnTo>
                  <a:pt x="160" y="371"/>
                </a:lnTo>
                <a:lnTo>
                  <a:pt x="176" y="378"/>
                </a:lnTo>
                <a:lnTo>
                  <a:pt x="192" y="383"/>
                </a:lnTo>
                <a:lnTo>
                  <a:pt x="208" y="395"/>
                </a:lnTo>
                <a:lnTo>
                  <a:pt x="219" y="412"/>
                </a:lnTo>
                <a:lnTo>
                  <a:pt x="235" y="431"/>
                </a:lnTo>
                <a:lnTo>
                  <a:pt x="250" y="448"/>
                </a:lnTo>
                <a:lnTo>
                  <a:pt x="267" y="459"/>
                </a:lnTo>
                <a:lnTo>
                  <a:pt x="277" y="477"/>
                </a:lnTo>
                <a:lnTo>
                  <a:pt x="288" y="495"/>
                </a:lnTo>
                <a:lnTo>
                  <a:pt x="298" y="512"/>
                </a:lnTo>
                <a:lnTo>
                  <a:pt x="309" y="530"/>
                </a:lnTo>
                <a:lnTo>
                  <a:pt x="315" y="548"/>
                </a:lnTo>
                <a:lnTo>
                  <a:pt x="331" y="560"/>
                </a:lnTo>
                <a:lnTo>
                  <a:pt x="346" y="571"/>
                </a:lnTo>
                <a:lnTo>
                  <a:pt x="363" y="583"/>
                </a:lnTo>
                <a:lnTo>
                  <a:pt x="378" y="601"/>
                </a:lnTo>
                <a:lnTo>
                  <a:pt x="394" y="613"/>
                </a:lnTo>
                <a:lnTo>
                  <a:pt x="405" y="630"/>
                </a:lnTo>
                <a:lnTo>
                  <a:pt x="421" y="636"/>
                </a:lnTo>
                <a:lnTo>
                  <a:pt x="426" y="654"/>
                </a:lnTo>
                <a:lnTo>
                  <a:pt x="432" y="672"/>
                </a:lnTo>
                <a:lnTo>
                  <a:pt x="432" y="689"/>
                </a:lnTo>
                <a:lnTo>
                  <a:pt x="432" y="707"/>
                </a:lnTo>
                <a:lnTo>
                  <a:pt x="438" y="725"/>
                </a:lnTo>
                <a:lnTo>
                  <a:pt x="438" y="742"/>
                </a:lnTo>
                <a:lnTo>
                  <a:pt x="438" y="74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6880" y="2868480"/>
            <a:ext cx="204840" cy="1322640"/>
          </a:xfrm>
          <a:custGeom>
            <a:avLst/>
            <a:gdLst/>
            <a:ahLst/>
            <a:rect l="l" t="t" r="r" b="b"/>
            <a:pathLst>
              <a:path w="129" h="833">
                <a:moveTo>
                  <a:pt x="74" y="0"/>
                </a:moveTo>
                <a:lnTo>
                  <a:pt x="63" y="23"/>
                </a:lnTo>
                <a:lnTo>
                  <a:pt x="47" y="35"/>
                </a:lnTo>
                <a:lnTo>
                  <a:pt x="47" y="53"/>
                </a:lnTo>
                <a:lnTo>
                  <a:pt x="36" y="76"/>
                </a:lnTo>
                <a:lnTo>
                  <a:pt x="21" y="88"/>
                </a:lnTo>
                <a:lnTo>
                  <a:pt x="10" y="106"/>
                </a:lnTo>
                <a:lnTo>
                  <a:pt x="5" y="124"/>
                </a:lnTo>
                <a:lnTo>
                  <a:pt x="5" y="141"/>
                </a:lnTo>
                <a:lnTo>
                  <a:pt x="5" y="159"/>
                </a:lnTo>
                <a:lnTo>
                  <a:pt x="5" y="177"/>
                </a:lnTo>
                <a:lnTo>
                  <a:pt x="5" y="194"/>
                </a:lnTo>
                <a:lnTo>
                  <a:pt x="0" y="212"/>
                </a:lnTo>
                <a:lnTo>
                  <a:pt x="15" y="218"/>
                </a:lnTo>
                <a:lnTo>
                  <a:pt x="26" y="236"/>
                </a:lnTo>
                <a:lnTo>
                  <a:pt x="26" y="253"/>
                </a:lnTo>
                <a:lnTo>
                  <a:pt x="21" y="271"/>
                </a:lnTo>
                <a:lnTo>
                  <a:pt x="15" y="289"/>
                </a:lnTo>
                <a:lnTo>
                  <a:pt x="10" y="306"/>
                </a:lnTo>
                <a:lnTo>
                  <a:pt x="10" y="324"/>
                </a:lnTo>
                <a:lnTo>
                  <a:pt x="10" y="342"/>
                </a:lnTo>
                <a:lnTo>
                  <a:pt x="15" y="359"/>
                </a:lnTo>
                <a:lnTo>
                  <a:pt x="15" y="377"/>
                </a:lnTo>
                <a:lnTo>
                  <a:pt x="15" y="395"/>
                </a:lnTo>
                <a:lnTo>
                  <a:pt x="15" y="412"/>
                </a:lnTo>
                <a:lnTo>
                  <a:pt x="5" y="430"/>
                </a:lnTo>
                <a:lnTo>
                  <a:pt x="5" y="448"/>
                </a:lnTo>
                <a:lnTo>
                  <a:pt x="21" y="459"/>
                </a:lnTo>
                <a:lnTo>
                  <a:pt x="36" y="478"/>
                </a:lnTo>
                <a:lnTo>
                  <a:pt x="42" y="495"/>
                </a:lnTo>
                <a:lnTo>
                  <a:pt x="47" y="512"/>
                </a:lnTo>
                <a:lnTo>
                  <a:pt x="47" y="531"/>
                </a:lnTo>
                <a:lnTo>
                  <a:pt x="47" y="548"/>
                </a:lnTo>
                <a:lnTo>
                  <a:pt x="47" y="565"/>
                </a:lnTo>
                <a:lnTo>
                  <a:pt x="47" y="584"/>
                </a:lnTo>
                <a:lnTo>
                  <a:pt x="63" y="595"/>
                </a:lnTo>
                <a:lnTo>
                  <a:pt x="80" y="595"/>
                </a:lnTo>
                <a:lnTo>
                  <a:pt x="84" y="578"/>
                </a:lnTo>
                <a:lnTo>
                  <a:pt x="95" y="560"/>
                </a:lnTo>
                <a:lnTo>
                  <a:pt x="111" y="560"/>
                </a:lnTo>
                <a:lnTo>
                  <a:pt x="128" y="572"/>
                </a:lnTo>
                <a:lnTo>
                  <a:pt x="116" y="590"/>
                </a:lnTo>
                <a:lnTo>
                  <a:pt x="106" y="607"/>
                </a:lnTo>
                <a:lnTo>
                  <a:pt x="106" y="625"/>
                </a:lnTo>
                <a:lnTo>
                  <a:pt x="106" y="643"/>
                </a:lnTo>
                <a:lnTo>
                  <a:pt x="90" y="637"/>
                </a:lnTo>
                <a:lnTo>
                  <a:pt x="74" y="625"/>
                </a:lnTo>
                <a:lnTo>
                  <a:pt x="74" y="643"/>
                </a:lnTo>
                <a:lnTo>
                  <a:pt x="69" y="660"/>
                </a:lnTo>
                <a:lnTo>
                  <a:pt x="69" y="678"/>
                </a:lnTo>
                <a:lnTo>
                  <a:pt x="69" y="696"/>
                </a:lnTo>
                <a:lnTo>
                  <a:pt x="69" y="713"/>
                </a:lnTo>
                <a:lnTo>
                  <a:pt x="80" y="731"/>
                </a:lnTo>
                <a:lnTo>
                  <a:pt x="90" y="749"/>
                </a:lnTo>
                <a:lnTo>
                  <a:pt x="95" y="766"/>
                </a:lnTo>
                <a:lnTo>
                  <a:pt x="101" y="784"/>
                </a:lnTo>
                <a:lnTo>
                  <a:pt x="101" y="802"/>
                </a:lnTo>
                <a:lnTo>
                  <a:pt x="101" y="819"/>
                </a:lnTo>
                <a:lnTo>
                  <a:pt x="95" y="83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01960" y="4395960"/>
            <a:ext cx="179280" cy="253800"/>
          </a:xfrm>
          <a:custGeom>
            <a:avLst/>
            <a:gdLst/>
            <a:ahLst/>
            <a:rect l="l" t="t" r="r" b="b"/>
            <a:pathLst>
              <a:path w="113" h="160">
                <a:moveTo>
                  <a:pt x="112" y="0"/>
                </a:moveTo>
                <a:lnTo>
                  <a:pt x="112" y="23"/>
                </a:lnTo>
                <a:lnTo>
                  <a:pt x="107" y="40"/>
                </a:lnTo>
                <a:lnTo>
                  <a:pt x="96" y="59"/>
                </a:lnTo>
                <a:lnTo>
                  <a:pt x="96" y="76"/>
                </a:lnTo>
                <a:lnTo>
                  <a:pt x="96" y="93"/>
                </a:lnTo>
                <a:lnTo>
                  <a:pt x="96" y="112"/>
                </a:lnTo>
                <a:lnTo>
                  <a:pt x="80" y="123"/>
                </a:lnTo>
                <a:lnTo>
                  <a:pt x="69" y="141"/>
                </a:lnTo>
                <a:lnTo>
                  <a:pt x="53" y="146"/>
                </a:lnTo>
                <a:lnTo>
                  <a:pt x="37" y="159"/>
                </a:lnTo>
                <a:lnTo>
                  <a:pt x="21" y="146"/>
                </a:lnTo>
                <a:lnTo>
                  <a:pt x="5" y="146"/>
                </a:lnTo>
                <a:lnTo>
                  <a:pt x="0" y="129"/>
                </a:lnTo>
                <a:lnTo>
                  <a:pt x="0" y="118"/>
                </a:lnTo>
                <a:lnTo>
                  <a:pt x="0" y="11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1886040"/>
            <a:ext cx="162000" cy="798480"/>
          </a:xfrm>
          <a:custGeom>
            <a:avLst/>
            <a:gdLst/>
            <a:ahLst/>
            <a:rect l="l" t="t" r="r" b="b"/>
            <a:pathLst>
              <a:path w="102" h="503">
                <a:moveTo>
                  <a:pt x="90" y="0"/>
                </a:moveTo>
                <a:lnTo>
                  <a:pt x="90" y="23"/>
                </a:lnTo>
                <a:lnTo>
                  <a:pt x="90" y="41"/>
                </a:lnTo>
                <a:lnTo>
                  <a:pt x="90" y="59"/>
                </a:lnTo>
                <a:lnTo>
                  <a:pt x="79" y="76"/>
                </a:lnTo>
                <a:lnTo>
                  <a:pt x="74" y="94"/>
                </a:lnTo>
                <a:lnTo>
                  <a:pt x="68" y="112"/>
                </a:lnTo>
                <a:lnTo>
                  <a:pt x="68" y="129"/>
                </a:lnTo>
                <a:lnTo>
                  <a:pt x="68" y="147"/>
                </a:lnTo>
                <a:lnTo>
                  <a:pt x="68" y="165"/>
                </a:lnTo>
                <a:lnTo>
                  <a:pt x="64" y="182"/>
                </a:lnTo>
                <a:lnTo>
                  <a:pt x="74" y="201"/>
                </a:lnTo>
                <a:lnTo>
                  <a:pt x="90" y="212"/>
                </a:lnTo>
                <a:lnTo>
                  <a:pt x="101" y="230"/>
                </a:lnTo>
                <a:lnTo>
                  <a:pt x="101" y="247"/>
                </a:lnTo>
                <a:lnTo>
                  <a:pt x="85" y="265"/>
                </a:lnTo>
                <a:lnTo>
                  <a:pt x="74" y="283"/>
                </a:lnTo>
                <a:lnTo>
                  <a:pt x="68" y="300"/>
                </a:lnTo>
                <a:lnTo>
                  <a:pt x="58" y="318"/>
                </a:lnTo>
                <a:lnTo>
                  <a:pt x="47" y="336"/>
                </a:lnTo>
                <a:lnTo>
                  <a:pt x="37" y="354"/>
                </a:lnTo>
                <a:lnTo>
                  <a:pt x="26" y="371"/>
                </a:lnTo>
                <a:lnTo>
                  <a:pt x="16" y="389"/>
                </a:lnTo>
                <a:lnTo>
                  <a:pt x="5" y="407"/>
                </a:lnTo>
                <a:lnTo>
                  <a:pt x="0" y="424"/>
                </a:lnTo>
                <a:lnTo>
                  <a:pt x="5" y="442"/>
                </a:lnTo>
                <a:lnTo>
                  <a:pt x="5" y="460"/>
                </a:lnTo>
                <a:lnTo>
                  <a:pt x="11" y="478"/>
                </a:lnTo>
                <a:lnTo>
                  <a:pt x="11" y="495"/>
                </a:lnTo>
                <a:lnTo>
                  <a:pt x="5" y="50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4920" y="2016000"/>
            <a:ext cx="858960" cy="169920"/>
          </a:xfrm>
          <a:custGeom>
            <a:avLst/>
            <a:gdLst/>
            <a:ahLst/>
            <a:rect l="l" t="t" r="r" b="b"/>
            <a:pathLst>
              <a:path w="541" h="107">
                <a:moveTo>
                  <a:pt x="0" y="0"/>
                </a:moveTo>
                <a:lnTo>
                  <a:pt x="21" y="12"/>
                </a:lnTo>
                <a:lnTo>
                  <a:pt x="37" y="23"/>
                </a:lnTo>
                <a:lnTo>
                  <a:pt x="53" y="23"/>
                </a:lnTo>
                <a:lnTo>
                  <a:pt x="69" y="23"/>
                </a:lnTo>
                <a:lnTo>
                  <a:pt x="80" y="6"/>
                </a:lnTo>
                <a:lnTo>
                  <a:pt x="96" y="6"/>
                </a:lnTo>
                <a:lnTo>
                  <a:pt x="112" y="17"/>
                </a:lnTo>
                <a:lnTo>
                  <a:pt x="122" y="35"/>
                </a:lnTo>
                <a:lnTo>
                  <a:pt x="139" y="41"/>
                </a:lnTo>
                <a:lnTo>
                  <a:pt x="155" y="41"/>
                </a:lnTo>
                <a:lnTo>
                  <a:pt x="171" y="41"/>
                </a:lnTo>
                <a:lnTo>
                  <a:pt x="187" y="41"/>
                </a:lnTo>
                <a:lnTo>
                  <a:pt x="203" y="41"/>
                </a:lnTo>
                <a:lnTo>
                  <a:pt x="219" y="41"/>
                </a:lnTo>
                <a:lnTo>
                  <a:pt x="235" y="41"/>
                </a:lnTo>
                <a:lnTo>
                  <a:pt x="251" y="41"/>
                </a:lnTo>
                <a:lnTo>
                  <a:pt x="267" y="46"/>
                </a:lnTo>
                <a:lnTo>
                  <a:pt x="283" y="46"/>
                </a:lnTo>
                <a:lnTo>
                  <a:pt x="299" y="53"/>
                </a:lnTo>
                <a:lnTo>
                  <a:pt x="316" y="53"/>
                </a:lnTo>
                <a:lnTo>
                  <a:pt x="331" y="53"/>
                </a:lnTo>
                <a:lnTo>
                  <a:pt x="347" y="53"/>
                </a:lnTo>
                <a:lnTo>
                  <a:pt x="364" y="53"/>
                </a:lnTo>
                <a:lnTo>
                  <a:pt x="380" y="59"/>
                </a:lnTo>
                <a:lnTo>
                  <a:pt x="395" y="65"/>
                </a:lnTo>
                <a:lnTo>
                  <a:pt x="412" y="70"/>
                </a:lnTo>
                <a:lnTo>
                  <a:pt x="428" y="76"/>
                </a:lnTo>
                <a:lnTo>
                  <a:pt x="443" y="82"/>
                </a:lnTo>
                <a:lnTo>
                  <a:pt x="460" y="88"/>
                </a:lnTo>
                <a:lnTo>
                  <a:pt x="476" y="88"/>
                </a:lnTo>
                <a:lnTo>
                  <a:pt x="491" y="94"/>
                </a:lnTo>
                <a:lnTo>
                  <a:pt x="508" y="99"/>
                </a:lnTo>
                <a:lnTo>
                  <a:pt x="524" y="106"/>
                </a:lnTo>
                <a:lnTo>
                  <a:pt x="540" y="10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07040" y="3789360"/>
            <a:ext cx="552240" cy="61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4000" y="4675320"/>
            <a:ext cx="49320" cy="477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41960" y="4544640"/>
            <a:ext cx="46044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6240" y="5388120"/>
            <a:ext cx="360360" cy="48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51120" y="5445000"/>
            <a:ext cx="830160" cy="57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5997600"/>
            <a:ext cx="2617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903480" y="5481720"/>
            <a:ext cx="36360" cy="56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44800" y="6016680"/>
            <a:ext cx="73080" cy="19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03840" y="6005160"/>
            <a:ext cx="136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6160" y="5913360"/>
            <a:ext cx="109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21200" y="5904000"/>
            <a:ext cx="79200" cy="85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3440" y="1612800"/>
            <a:ext cx="976320" cy="2757600"/>
          </a:xfrm>
          <a:custGeom>
            <a:avLst/>
            <a:gdLst/>
            <a:ahLst/>
            <a:rect l="l" t="t" r="r" b="b"/>
            <a:pathLst>
              <a:path w="615" h="1737">
                <a:moveTo>
                  <a:pt x="0" y="0"/>
                </a:moveTo>
                <a:lnTo>
                  <a:pt x="5" y="24"/>
                </a:lnTo>
                <a:lnTo>
                  <a:pt x="5" y="41"/>
                </a:lnTo>
                <a:lnTo>
                  <a:pt x="5" y="59"/>
                </a:lnTo>
                <a:lnTo>
                  <a:pt x="0" y="77"/>
                </a:lnTo>
                <a:lnTo>
                  <a:pt x="0" y="94"/>
                </a:lnTo>
                <a:lnTo>
                  <a:pt x="0" y="112"/>
                </a:lnTo>
                <a:lnTo>
                  <a:pt x="0" y="130"/>
                </a:lnTo>
                <a:lnTo>
                  <a:pt x="0" y="147"/>
                </a:lnTo>
                <a:lnTo>
                  <a:pt x="5" y="165"/>
                </a:lnTo>
                <a:lnTo>
                  <a:pt x="16" y="183"/>
                </a:lnTo>
                <a:lnTo>
                  <a:pt x="21" y="201"/>
                </a:lnTo>
                <a:lnTo>
                  <a:pt x="26" y="218"/>
                </a:lnTo>
                <a:lnTo>
                  <a:pt x="32" y="236"/>
                </a:lnTo>
                <a:lnTo>
                  <a:pt x="43" y="254"/>
                </a:lnTo>
                <a:lnTo>
                  <a:pt x="48" y="271"/>
                </a:lnTo>
                <a:lnTo>
                  <a:pt x="59" y="289"/>
                </a:lnTo>
                <a:lnTo>
                  <a:pt x="64" y="307"/>
                </a:lnTo>
                <a:lnTo>
                  <a:pt x="80" y="319"/>
                </a:lnTo>
                <a:lnTo>
                  <a:pt x="85" y="336"/>
                </a:lnTo>
                <a:lnTo>
                  <a:pt x="101" y="349"/>
                </a:lnTo>
                <a:lnTo>
                  <a:pt x="107" y="366"/>
                </a:lnTo>
                <a:lnTo>
                  <a:pt x="122" y="378"/>
                </a:lnTo>
                <a:lnTo>
                  <a:pt x="139" y="395"/>
                </a:lnTo>
                <a:lnTo>
                  <a:pt x="149" y="413"/>
                </a:lnTo>
                <a:lnTo>
                  <a:pt x="160" y="431"/>
                </a:lnTo>
                <a:lnTo>
                  <a:pt x="170" y="449"/>
                </a:lnTo>
                <a:lnTo>
                  <a:pt x="176" y="466"/>
                </a:lnTo>
                <a:lnTo>
                  <a:pt x="181" y="484"/>
                </a:lnTo>
                <a:lnTo>
                  <a:pt x="197" y="502"/>
                </a:lnTo>
                <a:lnTo>
                  <a:pt x="203" y="519"/>
                </a:lnTo>
                <a:lnTo>
                  <a:pt x="214" y="537"/>
                </a:lnTo>
                <a:lnTo>
                  <a:pt x="224" y="555"/>
                </a:lnTo>
                <a:lnTo>
                  <a:pt x="229" y="572"/>
                </a:lnTo>
                <a:lnTo>
                  <a:pt x="235" y="590"/>
                </a:lnTo>
                <a:lnTo>
                  <a:pt x="245" y="608"/>
                </a:lnTo>
                <a:lnTo>
                  <a:pt x="251" y="625"/>
                </a:lnTo>
                <a:lnTo>
                  <a:pt x="262" y="643"/>
                </a:lnTo>
                <a:lnTo>
                  <a:pt x="266" y="661"/>
                </a:lnTo>
                <a:lnTo>
                  <a:pt x="277" y="684"/>
                </a:lnTo>
                <a:lnTo>
                  <a:pt x="288" y="703"/>
                </a:lnTo>
                <a:lnTo>
                  <a:pt x="293" y="720"/>
                </a:lnTo>
                <a:lnTo>
                  <a:pt x="304" y="737"/>
                </a:lnTo>
                <a:lnTo>
                  <a:pt x="315" y="756"/>
                </a:lnTo>
                <a:lnTo>
                  <a:pt x="325" y="773"/>
                </a:lnTo>
                <a:lnTo>
                  <a:pt x="331" y="790"/>
                </a:lnTo>
                <a:lnTo>
                  <a:pt x="341" y="809"/>
                </a:lnTo>
                <a:lnTo>
                  <a:pt x="358" y="826"/>
                </a:lnTo>
                <a:lnTo>
                  <a:pt x="363" y="844"/>
                </a:lnTo>
                <a:lnTo>
                  <a:pt x="373" y="862"/>
                </a:lnTo>
                <a:lnTo>
                  <a:pt x="385" y="879"/>
                </a:lnTo>
                <a:lnTo>
                  <a:pt x="400" y="897"/>
                </a:lnTo>
                <a:lnTo>
                  <a:pt x="406" y="915"/>
                </a:lnTo>
                <a:lnTo>
                  <a:pt x="416" y="932"/>
                </a:lnTo>
                <a:lnTo>
                  <a:pt x="421" y="950"/>
                </a:lnTo>
                <a:lnTo>
                  <a:pt x="438" y="968"/>
                </a:lnTo>
                <a:lnTo>
                  <a:pt x="448" y="985"/>
                </a:lnTo>
                <a:lnTo>
                  <a:pt x="459" y="1003"/>
                </a:lnTo>
                <a:lnTo>
                  <a:pt x="475" y="1015"/>
                </a:lnTo>
                <a:lnTo>
                  <a:pt x="486" y="1032"/>
                </a:lnTo>
                <a:lnTo>
                  <a:pt x="496" y="1051"/>
                </a:lnTo>
                <a:lnTo>
                  <a:pt x="513" y="1057"/>
                </a:lnTo>
                <a:lnTo>
                  <a:pt x="517" y="1074"/>
                </a:lnTo>
                <a:lnTo>
                  <a:pt x="534" y="1085"/>
                </a:lnTo>
                <a:lnTo>
                  <a:pt x="544" y="1104"/>
                </a:lnTo>
                <a:lnTo>
                  <a:pt x="550" y="1121"/>
                </a:lnTo>
                <a:lnTo>
                  <a:pt x="555" y="1138"/>
                </a:lnTo>
                <a:lnTo>
                  <a:pt x="561" y="1157"/>
                </a:lnTo>
                <a:lnTo>
                  <a:pt x="571" y="1174"/>
                </a:lnTo>
                <a:lnTo>
                  <a:pt x="577" y="1193"/>
                </a:lnTo>
                <a:lnTo>
                  <a:pt x="577" y="1210"/>
                </a:lnTo>
                <a:lnTo>
                  <a:pt x="582" y="1233"/>
                </a:lnTo>
                <a:lnTo>
                  <a:pt x="588" y="1251"/>
                </a:lnTo>
                <a:lnTo>
                  <a:pt x="592" y="1269"/>
                </a:lnTo>
                <a:lnTo>
                  <a:pt x="598" y="1286"/>
                </a:lnTo>
                <a:lnTo>
                  <a:pt x="598" y="1304"/>
                </a:lnTo>
                <a:lnTo>
                  <a:pt x="603" y="1322"/>
                </a:lnTo>
                <a:lnTo>
                  <a:pt x="603" y="1340"/>
                </a:lnTo>
                <a:lnTo>
                  <a:pt x="603" y="1357"/>
                </a:lnTo>
                <a:lnTo>
                  <a:pt x="609" y="1375"/>
                </a:lnTo>
                <a:lnTo>
                  <a:pt x="609" y="1393"/>
                </a:lnTo>
                <a:lnTo>
                  <a:pt x="614" y="1410"/>
                </a:lnTo>
                <a:lnTo>
                  <a:pt x="614" y="1428"/>
                </a:lnTo>
                <a:lnTo>
                  <a:pt x="614" y="1446"/>
                </a:lnTo>
                <a:lnTo>
                  <a:pt x="614" y="1464"/>
                </a:lnTo>
                <a:lnTo>
                  <a:pt x="614" y="1481"/>
                </a:lnTo>
                <a:lnTo>
                  <a:pt x="614" y="1499"/>
                </a:lnTo>
                <a:lnTo>
                  <a:pt x="614" y="1517"/>
                </a:lnTo>
                <a:lnTo>
                  <a:pt x="614" y="1534"/>
                </a:lnTo>
                <a:lnTo>
                  <a:pt x="614" y="1552"/>
                </a:lnTo>
                <a:lnTo>
                  <a:pt x="614" y="1570"/>
                </a:lnTo>
                <a:lnTo>
                  <a:pt x="609" y="1588"/>
                </a:lnTo>
                <a:lnTo>
                  <a:pt x="609" y="1605"/>
                </a:lnTo>
                <a:lnTo>
                  <a:pt x="609" y="1623"/>
                </a:lnTo>
                <a:lnTo>
                  <a:pt x="609" y="1641"/>
                </a:lnTo>
                <a:lnTo>
                  <a:pt x="609" y="1658"/>
                </a:lnTo>
                <a:lnTo>
                  <a:pt x="598" y="1676"/>
                </a:lnTo>
                <a:lnTo>
                  <a:pt x="598" y="1694"/>
                </a:lnTo>
                <a:lnTo>
                  <a:pt x="598" y="1711"/>
                </a:lnTo>
                <a:lnTo>
                  <a:pt x="598" y="1729"/>
                </a:lnTo>
                <a:lnTo>
                  <a:pt x="598" y="173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4376880"/>
            <a:ext cx="584280" cy="947520"/>
          </a:xfrm>
          <a:custGeom>
            <a:avLst/>
            <a:gdLst/>
            <a:ahLst/>
            <a:rect l="l" t="t" r="r" b="b"/>
            <a:pathLst>
              <a:path w="368" h="597">
                <a:moveTo>
                  <a:pt x="0" y="0"/>
                </a:moveTo>
                <a:lnTo>
                  <a:pt x="5" y="23"/>
                </a:lnTo>
                <a:lnTo>
                  <a:pt x="15" y="41"/>
                </a:lnTo>
                <a:lnTo>
                  <a:pt x="21" y="59"/>
                </a:lnTo>
                <a:lnTo>
                  <a:pt x="26" y="76"/>
                </a:lnTo>
                <a:lnTo>
                  <a:pt x="32" y="94"/>
                </a:lnTo>
                <a:lnTo>
                  <a:pt x="37" y="112"/>
                </a:lnTo>
                <a:lnTo>
                  <a:pt x="42" y="130"/>
                </a:lnTo>
                <a:lnTo>
                  <a:pt x="53" y="147"/>
                </a:lnTo>
                <a:lnTo>
                  <a:pt x="63" y="165"/>
                </a:lnTo>
                <a:lnTo>
                  <a:pt x="68" y="183"/>
                </a:lnTo>
                <a:lnTo>
                  <a:pt x="80" y="201"/>
                </a:lnTo>
                <a:lnTo>
                  <a:pt x="90" y="218"/>
                </a:lnTo>
                <a:lnTo>
                  <a:pt x="95" y="236"/>
                </a:lnTo>
                <a:lnTo>
                  <a:pt x="101" y="254"/>
                </a:lnTo>
                <a:lnTo>
                  <a:pt x="112" y="271"/>
                </a:lnTo>
                <a:lnTo>
                  <a:pt x="122" y="289"/>
                </a:lnTo>
                <a:lnTo>
                  <a:pt x="127" y="307"/>
                </a:lnTo>
                <a:lnTo>
                  <a:pt x="137" y="324"/>
                </a:lnTo>
                <a:lnTo>
                  <a:pt x="154" y="348"/>
                </a:lnTo>
                <a:lnTo>
                  <a:pt x="164" y="366"/>
                </a:lnTo>
                <a:lnTo>
                  <a:pt x="181" y="383"/>
                </a:lnTo>
                <a:lnTo>
                  <a:pt x="191" y="401"/>
                </a:lnTo>
                <a:lnTo>
                  <a:pt x="202" y="419"/>
                </a:lnTo>
                <a:lnTo>
                  <a:pt x="217" y="430"/>
                </a:lnTo>
                <a:lnTo>
                  <a:pt x="229" y="449"/>
                </a:lnTo>
                <a:lnTo>
                  <a:pt x="239" y="466"/>
                </a:lnTo>
                <a:lnTo>
                  <a:pt x="255" y="478"/>
                </a:lnTo>
                <a:lnTo>
                  <a:pt x="271" y="495"/>
                </a:lnTo>
                <a:lnTo>
                  <a:pt x="282" y="513"/>
                </a:lnTo>
                <a:lnTo>
                  <a:pt x="292" y="531"/>
                </a:lnTo>
                <a:lnTo>
                  <a:pt x="309" y="542"/>
                </a:lnTo>
                <a:lnTo>
                  <a:pt x="324" y="561"/>
                </a:lnTo>
                <a:lnTo>
                  <a:pt x="340" y="566"/>
                </a:lnTo>
                <a:lnTo>
                  <a:pt x="351" y="584"/>
                </a:lnTo>
                <a:lnTo>
                  <a:pt x="367" y="59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4200" y="45766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9844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1360" y="3754440"/>
            <a:ext cx="24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98920" y="213372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6200" y="1660680"/>
            <a:ext cx="24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1040" y="46260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0320" y="3554280"/>
            <a:ext cx="24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46360" y="553716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566100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9640" y="351324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2080" y="5925960"/>
            <a:ext cx="142920" cy="66960"/>
          </a:xfrm>
          <a:custGeom>
            <a:avLst/>
            <a:gdLst/>
            <a:ahLst/>
            <a:rect l="l" t="t" r="r" b="b"/>
            <a:pathLst>
              <a:path w="90" h="42">
                <a:moveTo>
                  <a:pt x="0" y="0"/>
                </a:moveTo>
                <a:lnTo>
                  <a:pt x="19" y="0"/>
                </a:lnTo>
                <a:lnTo>
                  <a:pt x="34" y="10"/>
                </a:lnTo>
                <a:lnTo>
                  <a:pt x="48" y="10"/>
                </a:lnTo>
                <a:lnTo>
                  <a:pt x="64" y="20"/>
                </a:lnTo>
                <a:lnTo>
                  <a:pt x="73" y="35"/>
                </a:lnTo>
                <a:lnTo>
                  <a:pt x="89" y="41"/>
                </a:lnTo>
                <a:lnTo>
                  <a:pt x="59" y="3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5400" y="5951520"/>
            <a:ext cx="304560" cy="366840"/>
          </a:xfrm>
          <a:custGeom>
            <a:avLst/>
            <a:gdLst/>
            <a:ahLst/>
            <a:rect l="l" t="t" r="r" b="b"/>
            <a:pathLst>
              <a:path w="192" h="231">
                <a:moveTo>
                  <a:pt x="191" y="230"/>
                </a:moveTo>
                <a:lnTo>
                  <a:pt x="191" y="213"/>
                </a:lnTo>
                <a:lnTo>
                  <a:pt x="191" y="202"/>
                </a:lnTo>
                <a:lnTo>
                  <a:pt x="186" y="189"/>
                </a:lnTo>
                <a:lnTo>
                  <a:pt x="174" y="181"/>
                </a:lnTo>
                <a:lnTo>
                  <a:pt x="161" y="169"/>
                </a:lnTo>
                <a:lnTo>
                  <a:pt x="157" y="157"/>
                </a:lnTo>
                <a:lnTo>
                  <a:pt x="143" y="145"/>
                </a:lnTo>
                <a:lnTo>
                  <a:pt x="140" y="133"/>
                </a:lnTo>
                <a:lnTo>
                  <a:pt x="131" y="120"/>
                </a:lnTo>
                <a:lnTo>
                  <a:pt x="122" y="109"/>
                </a:lnTo>
                <a:lnTo>
                  <a:pt x="114" y="96"/>
                </a:lnTo>
                <a:lnTo>
                  <a:pt x="105" y="84"/>
                </a:lnTo>
                <a:lnTo>
                  <a:pt x="97" y="72"/>
                </a:lnTo>
                <a:lnTo>
                  <a:pt x="88" y="60"/>
                </a:lnTo>
                <a:lnTo>
                  <a:pt x="76" y="52"/>
                </a:lnTo>
                <a:lnTo>
                  <a:pt x="63" y="40"/>
                </a:lnTo>
                <a:lnTo>
                  <a:pt x="46" y="32"/>
                </a:lnTo>
                <a:lnTo>
                  <a:pt x="33" y="23"/>
                </a:lnTo>
                <a:lnTo>
                  <a:pt x="16" y="16"/>
                </a:lnTo>
                <a:lnTo>
                  <a:pt x="4" y="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27560" y="5772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6520" y="575316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6120" y="6210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6760" y="5118120"/>
            <a:ext cx="18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06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0960" y="239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7760" y="3873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70080" y="3648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0760" y="351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05160" y="5288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18040" y="4989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79800" y="3635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2122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75320" y="4268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31478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0280" y="1341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8600" y="5599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03840" y="46069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738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57600" y="45385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6000" y="383220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8760" y="3781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1960" y="48672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27480" y="4079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4720" y="4164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59200" y="3657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8680" y="44956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1000" y="414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1400" y="407052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62360" y="4067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9320" y="50641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9240" y="4178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91160" y="3992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1240" y="46814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3720" y="4343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2520" y="44593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59160" y="459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9240" y="50817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4560" y="49593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8440" y="49798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02040" y="4886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1160" y="45007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1720" y="42591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2480" y="5378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1320" y="2887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840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40200" y="2762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868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197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6920" y="3605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12960" y="446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398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5480" y="338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833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8039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7280" y="49021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9120" y="5559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95840" y="3570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3000" y="371808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49600" y="3382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76520" y="3306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25680" y="349560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3516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789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0" y="43959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59000" y="44179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42400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8840" y="473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1689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6880" y="198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1240" y="5145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8920" y="4186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5640" y="429588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51280" y="41259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22920" y="5587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2080" y="5753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474660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49840" y="3835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1440" y="4602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4381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3575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3360" y="3490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6680" y="3868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4680" y="5394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43160" y="5262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2680" y="4370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82896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11600" y="57466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4840" y="562464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25880" y="27939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5120" y="26780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6480" y="52452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6400" y="49705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86400" y="371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0760" y="3706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51200" y="259380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2424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4680" y="31766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4440" y="34606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90680" y="1308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224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8840" y="57038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67280" y="2879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9960" y="26668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36432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4640" y="46544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55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2040" y="5505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6520" y="4843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5920" y="3629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9000" y="28494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92520" y="4630680"/>
            <a:ext cx="141120" cy="844560"/>
          </a:xfrm>
          <a:custGeom>
            <a:avLst/>
            <a:gdLst/>
            <a:ahLst/>
            <a:rect l="l" t="t" r="r" b="b"/>
            <a:pathLst>
              <a:path w="89" h="532">
                <a:moveTo>
                  <a:pt x="68" y="0"/>
                </a:moveTo>
                <a:lnTo>
                  <a:pt x="68" y="19"/>
                </a:lnTo>
                <a:lnTo>
                  <a:pt x="78" y="34"/>
                </a:lnTo>
                <a:lnTo>
                  <a:pt x="78" y="50"/>
                </a:lnTo>
                <a:lnTo>
                  <a:pt x="78" y="64"/>
                </a:lnTo>
                <a:lnTo>
                  <a:pt x="78" y="79"/>
                </a:lnTo>
                <a:lnTo>
                  <a:pt x="78" y="95"/>
                </a:lnTo>
                <a:lnTo>
                  <a:pt x="73" y="110"/>
                </a:lnTo>
                <a:lnTo>
                  <a:pt x="73" y="124"/>
                </a:lnTo>
                <a:lnTo>
                  <a:pt x="73" y="140"/>
                </a:lnTo>
                <a:lnTo>
                  <a:pt x="73" y="155"/>
                </a:lnTo>
                <a:lnTo>
                  <a:pt x="73" y="169"/>
                </a:lnTo>
                <a:lnTo>
                  <a:pt x="73" y="185"/>
                </a:lnTo>
                <a:lnTo>
                  <a:pt x="73" y="200"/>
                </a:lnTo>
                <a:lnTo>
                  <a:pt x="73" y="214"/>
                </a:lnTo>
                <a:lnTo>
                  <a:pt x="73" y="230"/>
                </a:lnTo>
                <a:lnTo>
                  <a:pt x="73" y="245"/>
                </a:lnTo>
                <a:lnTo>
                  <a:pt x="73" y="260"/>
                </a:lnTo>
                <a:lnTo>
                  <a:pt x="82" y="275"/>
                </a:lnTo>
                <a:lnTo>
                  <a:pt x="88" y="290"/>
                </a:lnTo>
                <a:lnTo>
                  <a:pt x="78" y="305"/>
                </a:lnTo>
                <a:lnTo>
                  <a:pt x="68" y="320"/>
                </a:lnTo>
                <a:lnTo>
                  <a:pt x="54" y="335"/>
                </a:lnTo>
                <a:lnTo>
                  <a:pt x="44" y="350"/>
                </a:lnTo>
                <a:lnTo>
                  <a:pt x="38" y="365"/>
                </a:lnTo>
                <a:lnTo>
                  <a:pt x="34" y="380"/>
                </a:lnTo>
                <a:lnTo>
                  <a:pt x="24" y="395"/>
                </a:lnTo>
                <a:lnTo>
                  <a:pt x="14" y="410"/>
                </a:lnTo>
                <a:lnTo>
                  <a:pt x="10" y="425"/>
                </a:lnTo>
                <a:lnTo>
                  <a:pt x="10" y="440"/>
                </a:lnTo>
                <a:lnTo>
                  <a:pt x="24" y="450"/>
                </a:lnTo>
                <a:lnTo>
                  <a:pt x="34" y="466"/>
                </a:lnTo>
                <a:lnTo>
                  <a:pt x="44" y="480"/>
                </a:lnTo>
                <a:lnTo>
                  <a:pt x="44" y="495"/>
                </a:lnTo>
                <a:lnTo>
                  <a:pt x="29" y="505"/>
                </a:lnTo>
                <a:lnTo>
                  <a:pt x="14" y="515"/>
                </a:lnTo>
                <a:lnTo>
                  <a:pt x="0" y="525"/>
                </a:lnTo>
                <a:lnTo>
                  <a:pt x="0" y="53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75440" y="4535640"/>
            <a:ext cx="466560" cy="23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38760" y="1720800"/>
            <a:ext cx="15840" cy="85104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4600" y="2563920"/>
            <a:ext cx="220680" cy="574560"/>
          </a:xfrm>
          <a:custGeom>
            <a:avLst/>
            <a:gdLst/>
            <a:ahLst/>
            <a:rect l="l" t="t" r="r" b="b"/>
            <a:pathLst>
              <a:path w="139" h="362">
                <a:moveTo>
                  <a:pt x="0" y="5"/>
                </a:moveTo>
                <a:lnTo>
                  <a:pt x="39" y="0"/>
                </a:lnTo>
                <a:lnTo>
                  <a:pt x="54" y="10"/>
                </a:lnTo>
                <a:lnTo>
                  <a:pt x="69" y="25"/>
                </a:lnTo>
                <a:lnTo>
                  <a:pt x="74" y="40"/>
                </a:lnTo>
                <a:lnTo>
                  <a:pt x="88" y="60"/>
                </a:lnTo>
                <a:lnTo>
                  <a:pt x="103" y="65"/>
                </a:lnTo>
                <a:lnTo>
                  <a:pt x="118" y="75"/>
                </a:lnTo>
                <a:lnTo>
                  <a:pt x="127" y="90"/>
                </a:lnTo>
                <a:lnTo>
                  <a:pt x="127" y="105"/>
                </a:lnTo>
                <a:lnTo>
                  <a:pt x="132" y="120"/>
                </a:lnTo>
                <a:lnTo>
                  <a:pt x="138" y="135"/>
                </a:lnTo>
                <a:lnTo>
                  <a:pt x="138" y="150"/>
                </a:lnTo>
                <a:lnTo>
                  <a:pt x="138" y="165"/>
                </a:lnTo>
                <a:lnTo>
                  <a:pt x="138" y="180"/>
                </a:lnTo>
                <a:lnTo>
                  <a:pt x="138" y="195"/>
                </a:lnTo>
                <a:lnTo>
                  <a:pt x="132" y="210"/>
                </a:lnTo>
                <a:lnTo>
                  <a:pt x="132" y="225"/>
                </a:lnTo>
                <a:lnTo>
                  <a:pt x="132" y="240"/>
                </a:lnTo>
                <a:lnTo>
                  <a:pt x="132" y="255"/>
                </a:lnTo>
                <a:lnTo>
                  <a:pt x="118" y="265"/>
                </a:lnTo>
                <a:lnTo>
                  <a:pt x="108" y="280"/>
                </a:lnTo>
                <a:lnTo>
                  <a:pt x="98" y="296"/>
                </a:lnTo>
                <a:lnTo>
                  <a:pt x="83" y="300"/>
                </a:lnTo>
                <a:lnTo>
                  <a:pt x="74" y="315"/>
                </a:lnTo>
                <a:lnTo>
                  <a:pt x="63" y="330"/>
                </a:lnTo>
                <a:lnTo>
                  <a:pt x="49" y="341"/>
                </a:lnTo>
                <a:lnTo>
                  <a:pt x="34" y="350"/>
                </a:lnTo>
                <a:lnTo>
                  <a:pt x="19" y="355"/>
                </a:lnTo>
                <a:lnTo>
                  <a:pt x="10" y="361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46680" y="3144960"/>
            <a:ext cx="33120" cy="4204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3589200"/>
            <a:ext cx="15840" cy="12556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25880" y="4844880"/>
            <a:ext cx="15840" cy="50040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3800" y="5338800"/>
            <a:ext cx="403200" cy="1122480"/>
          </a:xfrm>
          <a:custGeom>
            <a:avLst/>
            <a:gdLst/>
            <a:ahLst/>
            <a:rect l="l" t="t" r="r" b="b"/>
            <a:pathLst>
              <a:path w="254" h="707">
                <a:moveTo>
                  <a:pt x="0" y="0"/>
                </a:moveTo>
                <a:lnTo>
                  <a:pt x="5" y="20"/>
                </a:lnTo>
                <a:lnTo>
                  <a:pt x="5" y="35"/>
                </a:lnTo>
                <a:lnTo>
                  <a:pt x="5" y="50"/>
                </a:lnTo>
                <a:lnTo>
                  <a:pt x="9" y="65"/>
                </a:lnTo>
                <a:lnTo>
                  <a:pt x="14" y="80"/>
                </a:lnTo>
                <a:lnTo>
                  <a:pt x="19" y="95"/>
                </a:lnTo>
                <a:lnTo>
                  <a:pt x="30" y="110"/>
                </a:lnTo>
                <a:lnTo>
                  <a:pt x="34" y="125"/>
                </a:lnTo>
                <a:lnTo>
                  <a:pt x="34" y="140"/>
                </a:lnTo>
                <a:lnTo>
                  <a:pt x="39" y="155"/>
                </a:lnTo>
                <a:lnTo>
                  <a:pt x="44" y="170"/>
                </a:lnTo>
                <a:lnTo>
                  <a:pt x="44" y="185"/>
                </a:lnTo>
                <a:lnTo>
                  <a:pt x="49" y="200"/>
                </a:lnTo>
                <a:lnTo>
                  <a:pt x="49" y="215"/>
                </a:lnTo>
                <a:lnTo>
                  <a:pt x="54" y="230"/>
                </a:lnTo>
                <a:lnTo>
                  <a:pt x="54" y="245"/>
                </a:lnTo>
                <a:lnTo>
                  <a:pt x="59" y="260"/>
                </a:lnTo>
                <a:lnTo>
                  <a:pt x="59" y="275"/>
                </a:lnTo>
                <a:lnTo>
                  <a:pt x="59" y="290"/>
                </a:lnTo>
                <a:lnTo>
                  <a:pt x="59" y="305"/>
                </a:lnTo>
                <a:lnTo>
                  <a:pt x="59" y="320"/>
                </a:lnTo>
                <a:lnTo>
                  <a:pt x="59" y="335"/>
                </a:lnTo>
                <a:lnTo>
                  <a:pt x="59" y="355"/>
                </a:lnTo>
                <a:lnTo>
                  <a:pt x="64" y="375"/>
                </a:lnTo>
                <a:lnTo>
                  <a:pt x="64" y="390"/>
                </a:lnTo>
                <a:lnTo>
                  <a:pt x="69" y="405"/>
                </a:lnTo>
                <a:lnTo>
                  <a:pt x="74" y="420"/>
                </a:lnTo>
                <a:lnTo>
                  <a:pt x="78" y="436"/>
                </a:lnTo>
                <a:lnTo>
                  <a:pt x="84" y="450"/>
                </a:lnTo>
                <a:lnTo>
                  <a:pt x="94" y="465"/>
                </a:lnTo>
                <a:lnTo>
                  <a:pt x="103" y="485"/>
                </a:lnTo>
                <a:lnTo>
                  <a:pt x="114" y="500"/>
                </a:lnTo>
                <a:lnTo>
                  <a:pt x="119" y="515"/>
                </a:lnTo>
                <a:lnTo>
                  <a:pt x="128" y="530"/>
                </a:lnTo>
                <a:lnTo>
                  <a:pt x="138" y="545"/>
                </a:lnTo>
                <a:lnTo>
                  <a:pt x="153" y="551"/>
                </a:lnTo>
                <a:lnTo>
                  <a:pt x="173" y="565"/>
                </a:lnTo>
                <a:lnTo>
                  <a:pt x="188" y="580"/>
                </a:lnTo>
                <a:lnTo>
                  <a:pt x="203" y="596"/>
                </a:lnTo>
                <a:lnTo>
                  <a:pt x="208" y="610"/>
                </a:lnTo>
                <a:lnTo>
                  <a:pt x="217" y="625"/>
                </a:lnTo>
                <a:lnTo>
                  <a:pt x="228" y="641"/>
                </a:lnTo>
                <a:lnTo>
                  <a:pt x="233" y="655"/>
                </a:lnTo>
                <a:lnTo>
                  <a:pt x="238" y="670"/>
                </a:lnTo>
                <a:lnTo>
                  <a:pt x="242" y="686"/>
                </a:lnTo>
                <a:lnTo>
                  <a:pt x="253" y="700"/>
                </a:lnTo>
                <a:lnTo>
                  <a:pt x="253" y="706"/>
                </a:lnTo>
                <a:lnTo>
                  <a:pt x="253" y="695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3560" y="5540400"/>
            <a:ext cx="1540080" cy="822600"/>
          </a:xfrm>
          <a:prstGeom prst="rect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INTERMOUNTAIN PLATEAU  SUB-REGION (83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3520" y="1579680"/>
            <a:ext cx="2108160" cy="45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NORTHWEST COASTAL SUB-REGION (5 EVENT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0" y="1486080"/>
            <a:ext cx="917640" cy="118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FRONT RANGE SUB-REGION (49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880" y="25560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87800" y="2887560"/>
            <a:ext cx="312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200" y="26892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94120" y="5595840"/>
            <a:ext cx="37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09920" y="5602320"/>
            <a:ext cx="3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1360" y="2658960"/>
            <a:ext cx="104760" cy="34920"/>
          </a:xfrm>
          <a:custGeom>
            <a:avLst/>
            <a:gdLst/>
            <a:ahLst/>
            <a:rect l="l" t="t" r="r" b="b"/>
            <a:pathLst>
              <a:path w="66" h="22">
                <a:moveTo>
                  <a:pt x="0" y="21"/>
                </a:moveTo>
                <a:lnTo>
                  <a:pt x="20" y="5"/>
                </a:lnTo>
                <a:lnTo>
                  <a:pt x="35" y="0"/>
                </a:lnTo>
                <a:lnTo>
                  <a:pt x="49" y="5"/>
                </a:lnTo>
                <a:lnTo>
                  <a:pt x="65" y="15"/>
                </a:lnTo>
                <a:lnTo>
                  <a:pt x="65" y="2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2435400"/>
            <a:ext cx="42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73600" y="1316160"/>
            <a:ext cx="3049560" cy="522576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7480" y="1508040"/>
            <a:ext cx="34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7480" y="1765440"/>
            <a:ext cx="30636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5560" y="1519200"/>
            <a:ext cx="19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5680" y="1508040"/>
            <a:ext cx="70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67480" y="21067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1797120"/>
            <a:ext cx="41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7480" y="23623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48400" y="26305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7760" y="292248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68920" y="3206880"/>
            <a:ext cx="4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7760" y="35258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6840" y="40244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57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67480" y="437976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9840" y="48499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1811160"/>
            <a:ext cx="290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TROP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4000" y="5438880"/>
            <a:ext cx="1173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43800" y="48038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8920" y="2103480"/>
            <a:ext cx="162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QUALL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7120" y="2367000"/>
            <a:ext cx="181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INGLE CLUSTE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4120" y="2622600"/>
            <a:ext cx="18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 ALP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2901960"/>
            <a:ext cx="206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CIR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205080"/>
            <a:ext cx="17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7120" y="3533760"/>
            <a:ext cx="232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CYCLONIC CIRC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7760" y="4013280"/>
            <a:ext cx="255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LARGE SCALE OVERRU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387680"/>
            <a:ext cx="195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REGENER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43560" y="419580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52960" y="4819680"/>
            <a:ext cx="2829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OMBO  OF TWO OR MORE SYSTEMS PASSING OVER THE SAME AREA WITHIN 24 H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43800" y="183528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48840" y="2101680"/>
            <a:ext cx="33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9800" y="2367000"/>
            <a:ext cx="41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70720" y="262404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9000" y="290196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440" y="3203640"/>
            <a:ext cx="42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79000" y="350820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32640" y="402120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43800" y="43862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600" y="63360"/>
            <a:ext cx="79200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P OF LOCATION AND TYPE OF SYSTEM FOR 137 HEAVY CONVECTIVE RAINFALL EVE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120" y="65516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QPF IN WEST DURING WINT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SCALE IS LARGER THAN IN SU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AND POSITION OF HEAVIEST RAIN IS OFTEN CLOSELY TIED TO OR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ELLITE IMAGERY, SSMI AND GOES PW PRODUCTS ARE GREA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WHEN AXIS OF DEEP MOISTURE IS QUASI-STATIONARY OFTEN PRODUCE 3 INCH OR GREATER AMOUNTS IN THE CASCADE AND SIERRA RAN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WEST IN WINTER CONT.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THERE IS A SIGNIFICANT RAIN SHADOW TO THE LEE OF THE MOUN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MAPPER AND THE RHEA OROGRAPHIC TECHNIQUE CAN COMBINE TO PROVIDE A VERY GOOD FIRST GU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OISTURE IS UNUSUALLY DEEP RAIN, HEAVY RAIN WILL FALL ON THE LEEWARD SIDE OF THE SIERRA RANGE IN WESTERN NV AND EASTERN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SKILL IN 24 HOURS FORECASTS, SKILL IS CONSIDERABLY LOWER FOR 6 HOURLY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WINTER TYPE II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IN WINTER AND EARLY 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ONG UPPER TROF SWEEPING INTO WEST COAST FROM PACI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PRECIPITATION ENDS AS UPPER TROF AXIS NEARS CO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RONGER THE LOW LEVEL WINDS NORMAL TO THE MOUNTAINS, THE HEAVIER THE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USUALLY A BLOCK OVER ALASKA OR THE GULF OF ALA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FOR TROPICAL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175360" y="1131840"/>
            <a:ext cx="3493800" cy="4237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319720" y="1289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334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731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Type III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6013440" y="2217240"/>
            <a:ext cx="533520" cy="312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848200" y="2365200"/>
            <a:ext cx="239760" cy="14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802480" y="2427120"/>
            <a:ext cx="21096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6180120" y="2987640"/>
            <a:ext cx="457200" cy="266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060960" y="3079800"/>
            <a:ext cx="21924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996160" y="3135240"/>
            <a:ext cx="20160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243480" y="3787920"/>
            <a:ext cx="439920" cy="349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13440" y="3929040"/>
            <a:ext cx="237960" cy="223920"/>
          </a:xfrm>
          <a:custGeom>
            <a:avLst/>
            <a:gdLst/>
            <a:ahLst/>
            <a:rect l="l" t="t" r="r" b="b"/>
            <a:pathLst>
              <a:path w="150" h="141">
                <a:moveTo>
                  <a:pt x="0" y="0"/>
                </a:moveTo>
                <a:lnTo>
                  <a:pt x="150" y="141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637320" y="4548240"/>
            <a:ext cx="92160" cy="552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362640" y="5016600"/>
            <a:ext cx="274680" cy="73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29080" y="285588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70480" y="364176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89560" y="44337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149880" y="182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91280" y="25621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170760" y="278928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243480" y="363384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262560" y="3348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8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7021440" y="217008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.72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59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127920" y="389088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234120" y="3917880"/>
            <a:ext cx="138240" cy="127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51560" y="13892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132600" y="3021120"/>
            <a:ext cx="21888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11800" y="2975040"/>
            <a:ext cx="21924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00760" y="2332080"/>
            <a:ext cx="210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946840" y="2305080"/>
            <a:ext cx="220680" cy="149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5880" y="2336760"/>
            <a:ext cx="111240" cy="84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037200" y="1130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5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927760" y="1461960"/>
            <a:ext cx="60624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827680" y="12398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915160" y="1244520"/>
            <a:ext cx="128520" cy="230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6124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1668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4" name="Untitled-1" descr=""/>
          <p:cNvPicPr/>
          <p:nvPr/>
        </p:nvPicPr>
        <p:blipFill>
          <a:blip r:embed="rId2"/>
          <a:srcRect l="46434" t="21127" r="2894" b="27349"/>
          <a:stretch/>
        </p:blipFill>
        <p:spPr>
          <a:xfrm>
            <a:off x="888840" y="1547640"/>
            <a:ext cx="3837240" cy="370224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900000" y="1550880"/>
            <a:ext cx="3837240" cy="37004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71560" y="54435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t the end of the event, comprised about 20% of flash floods. In reality, risk area is bigger than shown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384200" y="2884320"/>
            <a:ext cx="470160" cy="1346400"/>
          </a:xfrm>
          <a:custGeom>
            <a:avLst/>
            <a:gdLst/>
            <a:ahLst/>
            <a:rect l="l" t="t" r="r" b="b"/>
            <a:pathLst>
              <a:path w="296" h="848">
                <a:moveTo>
                  <a:pt x="175" y="28"/>
                </a:moveTo>
                <a:cubicBezTo>
                  <a:pt x="231" y="16"/>
                  <a:pt x="203" y="0"/>
                  <a:pt x="267" y="10"/>
                </a:cubicBezTo>
                <a:cubicBezTo>
                  <a:pt x="293" y="50"/>
                  <a:pt x="285" y="32"/>
                  <a:pt x="296" y="62"/>
                </a:cubicBezTo>
                <a:cubicBezTo>
                  <a:pt x="294" y="128"/>
                  <a:pt x="293" y="193"/>
                  <a:pt x="290" y="259"/>
                </a:cubicBezTo>
                <a:cubicBezTo>
                  <a:pt x="287" y="324"/>
                  <a:pt x="239" y="409"/>
                  <a:pt x="204" y="461"/>
                </a:cubicBezTo>
                <a:cubicBezTo>
                  <a:pt x="215" y="493"/>
                  <a:pt x="183" y="482"/>
                  <a:pt x="157" y="473"/>
                </a:cubicBezTo>
                <a:cubicBezTo>
                  <a:pt x="151" y="477"/>
                  <a:pt x="144" y="478"/>
                  <a:pt x="140" y="484"/>
                </a:cubicBezTo>
                <a:cubicBezTo>
                  <a:pt x="137" y="488"/>
                  <a:pt x="114" y="552"/>
                  <a:pt x="111" y="560"/>
                </a:cubicBezTo>
                <a:cubicBezTo>
                  <a:pt x="118" y="623"/>
                  <a:pt x="131" y="669"/>
                  <a:pt x="152" y="727"/>
                </a:cubicBezTo>
                <a:cubicBezTo>
                  <a:pt x="137" y="848"/>
                  <a:pt x="166" y="814"/>
                  <a:pt x="100" y="837"/>
                </a:cubicBezTo>
                <a:cubicBezTo>
                  <a:pt x="57" y="823"/>
                  <a:pt x="78" y="822"/>
                  <a:pt x="53" y="797"/>
                </a:cubicBezTo>
                <a:cubicBezTo>
                  <a:pt x="42" y="786"/>
                  <a:pt x="26" y="764"/>
                  <a:pt x="13" y="756"/>
                </a:cubicBezTo>
                <a:cubicBezTo>
                  <a:pt x="0" y="729"/>
                  <a:pt x="2" y="711"/>
                  <a:pt x="1" y="646"/>
                </a:cubicBezTo>
                <a:cubicBezTo>
                  <a:pt x="0" y="581"/>
                  <a:pt x="0" y="429"/>
                  <a:pt x="7" y="363"/>
                </a:cubicBezTo>
                <a:cubicBezTo>
                  <a:pt x="8" y="324"/>
                  <a:pt x="11" y="273"/>
                  <a:pt x="42" y="247"/>
                </a:cubicBezTo>
                <a:cubicBezTo>
                  <a:pt x="57" y="235"/>
                  <a:pt x="76" y="201"/>
                  <a:pt x="76" y="201"/>
                </a:cubicBezTo>
                <a:cubicBezTo>
                  <a:pt x="97" y="170"/>
                  <a:pt x="118" y="116"/>
                  <a:pt x="140" y="85"/>
                </a:cubicBezTo>
                <a:cubicBezTo>
                  <a:pt x="150" y="53"/>
                  <a:pt x="164" y="60"/>
                  <a:pt x="175" y="28"/>
                </a:cubicBezTo>
                <a:close/>
              </a:path>
            </a:pathLst>
          </a:custGeom>
          <a:solidFill>
            <a:srgbClr val="cc0000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074600" y="2138400"/>
            <a:ext cx="1670040" cy="2598840"/>
          </a:xfrm>
          <a:custGeom>
            <a:avLst/>
            <a:gdLst/>
            <a:ahLst/>
            <a:rect l="l" t="t" r="r" b="b"/>
            <a:pathLst>
              <a:path w="1052" h="1637">
                <a:moveTo>
                  <a:pt x="1052" y="0"/>
                </a:moveTo>
                <a:cubicBezTo>
                  <a:pt x="1050" y="33"/>
                  <a:pt x="1049" y="66"/>
                  <a:pt x="1046" y="99"/>
                </a:cubicBezTo>
                <a:cubicBezTo>
                  <a:pt x="1041" y="152"/>
                  <a:pt x="1029" y="170"/>
                  <a:pt x="1012" y="220"/>
                </a:cubicBezTo>
                <a:cubicBezTo>
                  <a:pt x="995" y="269"/>
                  <a:pt x="979" y="383"/>
                  <a:pt x="954" y="422"/>
                </a:cubicBezTo>
                <a:cubicBezTo>
                  <a:pt x="938" y="447"/>
                  <a:pt x="931" y="512"/>
                  <a:pt x="919" y="538"/>
                </a:cubicBezTo>
                <a:cubicBezTo>
                  <a:pt x="891" y="599"/>
                  <a:pt x="884" y="631"/>
                  <a:pt x="844" y="712"/>
                </a:cubicBezTo>
                <a:cubicBezTo>
                  <a:pt x="831" y="736"/>
                  <a:pt x="815" y="816"/>
                  <a:pt x="815" y="816"/>
                </a:cubicBezTo>
                <a:cubicBezTo>
                  <a:pt x="799" y="865"/>
                  <a:pt x="776" y="895"/>
                  <a:pt x="769" y="949"/>
                </a:cubicBezTo>
                <a:cubicBezTo>
                  <a:pt x="769" y="949"/>
                  <a:pt x="728" y="1017"/>
                  <a:pt x="711" y="1035"/>
                </a:cubicBezTo>
                <a:cubicBezTo>
                  <a:pt x="671" y="1096"/>
                  <a:pt x="677" y="1094"/>
                  <a:pt x="618" y="1134"/>
                </a:cubicBezTo>
                <a:cubicBezTo>
                  <a:pt x="604" y="1164"/>
                  <a:pt x="572" y="1171"/>
                  <a:pt x="561" y="1203"/>
                </a:cubicBezTo>
                <a:cubicBezTo>
                  <a:pt x="559" y="1214"/>
                  <a:pt x="482" y="1287"/>
                  <a:pt x="474" y="1301"/>
                </a:cubicBezTo>
                <a:cubicBezTo>
                  <a:pt x="457" y="1330"/>
                  <a:pt x="495" y="1297"/>
                  <a:pt x="468" y="1313"/>
                </a:cubicBezTo>
                <a:cubicBezTo>
                  <a:pt x="446" y="1326"/>
                  <a:pt x="429" y="1348"/>
                  <a:pt x="410" y="1365"/>
                </a:cubicBezTo>
                <a:cubicBezTo>
                  <a:pt x="385" y="1387"/>
                  <a:pt x="373" y="1418"/>
                  <a:pt x="341" y="1429"/>
                </a:cubicBezTo>
                <a:cubicBezTo>
                  <a:pt x="303" y="1459"/>
                  <a:pt x="283" y="1473"/>
                  <a:pt x="242" y="1492"/>
                </a:cubicBezTo>
                <a:cubicBezTo>
                  <a:pt x="215" y="1521"/>
                  <a:pt x="182" y="1549"/>
                  <a:pt x="144" y="1562"/>
                </a:cubicBezTo>
                <a:cubicBezTo>
                  <a:pt x="115" y="1591"/>
                  <a:pt x="7" y="1636"/>
                  <a:pt x="0" y="1637"/>
                </a:cubicBezTo>
                <a:lnTo>
                  <a:pt x="104" y="1567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84360" y="30942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rot="1684200">
            <a:off x="2104920" y="38970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711520" y="24004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973080" y="1587600"/>
            <a:ext cx="155520" cy="2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2176560" y="1422360"/>
            <a:ext cx="4856040" cy="3994200"/>
          </a:xfrm>
          <a:prstGeom prst="rect">
            <a:avLst/>
          </a:prstGeom>
          <a:solidFill>
            <a:srgbClr val="ffffff"/>
          </a:solidFill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9372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ype III events typically occur in southern California when a block forms over Alaska and the Gulf of  Alaska and the westerlies break through to its south.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212920" y="1459080"/>
            <a:ext cx="4825800" cy="3957480"/>
            <a:chOff x="2212920" y="1459080"/>
            <a:chExt cx="4825800" cy="3957480"/>
          </a:xfrm>
        </p:grpSpPr>
        <p:pic>
          <p:nvPicPr>
            <p:cNvPr id="2326" name="Untitled-1" descr=""/>
            <p:cNvPicPr/>
            <p:nvPr/>
          </p:nvPicPr>
          <p:blipFill>
            <a:blip r:embed="rId2"/>
            <a:srcRect l="0" t="13800" r="0" b="0"/>
            <a:stretch/>
          </p:blipFill>
          <p:spPr>
            <a:xfrm>
              <a:off x="2212920" y="1459080"/>
              <a:ext cx="48258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7" name=""/>
            <p:cNvSpPr/>
            <p:nvPr/>
          </p:nvSpPr>
          <p:spPr>
            <a:xfrm>
              <a:off x="2273040" y="1496880"/>
              <a:ext cx="1382760" cy="1076040"/>
            </a:xfrm>
            <a:custGeom>
              <a:avLst/>
              <a:gdLst/>
              <a:ahLst/>
              <a:rect l="l" t="t" r="r" b="b"/>
              <a:pathLst>
                <a:path w="871" h="678">
                  <a:moveTo>
                    <a:pt x="406" y="23"/>
                  </a:moveTo>
                  <a:cubicBezTo>
                    <a:pt x="495" y="0"/>
                    <a:pt x="466" y="12"/>
                    <a:pt x="626" y="17"/>
                  </a:cubicBezTo>
                  <a:cubicBezTo>
                    <a:pt x="686" y="38"/>
                    <a:pt x="750" y="45"/>
                    <a:pt x="811" y="63"/>
                  </a:cubicBezTo>
                  <a:cubicBezTo>
                    <a:pt x="824" y="82"/>
                    <a:pt x="842" y="89"/>
                    <a:pt x="851" y="110"/>
                  </a:cubicBezTo>
                  <a:cubicBezTo>
                    <a:pt x="856" y="121"/>
                    <a:pt x="863" y="144"/>
                    <a:pt x="863" y="144"/>
                  </a:cubicBezTo>
                  <a:cubicBezTo>
                    <a:pt x="861" y="179"/>
                    <a:pt x="871" y="220"/>
                    <a:pt x="851" y="248"/>
                  </a:cubicBezTo>
                  <a:cubicBezTo>
                    <a:pt x="789" y="335"/>
                    <a:pt x="640" y="365"/>
                    <a:pt x="545" y="381"/>
                  </a:cubicBezTo>
                  <a:cubicBezTo>
                    <a:pt x="497" y="389"/>
                    <a:pt x="455" y="405"/>
                    <a:pt x="406" y="410"/>
                  </a:cubicBezTo>
                  <a:cubicBezTo>
                    <a:pt x="368" y="424"/>
                    <a:pt x="336" y="451"/>
                    <a:pt x="296" y="462"/>
                  </a:cubicBezTo>
                  <a:cubicBezTo>
                    <a:pt x="230" y="517"/>
                    <a:pt x="158" y="572"/>
                    <a:pt x="77" y="601"/>
                  </a:cubicBezTo>
                  <a:cubicBezTo>
                    <a:pt x="0" y="678"/>
                    <a:pt x="41" y="607"/>
                    <a:pt x="36" y="439"/>
                  </a:cubicBezTo>
                  <a:cubicBezTo>
                    <a:pt x="38" y="331"/>
                    <a:pt x="37" y="223"/>
                    <a:pt x="42" y="115"/>
                  </a:cubicBezTo>
                  <a:cubicBezTo>
                    <a:pt x="43" y="101"/>
                    <a:pt x="77" y="79"/>
                    <a:pt x="88" y="75"/>
                  </a:cubicBezTo>
                  <a:cubicBezTo>
                    <a:pt x="149" y="56"/>
                    <a:pt x="223" y="52"/>
                    <a:pt x="285" y="52"/>
                  </a:cubicBezTo>
                  <a:lnTo>
                    <a:pt x="40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8" name=""/>
          <p:cNvSpPr/>
          <p:nvPr/>
        </p:nvSpPr>
        <p:spPr>
          <a:xfrm>
            <a:off x="1405080" y="569124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number of shortwaves then affect the state and produce a prolonged period of heavy rains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rot="4660200">
            <a:off x="4572720" y="2652480"/>
            <a:ext cx="642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0" name="Untitled-1" descr=""/>
          <p:cNvPicPr/>
          <p:nvPr/>
        </p:nvPicPr>
        <p:blipFill>
          <a:blip r:embed="rId2"/>
          <a:srcRect l="19325" t="19313" r="7730" b="30033"/>
          <a:stretch/>
        </p:blipFill>
        <p:spPr>
          <a:xfrm>
            <a:off x="1816200" y="1757520"/>
            <a:ext cx="5692680" cy="3760560"/>
          </a:xfrm>
          <a:prstGeom prst="rect">
            <a:avLst/>
          </a:prstGeom>
          <a:ln w="0">
            <a:noFill/>
          </a:ln>
        </p:spPr>
      </p:pic>
      <p:sp>
        <p:nvSpPr>
          <p:cNvPr id="2331" name=""/>
          <p:cNvSpPr/>
          <p:nvPr/>
        </p:nvSpPr>
        <p:spPr>
          <a:xfrm>
            <a:off x="1808280" y="1752480"/>
            <a:ext cx="5692680" cy="376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017960" y="2625840"/>
            <a:ext cx="3051000" cy="2798640"/>
          </a:xfrm>
          <a:custGeom>
            <a:avLst/>
            <a:gdLst/>
            <a:ahLst/>
            <a:rect l="l" t="t" r="r" b="b"/>
            <a:pathLst>
              <a:path w="1922" h="1763">
                <a:moveTo>
                  <a:pt x="1621" y="1763"/>
                </a:moveTo>
                <a:cubicBezTo>
                  <a:pt x="1617" y="1757"/>
                  <a:pt x="1614" y="1751"/>
                  <a:pt x="1610" y="1746"/>
                </a:cubicBezTo>
                <a:cubicBezTo>
                  <a:pt x="1605" y="1740"/>
                  <a:pt x="1597" y="1736"/>
                  <a:pt x="1592" y="1729"/>
                </a:cubicBezTo>
                <a:cubicBezTo>
                  <a:pt x="1580" y="1711"/>
                  <a:pt x="1574" y="1675"/>
                  <a:pt x="1569" y="1654"/>
                </a:cubicBezTo>
                <a:cubicBezTo>
                  <a:pt x="1565" y="1618"/>
                  <a:pt x="1564" y="1584"/>
                  <a:pt x="1552" y="1549"/>
                </a:cubicBezTo>
                <a:cubicBezTo>
                  <a:pt x="1545" y="1480"/>
                  <a:pt x="1552" y="1510"/>
                  <a:pt x="1534" y="1457"/>
                </a:cubicBezTo>
                <a:cubicBezTo>
                  <a:pt x="1527" y="1437"/>
                  <a:pt x="1507" y="1425"/>
                  <a:pt x="1500" y="1405"/>
                </a:cubicBezTo>
                <a:cubicBezTo>
                  <a:pt x="1485" y="1361"/>
                  <a:pt x="1470" y="1327"/>
                  <a:pt x="1442" y="1289"/>
                </a:cubicBezTo>
                <a:cubicBezTo>
                  <a:pt x="1431" y="1257"/>
                  <a:pt x="1400" y="1226"/>
                  <a:pt x="1390" y="1197"/>
                </a:cubicBezTo>
                <a:cubicBezTo>
                  <a:pt x="1386" y="1185"/>
                  <a:pt x="1382" y="1174"/>
                  <a:pt x="1378" y="1162"/>
                </a:cubicBezTo>
                <a:cubicBezTo>
                  <a:pt x="1376" y="1156"/>
                  <a:pt x="1372" y="1145"/>
                  <a:pt x="1372" y="1145"/>
                </a:cubicBezTo>
                <a:cubicBezTo>
                  <a:pt x="1376" y="1070"/>
                  <a:pt x="1383" y="1029"/>
                  <a:pt x="1390" y="960"/>
                </a:cubicBezTo>
                <a:cubicBezTo>
                  <a:pt x="1381" y="874"/>
                  <a:pt x="1375" y="877"/>
                  <a:pt x="1332" y="815"/>
                </a:cubicBezTo>
                <a:cubicBezTo>
                  <a:pt x="1337" y="781"/>
                  <a:pt x="1341" y="751"/>
                  <a:pt x="1361" y="723"/>
                </a:cubicBezTo>
                <a:cubicBezTo>
                  <a:pt x="1378" y="672"/>
                  <a:pt x="1372" y="618"/>
                  <a:pt x="1344" y="572"/>
                </a:cubicBezTo>
                <a:cubicBezTo>
                  <a:pt x="1327" y="506"/>
                  <a:pt x="1305" y="444"/>
                  <a:pt x="1268" y="387"/>
                </a:cubicBezTo>
                <a:cubicBezTo>
                  <a:pt x="1263" y="380"/>
                  <a:pt x="1252" y="380"/>
                  <a:pt x="1245" y="376"/>
                </a:cubicBezTo>
                <a:cubicBezTo>
                  <a:pt x="1233" y="369"/>
                  <a:pt x="1222" y="361"/>
                  <a:pt x="1211" y="353"/>
                </a:cubicBezTo>
                <a:cubicBezTo>
                  <a:pt x="1205" y="349"/>
                  <a:pt x="1193" y="341"/>
                  <a:pt x="1193" y="341"/>
                </a:cubicBezTo>
                <a:cubicBezTo>
                  <a:pt x="1168" y="302"/>
                  <a:pt x="1182" y="304"/>
                  <a:pt x="1130" y="295"/>
                </a:cubicBezTo>
                <a:cubicBezTo>
                  <a:pt x="1088" y="299"/>
                  <a:pt x="1063" y="304"/>
                  <a:pt x="1025" y="312"/>
                </a:cubicBezTo>
                <a:cubicBezTo>
                  <a:pt x="916" y="310"/>
                  <a:pt x="729" y="282"/>
                  <a:pt x="603" y="324"/>
                </a:cubicBezTo>
                <a:cubicBezTo>
                  <a:pt x="589" y="373"/>
                  <a:pt x="512" y="343"/>
                  <a:pt x="476" y="341"/>
                </a:cubicBezTo>
                <a:cubicBezTo>
                  <a:pt x="451" y="332"/>
                  <a:pt x="426" y="327"/>
                  <a:pt x="401" y="318"/>
                </a:cubicBezTo>
                <a:cubicBezTo>
                  <a:pt x="391" y="307"/>
                  <a:pt x="372" y="303"/>
                  <a:pt x="366" y="289"/>
                </a:cubicBezTo>
                <a:cubicBezTo>
                  <a:pt x="356" y="268"/>
                  <a:pt x="364" y="237"/>
                  <a:pt x="343" y="220"/>
                </a:cubicBezTo>
                <a:cubicBezTo>
                  <a:pt x="324" y="205"/>
                  <a:pt x="271" y="205"/>
                  <a:pt x="251" y="202"/>
                </a:cubicBezTo>
                <a:cubicBezTo>
                  <a:pt x="181" y="192"/>
                  <a:pt x="112" y="189"/>
                  <a:pt x="42" y="185"/>
                </a:cubicBezTo>
                <a:cubicBezTo>
                  <a:pt x="0" y="155"/>
                  <a:pt x="20" y="90"/>
                  <a:pt x="66" y="75"/>
                </a:cubicBezTo>
                <a:cubicBezTo>
                  <a:pt x="90" y="58"/>
                  <a:pt x="113" y="51"/>
                  <a:pt x="135" y="29"/>
                </a:cubicBezTo>
                <a:cubicBezTo>
                  <a:pt x="143" y="4"/>
                  <a:pt x="152" y="8"/>
                  <a:pt x="175" y="0"/>
                </a:cubicBezTo>
                <a:cubicBezTo>
                  <a:pt x="199" y="6"/>
                  <a:pt x="221" y="17"/>
                  <a:pt x="245" y="23"/>
                </a:cubicBezTo>
                <a:cubicBezTo>
                  <a:pt x="280" y="31"/>
                  <a:pt x="311" y="35"/>
                  <a:pt x="343" y="52"/>
                </a:cubicBezTo>
                <a:cubicBezTo>
                  <a:pt x="400" y="133"/>
                  <a:pt x="532" y="96"/>
                  <a:pt x="615" y="98"/>
                </a:cubicBezTo>
                <a:cubicBezTo>
                  <a:pt x="698" y="112"/>
                  <a:pt x="723" y="117"/>
                  <a:pt x="829" y="121"/>
                </a:cubicBezTo>
                <a:cubicBezTo>
                  <a:pt x="916" y="183"/>
                  <a:pt x="880" y="166"/>
                  <a:pt x="1031" y="173"/>
                </a:cubicBezTo>
                <a:cubicBezTo>
                  <a:pt x="1096" y="195"/>
                  <a:pt x="1112" y="183"/>
                  <a:pt x="1205" y="179"/>
                </a:cubicBezTo>
                <a:cubicBezTo>
                  <a:pt x="1239" y="170"/>
                  <a:pt x="1274" y="166"/>
                  <a:pt x="1309" y="162"/>
                </a:cubicBezTo>
                <a:cubicBezTo>
                  <a:pt x="1357" y="164"/>
                  <a:pt x="1405" y="160"/>
                  <a:pt x="1453" y="167"/>
                </a:cubicBezTo>
                <a:cubicBezTo>
                  <a:pt x="1463" y="168"/>
                  <a:pt x="1515" y="207"/>
                  <a:pt x="1534" y="214"/>
                </a:cubicBezTo>
                <a:cubicBezTo>
                  <a:pt x="1564" y="235"/>
                  <a:pt x="1594" y="242"/>
                  <a:pt x="1627" y="254"/>
                </a:cubicBezTo>
                <a:cubicBezTo>
                  <a:pt x="1623" y="305"/>
                  <a:pt x="1617" y="336"/>
                  <a:pt x="1604" y="381"/>
                </a:cubicBezTo>
                <a:cubicBezTo>
                  <a:pt x="1600" y="397"/>
                  <a:pt x="1596" y="412"/>
                  <a:pt x="1592" y="428"/>
                </a:cubicBezTo>
                <a:cubicBezTo>
                  <a:pt x="1590" y="436"/>
                  <a:pt x="1586" y="451"/>
                  <a:pt x="1586" y="451"/>
                </a:cubicBezTo>
                <a:cubicBezTo>
                  <a:pt x="1588" y="493"/>
                  <a:pt x="1584" y="536"/>
                  <a:pt x="1592" y="578"/>
                </a:cubicBezTo>
                <a:cubicBezTo>
                  <a:pt x="1594" y="591"/>
                  <a:pt x="1641" y="640"/>
                  <a:pt x="1650" y="659"/>
                </a:cubicBezTo>
                <a:cubicBezTo>
                  <a:pt x="1668" y="699"/>
                  <a:pt x="1669" y="730"/>
                  <a:pt x="1702" y="763"/>
                </a:cubicBezTo>
                <a:cubicBezTo>
                  <a:pt x="1709" y="784"/>
                  <a:pt x="1717" y="825"/>
                  <a:pt x="1737" y="838"/>
                </a:cubicBezTo>
                <a:cubicBezTo>
                  <a:pt x="1751" y="847"/>
                  <a:pt x="1784" y="853"/>
                  <a:pt x="1800" y="856"/>
                </a:cubicBezTo>
                <a:cubicBezTo>
                  <a:pt x="1811" y="888"/>
                  <a:pt x="1813" y="922"/>
                  <a:pt x="1824" y="954"/>
                </a:cubicBezTo>
                <a:cubicBezTo>
                  <a:pt x="1817" y="1016"/>
                  <a:pt x="1808" y="1125"/>
                  <a:pt x="1748" y="1162"/>
                </a:cubicBezTo>
                <a:cubicBezTo>
                  <a:pt x="1745" y="1174"/>
                  <a:pt x="1737" y="1185"/>
                  <a:pt x="1737" y="1197"/>
                </a:cubicBezTo>
                <a:cubicBezTo>
                  <a:pt x="1737" y="1244"/>
                  <a:pt x="1812" y="1288"/>
                  <a:pt x="1835" y="1336"/>
                </a:cubicBezTo>
                <a:cubicBezTo>
                  <a:pt x="1850" y="1368"/>
                  <a:pt x="1849" y="1406"/>
                  <a:pt x="1858" y="1440"/>
                </a:cubicBezTo>
                <a:cubicBezTo>
                  <a:pt x="1862" y="1476"/>
                  <a:pt x="1865" y="1533"/>
                  <a:pt x="1881" y="1567"/>
                </a:cubicBezTo>
                <a:cubicBezTo>
                  <a:pt x="1892" y="1589"/>
                  <a:pt x="1903" y="1605"/>
                  <a:pt x="1910" y="1630"/>
                </a:cubicBezTo>
                <a:cubicBezTo>
                  <a:pt x="1914" y="1660"/>
                  <a:pt x="1922" y="1693"/>
                  <a:pt x="1910" y="1723"/>
                </a:cubicBezTo>
                <a:cubicBezTo>
                  <a:pt x="1902" y="1743"/>
                  <a:pt x="1840" y="1745"/>
                  <a:pt x="1829" y="1746"/>
                </a:cubicBezTo>
                <a:cubicBezTo>
                  <a:pt x="1770" y="1752"/>
                  <a:pt x="1715" y="1758"/>
                  <a:pt x="1656" y="1758"/>
                </a:cubicBezTo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405160" y="1936800"/>
            <a:ext cx="1560240" cy="1027080"/>
          </a:xfrm>
          <a:custGeom>
            <a:avLst/>
            <a:gdLst/>
            <a:ahLst/>
            <a:rect l="l" t="t" r="r" b="b"/>
            <a:pathLst>
              <a:path w="983" h="647">
                <a:moveTo>
                  <a:pt x="23" y="0"/>
                </a:moveTo>
                <a:cubicBezTo>
                  <a:pt x="48" y="4"/>
                  <a:pt x="69" y="10"/>
                  <a:pt x="93" y="17"/>
                </a:cubicBezTo>
                <a:cubicBezTo>
                  <a:pt x="125" y="51"/>
                  <a:pt x="198" y="73"/>
                  <a:pt x="243" y="93"/>
                </a:cubicBezTo>
                <a:cubicBezTo>
                  <a:pt x="291" y="139"/>
                  <a:pt x="289" y="131"/>
                  <a:pt x="353" y="150"/>
                </a:cubicBezTo>
                <a:cubicBezTo>
                  <a:pt x="364" y="158"/>
                  <a:pt x="378" y="160"/>
                  <a:pt x="388" y="168"/>
                </a:cubicBezTo>
                <a:cubicBezTo>
                  <a:pt x="406" y="183"/>
                  <a:pt x="390" y="190"/>
                  <a:pt x="417" y="197"/>
                </a:cubicBezTo>
                <a:cubicBezTo>
                  <a:pt x="445" y="204"/>
                  <a:pt x="518" y="211"/>
                  <a:pt x="550" y="214"/>
                </a:cubicBezTo>
                <a:cubicBezTo>
                  <a:pt x="576" y="232"/>
                  <a:pt x="593" y="251"/>
                  <a:pt x="625" y="260"/>
                </a:cubicBezTo>
                <a:cubicBezTo>
                  <a:pt x="637" y="258"/>
                  <a:pt x="651" y="262"/>
                  <a:pt x="660" y="255"/>
                </a:cubicBezTo>
                <a:cubicBezTo>
                  <a:pt x="677" y="241"/>
                  <a:pt x="646" y="234"/>
                  <a:pt x="636" y="231"/>
                </a:cubicBezTo>
                <a:cubicBezTo>
                  <a:pt x="610" y="212"/>
                  <a:pt x="598" y="216"/>
                  <a:pt x="590" y="185"/>
                </a:cubicBezTo>
                <a:cubicBezTo>
                  <a:pt x="599" y="141"/>
                  <a:pt x="618" y="137"/>
                  <a:pt x="660" y="127"/>
                </a:cubicBezTo>
                <a:cubicBezTo>
                  <a:pt x="739" y="132"/>
                  <a:pt x="790" y="119"/>
                  <a:pt x="833" y="185"/>
                </a:cubicBezTo>
                <a:cubicBezTo>
                  <a:pt x="833" y="191"/>
                  <a:pt x="838" y="285"/>
                  <a:pt x="845" y="307"/>
                </a:cubicBezTo>
                <a:cubicBezTo>
                  <a:pt x="856" y="343"/>
                  <a:pt x="911" y="401"/>
                  <a:pt x="943" y="422"/>
                </a:cubicBezTo>
                <a:cubicBezTo>
                  <a:pt x="957" y="443"/>
                  <a:pt x="976" y="450"/>
                  <a:pt x="983" y="474"/>
                </a:cubicBezTo>
                <a:cubicBezTo>
                  <a:pt x="948" y="498"/>
                  <a:pt x="912" y="526"/>
                  <a:pt x="874" y="544"/>
                </a:cubicBezTo>
                <a:cubicBezTo>
                  <a:pt x="846" y="557"/>
                  <a:pt x="858" y="537"/>
                  <a:pt x="822" y="561"/>
                </a:cubicBezTo>
                <a:cubicBezTo>
                  <a:pt x="790" y="582"/>
                  <a:pt x="759" y="616"/>
                  <a:pt x="723" y="625"/>
                </a:cubicBezTo>
                <a:cubicBezTo>
                  <a:pt x="722" y="625"/>
                  <a:pt x="692" y="647"/>
                  <a:pt x="688" y="642"/>
                </a:cubicBezTo>
                <a:cubicBezTo>
                  <a:pt x="677" y="628"/>
                  <a:pt x="690" y="603"/>
                  <a:pt x="677" y="590"/>
                </a:cubicBezTo>
                <a:cubicBezTo>
                  <a:pt x="657" y="570"/>
                  <a:pt x="615" y="569"/>
                  <a:pt x="590" y="561"/>
                </a:cubicBezTo>
                <a:cubicBezTo>
                  <a:pt x="584" y="557"/>
                  <a:pt x="578" y="554"/>
                  <a:pt x="573" y="549"/>
                </a:cubicBezTo>
                <a:cubicBezTo>
                  <a:pt x="568" y="544"/>
                  <a:pt x="568" y="534"/>
                  <a:pt x="561" y="532"/>
                </a:cubicBezTo>
                <a:cubicBezTo>
                  <a:pt x="537" y="524"/>
                  <a:pt x="486" y="521"/>
                  <a:pt x="486" y="521"/>
                </a:cubicBezTo>
                <a:cubicBezTo>
                  <a:pt x="476" y="490"/>
                  <a:pt x="485" y="507"/>
                  <a:pt x="446" y="480"/>
                </a:cubicBezTo>
                <a:cubicBezTo>
                  <a:pt x="436" y="473"/>
                  <a:pt x="411" y="468"/>
                  <a:pt x="411" y="468"/>
                </a:cubicBezTo>
                <a:cubicBezTo>
                  <a:pt x="365" y="434"/>
                  <a:pt x="328" y="428"/>
                  <a:pt x="272" y="422"/>
                </a:cubicBezTo>
                <a:cubicBezTo>
                  <a:pt x="230" y="407"/>
                  <a:pt x="231" y="369"/>
                  <a:pt x="203" y="341"/>
                </a:cubicBezTo>
                <a:cubicBezTo>
                  <a:pt x="183" y="321"/>
                  <a:pt x="154" y="313"/>
                  <a:pt x="128" y="307"/>
                </a:cubicBezTo>
                <a:cubicBezTo>
                  <a:pt x="90" y="281"/>
                  <a:pt x="116" y="273"/>
                  <a:pt x="99" y="226"/>
                </a:cubicBezTo>
                <a:cubicBezTo>
                  <a:pt x="95" y="216"/>
                  <a:pt x="72" y="212"/>
                  <a:pt x="64" y="208"/>
                </a:cubicBezTo>
                <a:cubicBezTo>
                  <a:pt x="43" y="197"/>
                  <a:pt x="29" y="181"/>
                  <a:pt x="6" y="174"/>
                </a:cubicBezTo>
                <a:cubicBezTo>
                  <a:pt x="8" y="158"/>
                  <a:pt x="7" y="142"/>
                  <a:pt x="12" y="127"/>
                </a:cubicBezTo>
                <a:cubicBezTo>
                  <a:pt x="17" y="114"/>
                  <a:pt x="35" y="93"/>
                  <a:pt x="35" y="93"/>
                </a:cubicBezTo>
                <a:cubicBezTo>
                  <a:pt x="46" y="59"/>
                  <a:pt x="39" y="44"/>
                  <a:pt x="12" y="23"/>
                </a:cubicBezTo>
                <a:cubicBezTo>
                  <a:pt x="4" y="0"/>
                  <a:pt x="0" y="8"/>
                  <a:pt x="23" y="0"/>
                </a:cubicBezTo>
                <a:close/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EED TO KNOW TERRAIN AND WIND DIRECTION THAT FAVORS UPSLOP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817640" y="2685960"/>
            <a:ext cx="4159440" cy="2816280"/>
          </a:xfrm>
          <a:custGeom>
            <a:avLst/>
            <a:gdLst/>
            <a:ahLst/>
            <a:rect l="l" t="t" r="r" b="b"/>
            <a:pathLst>
              <a:path w="2620" h="1775">
                <a:moveTo>
                  <a:pt x="0" y="0"/>
                </a:moveTo>
                <a:cubicBezTo>
                  <a:pt x="38" y="10"/>
                  <a:pt x="43" y="34"/>
                  <a:pt x="64" y="64"/>
                </a:cubicBezTo>
                <a:cubicBezTo>
                  <a:pt x="74" y="96"/>
                  <a:pt x="96" y="67"/>
                  <a:pt x="121" y="64"/>
                </a:cubicBezTo>
                <a:cubicBezTo>
                  <a:pt x="177" y="57"/>
                  <a:pt x="233" y="55"/>
                  <a:pt x="289" y="47"/>
                </a:cubicBezTo>
                <a:cubicBezTo>
                  <a:pt x="432" y="54"/>
                  <a:pt x="355" y="49"/>
                  <a:pt x="434" y="70"/>
                </a:cubicBezTo>
                <a:cubicBezTo>
                  <a:pt x="461" y="88"/>
                  <a:pt x="487" y="109"/>
                  <a:pt x="520" y="99"/>
                </a:cubicBezTo>
                <a:cubicBezTo>
                  <a:pt x="561" y="72"/>
                  <a:pt x="585" y="89"/>
                  <a:pt x="625" y="116"/>
                </a:cubicBezTo>
                <a:cubicBezTo>
                  <a:pt x="676" y="80"/>
                  <a:pt x="709" y="101"/>
                  <a:pt x="786" y="104"/>
                </a:cubicBezTo>
                <a:cubicBezTo>
                  <a:pt x="820" y="138"/>
                  <a:pt x="812" y="141"/>
                  <a:pt x="862" y="151"/>
                </a:cubicBezTo>
                <a:cubicBezTo>
                  <a:pt x="875" y="159"/>
                  <a:pt x="883" y="173"/>
                  <a:pt x="896" y="180"/>
                </a:cubicBezTo>
                <a:cubicBezTo>
                  <a:pt x="908" y="187"/>
                  <a:pt x="924" y="187"/>
                  <a:pt x="937" y="191"/>
                </a:cubicBezTo>
                <a:cubicBezTo>
                  <a:pt x="977" y="219"/>
                  <a:pt x="982" y="244"/>
                  <a:pt x="1000" y="284"/>
                </a:cubicBezTo>
                <a:cubicBezTo>
                  <a:pt x="1014" y="317"/>
                  <a:pt x="1071" y="369"/>
                  <a:pt x="1099" y="376"/>
                </a:cubicBezTo>
                <a:cubicBezTo>
                  <a:pt x="1116" y="401"/>
                  <a:pt x="1128" y="381"/>
                  <a:pt x="1157" y="388"/>
                </a:cubicBezTo>
                <a:cubicBezTo>
                  <a:pt x="1168" y="396"/>
                  <a:pt x="1178" y="408"/>
                  <a:pt x="1191" y="411"/>
                </a:cubicBezTo>
                <a:cubicBezTo>
                  <a:pt x="1208" y="415"/>
                  <a:pt x="1243" y="422"/>
                  <a:pt x="1243" y="422"/>
                </a:cubicBezTo>
                <a:cubicBezTo>
                  <a:pt x="1261" y="435"/>
                  <a:pt x="1287" y="462"/>
                  <a:pt x="1307" y="469"/>
                </a:cubicBezTo>
                <a:cubicBezTo>
                  <a:pt x="1335" y="427"/>
                  <a:pt x="1423" y="433"/>
                  <a:pt x="1463" y="428"/>
                </a:cubicBezTo>
                <a:cubicBezTo>
                  <a:pt x="1499" y="419"/>
                  <a:pt x="1524" y="453"/>
                  <a:pt x="1561" y="457"/>
                </a:cubicBezTo>
                <a:cubicBezTo>
                  <a:pt x="1604" y="472"/>
                  <a:pt x="1607" y="499"/>
                  <a:pt x="1631" y="532"/>
                </a:cubicBezTo>
                <a:cubicBezTo>
                  <a:pt x="1629" y="574"/>
                  <a:pt x="1630" y="617"/>
                  <a:pt x="1625" y="659"/>
                </a:cubicBezTo>
                <a:cubicBezTo>
                  <a:pt x="1624" y="666"/>
                  <a:pt x="1614" y="670"/>
                  <a:pt x="1613" y="677"/>
                </a:cubicBezTo>
                <a:cubicBezTo>
                  <a:pt x="1610" y="698"/>
                  <a:pt x="1628" y="720"/>
                  <a:pt x="1648" y="723"/>
                </a:cubicBezTo>
                <a:cubicBezTo>
                  <a:pt x="1673" y="726"/>
                  <a:pt x="1710" y="698"/>
                  <a:pt x="1735" y="700"/>
                </a:cubicBezTo>
                <a:cubicBezTo>
                  <a:pt x="1764" y="705"/>
                  <a:pt x="1792" y="716"/>
                  <a:pt x="1804" y="683"/>
                </a:cubicBezTo>
                <a:cubicBezTo>
                  <a:pt x="1816" y="700"/>
                  <a:pt x="1801" y="682"/>
                  <a:pt x="1810" y="706"/>
                </a:cubicBezTo>
                <a:cubicBezTo>
                  <a:pt x="1833" y="671"/>
                  <a:pt x="1873" y="730"/>
                  <a:pt x="1908" y="740"/>
                </a:cubicBezTo>
                <a:cubicBezTo>
                  <a:pt x="1927" y="777"/>
                  <a:pt x="1940" y="771"/>
                  <a:pt x="1978" y="781"/>
                </a:cubicBezTo>
                <a:cubicBezTo>
                  <a:pt x="1985" y="792"/>
                  <a:pt x="1986" y="807"/>
                  <a:pt x="1995" y="816"/>
                </a:cubicBezTo>
                <a:cubicBezTo>
                  <a:pt x="1999" y="820"/>
                  <a:pt x="2079" y="838"/>
                  <a:pt x="2082" y="839"/>
                </a:cubicBezTo>
                <a:cubicBezTo>
                  <a:pt x="2092" y="868"/>
                  <a:pt x="2090" y="871"/>
                  <a:pt x="2117" y="891"/>
                </a:cubicBezTo>
                <a:cubicBezTo>
                  <a:pt x="2128" y="954"/>
                  <a:pt x="2167" y="968"/>
                  <a:pt x="2226" y="972"/>
                </a:cubicBezTo>
                <a:cubicBezTo>
                  <a:pt x="2234" y="992"/>
                  <a:pt x="2242" y="1024"/>
                  <a:pt x="2261" y="1035"/>
                </a:cubicBezTo>
                <a:cubicBezTo>
                  <a:pt x="2275" y="1043"/>
                  <a:pt x="2296" y="1064"/>
                  <a:pt x="2296" y="1064"/>
                </a:cubicBezTo>
                <a:cubicBezTo>
                  <a:pt x="2311" y="1085"/>
                  <a:pt x="2326" y="1096"/>
                  <a:pt x="2348" y="1111"/>
                </a:cubicBezTo>
                <a:cubicBezTo>
                  <a:pt x="2354" y="1136"/>
                  <a:pt x="2349" y="1125"/>
                  <a:pt x="2365" y="1145"/>
                </a:cubicBezTo>
                <a:cubicBezTo>
                  <a:pt x="2374" y="1157"/>
                  <a:pt x="2357" y="1167"/>
                  <a:pt x="2371" y="1174"/>
                </a:cubicBezTo>
                <a:cubicBezTo>
                  <a:pt x="2381" y="1179"/>
                  <a:pt x="2441" y="1205"/>
                  <a:pt x="2446" y="1215"/>
                </a:cubicBezTo>
                <a:cubicBezTo>
                  <a:pt x="2473" y="1265"/>
                  <a:pt x="2494" y="1340"/>
                  <a:pt x="2510" y="1388"/>
                </a:cubicBezTo>
                <a:cubicBezTo>
                  <a:pt x="2522" y="1435"/>
                  <a:pt x="2519" y="1472"/>
                  <a:pt x="2516" y="1498"/>
                </a:cubicBezTo>
                <a:cubicBezTo>
                  <a:pt x="2489" y="1504"/>
                  <a:pt x="2502" y="1517"/>
                  <a:pt x="2492" y="1544"/>
                </a:cubicBezTo>
                <a:cubicBezTo>
                  <a:pt x="2502" y="1546"/>
                  <a:pt x="2512" y="1546"/>
                  <a:pt x="2521" y="1550"/>
                </a:cubicBezTo>
                <a:cubicBezTo>
                  <a:pt x="2534" y="1556"/>
                  <a:pt x="2556" y="1573"/>
                  <a:pt x="2556" y="1573"/>
                </a:cubicBezTo>
                <a:cubicBezTo>
                  <a:pt x="2543" y="1610"/>
                  <a:pt x="2526" y="1632"/>
                  <a:pt x="2498" y="1660"/>
                </a:cubicBezTo>
                <a:cubicBezTo>
                  <a:pt x="2521" y="1668"/>
                  <a:pt x="2534" y="1662"/>
                  <a:pt x="2556" y="1654"/>
                </a:cubicBezTo>
                <a:cubicBezTo>
                  <a:pt x="2591" y="1689"/>
                  <a:pt x="2620" y="1723"/>
                  <a:pt x="2620" y="1775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565360" y="3341520"/>
            <a:ext cx="522360" cy="174960"/>
          </a:xfrm>
          <a:custGeom>
            <a:avLst/>
            <a:gdLst/>
            <a:ahLst/>
            <a:rect l="l" t="t" r="r" b="b"/>
            <a:pathLst>
              <a:path w="329" h="110">
                <a:moveTo>
                  <a:pt x="15" y="0"/>
                </a:moveTo>
                <a:cubicBezTo>
                  <a:pt x="70" y="4"/>
                  <a:pt x="105" y="4"/>
                  <a:pt x="154" y="17"/>
                </a:cubicBezTo>
                <a:cubicBezTo>
                  <a:pt x="205" y="30"/>
                  <a:pt x="135" y="14"/>
                  <a:pt x="188" y="35"/>
                </a:cubicBezTo>
                <a:cubicBezTo>
                  <a:pt x="201" y="40"/>
                  <a:pt x="229" y="46"/>
                  <a:pt x="229" y="46"/>
                </a:cubicBezTo>
                <a:cubicBezTo>
                  <a:pt x="250" y="39"/>
                  <a:pt x="265" y="29"/>
                  <a:pt x="287" y="23"/>
                </a:cubicBezTo>
                <a:cubicBezTo>
                  <a:pt x="329" y="88"/>
                  <a:pt x="249" y="77"/>
                  <a:pt x="211" y="81"/>
                </a:cubicBezTo>
                <a:cubicBezTo>
                  <a:pt x="172" y="108"/>
                  <a:pt x="190" y="100"/>
                  <a:pt x="159" y="110"/>
                </a:cubicBezTo>
                <a:cubicBezTo>
                  <a:pt x="121" y="105"/>
                  <a:pt x="87" y="97"/>
                  <a:pt x="49" y="92"/>
                </a:cubicBezTo>
                <a:cubicBezTo>
                  <a:pt x="47" y="77"/>
                  <a:pt x="48" y="61"/>
                  <a:pt x="44" y="46"/>
                </a:cubicBezTo>
                <a:cubicBezTo>
                  <a:pt x="33" y="4"/>
                  <a:pt x="0" y="57"/>
                  <a:pt x="15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205160" y="4195800"/>
            <a:ext cx="330480" cy="312840"/>
          </a:xfrm>
          <a:custGeom>
            <a:avLst/>
            <a:gdLst/>
            <a:ahLst/>
            <a:rect l="l" t="t" r="r" b="b"/>
            <a:pathLst>
              <a:path w="208" h="197">
                <a:moveTo>
                  <a:pt x="0" y="23"/>
                </a:moveTo>
                <a:cubicBezTo>
                  <a:pt x="66" y="0"/>
                  <a:pt x="61" y="43"/>
                  <a:pt x="109" y="57"/>
                </a:cubicBezTo>
                <a:cubicBezTo>
                  <a:pt x="121" y="65"/>
                  <a:pt x="139" y="68"/>
                  <a:pt x="144" y="81"/>
                </a:cubicBezTo>
                <a:cubicBezTo>
                  <a:pt x="146" y="87"/>
                  <a:pt x="145" y="94"/>
                  <a:pt x="150" y="98"/>
                </a:cubicBezTo>
                <a:cubicBezTo>
                  <a:pt x="158" y="104"/>
                  <a:pt x="169" y="105"/>
                  <a:pt x="179" y="109"/>
                </a:cubicBezTo>
                <a:cubicBezTo>
                  <a:pt x="186" y="131"/>
                  <a:pt x="201" y="140"/>
                  <a:pt x="208" y="162"/>
                </a:cubicBezTo>
                <a:cubicBezTo>
                  <a:pt x="172" y="184"/>
                  <a:pt x="109" y="197"/>
                  <a:pt x="92" y="150"/>
                </a:cubicBezTo>
                <a:cubicBezTo>
                  <a:pt x="84" y="92"/>
                  <a:pt x="92" y="88"/>
                  <a:pt x="34" y="81"/>
                </a:cubicBezTo>
                <a:cubicBezTo>
                  <a:pt x="7" y="71"/>
                  <a:pt x="7" y="48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193840" y="3405240"/>
            <a:ext cx="316080" cy="193680"/>
          </a:xfrm>
          <a:custGeom>
            <a:avLst/>
            <a:gdLst/>
            <a:ahLst/>
            <a:rect l="l" t="t" r="r" b="b"/>
            <a:pathLst>
              <a:path w="199" h="122">
                <a:moveTo>
                  <a:pt x="0" y="23"/>
                </a:moveTo>
                <a:cubicBezTo>
                  <a:pt x="41" y="11"/>
                  <a:pt x="85" y="5"/>
                  <a:pt x="127" y="0"/>
                </a:cubicBezTo>
                <a:cubicBezTo>
                  <a:pt x="144" y="33"/>
                  <a:pt x="162" y="33"/>
                  <a:pt x="191" y="52"/>
                </a:cubicBezTo>
                <a:cubicBezTo>
                  <a:pt x="193" y="58"/>
                  <a:pt x="199" y="64"/>
                  <a:pt x="197" y="70"/>
                </a:cubicBezTo>
                <a:cubicBezTo>
                  <a:pt x="193" y="79"/>
                  <a:pt x="169" y="83"/>
                  <a:pt x="162" y="87"/>
                </a:cubicBezTo>
                <a:cubicBezTo>
                  <a:pt x="142" y="97"/>
                  <a:pt x="124" y="112"/>
                  <a:pt x="104" y="122"/>
                </a:cubicBezTo>
                <a:cubicBezTo>
                  <a:pt x="94" y="120"/>
                  <a:pt x="84" y="121"/>
                  <a:pt x="75" y="116"/>
                </a:cubicBezTo>
                <a:cubicBezTo>
                  <a:pt x="69" y="113"/>
                  <a:pt x="68" y="104"/>
                  <a:pt x="64" y="99"/>
                </a:cubicBezTo>
                <a:cubicBezTo>
                  <a:pt x="49" y="81"/>
                  <a:pt x="36" y="65"/>
                  <a:pt x="17" y="52"/>
                </a:cubicBezTo>
                <a:cubicBezTo>
                  <a:pt x="4" y="31"/>
                  <a:pt x="9" y="41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95400" y="3378240"/>
            <a:ext cx="19548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72" y="0"/>
                </a:moveTo>
                <a:cubicBezTo>
                  <a:pt x="90" y="3"/>
                  <a:pt x="123" y="2"/>
                  <a:pt x="113" y="23"/>
                </a:cubicBezTo>
                <a:cubicBezTo>
                  <a:pt x="110" y="28"/>
                  <a:pt x="102" y="27"/>
                  <a:pt x="96" y="29"/>
                </a:cubicBezTo>
                <a:cubicBezTo>
                  <a:pt x="77" y="23"/>
                  <a:pt x="0" y="27"/>
                  <a:pt x="49" y="6"/>
                </a:cubicBezTo>
                <a:cubicBezTo>
                  <a:pt x="56" y="3"/>
                  <a:pt x="64" y="2"/>
                  <a:pt x="72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129200" y="4865760"/>
            <a:ext cx="357120" cy="376200"/>
          </a:xfrm>
          <a:custGeom>
            <a:avLst/>
            <a:gdLst/>
            <a:ahLst/>
            <a:rect l="l" t="t" r="r" b="b"/>
            <a:pathLst>
              <a:path w="225" h="237">
                <a:moveTo>
                  <a:pt x="30" y="0"/>
                </a:moveTo>
                <a:cubicBezTo>
                  <a:pt x="59" y="7"/>
                  <a:pt x="94" y="46"/>
                  <a:pt x="117" y="69"/>
                </a:cubicBezTo>
                <a:cubicBezTo>
                  <a:pt x="124" y="88"/>
                  <a:pt x="165" y="135"/>
                  <a:pt x="181" y="150"/>
                </a:cubicBezTo>
                <a:cubicBezTo>
                  <a:pt x="185" y="158"/>
                  <a:pt x="185" y="168"/>
                  <a:pt x="192" y="173"/>
                </a:cubicBezTo>
                <a:cubicBezTo>
                  <a:pt x="200" y="179"/>
                  <a:pt x="217" y="170"/>
                  <a:pt x="221" y="179"/>
                </a:cubicBezTo>
                <a:cubicBezTo>
                  <a:pt x="225" y="186"/>
                  <a:pt x="206" y="183"/>
                  <a:pt x="198" y="185"/>
                </a:cubicBezTo>
                <a:cubicBezTo>
                  <a:pt x="192" y="187"/>
                  <a:pt x="187" y="189"/>
                  <a:pt x="181" y="191"/>
                </a:cubicBezTo>
                <a:cubicBezTo>
                  <a:pt x="149" y="237"/>
                  <a:pt x="139" y="184"/>
                  <a:pt x="117" y="167"/>
                </a:cubicBezTo>
                <a:cubicBezTo>
                  <a:pt x="105" y="158"/>
                  <a:pt x="90" y="134"/>
                  <a:pt x="76" y="127"/>
                </a:cubicBezTo>
                <a:cubicBezTo>
                  <a:pt x="55" y="94"/>
                  <a:pt x="46" y="73"/>
                  <a:pt x="24" y="40"/>
                </a:cubicBezTo>
                <a:cubicBezTo>
                  <a:pt x="16" y="14"/>
                  <a:pt x="0" y="10"/>
                  <a:pt x="30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933640" y="4495680"/>
            <a:ext cx="233280" cy="112680"/>
          </a:xfrm>
          <a:custGeom>
            <a:avLst/>
            <a:gdLst/>
            <a:ahLst/>
            <a:rect l="l" t="t" r="r" b="b"/>
            <a:pathLst>
              <a:path w="147" h="71">
                <a:moveTo>
                  <a:pt x="49" y="30"/>
                </a:moveTo>
                <a:cubicBezTo>
                  <a:pt x="85" y="19"/>
                  <a:pt x="53" y="0"/>
                  <a:pt x="89" y="13"/>
                </a:cubicBezTo>
                <a:cubicBezTo>
                  <a:pt x="107" y="38"/>
                  <a:pt x="116" y="42"/>
                  <a:pt x="147" y="48"/>
                </a:cubicBezTo>
                <a:cubicBezTo>
                  <a:pt x="111" y="71"/>
                  <a:pt x="104" y="64"/>
                  <a:pt x="55" y="59"/>
                </a:cubicBezTo>
                <a:cubicBezTo>
                  <a:pt x="45" y="29"/>
                  <a:pt x="0" y="19"/>
                  <a:pt x="49" y="3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36800" y="2082960"/>
            <a:ext cx="5421240" cy="3327120"/>
          </a:xfrm>
          <a:custGeom>
            <a:avLst/>
            <a:gdLst/>
            <a:ahLst/>
            <a:rect l="l" t="t" r="r" b="b"/>
            <a:pathLst>
              <a:path w="3415" h="2096">
                <a:moveTo>
                  <a:pt x="261" y="487"/>
                </a:moveTo>
                <a:cubicBezTo>
                  <a:pt x="253" y="450"/>
                  <a:pt x="234" y="427"/>
                  <a:pt x="204" y="406"/>
                </a:cubicBezTo>
                <a:cubicBezTo>
                  <a:pt x="187" y="381"/>
                  <a:pt x="168" y="357"/>
                  <a:pt x="146" y="337"/>
                </a:cubicBezTo>
                <a:cubicBezTo>
                  <a:pt x="131" y="324"/>
                  <a:pt x="115" y="314"/>
                  <a:pt x="99" y="302"/>
                </a:cubicBezTo>
                <a:cubicBezTo>
                  <a:pt x="91" y="296"/>
                  <a:pt x="64" y="255"/>
                  <a:pt x="64" y="255"/>
                </a:cubicBezTo>
                <a:cubicBezTo>
                  <a:pt x="53" y="218"/>
                  <a:pt x="32" y="211"/>
                  <a:pt x="23" y="174"/>
                </a:cubicBezTo>
                <a:cubicBezTo>
                  <a:pt x="21" y="159"/>
                  <a:pt x="11" y="138"/>
                  <a:pt x="7" y="123"/>
                </a:cubicBezTo>
                <a:cubicBezTo>
                  <a:pt x="0" y="97"/>
                  <a:pt x="10" y="80"/>
                  <a:pt x="1" y="54"/>
                </a:cubicBezTo>
                <a:cubicBezTo>
                  <a:pt x="12" y="0"/>
                  <a:pt x="28" y="2"/>
                  <a:pt x="88" y="7"/>
                </a:cubicBezTo>
                <a:cubicBezTo>
                  <a:pt x="124" y="20"/>
                  <a:pt x="180" y="13"/>
                  <a:pt x="215" y="31"/>
                </a:cubicBezTo>
                <a:cubicBezTo>
                  <a:pt x="260" y="54"/>
                  <a:pt x="292" y="97"/>
                  <a:pt x="342" y="106"/>
                </a:cubicBezTo>
                <a:cubicBezTo>
                  <a:pt x="388" y="134"/>
                  <a:pt x="434" y="143"/>
                  <a:pt x="487" y="152"/>
                </a:cubicBezTo>
                <a:cubicBezTo>
                  <a:pt x="548" y="174"/>
                  <a:pt x="608" y="178"/>
                  <a:pt x="672" y="187"/>
                </a:cubicBezTo>
                <a:cubicBezTo>
                  <a:pt x="705" y="192"/>
                  <a:pt x="737" y="204"/>
                  <a:pt x="770" y="210"/>
                </a:cubicBezTo>
                <a:cubicBezTo>
                  <a:pt x="810" y="209"/>
                  <a:pt x="1150" y="202"/>
                  <a:pt x="1217" y="198"/>
                </a:cubicBezTo>
                <a:cubicBezTo>
                  <a:pt x="1251" y="196"/>
                  <a:pt x="1295" y="181"/>
                  <a:pt x="1326" y="169"/>
                </a:cubicBezTo>
                <a:cubicBezTo>
                  <a:pt x="1372" y="152"/>
                  <a:pt x="1411" y="141"/>
                  <a:pt x="1459" y="135"/>
                </a:cubicBezTo>
                <a:cubicBezTo>
                  <a:pt x="1482" y="127"/>
                  <a:pt x="1505" y="122"/>
                  <a:pt x="1529" y="117"/>
                </a:cubicBezTo>
                <a:cubicBezTo>
                  <a:pt x="1617" y="120"/>
                  <a:pt x="1693" y="85"/>
                  <a:pt x="1747" y="139"/>
                </a:cubicBezTo>
                <a:cubicBezTo>
                  <a:pt x="1752" y="153"/>
                  <a:pt x="1644" y="95"/>
                  <a:pt x="1654" y="105"/>
                </a:cubicBezTo>
                <a:cubicBezTo>
                  <a:pt x="1653" y="111"/>
                  <a:pt x="1753" y="143"/>
                  <a:pt x="1787" y="168"/>
                </a:cubicBezTo>
                <a:cubicBezTo>
                  <a:pt x="1821" y="193"/>
                  <a:pt x="1795" y="233"/>
                  <a:pt x="1856" y="255"/>
                </a:cubicBezTo>
                <a:cubicBezTo>
                  <a:pt x="1949" y="323"/>
                  <a:pt x="2041" y="297"/>
                  <a:pt x="2153" y="302"/>
                </a:cubicBezTo>
                <a:cubicBezTo>
                  <a:pt x="2287" y="322"/>
                  <a:pt x="2415" y="332"/>
                  <a:pt x="2552" y="337"/>
                </a:cubicBezTo>
                <a:cubicBezTo>
                  <a:pt x="2571" y="363"/>
                  <a:pt x="2565" y="362"/>
                  <a:pt x="2602" y="371"/>
                </a:cubicBezTo>
                <a:cubicBezTo>
                  <a:pt x="2623" y="376"/>
                  <a:pt x="2654" y="410"/>
                  <a:pt x="2675" y="412"/>
                </a:cubicBezTo>
                <a:cubicBezTo>
                  <a:pt x="2717" y="423"/>
                  <a:pt x="2724" y="448"/>
                  <a:pt x="2767" y="453"/>
                </a:cubicBezTo>
                <a:cubicBezTo>
                  <a:pt x="2779" y="457"/>
                  <a:pt x="2813" y="448"/>
                  <a:pt x="2822" y="457"/>
                </a:cubicBezTo>
                <a:cubicBezTo>
                  <a:pt x="2830" y="465"/>
                  <a:pt x="2850" y="467"/>
                  <a:pt x="2860" y="470"/>
                </a:cubicBezTo>
                <a:cubicBezTo>
                  <a:pt x="2884" y="477"/>
                  <a:pt x="2919" y="490"/>
                  <a:pt x="2944" y="492"/>
                </a:cubicBezTo>
                <a:cubicBezTo>
                  <a:pt x="2985" y="501"/>
                  <a:pt x="2999" y="534"/>
                  <a:pt x="3039" y="545"/>
                </a:cubicBezTo>
                <a:cubicBezTo>
                  <a:pt x="3076" y="571"/>
                  <a:pt x="3070" y="551"/>
                  <a:pt x="3091" y="580"/>
                </a:cubicBezTo>
                <a:cubicBezTo>
                  <a:pt x="3104" y="599"/>
                  <a:pt x="3107" y="608"/>
                  <a:pt x="3129" y="614"/>
                </a:cubicBezTo>
                <a:cubicBezTo>
                  <a:pt x="3151" y="630"/>
                  <a:pt x="3162" y="679"/>
                  <a:pt x="3169" y="706"/>
                </a:cubicBezTo>
                <a:cubicBezTo>
                  <a:pt x="3164" y="781"/>
                  <a:pt x="3155" y="776"/>
                  <a:pt x="3114" y="811"/>
                </a:cubicBezTo>
                <a:cubicBezTo>
                  <a:pt x="3085" y="831"/>
                  <a:pt x="3060" y="899"/>
                  <a:pt x="3051" y="933"/>
                </a:cubicBezTo>
                <a:cubicBezTo>
                  <a:pt x="3053" y="954"/>
                  <a:pt x="3068" y="981"/>
                  <a:pt x="3074" y="1002"/>
                </a:cubicBezTo>
                <a:cubicBezTo>
                  <a:pt x="3076" y="1009"/>
                  <a:pt x="3086" y="1009"/>
                  <a:pt x="3091" y="1014"/>
                </a:cubicBezTo>
                <a:cubicBezTo>
                  <a:pt x="3113" y="1036"/>
                  <a:pt x="3088" y="1052"/>
                  <a:pt x="3123" y="1070"/>
                </a:cubicBezTo>
                <a:cubicBezTo>
                  <a:pt x="3156" y="1086"/>
                  <a:pt x="3143" y="1096"/>
                  <a:pt x="3178" y="1136"/>
                </a:cubicBezTo>
                <a:cubicBezTo>
                  <a:pt x="3183" y="1150"/>
                  <a:pt x="3210" y="1149"/>
                  <a:pt x="3215" y="1163"/>
                </a:cubicBezTo>
                <a:cubicBezTo>
                  <a:pt x="3216" y="1166"/>
                  <a:pt x="3233" y="1196"/>
                  <a:pt x="3247" y="1205"/>
                </a:cubicBezTo>
                <a:cubicBezTo>
                  <a:pt x="3259" y="1213"/>
                  <a:pt x="3275" y="1212"/>
                  <a:pt x="3288" y="1217"/>
                </a:cubicBezTo>
                <a:cubicBezTo>
                  <a:pt x="3309" y="1238"/>
                  <a:pt x="3317" y="1271"/>
                  <a:pt x="3346" y="1281"/>
                </a:cubicBezTo>
                <a:cubicBezTo>
                  <a:pt x="3371" y="1332"/>
                  <a:pt x="3394" y="1358"/>
                  <a:pt x="3404" y="1414"/>
                </a:cubicBezTo>
                <a:cubicBezTo>
                  <a:pt x="3402" y="1429"/>
                  <a:pt x="3413" y="1455"/>
                  <a:pt x="3398" y="1460"/>
                </a:cubicBezTo>
                <a:cubicBezTo>
                  <a:pt x="3343" y="1477"/>
                  <a:pt x="3273" y="1432"/>
                  <a:pt x="3224" y="1402"/>
                </a:cubicBezTo>
                <a:cubicBezTo>
                  <a:pt x="3220" y="1408"/>
                  <a:pt x="3213" y="1441"/>
                  <a:pt x="3213" y="1448"/>
                </a:cubicBezTo>
                <a:cubicBezTo>
                  <a:pt x="3213" y="1466"/>
                  <a:pt x="3224" y="1500"/>
                  <a:pt x="3224" y="1500"/>
                </a:cubicBezTo>
                <a:cubicBezTo>
                  <a:pt x="3229" y="1558"/>
                  <a:pt x="3227" y="1591"/>
                  <a:pt x="3288" y="1604"/>
                </a:cubicBezTo>
                <a:cubicBezTo>
                  <a:pt x="3308" y="1632"/>
                  <a:pt x="3300" y="1672"/>
                  <a:pt x="3328" y="1691"/>
                </a:cubicBezTo>
                <a:cubicBezTo>
                  <a:pt x="3348" y="1720"/>
                  <a:pt x="3350" y="1695"/>
                  <a:pt x="3363" y="1743"/>
                </a:cubicBezTo>
                <a:cubicBezTo>
                  <a:pt x="3366" y="1755"/>
                  <a:pt x="3386" y="1801"/>
                  <a:pt x="3386" y="1801"/>
                </a:cubicBezTo>
                <a:cubicBezTo>
                  <a:pt x="3402" y="1910"/>
                  <a:pt x="3415" y="1986"/>
                  <a:pt x="3415" y="209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499000" y="4443480"/>
            <a:ext cx="803520" cy="1046160"/>
          </a:xfrm>
          <a:custGeom>
            <a:avLst/>
            <a:gdLst/>
            <a:ahLst/>
            <a:rect l="l" t="t" r="r" b="b"/>
            <a:pathLst>
              <a:path w="506" h="659">
                <a:moveTo>
                  <a:pt x="474" y="659"/>
                </a:moveTo>
                <a:cubicBezTo>
                  <a:pt x="506" y="570"/>
                  <a:pt x="405" y="544"/>
                  <a:pt x="341" y="537"/>
                </a:cubicBezTo>
                <a:cubicBezTo>
                  <a:pt x="293" y="523"/>
                  <a:pt x="357" y="546"/>
                  <a:pt x="312" y="514"/>
                </a:cubicBezTo>
                <a:cubicBezTo>
                  <a:pt x="304" y="508"/>
                  <a:pt x="293" y="507"/>
                  <a:pt x="283" y="503"/>
                </a:cubicBezTo>
                <a:cubicBezTo>
                  <a:pt x="271" y="483"/>
                  <a:pt x="256" y="480"/>
                  <a:pt x="249" y="457"/>
                </a:cubicBezTo>
                <a:cubicBezTo>
                  <a:pt x="252" y="409"/>
                  <a:pt x="251" y="382"/>
                  <a:pt x="266" y="341"/>
                </a:cubicBezTo>
                <a:cubicBezTo>
                  <a:pt x="274" y="294"/>
                  <a:pt x="278" y="290"/>
                  <a:pt x="266" y="231"/>
                </a:cubicBezTo>
                <a:cubicBezTo>
                  <a:pt x="261" y="206"/>
                  <a:pt x="183" y="166"/>
                  <a:pt x="156" y="156"/>
                </a:cubicBezTo>
                <a:cubicBezTo>
                  <a:pt x="120" y="101"/>
                  <a:pt x="89" y="48"/>
                  <a:pt x="23" y="29"/>
                </a:cubicBezTo>
                <a:cubicBezTo>
                  <a:pt x="3" y="8"/>
                  <a:pt x="10" y="18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175440" y="4251240"/>
            <a:ext cx="498240" cy="370080"/>
          </a:xfrm>
          <a:custGeom>
            <a:avLst/>
            <a:gdLst/>
            <a:ahLst/>
            <a:rect l="l" t="t" r="r" b="b"/>
            <a:pathLst>
              <a:path w="314" h="233">
                <a:moveTo>
                  <a:pt x="37" y="11"/>
                </a:moveTo>
                <a:cubicBezTo>
                  <a:pt x="83" y="28"/>
                  <a:pt x="62" y="0"/>
                  <a:pt x="112" y="17"/>
                </a:cubicBezTo>
                <a:cubicBezTo>
                  <a:pt x="129" y="23"/>
                  <a:pt x="132" y="35"/>
                  <a:pt x="146" y="46"/>
                </a:cubicBezTo>
                <a:cubicBezTo>
                  <a:pt x="184" y="77"/>
                  <a:pt x="227" y="111"/>
                  <a:pt x="268" y="138"/>
                </a:cubicBezTo>
                <a:cubicBezTo>
                  <a:pt x="284" y="163"/>
                  <a:pt x="304" y="172"/>
                  <a:pt x="314" y="202"/>
                </a:cubicBezTo>
                <a:cubicBezTo>
                  <a:pt x="303" y="233"/>
                  <a:pt x="294" y="232"/>
                  <a:pt x="262" y="225"/>
                </a:cubicBezTo>
                <a:cubicBezTo>
                  <a:pt x="252" y="214"/>
                  <a:pt x="244" y="200"/>
                  <a:pt x="233" y="190"/>
                </a:cubicBezTo>
                <a:cubicBezTo>
                  <a:pt x="221" y="179"/>
                  <a:pt x="193" y="161"/>
                  <a:pt x="193" y="161"/>
                </a:cubicBezTo>
                <a:cubicBezTo>
                  <a:pt x="154" y="105"/>
                  <a:pt x="79" y="98"/>
                  <a:pt x="25" y="63"/>
                </a:cubicBezTo>
                <a:cubicBezTo>
                  <a:pt x="18" y="34"/>
                  <a:pt x="0" y="26"/>
                  <a:pt x="31" y="17"/>
                </a:cubicBezTo>
                <a:cubicBezTo>
                  <a:pt x="68" y="21"/>
                  <a:pt x="97" y="23"/>
                  <a:pt x="129" y="4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797200" y="2349360"/>
            <a:ext cx="4437000" cy="3094200"/>
          </a:xfrm>
          <a:custGeom>
            <a:avLst/>
            <a:gdLst/>
            <a:ahLst/>
            <a:rect l="l" t="t" r="r" b="b"/>
            <a:pathLst>
              <a:path w="2795" h="1949">
                <a:moveTo>
                  <a:pt x="2292" y="1949"/>
                </a:moveTo>
                <a:cubicBezTo>
                  <a:pt x="2305" y="1900"/>
                  <a:pt x="2284" y="1782"/>
                  <a:pt x="2251" y="1735"/>
                </a:cubicBezTo>
                <a:cubicBezTo>
                  <a:pt x="2245" y="1716"/>
                  <a:pt x="2222" y="1683"/>
                  <a:pt x="2222" y="1683"/>
                </a:cubicBezTo>
                <a:cubicBezTo>
                  <a:pt x="2214" y="1655"/>
                  <a:pt x="2194" y="1629"/>
                  <a:pt x="2170" y="1614"/>
                </a:cubicBezTo>
                <a:cubicBezTo>
                  <a:pt x="2134" y="1556"/>
                  <a:pt x="2191" y="1644"/>
                  <a:pt x="2136" y="1579"/>
                </a:cubicBezTo>
                <a:cubicBezTo>
                  <a:pt x="2126" y="1568"/>
                  <a:pt x="2124" y="1552"/>
                  <a:pt x="2118" y="1538"/>
                </a:cubicBezTo>
                <a:cubicBezTo>
                  <a:pt x="2101" y="1498"/>
                  <a:pt x="2108" y="1433"/>
                  <a:pt x="2060" y="1417"/>
                </a:cubicBezTo>
                <a:cubicBezTo>
                  <a:pt x="2036" y="1399"/>
                  <a:pt x="2010" y="1388"/>
                  <a:pt x="1985" y="1371"/>
                </a:cubicBezTo>
                <a:cubicBezTo>
                  <a:pt x="1984" y="1370"/>
                  <a:pt x="1951" y="1344"/>
                  <a:pt x="1945" y="1342"/>
                </a:cubicBezTo>
                <a:cubicBezTo>
                  <a:pt x="1928" y="1338"/>
                  <a:pt x="1910" y="1338"/>
                  <a:pt x="1893" y="1336"/>
                </a:cubicBezTo>
                <a:cubicBezTo>
                  <a:pt x="1862" y="1326"/>
                  <a:pt x="1859" y="1302"/>
                  <a:pt x="1852" y="1272"/>
                </a:cubicBezTo>
                <a:cubicBezTo>
                  <a:pt x="1846" y="1209"/>
                  <a:pt x="1838" y="1224"/>
                  <a:pt x="1881" y="1209"/>
                </a:cubicBezTo>
                <a:cubicBezTo>
                  <a:pt x="1900" y="1155"/>
                  <a:pt x="1928" y="1147"/>
                  <a:pt x="1956" y="1105"/>
                </a:cubicBezTo>
                <a:cubicBezTo>
                  <a:pt x="1975" y="1077"/>
                  <a:pt x="1978" y="1045"/>
                  <a:pt x="1997" y="1018"/>
                </a:cubicBezTo>
                <a:cubicBezTo>
                  <a:pt x="2000" y="1005"/>
                  <a:pt x="1995" y="983"/>
                  <a:pt x="2008" y="978"/>
                </a:cubicBezTo>
                <a:cubicBezTo>
                  <a:pt x="2033" y="967"/>
                  <a:pt x="2063" y="969"/>
                  <a:pt x="2089" y="960"/>
                </a:cubicBezTo>
                <a:cubicBezTo>
                  <a:pt x="2094" y="946"/>
                  <a:pt x="2101" y="928"/>
                  <a:pt x="2101" y="914"/>
                </a:cubicBezTo>
                <a:cubicBezTo>
                  <a:pt x="2101" y="803"/>
                  <a:pt x="2115" y="714"/>
                  <a:pt x="2037" y="636"/>
                </a:cubicBezTo>
                <a:cubicBezTo>
                  <a:pt x="1999" y="598"/>
                  <a:pt x="2042" y="657"/>
                  <a:pt x="2003" y="607"/>
                </a:cubicBezTo>
                <a:cubicBezTo>
                  <a:pt x="1965" y="558"/>
                  <a:pt x="1998" y="586"/>
                  <a:pt x="1956" y="555"/>
                </a:cubicBezTo>
                <a:cubicBezTo>
                  <a:pt x="1912" y="557"/>
                  <a:pt x="1867" y="554"/>
                  <a:pt x="1823" y="561"/>
                </a:cubicBezTo>
                <a:cubicBezTo>
                  <a:pt x="1816" y="562"/>
                  <a:pt x="1813" y="572"/>
                  <a:pt x="1812" y="579"/>
                </a:cubicBezTo>
                <a:cubicBezTo>
                  <a:pt x="1803" y="640"/>
                  <a:pt x="1805" y="676"/>
                  <a:pt x="1789" y="729"/>
                </a:cubicBezTo>
                <a:cubicBezTo>
                  <a:pt x="1791" y="746"/>
                  <a:pt x="1790" y="764"/>
                  <a:pt x="1794" y="781"/>
                </a:cubicBezTo>
                <a:cubicBezTo>
                  <a:pt x="1796" y="788"/>
                  <a:pt x="1803" y="792"/>
                  <a:pt x="1806" y="798"/>
                </a:cubicBezTo>
                <a:cubicBezTo>
                  <a:pt x="1821" y="832"/>
                  <a:pt x="1819" y="877"/>
                  <a:pt x="1858" y="891"/>
                </a:cubicBezTo>
                <a:cubicBezTo>
                  <a:pt x="1871" y="930"/>
                  <a:pt x="1884" y="984"/>
                  <a:pt x="1835" y="1001"/>
                </a:cubicBezTo>
                <a:cubicBezTo>
                  <a:pt x="1790" y="1046"/>
                  <a:pt x="1810" y="1119"/>
                  <a:pt x="1748" y="1151"/>
                </a:cubicBezTo>
                <a:cubicBezTo>
                  <a:pt x="1725" y="1149"/>
                  <a:pt x="1701" y="1152"/>
                  <a:pt x="1679" y="1145"/>
                </a:cubicBezTo>
                <a:cubicBezTo>
                  <a:pt x="1667" y="1141"/>
                  <a:pt x="1672" y="1118"/>
                  <a:pt x="1661" y="1111"/>
                </a:cubicBezTo>
                <a:cubicBezTo>
                  <a:pt x="1651" y="1105"/>
                  <a:pt x="1627" y="1099"/>
                  <a:pt x="1627" y="1099"/>
                </a:cubicBezTo>
                <a:cubicBezTo>
                  <a:pt x="1600" y="1074"/>
                  <a:pt x="1597" y="1059"/>
                  <a:pt x="1569" y="1035"/>
                </a:cubicBezTo>
                <a:cubicBezTo>
                  <a:pt x="1558" y="1026"/>
                  <a:pt x="1546" y="991"/>
                  <a:pt x="1534" y="983"/>
                </a:cubicBezTo>
                <a:cubicBezTo>
                  <a:pt x="1528" y="979"/>
                  <a:pt x="1517" y="972"/>
                  <a:pt x="1517" y="972"/>
                </a:cubicBezTo>
                <a:cubicBezTo>
                  <a:pt x="1503" y="951"/>
                  <a:pt x="1495" y="932"/>
                  <a:pt x="1476" y="914"/>
                </a:cubicBezTo>
                <a:cubicBezTo>
                  <a:pt x="1481" y="877"/>
                  <a:pt x="1475" y="858"/>
                  <a:pt x="1505" y="839"/>
                </a:cubicBezTo>
                <a:cubicBezTo>
                  <a:pt x="1520" y="817"/>
                  <a:pt x="1509" y="775"/>
                  <a:pt x="1528" y="758"/>
                </a:cubicBezTo>
                <a:cubicBezTo>
                  <a:pt x="1540" y="747"/>
                  <a:pt x="1598" y="723"/>
                  <a:pt x="1598" y="723"/>
                </a:cubicBezTo>
                <a:cubicBezTo>
                  <a:pt x="1613" y="678"/>
                  <a:pt x="1615" y="707"/>
                  <a:pt x="1598" y="648"/>
                </a:cubicBezTo>
                <a:cubicBezTo>
                  <a:pt x="1596" y="642"/>
                  <a:pt x="1587" y="643"/>
                  <a:pt x="1581" y="642"/>
                </a:cubicBezTo>
                <a:cubicBezTo>
                  <a:pt x="1541" y="635"/>
                  <a:pt x="1499" y="631"/>
                  <a:pt x="1459" y="625"/>
                </a:cubicBezTo>
                <a:cubicBezTo>
                  <a:pt x="1432" y="628"/>
                  <a:pt x="1401" y="621"/>
                  <a:pt x="1378" y="636"/>
                </a:cubicBezTo>
                <a:cubicBezTo>
                  <a:pt x="1342" y="660"/>
                  <a:pt x="1343" y="670"/>
                  <a:pt x="1309" y="694"/>
                </a:cubicBezTo>
                <a:cubicBezTo>
                  <a:pt x="1295" y="747"/>
                  <a:pt x="1274" y="842"/>
                  <a:pt x="1268" y="897"/>
                </a:cubicBezTo>
                <a:cubicBezTo>
                  <a:pt x="1265" y="922"/>
                  <a:pt x="1268" y="949"/>
                  <a:pt x="1257" y="972"/>
                </a:cubicBezTo>
                <a:cubicBezTo>
                  <a:pt x="1246" y="994"/>
                  <a:pt x="1224" y="1019"/>
                  <a:pt x="1205" y="1035"/>
                </a:cubicBezTo>
                <a:cubicBezTo>
                  <a:pt x="1194" y="1044"/>
                  <a:pt x="1170" y="1059"/>
                  <a:pt x="1170" y="1059"/>
                </a:cubicBezTo>
                <a:cubicBezTo>
                  <a:pt x="1152" y="1052"/>
                  <a:pt x="1148" y="1054"/>
                  <a:pt x="1135" y="1035"/>
                </a:cubicBezTo>
                <a:cubicBezTo>
                  <a:pt x="1132" y="1030"/>
                  <a:pt x="1133" y="1022"/>
                  <a:pt x="1129" y="1018"/>
                </a:cubicBezTo>
                <a:cubicBezTo>
                  <a:pt x="1119" y="1008"/>
                  <a:pt x="1095" y="995"/>
                  <a:pt x="1095" y="995"/>
                </a:cubicBezTo>
                <a:cubicBezTo>
                  <a:pt x="1057" y="941"/>
                  <a:pt x="1071" y="852"/>
                  <a:pt x="1066" y="793"/>
                </a:cubicBezTo>
                <a:cubicBezTo>
                  <a:pt x="1064" y="765"/>
                  <a:pt x="1049" y="694"/>
                  <a:pt x="1037" y="671"/>
                </a:cubicBezTo>
                <a:cubicBezTo>
                  <a:pt x="1023" y="645"/>
                  <a:pt x="993" y="635"/>
                  <a:pt x="979" y="607"/>
                </a:cubicBezTo>
                <a:cubicBezTo>
                  <a:pt x="960" y="569"/>
                  <a:pt x="946" y="519"/>
                  <a:pt x="898" y="503"/>
                </a:cubicBezTo>
                <a:cubicBezTo>
                  <a:pt x="883" y="498"/>
                  <a:pt x="867" y="500"/>
                  <a:pt x="852" y="498"/>
                </a:cubicBezTo>
                <a:cubicBezTo>
                  <a:pt x="796" y="459"/>
                  <a:pt x="740" y="454"/>
                  <a:pt x="673" y="451"/>
                </a:cubicBezTo>
                <a:cubicBezTo>
                  <a:pt x="553" y="446"/>
                  <a:pt x="314" y="440"/>
                  <a:pt x="314" y="440"/>
                </a:cubicBezTo>
                <a:cubicBezTo>
                  <a:pt x="262" y="426"/>
                  <a:pt x="210" y="413"/>
                  <a:pt x="158" y="399"/>
                </a:cubicBezTo>
                <a:cubicBezTo>
                  <a:pt x="120" y="361"/>
                  <a:pt x="84" y="321"/>
                  <a:pt x="31" y="307"/>
                </a:cubicBezTo>
                <a:cubicBezTo>
                  <a:pt x="5" y="267"/>
                  <a:pt x="13" y="285"/>
                  <a:pt x="2" y="255"/>
                </a:cubicBezTo>
                <a:cubicBezTo>
                  <a:pt x="4" y="239"/>
                  <a:pt x="0" y="222"/>
                  <a:pt x="8" y="208"/>
                </a:cubicBezTo>
                <a:cubicBezTo>
                  <a:pt x="32" y="166"/>
                  <a:pt x="126" y="154"/>
                  <a:pt x="158" y="151"/>
                </a:cubicBezTo>
                <a:cubicBezTo>
                  <a:pt x="301" y="121"/>
                  <a:pt x="133" y="115"/>
                  <a:pt x="511" y="104"/>
                </a:cubicBezTo>
                <a:cubicBezTo>
                  <a:pt x="518" y="104"/>
                  <a:pt x="616" y="95"/>
                  <a:pt x="626" y="93"/>
                </a:cubicBezTo>
                <a:cubicBezTo>
                  <a:pt x="647" y="90"/>
                  <a:pt x="684" y="87"/>
                  <a:pt x="684" y="87"/>
                </a:cubicBezTo>
                <a:cubicBezTo>
                  <a:pt x="727" y="65"/>
                  <a:pt x="782" y="58"/>
                  <a:pt x="829" y="47"/>
                </a:cubicBezTo>
                <a:cubicBezTo>
                  <a:pt x="859" y="0"/>
                  <a:pt x="904" y="28"/>
                  <a:pt x="956" y="23"/>
                </a:cubicBezTo>
                <a:cubicBezTo>
                  <a:pt x="984" y="33"/>
                  <a:pt x="979" y="0"/>
                  <a:pt x="1008" y="41"/>
                </a:cubicBezTo>
                <a:cubicBezTo>
                  <a:pt x="1023" y="47"/>
                  <a:pt x="1077" y="81"/>
                  <a:pt x="1077" y="81"/>
                </a:cubicBezTo>
                <a:cubicBezTo>
                  <a:pt x="1102" y="119"/>
                  <a:pt x="1074" y="82"/>
                  <a:pt x="1106" y="110"/>
                </a:cubicBezTo>
                <a:cubicBezTo>
                  <a:pt x="1118" y="121"/>
                  <a:pt x="1106" y="145"/>
                  <a:pt x="1106" y="145"/>
                </a:cubicBezTo>
                <a:cubicBezTo>
                  <a:pt x="1112" y="162"/>
                  <a:pt x="1146" y="183"/>
                  <a:pt x="1158" y="197"/>
                </a:cubicBezTo>
                <a:cubicBezTo>
                  <a:pt x="1183" y="228"/>
                  <a:pt x="1286" y="219"/>
                  <a:pt x="1309" y="220"/>
                </a:cubicBezTo>
                <a:cubicBezTo>
                  <a:pt x="1333" y="225"/>
                  <a:pt x="1349" y="239"/>
                  <a:pt x="1372" y="243"/>
                </a:cubicBezTo>
                <a:cubicBezTo>
                  <a:pt x="1415" y="250"/>
                  <a:pt x="1452" y="255"/>
                  <a:pt x="1494" y="266"/>
                </a:cubicBezTo>
                <a:cubicBezTo>
                  <a:pt x="1546" y="280"/>
                  <a:pt x="1602" y="270"/>
                  <a:pt x="1656" y="272"/>
                </a:cubicBezTo>
                <a:cubicBezTo>
                  <a:pt x="1751" y="305"/>
                  <a:pt x="1886" y="292"/>
                  <a:pt x="1980" y="295"/>
                </a:cubicBezTo>
                <a:cubicBezTo>
                  <a:pt x="2053" y="321"/>
                  <a:pt x="2047" y="314"/>
                  <a:pt x="2159" y="318"/>
                </a:cubicBezTo>
                <a:cubicBezTo>
                  <a:pt x="2241" y="330"/>
                  <a:pt x="2310" y="367"/>
                  <a:pt x="2390" y="388"/>
                </a:cubicBezTo>
                <a:cubicBezTo>
                  <a:pt x="2423" y="410"/>
                  <a:pt x="2441" y="425"/>
                  <a:pt x="2454" y="463"/>
                </a:cubicBezTo>
                <a:cubicBezTo>
                  <a:pt x="2450" y="552"/>
                  <a:pt x="2427" y="609"/>
                  <a:pt x="2407" y="677"/>
                </a:cubicBezTo>
                <a:cubicBezTo>
                  <a:pt x="2409" y="739"/>
                  <a:pt x="2431" y="772"/>
                  <a:pt x="2436" y="833"/>
                </a:cubicBezTo>
                <a:cubicBezTo>
                  <a:pt x="2437" y="848"/>
                  <a:pt x="2446" y="860"/>
                  <a:pt x="2454" y="873"/>
                </a:cubicBezTo>
                <a:cubicBezTo>
                  <a:pt x="2463" y="887"/>
                  <a:pt x="2483" y="914"/>
                  <a:pt x="2483" y="914"/>
                </a:cubicBezTo>
                <a:cubicBezTo>
                  <a:pt x="2485" y="920"/>
                  <a:pt x="2485" y="926"/>
                  <a:pt x="2488" y="931"/>
                </a:cubicBezTo>
                <a:cubicBezTo>
                  <a:pt x="2491" y="937"/>
                  <a:pt x="2497" y="942"/>
                  <a:pt x="2500" y="949"/>
                </a:cubicBezTo>
                <a:cubicBezTo>
                  <a:pt x="2514" y="987"/>
                  <a:pt x="2503" y="1003"/>
                  <a:pt x="2546" y="1012"/>
                </a:cubicBezTo>
                <a:cubicBezTo>
                  <a:pt x="2560" y="1015"/>
                  <a:pt x="2584" y="1039"/>
                  <a:pt x="2598" y="1041"/>
                </a:cubicBezTo>
                <a:cubicBezTo>
                  <a:pt x="2614" y="1052"/>
                  <a:pt x="2635" y="1080"/>
                  <a:pt x="2604" y="1099"/>
                </a:cubicBezTo>
                <a:cubicBezTo>
                  <a:pt x="2581" y="1113"/>
                  <a:pt x="2550" y="1103"/>
                  <a:pt x="2523" y="1105"/>
                </a:cubicBezTo>
                <a:cubicBezTo>
                  <a:pt x="2515" y="1107"/>
                  <a:pt x="2502" y="1103"/>
                  <a:pt x="2500" y="1111"/>
                </a:cubicBezTo>
                <a:cubicBezTo>
                  <a:pt x="2496" y="1126"/>
                  <a:pt x="2507" y="1205"/>
                  <a:pt x="2529" y="1220"/>
                </a:cubicBezTo>
                <a:cubicBezTo>
                  <a:pt x="2546" y="1231"/>
                  <a:pt x="2569" y="1255"/>
                  <a:pt x="2569" y="1255"/>
                </a:cubicBezTo>
                <a:cubicBezTo>
                  <a:pt x="2577" y="1266"/>
                  <a:pt x="2602" y="1279"/>
                  <a:pt x="2610" y="1290"/>
                </a:cubicBezTo>
                <a:cubicBezTo>
                  <a:pt x="2622" y="1307"/>
                  <a:pt x="2620" y="1312"/>
                  <a:pt x="2633" y="1330"/>
                </a:cubicBezTo>
                <a:cubicBezTo>
                  <a:pt x="2640" y="1365"/>
                  <a:pt x="2646" y="1400"/>
                  <a:pt x="2656" y="1434"/>
                </a:cubicBezTo>
                <a:cubicBezTo>
                  <a:pt x="2656" y="1435"/>
                  <a:pt x="2665" y="1472"/>
                  <a:pt x="2668" y="1475"/>
                </a:cubicBezTo>
                <a:cubicBezTo>
                  <a:pt x="2670" y="1477"/>
                  <a:pt x="2700" y="1485"/>
                  <a:pt x="2702" y="1486"/>
                </a:cubicBezTo>
                <a:cubicBezTo>
                  <a:pt x="2728" y="1512"/>
                  <a:pt x="2745" y="1543"/>
                  <a:pt x="2766" y="1573"/>
                </a:cubicBezTo>
                <a:cubicBezTo>
                  <a:pt x="2795" y="1660"/>
                  <a:pt x="2775" y="1835"/>
                  <a:pt x="2772" y="1891"/>
                </a:cubicBezTo>
                <a:cubicBezTo>
                  <a:pt x="2771" y="1904"/>
                  <a:pt x="2764" y="1949"/>
                  <a:pt x="2749" y="1949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410080" y="3024360"/>
            <a:ext cx="154080" cy="69840"/>
          </a:xfrm>
          <a:custGeom>
            <a:avLst/>
            <a:gdLst/>
            <a:ahLst/>
            <a:rect l="l" t="t" r="r" b="b"/>
            <a:pathLst>
              <a:path w="97" h="44">
                <a:moveTo>
                  <a:pt x="44" y="9"/>
                </a:moveTo>
                <a:cubicBezTo>
                  <a:pt x="58" y="7"/>
                  <a:pt x="72" y="0"/>
                  <a:pt x="85" y="3"/>
                </a:cubicBezTo>
                <a:cubicBezTo>
                  <a:pt x="92" y="5"/>
                  <a:pt x="97" y="14"/>
                  <a:pt x="96" y="21"/>
                </a:cubicBezTo>
                <a:cubicBezTo>
                  <a:pt x="92" y="40"/>
                  <a:pt x="44" y="44"/>
                  <a:pt x="44" y="44"/>
                </a:cubicBezTo>
                <a:cubicBezTo>
                  <a:pt x="28" y="18"/>
                  <a:pt x="0" y="9"/>
                  <a:pt x="44" y="9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608360" y="2917800"/>
            <a:ext cx="1487520" cy="273240"/>
          </a:xfrm>
          <a:custGeom>
            <a:avLst/>
            <a:gdLst/>
            <a:ahLst/>
            <a:rect l="l" t="t" r="r" b="b"/>
            <a:pathLst>
              <a:path w="937" h="172">
                <a:moveTo>
                  <a:pt x="937" y="36"/>
                </a:moveTo>
                <a:cubicBezTo>
                  <a:pt x="908" y="64"/>
                  <a:pt x="872" y="82"/>
                  <a:pt x="833" y="93"/>
                </a:cubicBezTo>
                <a:cubicBezTo>
                  <a:pt x="799" y="116"/>
                  <a:pt x="757" y="121"/>
                  <a:pt x="717" y="128"/>
                </a:cubicBezTo>
                <a:cubicBezTo>
                  <a:pt x="632" y="158"/>
                  <a:pt x="537" y="144"/>
                  <a:pt x="451" y="122"/>
                </a:cubicBezTo>
                <a:cubicBezTo>
                  <a:pt x="393" y="124"/>
                  <a:pt x="335" y="120"/>
                  <a:pt x="278" y="128"/>
                </a:cubicBezTo>
                <a:cubicBezTo>
                  <a:pt x="259" y="131"/>
                  <a:pt x="231" y="161"/>
                  <a:pt x="208" y="169"/>
                </a:cubicBezTo>
                <a:cubicBezTo>
                  <a:pt x="141" y="166"/>
                  <a:pt x="88" y="172"/>
                  <a:pt x="29" y="151"/>
                </a:cubicBezTo>
                <a:cubicBezTo>
                  <a:pt x="9" y="122"/>
                  <a:pt x="11" y="91"/>
                  <a:pt x="0" y="59"/>
                </a:cubicBezTo>
                <a:cubicBezTo>
                  <a:pt x="12" y="0"/>
                  <a:pt x="48" y="12"/>
                  <a:pt x="104" y="7"/>
                </a:cubicBezTo>
                <a:cubicBezTo>
                  <a:pt x="198" y="11"/>
                  <a:pt x="283" y="31"/>
                  <a:pt x="376" y="41"/>
                </a:cubicBezTo>
                <a:cubicBezTo>
                  <a:pt x="462" y="38"/>
                  <a:pt x="512" y="29"/>
                  <a:pt x="590" y="18"/>
                </a:cubicBezTo>
                <a:cubicBezTo>
                  <a:pt x="671" y="22"/>
                  <a:pt x="757" y="3"/>
                  <a:pt x="833" y="30"/>
                </a:cubicBezTo>
                <a:cubicBezTo>
                  <a:pt x="876" y="45"/>
                  <a:pt x="887" y="47"/>
                  <a:pt x="937" y="36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340240" y="2982960"/>
            <a:ext cx="507960" cy="147600"/>
          </a:xfrm>
          <a:custGeom>
            <a:avLst/>
            <a:gdLst/>
            <a:ahLst/>
            <a:rect l="l" t="t" r="r" b="b"/>
            <a:pathLst>
              <a:path w="320" h="93">
                <a:moveTo>
                  <a:pt x="320" y="12"/>
                </a:moveTo>
                <a:cubicBezTo>
                  <a:pt x="292" y="93"/>
                  <a:pt x="159" y="73"/>
                  <a:pt x="100" y="75"/>
                </a:cubicBezTo>
                <a:cubicBezTo>
                  <a:pt x="57" y="71"/>
                  <a:pt x="33" y="81"/>
                  <a:pt x="19" y="41"/>
                </a:cubicBezTo>
                <a:cubicBezTo>
                  <a:pt x="69" y="23"/>
                  <a:pt x="0" y="49"/>
                  <a:pt x="54" y="23"/>
                </a:cubicBezTo>
                <a:cubicBezTo>
                  <a:pt x="77" y="12"/>
                  <a:pt x="105" y="9"/>
                  <a:pt x="129" y="0"/>
                </a:cubicBezTo>
                <a:cubicBezTo>
                  <a:pt x="189" y="5"/>
                  <a:pt x="261" y="27"/>
                  <a:pt x="320" y="12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672080" y="2989440"/>
            <a:ext cx="156960" cy="112680"/>
          </a:xfrm>
          <a:custGeom>
            <a:avLst/>
            <a:gdLst/>
            <a:ahLst/>
            <a:rect l="l" t="t" r="r" b="b"/>
            <a:pathLst>
              <a:path w="99" h="71">
                <a:moveTo>
                  <a:pt x="35" y="14"/>
                </a:moveTo>
                <a:cubicBezTo>
                  <a:pt x="62" y="5"/>
                  <a:pt x="88" y="0"/>
                  <a:pt x="99" y="31"/>
                </a:cubicBezTo>
                <a:cubicBezTo>
                  <a:pt x="85" y="71"/>
                  <a:pt x="92" y="67"/>
                  <a:pt x="6" y="43"/>
                </a:cubicBezTo>
                <a:cubicBezTo>
                  <a:pt x="0" y="41"/>
                  <a:pt x="7" y="29"/>
                  <a:pt x="12" y="25"/>
                </a:cubicBezTo>
                <a:cubicBezTo>
                  <a:pt x="34" y="10"/>
                  <a:pt x="51" y="28"/>
                  <a:pt x="35" y="14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645080" y="2975040"/>
            <a:ext cx="533520" cy="189000"/>
          </a:xfrm>
          <a:custGeom>
            <a:avLst/>
            <a:gdLst/>
            <a:ahLst/>
            <a:rect l="l" t="t" r="r" b="b"/>
            <a:pathLst>
              <a:path w="336" h="119">
                <a:moveTo>
                  <a:pt x="336" y="40"/>
                </a:moveTo>
                <a:cubicBezTo>
                  <a:pt x="320" y="44"/>
                  <a:pt x="302" y="43"/>
                  <a:pt x="289" y="52"/>
                </a:cubicBezTo>
                <a:cubicBezTo>
                  <a:pt x="252" y="77"/>
                  <a:pt x="243" y="85"/>
                  <a:pt x="197" y="92"/>
                </a:cubicBezTo>
                <a:cubicBezTo>
                  <a:pt x="183" y="91"/>
                  <a:pt x="21" y="119"/>
                  <a:pt x="0" y="57"/>
                </a:cubicBezTo>
                <a:cubicBezTo>
                  <a:pt x="7" y="3"/>
                  <a:pt x="1" y="10"/>
                  <a:pt x="46" y="0"/>
                </a:cubicBezTo>
                <a:cubicBezTo>
                  <a:pt x="120" y="4"/>
                  <a:pt x="168" y="19"/>
                  <a:pt x="237" y="28"/>
                </a:cubicBezTo>
                <a:cubicBezTo>
                  <a:pt x="245" y="30"/>
                  <a:pt x="252" y="32"/>
                  <a:pt x="260" y="34"/>
                </a:cubicBezTo>
                <a:cubicBezTo>
                  <a:pt x="272" y="38"/>
                  <a:pt x="295" y="46"/>
                  <a:pt x="295" y="46"/>
                </a:cubicBezTo>
                <a:cubicBezTo>
                  <a:pt x="289" y="77"/>
                  <a:pt x="290" y="80"/>
                  <a:pt x="260" y="8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414600" y="2671920"/>
            <a:ext cx="393840" cy="199800"/>
          </a:xfrm>
          <a:custGeom>
            <a:avLst/>
            <a:gdLst/>
            <a:ahLst/>
            <a:rect l="l" t="t" r="r" b="b"/>
            <a:pathLst>
              <a:path w="248" h="126">
                <a:moveTo>
                  <a:pt x="35" y="23"/>
                </a:moveTo>
                <a:cubicBezTo>
                  <a:pt x="76" y="9"/>
                  <a:pt x="120" y="12"/>
                  <a:pt x="162" y="0"/>
                </a:cubicBezTo>
                <a:cubicBezTo>
                  <a:pt x="195" y="4"/>
                  <a:pt x="248" y="9"/>
                  <a:pt x="214" y="63"/>
                </a:cubicBezTo>
                <a:cubicBezTo>
                  <a:pt x="202" y="82"/>
                  <a:pt x="164" y="92"/>
                  <a:pt x="145" y="98"/>
                </a:cubicBezTo>
                <a:cubicBezTo>
                  <a:pt x="139" y="100"/>
                  <a:pt x="127" y="104"/>
                  <a:pt x="127" y="104"/>
                </a:cubicBezTo>
                <a:cubicBezTo>
                  <a:pt x="39" y="99"/>
                  <a:pt x="21" y="126"/>
                  <a:pt x="0" y="63"/>
                </a:cubicBezTo>
                <a:cubicBezTo>
                  <a:pt x="14" y="22"/>
                  <a:pt x="85" y="0"/>
                  <a:pt x="127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08840" y="4122720"/>
            <a:ext cx="703080" cy="716040"/>
          </a:xfrm>
          <a:custGeom>
            <a:avLst/>
            <a:gdLst/>
            <a:ahLst/>
            <a:rect l="l" t="t" r="r" b="b"/>
            <a:pathLst>
              <a:path w="443" h="451">
                <a:moveTo>
                  <a:pt x="9" y="51"/>
                </a:moveTo>
                <a:cubicBezTo>
                  <a:pt x="50" y="37"/>
                  <a:pt x="50" y="0"/>
                  <a:pt x="119" y="16"/>
                </a:cubicBezTo>
                <a:cubicBezTo>
                  <a:pt x="132" y="19"/>
                  <a:pt x="129" y="52"/>
                  <a:pt x="142" y="57"/>
                </a:cubicBezTo>
                <a:cubicBezTo>
                  <a:pt x="201" y="82"/>
                  <a:pt x="264" y="131"/>
                  <a:pt x="321" y="161"/>
                </a:cubicBezTo>
                <a:cubicBezTo>
                  <a:pt x="341" y="171"/>
                  <a:pt x="355" y="189"/>
                  <a:pt x="374" y="202"/>
                </a:cubicBezTo>
                <a:cubicBezTo>
                  <a:pt x="382" y="214"/>
                  <a:pt x="395" y="223"/>
                  <a:pt x="402" y="236"/>
                </a:cubicBezTo>
                <a:cubicBezTo>
                  <a:pt x="422" y="272"/>
                  <a:pt x="435" y="329"/>
                  <a:pt x="443" y="369"/>
                </a:cubicBezTo>
                <a:cubicBezTo>
                  <a:pt x="434" y="451"/>
                  <a:pt x="441" y="440"/>
                  <a:pt x="350" y="433"/>
                </a:cubicBezTo>
                <a:cubicBezTo>
                  <a:pt x="342" y="403"/>
                  <a:pt x="317" y="403"/>
                  <a:pt x="293" y="387"/>
                </a:cubicBezTo>
                <a:cubicBezTo>
                  <a:pt x="283" y="356"/>
                  <a:pt x="271" y="345"/>
                  <a:pt x="258" y="317"/>
                </a:cubicBezTo>
                <a:cubicBezTo>
                  <a:pt x="251" y="302"/>
                  <a:pt x="254" y="295"/>
                  <a:pt x="241" y="282"/>
                </a:cubicBezTo>
                <a:cubicBezTo>
                  <a:pt x="232" y="273"/>
                  <a:pt x="218" y="269"/>
                  <a:pt x="206" y="265"/>
                </a:cubicBezTo>
                <a:cubicBezTo>
                  <a:pt x="169" y="230"/>
                  <a:pt x="129" y="188"/>
                  <a:pt x="79" y="173"/>
                </a:cubicBezTo>
                <a:cubicBezTo>
                  <a:pt x="66" y="164"/>
                  <a:pt x="50" y="159"/>
                  <a:pt x="38" y="149"/>
                </a:cubicBezTo>
                <a:cubicBezTo>
                  <a:pt x="25" y="138"/>
                  <a:pt x="19" y="122"/>
                  <a:pt x="9" y="109"/>
                </a:cubicBezTo>
                <a:cubicBezTo>
                  <a:pt x="0" y="84"/>
                  <a:pt x="10" y="61"/>
                  <a:pt x="32" y="34"/>
                </a:cubicBezTo>
                <a:cubicBezTo>
                  <a:pt x="42" y="22"/>
                  <a:pt x="52" y="12"/>
                  <a:pt x="61" y="11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48120" y="2687760"/>
            <a:ext cx="3154320" cy="2819160"/>
          </a:xfrm>
          <a:custGeom>
            <a:avLst/>
            <a:gdLst/>
            <a:ahLst/>
            <a:rect l="l" t="t" r="r" b="b"/>
            <a:pathLst>
              <a:path w="1987" h="1776">
                <a:moveTo>
                  <a:pt x="1723" y="1719"/>
                </a:moveTo>
                <a:cubicBezTo>
                  <a:pt x="1711" y="1675"/>
                  <a:pt x="1684" y="1629"/>
                  <a:pt x="1659" y="1591"/>
                </a:cubicBezTo>
                <a:cubicBezTo>
                  <a:pt x="1630" y="1457"/>
                  <a:pt x="1585" y="1313"/>
                  <a:pt x="1492" y="1210"/>
                </a:cubicBezTo>
                <a:cubicBezTo>
                  <a:pt x="1450" y="1163"/>
                  <a:pt x="1433" y="1171"/>
                  <a:pt x="1393" y="1135"/>
                </a:cubicBezTo>
                <a:cubicBezTo>
                  <a:pt x="1364" y="1109"/>
                  <a:pt x="1360" y="1093"/>
                  <a:pt x="1324" y="1083"/>
                </a:cubicBezTo>
                <a:cubicBezTo>
                  <a:pt x="1304" y="1070"/>
                  <a:pt x="1275" y="1061"/>
                  <a:pt x="1260" y="1042"/>
                </a:cubicBezTo>
                <a:cubicBezTo>
                  <a:pt x="1227" y="1000"/>
                  <a:pt x="1253" y="1012"/>
                  <a:pt x="1220" y="1002"/>
                </a:cubicBezTo>
                <a:cubicBezTo>
                  <a:pt x="1228" y="979"/>
                  <a:pt x="1242" y="975"/>
                  <a:pt x="1255" y="955"/>
                </a:cubicBezTo>
                <a:cubicBezTo>
                  <a:pt x="1259" y="943"/>
                  <a:pt x="1273" y="879"/>
                  <a:pt x="1283" y="869"/>
                </a:cubicBezTo>
                <a:cubicBezTo>
                  <a:pt x="1300" y="852"/>
                  <a:pt x="1329" y="836"/>
                  <a:pt x="1353" y="828"/>
                </a:cubicBezTo>
                <a:cubicBezTo>
                  <a:pt x="1382" y="788"/>
                  <a:pt x="1389" y="775"/>
                  <a:pt x="1428" y="747"/>
                </a:cubicBezTo>
                <a:cubicBezTo>
                  <a:pt x="1436" y="736"/>
                  <a:pt x="1447" y="726"/>
                  <a:pt x="1451" y="713"/>
                </a:cubicBezTo>
                <a:cubicBezTo>
                  <a:pt x="1455" y="701"/>
                  <a:pt x="1463" y="678"/>
                  <a:pt x="1463" y="678"/>
                </a:cubicBezTo>
                <a:cubicBezTo>
                  <a:pt x="1468" y="641"/>
                  <a:pt x="1475" y="605"/>
                  <a:pt x="1480" y="568"/>
                </a:cubicBezTo>
                <a:cubicBezTo>
                  <a:pt x="1477" y="510"/>
                  <a:pt x="1484" y="459"/>
                  <a:pt x="1451" y="412"/>
                </a:cubicBezTo>
                <a:cubicBezTo>
                  <a:pt x="1443" y="389"/>
                  <a:pt x="1434" y="379"/>
                  <a:pt x="1411" y="371"/>
                </a:cubicBezTo>
                <a:cubicBezTo>
                  <a:pt x="1365" y="326"/>
                  <a:pt x="1315" y="300"/>
                  <a:pt x="1255" y="279"/>
                </a:cubicBezTo>
                <a:cubicBezTo>
                  <a:pt x="1220" y="284"/>
                  <a:pt x="1178" y="289"/>
                  <a:pt x="1145" y="302"/>
                </a:cubicBezTo>
                <a:cubicBezTo>
                  <a:pt x="1135" y="306"/>
                  <a:pt x="1126" y="313"/>
                  <a:pt x="1116" y="314"/>
                </a:cubicBezTo>
                <a:cubicBezTo>
                  <a:pt x="1080" y="318"/>
                  <a:pt x="1043" y="317"/>
                  <a:pt x="1006" y="319"/>
                </a:cubicBezTo>
                <a:cubicBezTo>
                  <a:pt x="915" y="329"/>
                  <a:pt x="824" y="323"/>
                  <a:pt x="734" y="342"/>
                </a:cubicBezTo>
                <a:cubicBezTo>
                  <a:pt x="711" y="347"/>
                  <a:pt x="681" y="348"/>
                  <a:pt x="659" y="360"/>
                </a:cubicBezTo>
                <a:cubicBezTo>
                  <a:pt x="613" y="386"/>
                  <a:pt x="584" y="411"/>
                  <a:pt x="532" y="423"/>
                </a:cubicBezTo>
                <a:cubicBezTo>
                  <a:pt x="504" y="430"/>
                  <a:pt x="506" y="430"/>
                  <a:pt x="474" y="441"/>
                </a:cubicBezTo>
                <a:cubicBezTo>
                  <a:pt x="468" y="443"/>
                  <a:pt x="456" y="447"/>
                  <a:pt x="456" y="447"/>
                </a:cubicBezTo>
                <a:cubicBezTo>
                  <a:pt x="422" y="435"/>
                  <a:pt x="432" y="406"/>
                  <a:pt x="428" y="371"/>
                </a:cubicBezTo>
                <a:cubicBezTo>
                  <a:pt x="424" y="343"/>
                  <a:pt x="418" y="296"/>
                  <a:pt x="399" y="273"/>
                </a:cubicBezTo>
                <a:cubicBezTo>
                  <a:pt x="391" y="264"/>
                  <a:pt x="339" y="207"/>
                  <a:pt x="323" y="198"/>
                </a:cubicBezTo>
                <a:cubicBezTo>
                  <a:pt x="282" y="176"/>
                  <a:pt x="229" y="155"/>
                  <a:pt x="185" y="140"/>
                </a:cubicBezTo>
                <a:cubicBezTo>
                  <a:pt x="165" y="133"/>
                  <a:pt x="142" y="135"/>
                  <a:pt x="121" y="134"/>
                </a:cubicBezTo>
                <a:cubicBezTo>
                  <a:pt x="81" y="131"/>
                  <a:pt x="40" y="130"/>
                  <a:pt x="0" y="128"/>
                </a:cubicBezTo>
                <a:cubicBezTo>
                  <a:pt x="6" y="100"/>
                  <a:pt x="8" y="91"/>
                  <a:pt x="29" y="71"/>
                </a:cubicBezTo>
                <a:cubicBezTo>
                  <a:pt x="39" y="36"/>
                  <a:pt x="64" y="13"/>
                  <a:pt x="98" y="1"/>
                </a:cubicBezTo>
                <a:cubicBezTo>
                  <a:pt x="148" y="3"/>
                  <a:pt x="198" y="0"/>
                  <a:pt x="248" y="7"/>
                </a:cubicBezTo>
                <a:cubicBezTo>
                  <a:pt x="253" y="8"/>
                  <a:pt x="268" y="40"/>
                  <a:pt x="271" y="42"/>
                </a:cubicBezTo>
                <a:cubicBezTo>
                  <a:pt x="313" y="61"/>
                  <a:pt x="377" y="56"/>
                  <a:pt x="422" y="65"/>
                </a:cubicBezTo>
                <a:cubicBezTo>
                  <a:pt x="488" y="108"/>
                  <a:pt x="572" y="101"/>
                  <a:pt x="647" y="105"/>
                </a:cubicBezTo>
                <a:cubicBezTo>
                  <a:pt x="856" y="115"/>
                  <a:pt x="703" y="107"/>
                  <a:pt x="884" y="117"/>
                </a:cubicBezTo>
                <a:cubicBezTo>
                  <a:pt x="941" y="125"/>
                  <a:pt x="988" y="136"/>
                  <a:pt x="1046" y="140"/>
                </a:cubicBezTo>
                <a:cubicBezTo>
                  <a:pt x="1209" y="168"/>
                  <a:pt x="1182" y="153"/>
                  <a:pt x="1480" y="157"/>
                </a:cubicBezTo>
                <a:cubicBezTo>
                  <a:pt x="1503" y="165"/>
                  <a:pt x="1519" y="178"/>
                  <a:pt x="1538" y="192"/>
                </a:cubicBezTo>
                <a:cubicBezTo>
                  <a:pt x="1554" y="216"/>
                  <a:pt x="1572" y="233"/>
                  <a:pt x="1596" y="250"/>
                </a:cubicBezTo>
                <a:cubicBezTo>
                  <a:pt x="1607" y="258"/>
                  <a:pt x="1630" y="273"/>
                  <a:pt x="1630" y="273"/>
                </a:cubicBezTo>
                <a:cubicBezTo>
                  <a:pt x="1649" y="327"/>
                  <a:pt x="1638" y="372"/>
                  <a:pt x="1607" y="418"/>
                </a:cubicBezTo>
                <a:cubicBezTo>
                  <a:pt x="1598" y="449"/>
                  <a:pt x="1593" y="542"/>
                  <a:pt x="1619" y="568"/>
                </a:cubicBezTo>
                <a:cubicBezTo>
                  <a:pt x="1632" y="581"/>
                  <a:pt x="1659" y="608"/>
                  <a:pt x="1659" y="608"/>
                </a:cubicBezTo>
                <a:cubicBezTo>
                  <a:pt x="1697" y="720"/>
                  <a:pt x="1671" y="839"/>
                  <a:pt x="1573" y="903"/>
                </a:cubicBezTo>
                <a:cubicBezTo>
                  <a:pt x="1559" y="924"/>
                  <a:pt x="1541" y="953"/>
                  <a:pt x="1561" y="979"/>
                </a:cubicBezTo>
                <a:cubicBezTo>
                  <a:pt x="1572" y="993"/>
                  <a:pt x="1596" y="985"/>
                  <a:pt x="1613" y="990"/>
                </a:cubicBezTo>
                <a:cubicBezTo>
                  <a:pt x="1619" y="992"/>
                  <a:pt x="1625" y="993"/>
                  <a:pt x="1630" y="996"/>
                </a:cubicBezTo>
                <a:cubicBezTo>
                  <a:pt x="1636" y="999"/>
                  <a:pt x="1641" y="1005"/>
                  <a:pt x="1648" y="1007"/>
                </a:cubicBezTo>
                <a:cubicBezTo>
                  <a:pt x="1673" y="1016"/>
                  <a:pt x="1706" y="1016"/>
                  <a:pt x="1729" y="1031"/>
                </a:cubicBezTo>
                <a:cubicBezTo>
                  <a:pt x="1751" y="1045"/>
                  <a:pt x="1740" y="1040"/>
                  <a:pt x="1763" y="1048"/>
                </a:cubicBezTo>
                <a:cubicBezTo>
                  <a:pt x="1789" y="1082"/>
                  <a:pt x="1808" y="1110"/>
                  <a:pt x="1839" y="1140"/>
                </a:cubicBezTo>
                <a:cubicBezTo>
                  <a:pt x="1855" y="1155"/>
                  <a:pt x="1879" y="1192"/>
                  <a:pt x="1879" y="1192"/>
                </a:cubicBezTo>
                <a:cubicBezTo>
                  <a:pt x="1889" y="1259"/>
                  <a:pt x="1914" y="1322"/>
                  <a:pt x="1925" y="1389"/>
                </a:cubicBezTo>
                <a:cubicBezTo>
                  <a:pt x="1927" y="1402"/>
                  <a:pt x="1931" y="1452"/>
                  <a:pt x="1943" y="1464"/>
                </a:cubicBezTo>
                <a:cubicBezTo>
                  <a:pt x="1961" y="1483"/>
                  <a:pt x="1972" y="1498"/>
                  <a:pt x="1983" y="1522"/>
                </a:cubicBezTo>
                <a:cubicBezTo>
                  <a:pt x="1978" y="1595"/>
                  <a:pt x="1987" y="1615"/>
                  <a:pt x="1943" y="1661"/>
                </a:cubicBezTo>
                <a:cubicBezTo>
                  <a:pt x="1932" y="1703"/>
                  <a:pt x="1931" y="1731"/>
                  <a:pt x="1931" y="177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748480" y="4925880"/>
            <a:ext cx="393480" cy="61308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46" y="70"/>
                </a:moveTo>
                <a:cubicBezTo>
                  <a:pt x="73" y="61"/>
                  <a:pt x="93" y="66"/>
                  <a:pt x="110" y="41"/>
                </a:cubicBezTo>
                <a:cubicBezTo>
                  <a:pt x="118" y="18"/>
                  <a:pt x="127" y="8"/>
                  <a:pt x="150" y="0"/>
                </a:cubicBezTo>
                <a:cubicBezTo>
                  <a:pt x="118" y="34"/>
                  <a:pt x="127" y="40"/>
                  <a:pt x="133" y="93"/>
                </a:cubicBezTo>
                <a:cubicBezTo>
                  <a:pt x="248" y="83"/>
                  <a:pt x="203" y="82"/>
                  <a:pt x="168" y="104"/>
                </a:cubicBezTo>
                <a:cubicBezTo>
                  <a:pt x="139" y="148"/>
                  <a:pt x="128" y="223"/>
                  <a:pt x="162" y="266"/>
                </a:cubicBezTo>
                <a:cubicBezTo>
                  <a:pt x="171" y="278"/>
                  <a:pt x="186" y="285"/>
                  <a:pt x="197" y="295"/>
                </a:cubicBezTo>
                <a:cubicBezTo>
                  <a:pt x="203" y="314"/>
                  <a:pt x="226" y="347"/>
                  <a:pt x="226" y="347"/>
                </a:cubicBezTo>
                <a:cubicBezTo>
                  <a:pt x="213" y="383"/>
                  <a:pt x="175" y="369"/>
                  <a:pt x="145" y="364"/>
                </a:cubicBezTo>
                <a:cubicBezTo>
                  <a:pt x="132" y="328"/>
                  <a:pt x="123" y="291"/>
                  <a:pt x="110" y="255"/>
                </a:cubicBezTo>
                <a:cubicBezTo>
                  <a:pt x="107" y="248"/>
                  <a:pt x="95" y="251"/>
                  <a:pt x="87" y="249"/>
                </a:cubicBezTo>
                <a:cubicBezTo>
                  <a:pt x="39" y="235"/>
                  <a:pt x="104" y="246"/>
                  <a:pt x="0" y="237"/>
                </a:cubicBezTo>
                <a:cubicBezTo>
                  <a:pt x="37" y="227"/>
                  <a:pt x="46" y="197"/>
                  <a:pt x="58" y="162"/>
                </a:cubicBezTo>
                <a:cubicBezTo>
                  <a:pt x="41" y="113"/>
                  <a:pt x="30" y="129"/>
                  <a:pt x="46" y="70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167360" y="2890800"/>
            <a:ext cx="801360" cy="1008000"/>
          </a:xfrm>
          <a:custGeom>
            <a:avLst/>
            <a:gdLst/>
            <a:ahLst/>
            <a:rect l="l" t="t" r="r" b="b"/>
            <a:pathLst>
              <a:path w="505" h="635">
                <a:moveTo>
                  <a:pt x="24" y="272"/>
                </a:moveTo>
                <a:cubicBezTo>
                  <a:pt x="34" y="237"/>
                  <a:pt x="9" y="208"/>
                  <a:pt x="0" y="174"/>
                </a:cubicBezTo>
                <a:cubicBezTo>
                  <a:pt x="6" y="136"/>
                  <a:pt x="6" y="132"/>
                  <a:pt x="41" y="122"/>
                </a:cubicBezTo>
                <a:cubicBezTo>
                  <a:pt x="49" y="116"/>
                  <a:pt x="72" y="101"/>
                  <a:pt x="76" y="93"/>
                </a:cubicBezTo>
                <a:cubicBezTo>
                  <a:pt x="87" y="72"/>
                  <a:pt x="78" y="47"/>
                  <a:pt x="99" y="29"/>
                </a:cubicBezTo>
                <a:cubicBezTo>
                  <a:pt x="111" y="19"/>
                  <a:pt x="143" y="15"/>
                  <a:pt x="157" y="12"/>
                </a:cubicBezTo>
                <a:cubicBezTo>
                  <a:pt x="190" y="14"/>
                  <a:pt x="232" y="0"/>
                  <a:pt x="255" y="23"/>
                </a:cubicBezTo>
                <a:cubicBezTo>
                  <a:pt x="265" y="33"/>
                  <a:pt x="269" y="62"/>
                  <a:pt x="278" y="75"/>
                </a:cubicBezTo>
                <a:cubicBezTo>
                  <a:pt x="301" y="144"/>
                  <a:pt x="360" y="118"/>
                  <a:pt x="434" y="122"/>
                </a:cubicBezTo>
                <a:cubicBezTo>
                  <a:pt x="444" y="124"/>
                  <a:pt x="454" y="124"/>
                  <a:pt x="463" y="127"/>
                </a:cubicBezTo>
                <a:cubicBezTo>
                  <a:pt x="475" y="130"/>
                  <a:pt x="498" y="139"/>
                  <a:pt x="498" y="139"/>
                </a:cubicBezTo>
                <a:cubicBezTo>
                  <a:pt x="474" y="208"/>
                  <a:pt x="378" y="187"/>
                  <a:pt x="318" y="191"/>
                </a:cubicBezTo>
                <a:cubicBezTo>
                  <a:pt x="320" y="197"/>
                  <a:pt x="319" y="205"/>
                  <a:pt x="324" y="208"/>
                </a:cubicBezTo>
                <a:cubicBezTo>
                  <a:pt x="334" y="215"/>
                  <a:pt x="359" y="220"/>
                  <a:pt x="359" y="220"/>
                </a:cubicBezTo>
                <a:cubicBezTo>
                  <a:pt x="347" y="242"/>
                  <a:pt x="332" y="249"/>
                  <a:pt x="324" y="272"/>
                </a:cubicBezTo>
                <a:cubicBezTo>
                  <a:pt x="319" y="318"/>
                  <a:pt x="306" y="365"/>
                  <a:pt x="342" y="399"/>
                </a:cubicBezTo>
                <a:cubicBezTo>
                  <a:pt x="447" y="393"/>
                  <a:pt x="414" y="396"/>
                  <a:pt x="475" y="376"/>
                </a:cubicBezTo>
                <a:cubicBezTo>
                  <a:pt x="483" y="388"/>
                  <a:pt x="505" y="421"/>
                  <a:pt x="486" y="434"/>
                </a:cubicBezTo>
                <a:cubicBezTo>
                  <a:pt x="476" y="441"/>
                  <a:pt x="461" y="439"/>
                  <a:pt x="451" y="446"/>
                </a:cubicBezTo>
                <a:cubicBezTo>
                  <a:pt x="440" y="454"/>
                  <a:pt x="417" y="469"/>
                  <a:pt x="417" y="469"/>
                </a:cubicBezTo>
                <a:cubicBezTo>
                  <a:pt x="390" y="508"/>
                  <a:pt x="398" y="490"/>
                  <a:pt x="388" y="521"/>
                </a:cubicBezTo>
                <a:cubicBezTo>
                  <a:pt x="398" y="550"/>
                  <a:pt x="424" y="543"/>
                  <a:pt x="451" y="550"/>
                </a:cubicBezTo>
                <a:cubicBezTo>
                  <a:pt x="464" y="574"/>
                  <a:pt x="473" y="599"/>
                  <a:pt x="480" y="625"/>
                </a:cubicBezTo>
                <a:cubicBezTo>
                  <a:pt x="452" y="635"/>
                  <a:pt x="431" y="608"/>
                  <a:pt x="405" y="596"/>
                </a:cubicBezTo>
                <a:cubicBezTo>
                  <a:pt x="373" y="564"/>
                  <a:pt x="339" y="560"/>
                  <a:pt x="295" y="550"/>
                </a:cubicBezTo>
                <a:cubicBezTo>
                  <a:pt x="259" y="555"/>
                  <a:pt x="227" y="567"/>
                  <a:pt x="191" y="573"/>
                </a:cubicBezTo>
                <a:cubicBezTo>
                  <a:pt x="165" y="582"/>
                  <a:pt x="157" y="584"/>
                  <a:pt x="128" y="579"/>
                </a:cubicBezTo>
                <a:cubicBezTo>
                  <a:pt x="132" y="499"/>
                  <a:pt x="138" y="447"/>
                  <a:pt x="128" y="365"/>
                </a:cubicBezTo>
                <a:cubicBezTo>
                  <a:pt x="125" y="344"/>
                  <a:pt x="81" y="324"/>
                  <a:pt x="81" y="324"/>
                </a:cubicBezTo>
                <a:cubicBezTo>
                  <a:pt x="65" y="299"/>
                  <a:pt x="53" y="303"/>
                  <a:pt x="24" y="295"/>
                </a:cubicBezTo>
                <a:cubicBezTo>
                  <a:pt x="18" y="293"/>
                  <a:pt x="6" y="295"/>
                  <a:pt x="6" y="289"/>
                </a:cubicBezTo>
                <a:cubicBezTo>
                  <a:pt x="6" y="281"/>
                  <a:pt x="18" y="278"/>
                  <a:pt x="24" y="272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627520" y="3030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23" y="5"/>
                </a:moveTo>
                <a:cubicBezTo>
                  <a:pt x="29" y="7"/>
                  <a:pt x="36" y="7"/>
                  <a:pt x="40" y="11"/>
                </a:cubicBezTo>
                <a:cubicBezTo>
                  <a:pt x="44" y="15"/>
                  <a:pt x="43" y="23"/>
                  <a:pt x="46" y="28"/>
                </a:cubicBezTo>
                <a:cubicBezTo>
                  <a:pt x="55" y="46"/>
                  <a:pt x="69" y="64"/>
                  <a:pt x="81" y="80"/>
                </a:cubicBezTo>
                <a:cubicBezTo>
                  <a:pt x="95" y="122"/>
                  <a:pt x="78" y="115"/>
                  <a:pt x="35" y="109"/>
                </a:cubicBezTo>
                <a:cubicBezTo>
                  <a:pt x="24" y="79"/>
                  <a:pt x="29" y="49"/>
                  <a:pt x="11" y="22"/>
                </a:cubicBezTo>
                <a:cubicBezTo>
                  <a:pt x="4" y="0"/>
                  <a:pt x="0" y="5"/>
                  <a:pt x="23" y="5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151680" y="5305320"/>
            <a:ext cx="1339560" cy="201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002040" y="5288040"/>
            <a:ext cx="105552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2997360" y="5209920"/>
            <a:ext cx="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4048200" y="5204880"/>
            <a:ext cx="0" cy="1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35000" y="4727520"/>
            <a:ext cx="220680" cy="82440"/>
          </a:xfrm>
          <a:prstGeom prst="rect">
            <a:avLst/>
          </a:prstGeom>
          <a:solidFill>
            <a:srgbClr val="00cc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924200" y="4246560"/>
            <a:ext cx="220680" cy="82440"/>
          </a:xfrm>
          <a:prstGeom prst="rect">
            <a:avLst/>
          </a:prstGeom>
          <a:solidFill>
            <a:srgbClr val="00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rot="3526200">
            <a:off x="5977080" y="47476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GUNA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232160" y="3103560"/>
            <a:ext cx="87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606760" y="2668680"/>
            <a:ext cx="169920" cy="17784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0" y="106"/>
                </a:moveTo>
                <a:cubicBezTo>
                  <a:pt x="7" y="63"/>
                  <a:pt x="9" y="0"/>
                  <a:pt x="93" y="60"/>
                </a:cubicBezTo>
                <a:cubicBezTo>
                  <a:pt x="107" y="70"/>
                  <a:pt x="93" y="95"/>
                  <a:pt x="93" y="112"/>
                </a:cubicBezTo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82800" y="2292480"/>
            <a:ext cx="131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MADRE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32440" y="2808360"/>
            <a:ext cx="15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GABRIEL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332160" y="4222800"/>
            <a:ext cx="162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TALINA 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27400" y="2840040"/>
            <a:ext cx="112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TA BARB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40160" y="5035680"/>
            <a:ext cx="9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 DIEG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81240" y="4173480"/>
            <a:ext cx="16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PULATION CEN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208240" y="46418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UNTAIN RAN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909800" y="1965240"/>
            <a:ext cx="33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305240" y="2357280"/>
            <a:ext cx="422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10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062080" y="2117880"/>
            <a:ext cx="33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556080" y="27288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147760" y="2092320"/>
            <a:ext cx="247680" cy="138240"/>
          </a:xfrm>
          <a:custGeom>
            <a:avLst/>
            <a:gdLst/>
            <a:ahLst/>
            <a:rect l="l" t="t" r="r" b="b"/>
            <a:pathLst>
              <a:path w="156" h="87">
                <a:moveTo>
                  <a:pt x="156" y="87"/>
                </a:moveTo>
                <a:cubicBezTo>
                  <a:pt x="148" y="50"/>
                  <a:pt x="137" y="56"/>
                  <a:pt x="104" y="47"/>
                </a:cubicBezTo>
                <a:cubicBezTo>
                  <a:pt x="83" y="33"/>
                  <a:pt x="61" y="12"/>
                  <a:pt x="35" y="6"/>
                </a:cubicBezTo>
                <a:cubicBezTo>
                  <a:pt x="23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936800" y="2120760"/>
            <a:ext cx="19080" cy="128880"/>
          </a:xfrm>
          <a:custGeom>
            <a:avLst/>
            <a:gdLst/>
            <a:ahLst/>
            <a:rect l="l" t="t" r="r" b="b"/>
            <a:pathLst>
              <a:path w="12" h="81">
                <a:moveTo>
                  <a:pt x="0" y="81"/>
                </a:moveTo>
                <a:cubicBezTo>
                  <a:pt x="2" y="60"/>
                  <a:pt x="3" y="38"/>
                  <a:pt x="6" y="17"/>
                </a:cubicBezTo>
                <a:cubicBezTo>
                  <a:pt x="7" y="11"/>
                  <a:pt x="12" y="0"/>
                  <a:pt x="12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41960" y="36511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9720" y="3635280"/>
            <a:ext cx="307800" cy="366840"/>
          </a:xfrm>
          <a:custGeom>
            <a:avLst/>
            <a:gdLst/>
            <a:ahLst/>
            <a:rect l="l" t="t" r="r" b="b"/>
            <a:pathLst>
              <a:path w="194" h="231">
                <a:moveTo>
                  <a:pt x="9" y="81"/>
                </a:moveTo>
                <a:cubicBezTo>
                  <a:pt x="0" y="38"/>
                  <a:pt x="0" y="15"/>
                  <a:pt x="44" y="0"/>
                </a:cubicBezTo>
                <a:cubicBezTo>
                  <a:pt x="85" y="5"/>
                  <a:pt x="119" y="5"/>
                  <a:pt x="153" y="29"/>
                </a:cubicBezTo>
                <a:cubicBezTo>
                  <a:pt x="175" y="60"/>
                  <a:pt x="168" y="76"/>
                  <a:pt x="182" y="116"/>
                </a:cubicBezTo>
                <a:cubicBezTo>
                  <a:pt x="186" y="127"/>
                  <a:pt x="194" y="150"/>
                  <a:pt x="194" y="150"/>
                </a:cubicBezTo>
                <a:cubicBezTo>
                  <a:pt x="186" y="231"/>
                  <a:pt x="189" y="222"/>
                  <a:pt x="107" y="214"/>
                </a:cubicBezTo>
                <a:cubicBezTo>
                  <a:pt x="87" y="200"/>
                  <a:pt x="73" y="180"/>
                  <a:pt x="55" y="162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887640" y="2500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918040" y="2949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006960" y="2022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2760" y="2239920"/>
            <a:ext cx="339840" cy="779400"/>
          </a:xfrm>
          <a:custGeom>
            <a:avLst/>
            <a:gdLst/>
            <a:ahLst/>
            <a:rect l="l" t="t" r="r" b="b"/>
            <a:pathLst>
              <a:path w="214" h="491">
                <a:moveTo>
                  <a:pt x="0" y="491"/>
                </a:moveTo>
                <a:cubicBezTo>
                  <a:pt x="7" y="398"/>
                  <a:pt x="42" y="321"/>
                  <a:pt x="58" y="231"/>
                </a:cubicBezTo>
                <a:cubicBezTo>
                  <a:pt x="64" y="194"/>
                  <a:pt x="64" y="133"/>
                  <a:pt x="81" y="98"/>
                </a:cubicBezTo>
                <a:cubicBezTo>
                  <a:pt x="88" y="84"/>
                  <a:pt x="126" y="82"/>
                  <a:pt x="133" y="81"/>
                </a:cubicBezTo>
                <a:cubicBezTo>
                  <a:pt x="144" y="74"/>
                  <a:pt x="158" y="72"/>
                  <a:pt x="168" y="64"/>
                </a:cubicBezTo>
                <a:cubicBezTo>
                  <a:pt x="176" y="57"/>
                  <a:pt x="214" y="8"/>
                  <a:pt x="214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518080" y="2111040"/>
            <a:ext cx="44640" cy="92700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4809960" y="2084400"/>
            <a:ext cx="606600" cy="9446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288040" y="18813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3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93000" y="385776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6270480" y="4047840"/>
            <a:ext cx="7920" cy="2300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24280" y="49910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E 50 M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156360" y="352116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207120" y="367344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ACI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308640" y="384804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60960" y="291132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969160" y="3112920"/>
            <a:ext cx="10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RNARDI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76880" y="326556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303880" y="4348080"/>
            <a:ext cx="3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32000" y="5727600"/>
            <a:ext cx="71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9-DAY TOTAL RAINFALL (6 SEPARATE STORMS) .  HEAVY RAINFALL EVENTS IN WINTER ALONG THE WEST COAST OFTEN ARE ASSOCIATED WITH MULTIPLE STORMS</a:t>
            </a:r>
            <a:r>
              <a:rPr b="1" lang="en-US" sz="1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06320" y="-17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 TYPE III CASE STUD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0" name="meso_95010700_f12_slpthk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396720" y="1158840"/>
            <a:ext cx="4222800" cy="3564000"/>
          </a:xfrm>
          <a:prstGeom prst="rect">
            <a:avLst/>
          </a:prstGeom>
          <a:ln w="0">
            <a:noFill/>
          </a:ln>
        </p:spPr>
      </p:pic>
      <p:pic>
        <p:nvPicPr>
          <p:cNvPr id="2401" name="meso_95010800_f12_pwtv85" descr=""/>
          <p:cNvPicPr/>
          <p:nvPr/>
        </p:nvPicPr>
        <p:blipFill>
          <a:blip r:embed="rId3"/>
          <a:srcRect l="0" t="0" r="4163" b="0"/>
          <a:stretch/>
        </p:blipFill>
        <p:spPr>
          <a:xfrm>
            <a:off x="4730760" y="1187280"/>
            <a:ext cx="4238640" cy="3535560"/>
          </a:xfrm>
          <a:prstGeom prst="rect">
            <a:avLst/>
          </a:prstGeom>
          <a:ln w="0">
            <a:noFill/>
          </a:ln>
        </p:spPr>
      </p:pic>
      <p:sp>
        <p:nvSpPr>
          <p:cNvPr id="2402" name=""/>
          <p:cNvSpPr/>
          <p:nvPr/>
        </p:nvSpPr>
        <p:spPr>
          <a:xfrm>
            <a:off x="615960" y="471816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806560" y="76680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BEGINNING OF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910040" y="474336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276200" y="526104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UPLE THINGS TO NOTE:  1) A LONG FETCH OF DEEP MOISTURE, 2) A BARRIER JET AND STRONG SOUTHERLY FLOW UP THE SACREMENTO VALLEY. THIS JET HELPS PRODUCE HEAVY RAINS NEAR S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77796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O THE FORECAST LOOK CONSISTENT WITH WHAT YOU SEE IN PACIFIC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7" name="meso_95010700_f36_slpthk" descr=""/>
          <p:cNvPicPr/>
          <p:nvPr/>
        </p:nvPicPr>
        <p:blipFill>
          <a:blip r:embed="rId2"/>
          <a:srcRect l="3788" t="0" r="3712" b="0"/>
          <a:stretch/>
        </p:blipFill>
        <p:spPr>
          <a:xfrm>
            <a:off x="257040" y="1808280"/>
            <a:ext cx="4265640" cy="3684600"/>
          </a:xfrm>
          <a:prstGeom prst="rect">
            <a:avLst/>
          </a:prstGeom>
          <a:ln w="0">
            <a:noFill/>
          </a:ln>
        </p:spPr>
      </p:pic>
      <p:pic>
        <p:nvPicPr>
          <p:cNvPr id="2408" name="meso_95010800_f36_pwtv85" descr=""/>
          <p:cNvPicPr/>
          <p:nvPr/>
        </p:nvPicPr>
        <p:blipFill>
          <a:blip r:embed="rId3"/>
          <a:srcRect l="0" t="0" r="3661" b="0"/>
          <a:stretch/>
        </p:blipFill>
        <p:spPr>
          <a:xfrm>
            <a:off x="4592520" y="1817640"/>
            <a:ext cx="4384800" cy="3637080"/>
          </a:xfrm>
          <a:prstGeom prst="rect">
            <a:avLst/>
          </a:prstGeom>
          <a:ln w="0">
            <a:noFill/>
          </a:ln>
        </p:spPr>
      </p:pic>
      <p:sp>
        <p:nvSpPr>
          <p:cNvPr id="2409" name=""/>
          <p:cNvSpPr/>
          <p:nvPr/>
        </p:nvSpPr>
        <p:spPr>
          <a:xfrm>
            <a:off x="422280" y="544212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16360" y="540540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421000" y="145584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THE END OF THE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VERLAYING MODEL OUTPUT WITH SSMI IMAGERY CAN GIVE YOU A GOOD IDEA OF THE MOISTURE THAT WILL BE FEEDING INTO THE WEST COAST.  THE MODEL OUTPUT LOOKS REASONABL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3" name="Untitled-2" descr=""/>
          <p:cNvPicPr/>
          <p:nvPr/>
        </p:nvPicPr>
        <p:blipFill>
          <a:blip r:embed="rId2"/>
          <a:srcRect l="42142" t="24940" r="0" b="25658"/>
          <a:stretch/>
        </p:blipFill>
        <p:spPr>
          <a:xfrm>
            <a:off x="2038320" y="1841400"/>
            <a:ext cx="5138640" cy="3905280"/>
          </a:xfrm>
          <a:prstGeom prst="rect">
            <a:avLst/>
          </a:prstGeom>
          <a:ln w="0">
            <a:noFill/>
          </a:ln>
        </p:spPr>
      </p:pic>
      <p:sp>
        <p:nvSpPr>
          <p:cNvPr id="2414" name=""/>
          <p:cNvSpPr/>
          <p:nvPr/>
        </p:nvSpPr>
        <p:spPr>
          <a:xfrm>
            <a:off x="2185920" y="5837400"/>
            <a:ext cx="50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E THE TROPICAL CONNECTION AND PLUME OF PWS ABOVE 1.00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12800" y="6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AN LOOK AT MODEL OUTPUT FOR LIFTING DUE TO TERRAI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6" name="meso_95010800_f18_bquomgq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284040" y="2030400"/>
            <a:ext cx="4210200" cy="3552840"/>
          </a:xfrm>
          <a:prstGeom prst="rect">
            <a:avLst/>
          </a:prstGeom>
          <a:ln w="0">
            <a:noFill/>
          </a:ln>
        </p:spPr>
      </p:pic>
      <p:pic>
        <p:nvPicPr>
          <p:cNvPr id="2417" name="meso_95010900_f36_bquomg" descr=""/>
          <p:cNvPicPr/>
          <p:nvPr/>
        </p:nvPicPr>
        <p:blipFill>
          <a:blip r:embed="rId3"/>
          <a:srcRect l="0" t="0" r="5657" b="0"/>
          <a:stretch/>
        </p:blipFill>
        <p:spPr>
          <a:xfrm>
            <a:off x="4668840" y="2035080"/>
            <a:ext cx="4210200" cy="3567240"/>
          </a:xfrm>
          <a:prstGeom prst="rect">
            <a:avLst/>
          </a:prstGeom>
          <a:ln w="0">
            <a:noFill/>
          </a:ln>
        </p:spPr>
      </p:pic>
      <p:sp>
        <p:nvSpPr>
          <p:cNvPr id="2418" name=""/>
          <p:cNvSpPr/>
          <p:nvPr/>
        </p:nvSpPr>
        <p:spPr>
          <a:xfrm>
            <a:off x="1496880" y="1303200"/>
            <a:ext cx="65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OUNDARY LAYER MOISTURE TRANSPORT AND VERTICAL FLUX OF MOISTURE DUE TO OROGRAPH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055520" y="56721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8Z 8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889520" y="56689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2Z 10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900000" y="61405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ICE HOW SLOWLY THE LIFTING SHIFTS S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6480" y="61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OCATIONS OF LARGEST 13 MCS AND MCC SYSTEMS USED TO PREPARE 4 TYPES OF ATMOSPHERIC COMPOSIT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65600" y="2108160"/>
            <a:ext cx="3817800" cy="3828960"/>
            <a:chOff x="2865600" y="2108160"/>
            <a:chExt cx="3817800" cy="3828960"/>
          </a:xfrm>
        </p:grpSpPr>
        <p:sp>
          <p:nvSpPr>
            <p:cNvPr id="388" name=""/>
            <p:cNvSpPr/>
            <p:nvPr/>
          </p:nvSpPr>
          <p:spPr>
            <a:xfrm>
              <a:off x="2865600" y="2108160"/>
              <a:ext cx="3817800" cy="382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8680" y="455616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32320" y="4710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240" y="481500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4480" y="381168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00600" y="391788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9080" y="3921120"/>
              <a:ext cx="42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10240" y="377496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2960" y="3233880"/>
              <a:ext cx="808200" cy="41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1160" y="2800440"/>
              <a:ext cx="0" cy="474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83120" y="3281400"/>
              <a:ext cx="0" cy="484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2400" y="3755880"/>
              <a:ext cx="45072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880" y="3489480"/>
              <a:ext cx="757080" cy="102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971960" y="3241800"/>
              <a:ext cx="61920" cy="46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64040" y="3716280"/>
              <a:ext cx="26352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6400" y="3747960"/>
              <a:ext cx="25560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100120" y="3755880"/>
              <a:ext cx="127080" cy="127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8880" y="4270320"/>
              <a:ext cx="585720" cy="19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54600" y="4289400"/>
              <a:ext cx="43200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83120" y="3765600"/>
              <a:ext cx="25092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3789360"/>
              <a:ext cx="42840" cy="515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165720" y="4280040"/>
              <a:ext cx="45720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861160" y="3133800"/>
              <a:ext cx="72216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2280" y="3233880"/>
              <a:ext cx="77760" cy="255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7000" y="4194000"/>
              <a:ext cx="741600" cy="76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437000" y="3540240"/>
              <a:ext cx="155520" cy="674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3320" y="3324240"/>
              <a:ext cx="871560" cy="1652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95760" y="3432240"/>
              <a:ext cx="125280" cy="36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9000" y="4297320"/>
              <a:ext cx="0" cy="639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0160" y="4952880"/>
              <a:ext cx="52884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95760" y="3807000"/>
              <a:ext cx="614160" cy="6318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889600" y="3499920"/>
              <a:ext cx="666720" cy="24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53120" y="3881520"/>
              <a:ext cx="46188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039000" y="4348080"/>
              <a:ext cx="447480" cy="144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86480" y="4348080"/>
              <a:ext cx="19080" cy="239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99160" y="5002200"/>
              <a:ext cx="22356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4800" y="5011560"/>
              <a:ext cx="85680" cy="1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110200" y="5011200"/>
              <a:ext cx="128520" cy="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981680" y="5002200"/>
              <a:ext cx="12852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4880" y="4754520"/>
              <a:ext cx="614160" cy="247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309920" y="4296960"/>
              <a:ext cx="0" cy="141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49840" y="4692600"/>
              <a:ext cx="344160" cy="36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299120" y="3047760"/>
              <a:ext cx="9972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09920" y="4313160"/>
              <a:ext cx="604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37000" y="4205160"/>
              <a:ext cx="0" cy="651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379400" y="4280040"/>
              <a:ext cx="572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8640" y="2959200"/>
              <a:ext cx="26352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1240" y="2982960"/>
              <a:ext cx="968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347720" y="3008160"/>
              <a:ext cx="41400" cy="59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59240" y="2950920"/>
              <a:ext cx="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359240" y="2851200"/>
              <a:ext cx="30240" cy="1080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840120" y="4629240"/>
              <a:ext cx="9720" cy="63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6880" y="4978440"/>
              <a:ext cx="225360" cy="17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10160" y="4995720"/>
              <a:ext cx="4932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2040" y="2560680"/>
              <a:ext cx="517680" cy="100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84880" y="2784600"/>
              <a:ext cx="4762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46440" y="28670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256"/>
                  </a:moveTo>
                  <a:lnTo>
                    <a:pt x="262" y="256"/>
                  </a:lnTo>
                  <a:lnTo>
                    <a:pt x="243" y="256"/>
                  </a:lnTo>
                  <a:lnTo>
                    <a:pt x="225" y="267"/>
                  </a:lnTo>
                  <a:lnTo>
                    <a:pt x="207" y="267"/>
                  </a:lnTo>
                  <a:lnTo>
                    <a:pt x="188" y="267"/>
                  </a:lnTo>
                  <a:lnTo>
                    <a:pt x="170" y="267"/>
                  </a:lnTo>
                  <a:lnTo>
                    <a:pt x="151" y="256"/>
                  </a:lnTo>
                  <a:lnTo>
                    <a:pt x="151" y="240"/>
                  </a:lnTo>
                  <a:lnTo>
                    <a:pt x="134" y="230"/>
                  </a:lnTo>
                  <a:lnTo>
                    <a:pt x="134" y="214"/>
                  </a:lnTo>
                  <a:lnTo>
                    <a:pt x="134" y="199"/>
                  </a:lnTo>
                  <a:lnTo>
                    <a:pt x="116" y="182"/>
                  </a:lnTo>
                  <a:lnTo>
                    <a:pt x="97" y="182"/>
                  </a:lnTo>
                  <a:lnTo>
                    <a:pt x="79" y="167"/>
                  </a:lnTo>
                  <a:lnTo>
                    <a:pt x="61" y="157"/>
                  </a:lnTo>
                  <a:lnTo>
                    <a:pt x="48" y="141"/>
                  </a:lnTo>
                  <a:lnTo>
                    <a:pt x="66" y="125"/>
                  </a:lnTo>
                  <a:lnTo>
                    <a:pt x="85" y="110"/>
                  </a:lnTo>
                  <a:lnTo>
                    <a:pt x="85" y="94"/>
                  </a:lnTo>
                  <a:lnTo>
                    <a:pt x="85" y="78"/>
                  </a:lnTo>
                  <a:lnTo>
                    <a:pt x="66" y="67"/>
                  </a:lnTo>
                  <a:lnTo>
                    <a:pt x="48" y="57"/>
                  </a:lnTo>
                  <a:lnTo>
                    <a:pt x="48" y="41"/>
                  </a:lnTo>
                  <a:lnTo>
                    <a:pt x="36" y="26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9320" y="2568600"/>
              <a:ext cx="382320" cy="384120"/>
            </a:xfrm>
            <a:custGeom>
              <a:avLst/>
              <a:gdLst/>
              <a:ahLst/>
              <a:rect l="l" t="t" r="r" b="b"/>
              <a:pathLst>
                <a:path w="241" h="242">
                  <a:moveTo>
                    <a:pt x="199" y="9"/>
                  </a:moveTo>
                  <a:lnTo>
                    <a:pt x="182" y="29"/>
                  </a:lnTo>
                  <a:lnTo>
                    <a:pt x="182" y="44"/>
                  </a:lnTo>
                  <a:lnTo>
                    <a:pt x="176" y="58"/>
                  </a:lnTo>
                  <a:lnTo>
                    <a:pt x="160" y="68"/>
                  </a:lnTo>
                  <a:lnTo>
                    <a:pt x="142" y="68"/>
                  </a:lnTo>
                  <a:lnTo>
                    <a:pt x="125" y="78"/>
                  </a:lnTo>
                  <a:lnTo>
                    <a:pt x="131" y="63"/>
                  </a:lnTo>
                  <a:lnTo>
                    <a:pt x="148" y="54"/>
                  </a:lnTo>
                  <a:lnTo>
                    <a:pt x="148" y="39"/>
                  </a:lnTo>
                  <a:lnTo>
                    <a:pt x="131" y="29"/>
                  </a:lnTo>
                  <a:lnTo>
                    <a:pt x="113" y="29"/>
                  </a:lnTo>
                  <a:lnTo>
                    <a:pt x="96" y="19"/>
                  </a:lnTo>
                  <a:lnTo>
                    <a:pt x="80" y="19"/>
                  </a:lnTo>
                  <a:lnTo>
                    <a:pt x="62" y="14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9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6" y="74"/>
                  </a:lnTo>
                  <a:lnTo>
                    <a:pt x="28" y="88"/>
                  </a:lnTo>
                  <a:lnTo>
                    <a:pt x="22" y="103"/>
                  </a:lnTo>
                  <a:lnTo>
                    <a:pt x="4" y="10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6" y="132"/>
                  </a:lnTo>
                  <a:lnTo>
                    <a:pt x="33" y="137"/>
                  </a:lnTo>
                  <a:lnTo>
                    <a:pt x="51" y="147"/>
                  </a:lnTo>
                  <a:lnTo>
                    <a:pt x="62" y="162"/>
                  </a:lnTo>
                  <a:lnTo>
                    <a:pt x="62" y="177"/>
                  </a:lnTo>
                  <a:lnTo>
                    <a:pt x="62" y="191"/>
                  </a:lnTo>
                  <a:lnTo>
                    <a:pt x="74" y="206"/>
                  </a:lnTo>
                  <a:lnTo>
                    <a:pt x="90" y="212"/>
                  </a:lnTo>
                  <a:lnTo>
                    <a:pt x="108" y="212"/>
                  </a:lnTo>
                  <a:lnTo>
                    <a:pt x="125" y="206"/>
                  </a:lnTo>
                  <a:lnTo>
                    <a:pt x="142" y="216"/>
                  </a:lnTo>
                  <a:lnTo>
                    <a:pt x="160" y="231"/>
                  </a:lnTo>
                  <a:lnTo>
                    <a:pt x="176" y="231"/>
                  </a:lnTo>
                  <a:lnTo>
                    <a:pt x="193" y="231"/>
                  </a:lnTo>
                  <a:lnTo>
                    <a:pt x="211" y="235"/>
                  </a:lnTo>
                  <a:lnTo>
                    <a:pt x="228" y="235"/>
                  </a:lnTo>
                  <a:lnTo>
                    <a:pt x="240" y="24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6880" y="2809800"/>
              <a:ext cx="655560" cy="1871640"/>
            </a:xfrm>
            <a:custGeom>
              <a:avLst/>
              <a:gdLst/>
              <a:ahLst/>
              <a:rect l="l" t="t" r="r" b="b"/>
              <a:pathLst>
                <a:path w="413" h="1179">
                  <a:moveTo>
                    <a:pt x="233" y="0"/>
                  </a:moveTo>
                  <a:lnTo>
                    <a:pt x="233" y="20"/>
                  </a:lnTo>
                  <a:lnTo>
                    <a:pt x="227" y="36"/>
                  </a:lnTo>
                  <a:lnTo>
                    <a:pt x="215" y="51"/>
                  </a:lnTo>
                  <a:lnTo>
                    <a:pt x="209" y="67"/>
                  </a:lnTo>
                  <a:lnTo>
                    <a:pt x="202" y="83"/>
                  </a:lnTo>
                  <a:lnTo>
                    <a:pt x="202" y="98"/>
                  </a:lnTo>
                  <a:lnTo>
                    <a:pt x="191" y="114"/>
                  </a:lnTo>
                  <a:lnTo>
                    <a:pt x="178" y="130"/>
                  </a:lnTo>
                  <a:lnTo>
                    <a:pt x="160" y="141"/>
                  </a:lnTo>
                  <a:lnTo>
                    <a:pt x="160" y="156"/>
                  </a:lnTo>
                  <a:lnTo>
                    <a:pt x="141" y="167"/>
                  </a:lnTo>
                  <a:lnTo>
                    <a:pt x="141" y="182"/>
                  </a:lnTo>
                  <a:lnTo>
                    <a:pt x="141" y="198"/>
                  </a:lnTo>
                  <a:lnTo>
                    <a:pt x="123" y="209"/>
                  </a:lnTo>
                  <a:lnTo>
                    <a:pt x="105" y="219"/>
                  </a:lnTo>
                  <a:lnTo>
                    <a:pt x="86" y="229"/>
                  </a:lnTo>
                  <a:lnTo>
                    <a:pt x="80" y="245"/>
                  </a:lnTo>
                  <a:lnTo>
                    <a:pt x="74" y="261"/>
                  </a:lnTo>
                  <a:lnTo>
                    <a:pt x="55" y="267"/>
                  </a:lnTo>
                  <a:lnTo>
                    <a:pt x="49" y="282"/>
                  </a:lnTo>
                  <a:lnTo>
                    <a:pt x="49" y="297"/>
                  </a:lnTo>
                  <a:lnTo>
                    <a:pt x="55" y="314"/>
                  </a:lnTo>
                  <a:lnTo>
                    <a:pt x="55" y="329"/>
                  </a:lnTo>
                  <a:lnTo>
                    <a:pt x="61" y="344"/>
                  </a:lnTo>
                  <a:lnTo>
                    <a:pt x="43" y="350"/>
                  </a:lnTo>
                  <a:lnTo>
                    <a:pt x="37" y="365"/>
                  </a:lnTo>
                  <a:lnTo>
                    <a:pt x="30" y="382"/>
                  </a:lnTo>
                  <a:lnTo>
                    <a:pt x="19" y="397"/>
                  </a:lnTo>
                  <a:lnTo>
                    <a:pt x="6" y="412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0" y="459"/>
                  </a:lnTo>
                  <a:lnTo>
                    <a:pt x="0" y="476"/>
                  </a:lnTo>
                  <a:lnTo>
                    <a:pt x="12" y="491"/>
                  </a:lnTo>
                  <a:lnTo>
                    <a:pt x="12" y="507"/>
                  </a:lnTo>
                  <a:lnTo>
                    <a:pt x="12" y="523"/>
                  </a:lnTo>
                  <a:lnTo>
                    <a:pt x="12" y="538"/>
                  </a:lnTo>
                  <a:lnTo>
                    <a:pt x="6" y="555"/>
                  </a:lnTo>
                  <a:lnTo>
                    <a:pt x="0" y="570"/>
                  </a:lnTo>
                  <a:lnTo>
                    <a:pt x="0" y="585"/>
                  </a:lnTo>
                  <a:lnTo>
                    <a:pt x="19" y="591"/>
                  </a:lnTo>
                  <a:lnTo>
                    <a:pt x="30" y="612"/>
                  </a:lnTo>
                  <a:lnTo>
                    <a:pt x="30" y="628"/>
                  </a:lnTo>
                  <a:lnTo>
                    <a:pt x="30" y="643"/>
                  </a:lnTo>
                  <a:lnTo>
                    <a:pt x="30" y="664"/>
                  </a:lnTo>
                  <a:lnTo>
                    <a:pt x="49" y="670"/>
                  </a:lnTo>
                  <a:lnTo>
                    <a:pt x="67" y="659"/>
                  </a:lnTo>
                  <a:lnTo>
                    <a:pt x="86" y="649"/>
                  </a:lnTo>
                  <a:lnTo>
                    <a:pt x="105" y="659"/>
                  </a:lnTo>
                  <a:lnTo>
                    <a:pt x="86" y="659"/>
                  </a:lnTo>
                  <a:lnTo>
                    <a:pt x="80" y="675"/>
                  </a:lnTo>
                  <a:lnTo>
                    <a:pt x="61" y="670"/>
                  </a:lnTo>
                  <a:lnTo>
                    <a:pt x="61" y="685"/>
                  </a:lnTo>
                  <a:lnTo>
                    <a:pt x="61" y="700"/>
                  </a:lnTo>
                  <a:lnTo>
                    <a:pt x="61" y="717"/>
                  </a:lnTo>
                  <a:lnTo>
                    <a:pt x="61" y="732"/>
                  </a:lnTo>
                  <a:lnTo>
                    <a:pt x="61" y="748"/>
                  </a:lnTo>
                  <a:lnTo>
                    <a:pt x="74" y="764"/>
                  </a:lnTo>
                  <a:lnTo>
                    <a:pt x="80" y="779"/>
                  </a:lnTo>
                  <a:lnTo>
                    <a:pt x="61" y="779"/>
                  </a:lnTo>
                  <a:lnTo>
                    <a:pt x="61" y="795"/>
                  </a:lnTo>
                  <a:lnTo>
                    <a:pt x="61" y="811"/>
                  </a:lnTo>
                  <a:lnTo>
                    <a:pt x="61" y="826"/>
                  </a:lnTo>
                  <a:lnTo>
                    <a:pt x="80" y="832"/>
                  </a:lnTo>
                  <a:lnTo>
                    <a:pt x="92" y="847"/>
                  </a:lnTo>
                  <a:lnTo>
                    <a:pt x="92" y="863"/>
                  </a:lnTo>
                  <a:lnTo>
                    <a:pt x="92" y="879"/>
                  </a:lnTo>
                  <a:lnTo>
                    <a:pt x="111" y="884"/>
                  </a:lnTo>
                  <a:lnTo>
                    <a:pt x="123" y="900"/>
                  </a:lnTo>
                  <a:lnTo>
                    <a:pt x="129" y="916"/>
                  </a:lnTo>
                  <a:lnTo>
                    <a:pt x="123" y="931"/>
                  </a:lnTo>
                  <a:lnTo>
                    <a:pt x="123" y="947"/>
                  </a:lnTo>
                  <a:lnTo>
                    <a:pt x="123" y="963"/>
                  </a:lnTo>
                  <a:lnTo>
                    <a:pt x="141" y="973"/>
                  </a:lnTo>
                  <a:lnTo>
                    <a:pt x="160" y="984"/>
                  </a:lnTo>
                  <a:lnTo>
                    <a:pt x="178" y="999"/>
                  </a:lnTo>
                  <a:lnTo>
                    <a:pt x="197" y="999"/>
                  </a:lnTo>
                  <a:lnTo>
                    <a:pt x="215" y="1010"/>
                  </a:lnTo>
                  <a:lnTo>
                    <a:pt x="233" y="1020"/>
                  </a:lnTo>
                  <a:lnTo>
                    <a:pt x="252" y="1020"/>
                  </a:lnTo>
                  <a:lnTo>
                    <a:pt x="252" y="1036"/>
                  </a:lnTo>
                  <a:lnTo>
                    <a:pt x="258" y="1052"/>
                  </a:lnTo>
                  <a:lnTo>
                    <a:pt x="277" y="1052"/>
                  </a:lnTo>
                  <a:lnTo>
                    <a:pt x="295" y="1057"/>
                  </a:lnTo>
                  <a:lnTo>
                    <a:pt x="295" y="1072"/>
                  </a:lnTo>
                  <a:lnTo>
                    <a:pt x="313" y="1083"/>
                  </a:lnTo>
                  <a:lnTo>
                    <a:pt x="319" y="1099"/>
                  </a:lnTo>
                  <a:lnTo>
                    <a:pt x="338" y="1110"/>
                  </a:lnTo>
                  <a:lnTo>
                    <a:pt x="356" y="1110"/>
                  </a:lnTo>
                  <a:lnTo>
                    <a:pt x="363" y="1125"/>
                  </a:lnTo>
                  <a:lnTo>
                    <a:pt x="374" y="1140"/>
                  </a:lnTo>
                  <a:lnTo>
                    <a:pt x="393" y="1146"/>
                  </a:lnTo>
                  <a:lnTo>
                    <a:pt x="399" y="1161"/>
                  </a:lnTo>
                  <a:lnTo>
                    <a:pt x="399" y="1178"/>
                  </a:lnTo>
                  <a:lnTo>
                    <a:pt x="412" y="1161"/>
                  </a:lnTo>
                  <a:lnTo>
                    <a:pt x="412" y="115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22800" y="4446720"/>
              <a:ext cx="111240" cy="309600"/>
            </a:xfrm>
            <a:custGeom>
              <a:avLst/>
              <a:gdLst/>
              <a:ahLst/>
              <a:rect l="l" t="t" r="r" b="b"/>
              <a:pathLst>
                <a:path w="70" h="195">
                  <a:moveTo>
                    <a:pt x="49" y="0"/>
                  </a:moveTo>
                  <a:lnTo>
                    <a:pt x="49" y="20"/>
                  </a:lnTo>
                  <a:lnTo>
                    <a:pt x="56" y="36"/>
                  </a:lnTo>
                  <a:lnTo>
                    <a:pt x="56" y="52"/>
                  </a:lnTo>
                  <a:lnTo>
                    <a:pt x="62" y="67"/>
                  </a:lnTo>
                  <a:lnTo>
                    <a:pt x="69" y="83"/>
                  </a:lnTo>
                  <a:lnTo>
                    <a:pt x="49" y="94"/>
                  </a:lnTo>
                  <a:lnTo>
                    <a:pt x="43" y="109"/>
                  </a:lnTo>
                  <a:lnTo>
                    <a:pt x="24" y="120"/>
                  </a:lnTo>
                  <a:lnTo>
                    <a:pt x="6" y="130"/>
                  </a:lnTo>
                  <a:lnTo>
                    <a:pt x="6" y="146"/>
                  </a:lnTo>
                  <a:lnTo>
                    <a:pt x="24" y="151"/>
                  </a:lnTo>
                  <a:lnTo>
                    <a:pt x="37" y="167"/>
                  </a:lnTo>
                  <a:lnTo>
                    <a:pt x="18" y="177"/>
                  </a:lnTo>
                  <a:lnTo>
                    <a:pt x="6" y="194"/>
                  </a:lnTo>
                  <a:lnTo>
                    <a:pt x="0" y="194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9840" y="4703760"/>
              <a:ext cx="129960" cy="407880"/>
            </a:xfrm>
            <a:custGeom>
              <a:avLst/>
              <a:gdLst/>
              <a:ahLst/>
              <a:rect l="l" t="t" r="r" b="b"/>
              <a:pathLst>
                <a:path w="82" h="257">
                  <a:moveTo>
                    <a:pt x="0" y="0"/>
                  </a:moveTo>
                  <a:lnTo>
                    <a:pt x="0" y="20"/>
                  </a:lnTo>
                  <a:lnTo>
                    <a:pt x="12" y="37"/>
                  </a:lnTo>
                  <a:lnTo>
                    <a:pt x="19" y="52"/>
                  </a:lnTo>
                  <a:lnTo>
                    <a:pt x="19" y="67"/>
                  </a:lnTo>
                  <a:lnTo>
                    <a:pt x="31" y="84"/>
                  </a:lnTo>
                  <a:lnTo>
                    <a:pt x="31" y="99"/>
                  </a:lnTo>
                  <a:lnTo>
                    <a:pt x="31" y="114"/>
                  </a:lnTo>
                  <a:lnTo>
                    <a:pt x="37" y="131"/>
                  </a:lnTo>
                  <a:lnTo>
                    <a:pt x="44" y="146"/>
                  </a:lnTo>
                  <a:lnTo>
                    <a:pt x="49" y="161"/>
                  </a:lnTo>
                  <a:lnTo>
                    <a:pt x="56" y="178"/>
                  </a:lnTo>
                  <a:lnTo>
                    <a:pt x="69" y="193"/>
                  </a:lnTo>
                  <a:lnTo>
                    <a:pt x="75" y="208"/>
                  </a:lnTo>
                  <a:lnTo>
                    <a:pt x="81" y="225"/>
                  </a:lnTo>
                  <a:lnTo>
                    <a:pt x="81" y="240"/>
                  </a:lnTo>
                  <a:lnTo>
                    <a:pt x="81" y="25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2320" y="486108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12" y="157"/>
                  </a:moveTo>
                  <a:lnTo>
                    <a:pt x="12" y="136"/>
                  </a:lnTo>
                  <a:lnTo>
                    <a:pt x="19" y="121"/>
                  </a:lnTo>
                  <a:lnTo>
                    <a:pt x="12" y="105"/>
                  </a:lnTo>
                  <a:lnTo>
                    <a:pt x="12" y="89"/>
                  </a:lnTo>
                  <a:lnTo>
                    <a:pt x="6" y="73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54" y="20"/>
                  </a:lnTo>
                  <a:lnTo>
                    <a:pt x="74" y="31"/>
                  </a:lnTo>
                  <a:lnTo>
                    <a:pt x="92" y="36"/>
                  </a:lnTo>
                  <a:lnTo>
                    <a:pt x="109" y="36"/>
                  </a:lnTo>
                  <a:lnTo>
                    <a:pt x="116" y="52"/>
                  </a:lnTo>
                  <a:lnTo>
                    <a:pt x="135" y="58"/>
                  </a:lnTo>
                  <a:lnTo>
                    <a:pt x="147" y="73"/>
                  </a:lnTo>
                  <a:lnTo>
                    <a:pt x="159" y="89"/>
                  </a:lnTo>
                  <a:lnTo>
                    <a:pt x="171" y="105"/>
                  </a:lnTo>
                  <a:lnTo>
                    <a:pt x="171" y="121"/>
                  </a:lnTo>
                  <a:lnTo>
                    <a:pt x="184" y="136"/>
                  </a:lnTo>
                  <a:lnTo>
                    <a:pt x="190" y="152"/>
                  </a:lnTo>
                  <a:lnTo>
                    <a:pt x="202" y="163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4995720"/>
              <a:ext cx="1065240" cy="455760"/>
            </a:xfrm>
            <a:custGeom>
              <a:avLst/>
              <a:gdLst/>
              <a:ahLst/>
              <a:rect l="l" t="t" r="r" b="b"/>
              <a:pathLst>
                <a:path w="671" h="287">
                  <a:moveTo>
                    <a:pt x="0" y="0"/>
                  </a:moveTo>
                  <a:lnTo>
                    <a:pt x="25" y="16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80" y="42"/>
                  </a:lnTo>
                  <a:lnTo>
                    <a:pt x="98" y="46"/>
                  </a:lnTo>
                  <a:lnTo>
                    <a:pt x="111" y="62"/>
                  </a:lnTo>
                  <a:lnTo>
                    <a:pt x="129" y="72"/>
                  </a:lnTo>
                  <a:lnTo>
                    <a:pt x="147" y="83"/>
                  </a:lnTo>
                  <a:lnTo>
                    <a:pt x="160" y="98"/>
                  </a:lnTo>
                  <a:lnTo>
                    <a:pt x="166" y="115"/>
                  </a:lnTo>
                  <a:lnTo>
                    <a:pt x="172" y="130"/>
                  </a:lnTo>
                  <a:lnTo>
                    <a:pt x="184" y="145"/>
                  </a:lnTo>
                  <a:lnTo>
                    <a:pt x="184" y="161"/>
                  </a:lnTo>
                  <a:lnTo>
                    <a:pt x="197" y="177"/>
                  </a:lnTo>
                  <a:lnTo>
                    <a:pt x="215" y="187"/>
                  </a:lnTo>
                  <a:lnTo>
                    <a:pt x="221" y="203"/>
                  </a:lnTo>
                  <a:lnTo>
                    <a:pt x="239" y="213"/>
                  </a:lnTo>
                  <a:lnTo>
                    <a:pt x="258" y="229"/>
                  </a:lnTo>
                  <a:lnTo>
                    <a:pt x="277" y="234"/>
                  </a:lnTo>
                  <a:lnTo>
                    <a:pt x="295" y="239"/>
                  </a:lnTo>
                  <a:lnTo>
                    <a:pt x="313" y="244"/>
                  </a:lnTo>
                  <a:lnTo>
                    <a:pt x="332" y="244"/>
                  </a:lnTo>
                  <a:lnTo>
                    <a:pt x="350" y="239"/>
                  </a:lnTo>
                  <a:lnTo>
                    <a:pt x="369" y="234"/>
                  </a:lnTo>
                  <a:lnTo>
                    <a:pt x="387" y="223"/>
                  </a:lnTo>
                  <a:lnTo>
                    <a:pt x="405" y="218"/>
                  </a:lnTo>
                  <a:lnTo>
                    <a:pt x="411" y="203"/>
                  </a:lnTo>
                  <a:lnTo>
                    <a:pt x="430" y="192"/>
                  </a:lnTo>
                  <a:lnTo>
                    <a:pt x="449" y="182"/>
                  </a:lnTo>
                  <a:lnTo>
                    <a:pt x="467" y="177"/>
                  </a:lnTo>
                  <a:lnTo>
                    <a:pt x="485" y="177"/>
                  </a:lnTo>
                  <a:lnTo>
                    <a:pt x="504" y="177"/>
                  </a:lnTo>
                  <a:lnTo>
                    <a:pt x="522" y="177"/>
                  </a:lnTo>
                  <a:lnTo>
                    <a:pt x="540" y="187"/>
                  </a:lnTo>
                  <a:lnTo>
                    <a:pt x="559" y="197"/>
                  </a:lnTo>
                  <a:lnTo>
                    <a:pt x="577" y="203"/>
                  </a:lnTo>
                  <a:lnTo>
                    <a:pt x="596" y="213"/>
                  </a:lnTo>
                  <a:lnTo>
                    <a:pt x="602" y="229"/>
                  </a:lnTo>
                  <a:lnTo>
                    <a:pt x="614" y="244"/>
                  </a:lnTo>
                  <a:lnTo>
                    <a:pt x="632" y="260"/>
                  </a:lnTo>
                  <a:lnTo>
                    <a:pt x="645" y="276"/>
                  </a:lnTo>
                  <a:lnTo>
                    <a:pt x="663" y="286"/>
                  </a:lnTo>
                  <a:lnTo>
                    <a:pt x="670" y="28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861160" y="2768760"/>
              <a:ext cx="73188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233760" y="2203560"/>
              <a:ext cx="57240" cy="596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2240" y="2660760"/>
              <a:ext cx="77796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291360" y="2654280"/>
              <a:ext cx="31248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9600" y="36068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0"/>
                  </a:moveTo>
                  <a:lnTo>
                    <a:pt x="0" y="20"/>
                  </a:lnTo>
                  <a:lnTo>
                    <a:pt x="6" y="36"/>
                  </a:lnTo>
                  <a:lnTo>
                    <a:pt x="18" y="52"/>
                  </a:lnTo>
                  <a:lnTo>
                    <a:pt x="37" y="62"/>
                  </a:lnTo>
                  <a:lnTo>
                    <a:pt x="49" y="78"/>
                  </a:lnTo>
                  <a:lnTo>
                    <a:pt x="68" y="89"/>
                  </a:lnTo>
                  <a:lnTo>
                    <a:pt x="80" y="73"/>
                  </a:lnTo>
                  <a:lnTo>
                    <a:pt x="68" y="57"/>
                  </a:lnTo>
                  <a:lnTo>
                    <a:pt x="73" y="41"/>
                  </a:lnTo>
                  <a:lnTo>
                    <a:pt x="73" y="26"/>
                  </a:lnTo>
                  <a:lnTo>
                    <a:pt x="55" y="26"/>
                  </a:lnTo>
                  <a:lnTo>
                    <a:pt x="37" y="36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9200" y="2359080"/>
              <a:ext cx="61308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84680" y="2394000"/>
              <a:ext cx="11916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74" y="99"/>
                  </a:moveTo>
                  <a:lnTo>
                    <a:pt x="55" y="78"/>
                  </a:lnTo>
                  <a:lnTo>
                    <a:pt x="36" y="68"/>
                  </a:lnTo>
                  <a:lnTo>
                    <a:pt x="18" y="57"/>
                  </a:lnTo>
                  <a:lnTo>
                    <a:pt x="0" y="47"/>
                  </a:lnTo>
                  <a:lnTo>
                    <a:pt x="5" y="26"/>
                  </a:lnTo>
                  <a:lnTo>
                    <a:pt x="18" y="10"/>
                  </a:lnTo>
                  <a:lnTo>
                    <a:pt x="24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92640" y="2187720"/>
              <a:ext cx="372960" cy="39672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98" y="31"/>
                  </a:moveTo>
                  <a:lnTo>
                    <a:pt x="123" y="52"/>
                  </a:lnTo>
                  <a:lnTo>
                    <a:pt x="136" y="67"/>
                  </a:lnTo>
                  <a:lnTo>
                    <a:pt x="154" y="82"/>
                  </a:lnTo>
                  <a:lnTo>
                    <a:pt x="154" y="98"/>
                  </a:lnTo>
                  <a:lnTo>
                    <a:pt x="154" y="114"/>
                  </a:lnTo>
                  <a:lnTo>
                    <a:pt x="160" y="129"/>
                  </a:lnTo>
                  <a:lnTo>
                    <a:pt x="166" y="145"/>
                  </a:lnTo>
                  <a:lnTo>
                    <a:pt x="178" y="160"/>
                  </a:lnTo>
                  <a:lnTo>
                    <a:pt x="196" y="171"/>
                  </a:lnTo>
                  <a:lnTo>
                    <a:pt x="209" y="186"/>
                  </a:lnTo>
                  <a:lnTo>
                    <a:pt x="222" y="202"/>
                  </a:lnTo>
                  <a:lnTo>
                    <a:pt x="227" y="218"/>
                  </a:lnTo>
                  <a:lnTo>
                    <a:pt x="234" y="233"/>
                  </a:lnTo>
                  <a:lnTo>
                    <a:pt x="222" y="249"/>
                  </a:lnTo>
                  <a:lnTo>
                    <a:pt x="203" y="249"/>
                  </a:lnTo>
                  <a:lnTo>
                    <a:pt x="191" y="233"/>
                  </a:lnTo>
                  <a:lnTo>
                    <a:pt x="172" y="223"/>
                  </a:lnTo>
                  <a:lnTo>
                    <a:pt x="160" y="207"/>
                  </a:lnTo>
                  <a:lnTo>
                    <a:pt x="147" y="192"/>
                  </a:lnTo>
                  <a:lnTo>
                    <a:pt x="129" y="186"/>
                  </a:lnTo>
                  <a:lnTo>
                    <a:pt x="110" y="177"/>
                  </a:lnTo>
                  <a:lnTo>
                    <a:pt x="98" y="160"/>
                  </a:lnTo>
                  <a:lnTo>
                    <a:pt x="80" y="151"/>
                  </a:lnTo>
                  <a:lnTo>
                    <a:pt x="98" y="140"/>
                  </a:lnTo>
                  <a:lnTo>
                    <a:pt x="98" y="124"/>
                  </a:lnTo>
                  <a:lnTo>
                    <a:pt x="98" y="108"/>
                  </a:lnTo>
                  <a:lnTo>
                    <a:pt x="98" y="93"/>
                  </a:lnTo>
                  <a:lnTo>
                    <a:pt x="80" y="88"/>
                  </a:lnTo>
                  <a:lnTo>
                    <a:pt x="61" y="88"/>
                  </a:lnTo>
                  <a:lnTo>
                    <a:pt x="43" y="88"/>
                  </a:lnTo>
                  <a:lnTo>
                    <a:pt x="24" y="78"/>
                  </a:lnTo>
                  <a:lnTo>
                    <a:pt x="12" y="62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24" y="31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6320" y="3500280"/>
              <a:ext cx="58680" cy="39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34000" y="4611600"/>
              <a:ext cx="6984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54520" y="374004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4760" y="366084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332748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18040" y="3274920"/>
              <a:ext cx="265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6240" y="3187800"/>
              <a:ext cx="264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6600" y="32068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9480" y="37162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59240" y="4633920"/>
              <a:ext cx="370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95800" y="43941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98960" y="4165560"/>
              <a:ext cx="36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29280" y="412128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5960" y="397512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19600" y="36831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7800" y="3770280"/>
              <a:ext cx="3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6240" y="29433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56240" y="384480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48400" y="4813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51440" y="50673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52840" y="463392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8680" y="44546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29240" y="47372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49840" y="3859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8760" y="45975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5760" y="4529160"/>
              <a:ext cx="3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08520" y="442764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8520" y="404964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46600" y="3567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02280" y="327960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33640" y="4289400"/>
              <a:ext cx="41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0160" y="331164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7920" y="463392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6600" y="472608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6600" y="4113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640" y="40449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5920" y="43974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445284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25880" y="2170080"/>
              <a:ext cx="23144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LOCATION OF COMPOSITE C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06720" y="4086360"/>
              <a:ext cx="45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71760" y="3184560"/>
              <a:ext cx="3780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183200" y="4729320"/>
              <a:ext cx="39600" cy="39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 flipV="1">
            <a:off x="3311280" y="3336480"/>
            <a:ext cx="91800" cy="972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4440" y="5083200"/>
            <a:ext cx="3841560" cy="1573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98800" y="5062680"/>
            <a:ext cx="992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24360" y="5072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YNOPTIC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68640" y="5322960"/>
            <a:ext cx="357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38560" y="5262480"/>
            <a:ext cx="322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27400" y="6162840"/>
            <a:ext cx="37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32080" y="57085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28840" y="54943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4120" y="5273640"/>
            <a:ext cx="236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BLOCKING ANTICYC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14760" y="5500800"/>
            <a:ext cx="243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DEFORMATION 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4040" y="61722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1960" y="574524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53280" y="5502240"/>
            <a:ext cx="54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38880" y="52974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32040" y="5722920"/>
            <a:ext cx="247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NORTHWEST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0" y="6126120"/>
            <a:ext cx="270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ZONAL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86480" y="508320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#EVENTS (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74960" y="5292720"/>
            <a:ext cx="3800520" cy="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3440" y="5764320"/>
            <a:ext cx="222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ODEL’S TERRAIN IS AVERAGED OVER THE GRID BOX SO THE SLOPE OF THE TERRAIN IS USUALLY NOT STEEP ENOUGH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3" name="meso_95010800_f30_omgrlh" descr=""/>
          <p:cNvPicPr/>
          <p:nvPr/>
        </p:nvPicPr>
        <p:blipFill>
          <a:blip r:embed="rId2"/>
          <a:srcRect l="0" t="0" r="4686" b="0"/>
          <a:stretch/>
        </p:blipFill>
        <p:spPr>
          <a:xfrm>
            <a:off x="2433600" y="1660680"/>
            <a:ext cx="4332240" cy="3630600"/>
          </a:xfrm>
          <a:prstGeom prst="rect">
            <a:avLst/>
          </a:prstGeom>
          <a:ln w="0">
            <a:noFill/>
          </a:ln>
        </p:spPr>
      </p:pic>
      <p:sp>
        <p:nvSpPr>
          <p:cNvPr id="2424" name=""/>
          <p:cNvSpPr/>
          <p:nvPr/>
        </p:nvSpPr>
        <p:spPr>
          <a:xfrm>
            <a:off x="1386000" y="5506920"/>
            <a:ext cx="65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AUSES THE VERTICAL MOTION FIELD TO BE SHIFTED AWAY FROM THE MOUNT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57456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NGS TO REMEMBER ABOUT MODEL QPFS IN COMPLEX TERRAIN DURING WIN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6" name="meso_95010800_f36_tpi06h" descr=""/>
          <p:cNvPicPr/>
          <p:nvPr/>
        </p:nvPicPr>
        <p:blipFill>
          <a:blip r:embed="rId2"/>
          <a:srcRect l="0" t="0" r="5973" b="0"/>
          <a:stretch/>
        </p:blipFill>
        <p:spPr>
          <a:xfrm>
            <a:off x="239760" y="1544760"/>
            <a:ext cx="4094280" cy="3479760"/>
          </a:xfrm>
          <a:prstGeom prst="rect">
            <a:avLst/>
          </a:prstGeom>
          <a:ln w="0">
            <a:noFill/>
          </a:ln>
        </p:spPr>
      </p:pic>
      <p:sp>
        <p:nvSpPr>
          <p:cNvPr id="2427" name=""/>
          <p:cNvSpPr/>
          <p:nvPr/>
        </p:nvSpPr>
        <p:spPr>
          <a:xfrm>
            <a:off x="4835520" y="3603600"/>
            <a:ext cx="3984480" cy="10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) PREDICT PRECIPITATION TOO FAR WEST AWAY FROM MOUNTAIN PEAK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834080" y="4898880"/>
            <a:ext cx="3984480" cy="1313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) DOE NOT ALLOW ENOUGH PRECIPITATION ON THE IMMEDIATE DOWNWIND SIDE OF MOUNTAIN RANG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46600" y="1662120"/>
            <a:ext cx="4057560" cy="1618560"/>
          </a:xfrm>
          <a:prstGeom prst="rect">
            <a:avLst/>
          </a:prstGeom>
          <a:solidFill>
            <a:srgbClr val="9933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CAUSE OF THE SIMPLIFIED MICROPYSICS AND INADEQUATE RESOLUTION OF MOUNTAINS. MODELS USUAL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DJUSTMENTS ARE NEEDED TO THIS 24 HR QPF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31" name="meso_95010800_f36_tpi24h" descr=""/>
          <p:cNvPicPr/>
          <p:nvPr/>
        </p:nvPicPr>
        <p:blipFill>
          <a:blip r:embed="rId2"/>
          <a:srcRect l="0" t="0" r="5804" b="0"/>
          <a:stretch/>
        </p:blipFill>
        <p:spPr>
          <a:xfrm>
            <a:off x="2736720" y="1703520"/>
            <a:ext cx="4183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6816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ITH STRONG VERY MOIST SOUTHWESTERLY FLOW AT 850 AND 700 MB NOTE HOW CLOSELY THE PRECIPITATION CONFORMS TO THE TERRAI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5554800" y="1384200"/>
            <a:ext cx="2469960" cy="4291200"/>
            <a:chOff x="5554800" y="1384200"/>
            <a:chExt cx="2469960" cy="4291200"/>
          </a:xfrm>
        </p:grpSpPr>
        <p:pic>
          <p:nvPicPr>
            <p:cNvPr id="2434" name="Untitled-1" descr=""/>
            <p:cNvPicPr/>
            <p:nvPr/>
          </p:nvPicPr>
          <p:blipFill>
            <a:blip r:embed="rId2"/>
            <a:srcRect l="54847" t="30344" r="9991" b="7030"/>
            <a:stretch/>
          </p:blipFill>
          <p:spPr>
            <a:xfrm>
              <a:off x="5565600" y="1384200"/>
              <a:ext cx="24570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5" name=""/>
            <p:cNvSpPr/>
            <p:nvPr/>
          </p:nvSpPr>
          <p:spPr>
            <a:xfrm>
              <a:off x="5554800" y="5276880"/>
              <a:ext cx="2469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24 HOUR PRECIPITATION VALID JAN. 9, 199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984240" y="1447920"/>
            <a:ext cx="4057560" cy="4213080"/>
            <a:chOff x="984240" y="1447920"/>
            <a:chExt cx="4057560" cy="4213080"/>
          </a:xfrm>
        </p:grpSpPr>
        <p:graphicFrame>
          <p:nvGraphicFramePr>
            <p:cNvPr id="2437" name=""/>
            <p:cNvGraphicFramePr/>
            <p:nvPr/>
          </p:nvGraphicFramePr>
          <p:xfrm>
            <a:off x="984240" y="1447920"/>
            <a:ext cx="4057560" cy="421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1447920"/>
                      <a:ext cx="4057560" cy="421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9" name=""/>
            <p:cNvSpPr/>
            <p:nvPr/>
          </p:nvSpPr>
          <p:spPr>
            <a:xfrm>
              <a:off x="1989000" y="5373720"/>
              <a:ext cx="246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32 KM ETA TERRAI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211400" y="5856120"/>
            <a:ext cx="666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EN SOUTHWESTERLY FLOW IS PRESENT A BARRIER JET FORMS AND FUNNELS THE FLOW UP THE SACREMENTO VALLE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474840" y="1082520"/>
            <a:ext cx="3798360" cy="2911680"/>
            <a:chOff x="474840" y="1082520"/>
            <a:chExt cx="3798360" cy="2911680"/>
          </a:xfrm>
        </p:grpSpPr>
        <p:sp>
          <p:nvSpPr>
            <p:cNvPr id="2443" name=""/>
            <p:cNvSpPr/>
            <p:nvPr/>
          </p:nvSpPr>
          <p:spPr>
            <a:xfrm>
              <a:off x="488880" y="1082520"/>
              <a:ext cx="3784320" cy="291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1417320" y="2808000"/>
              <a:ext cx="746280" cy="81900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25520" y="2836800"/>
              <a:ext cx="1746000" cy="763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25520" y="2247840"/>
              <a:ext cx="892080" cy="59040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368360" y="2482560"/>
              <a:ext cx="431640" cy="385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808280" y="2070000"/>
              <a:ext cx="431280" cy="412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386000" y="1299600"/>
              <a:ext cx="9000" cy="23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230120" y="361152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658880" y="361620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76280" y="3584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12960" y="35622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241360" y="3578040"/>
              <a:ext cx="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4840" y="237168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67984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08240" y="35449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3520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984480" y="35672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266840" y="32083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271520" y="28112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281240" y="24415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290600" y="24508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281240" y="206676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273320" y="16714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90600" y="12859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50920" y="3595680"/>
              <a:ext cx="47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82920" y="35845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6200000">
              <a:off x="3176280" y="2408040"/>
              <a:ext cx="349560" cy="48852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84520" y="2477880"/>
              <a:ext cx="387000" cy="34164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rot="16200000">
              <a:off x="3538080" y="2072880"/>
              <a:ext cx="460440" cy="40608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909880" y="358920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322800" y="35989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2239920" y="1601280"/>
              <a:ext cx="431640" cy="459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81280" y="1611360"/>
              <a:ext cx="431280" cy="4413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12920" y="1868400"/>
              <a:ext cx="431640" cy="20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3544920" y="1445760"/>
              <a:ext cx="421920" cy="4222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8480" y="114300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6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5240" y="149688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22240" y="18921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4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0800" y="226836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320" y="26445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4960" y="303048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736800" y="358128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711440" y="244152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20840" y="279540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601720" y="156852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147760" y="203364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051000" y="200016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92360" y="179064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808280" y="238284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12920" y="2068560"/>
              <a:ext cx="61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687760" y="13860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114720" y="20718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4719600" y="995400"/>
            <a:ext cx="40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a layer forced up or down by terr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049720" y="1657440"/>
            <a:ext cx="343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keeps track of conden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40440" y="1920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r evapo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084640" y="21924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condensate precipitates (based on empirical Precipitation Efficiency Fac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51600" y="3063960"/>
            <a:ext cx="33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021280" y="3854520"/>
            <a:ext cx="39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At the next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351400" y="43131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imported condensate precipitates along with additional condensate produced by additional orographic l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332320" y="5533920"/>
            <a:ext cx="34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50800" y="4195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sinking 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81000" y="459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ial or total evaporation occ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00080" y="493884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if the parcel becomes supersaturated, saturation deficit is compu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3240" y="558324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Layer inte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73440" y="1139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772160" y="397368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84120" y="432900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092240" y="5958000"/>
            <a:ext cx="39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recipitation into a dry layer will partially or totally evapo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800" y="5711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put Requirements for 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 direction-dependent elevation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d or predicted soundings for period of forecast for the following fiel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UNTAIN MAPPE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WESTERN U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USED WITH RHEA OBJECTIVE METH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S IS PRECIPITATION OVER COMPLEX TERRAIN BASED ON PRIS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 OF MOUNTAIN MAPPER AND RHEA TECHNIQUE IS HARD TO BEAT ALONG SIERRA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SUMMER OVER INTERMOUTAIN REGION AND MOST OF THE WEST, QPF IS ALMOST IMPOSSIBLE BECA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DELS DO A BAD JOB HANDLING THE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OF EVENTS IS USUALLY 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WINTER,  THE SKILL OF QPF IS HIGHER OVER NORTHERN CA, WESTERN OR AND WESTERN WA THAN ANYWHERE ELSE IN THE COUN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FOCUS FOR MOST OF THE  LIFTING IS STATIONARY (THE MOUNTAI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IMING WHICH 6 HOUR PERIOD WILL RECEIVE THE HEAVIEST RAINFALL IS STILL DIFFICULT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REQUENCY OF FLASH FLOODING OR 2”/24HR RAINFALL FOR 137 EVENTS IN WEST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OTE THE HIGH FREQUENCY IN LATE JULY AND AUGUS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47680" y="2214720"/>
          <a:ext cx="4352760" cy="39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2214720"/>
                    <a:ext cx="4352760" cy="39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856040" y="2208240"/>
          <a:ext cx="4160880" cy="394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6040" y="2208240"/>
                    <a:ext cx="41608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8400" y="291960"/>
            <a:ext cx="885996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AVY RAIN EVENTS ALONG THE FRONT RANGE</a:t>
            </a:r>
            <a:br>
              <a:rPr sz="2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IG THOMPSON, FORT COLLINS, CHEYANNE, MADISON COUNTY (VA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960" y="2502000"/>
            <a:ext cx="8481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AMPLITUDE NEGATIVE-TILTED UPPER RIDGE AXIS LIES JUST EAST AND NORTH OF THE THREAT ARE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S ALOFT ARE LIGHT AND SOUTHEASTE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WEAK SHORTWAVE ROTATES NORTHWARD TOWARDS THE THREAT AREA RESULTING IN WEAK P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LOW MOVING FRONT THAT HANGS UP JUST SOUTH OF TH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6200640"/>
            <a:ext cx="334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46160" y="1712880"/>
            <a:ext cx="701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*******CAN ALSO BE CALLED BLOCKING ANTICYCLONE ******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07760" y="105840"/>
            <a:ext cx="7785000" cy="17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A NARROW BAND OF MOIST UNCONDITIONALLY UNSTABLE AIR JUST BEHIND THE FRONT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THE MOISTURE USUALLY EXTENDS TROUGH A DEEP LAYER (TO 300 MB)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WS 150-200% OR NORMAL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ROGRAPHIC LIFT PROVIDES MECHANISM TO RELEASE INSTABIL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98720" y="2502000"/>
            <a:ext cx="3160440" cy="3921120"/>
            <a:chOff x="1098720" y="2502000"/>
            <a:chExt cx="3160440" cy="3921120"/>
          </a:xfrm>
        </p:grpSpPr>
        <p:sp>
          <p:nvSpPr>
            <p:cNvPr id="533" name=""/>
            <p:cNvSpPr/>
            <p:nvPr/>
          </p:nvSpPr>
          <p:spPr>
            <a:xfrm>
              <a:off x="1098720" y="2525760"/>
              <a:ext cx="2705040" cy="38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862280" y="2785680"/>
              <a:ext cx="385560" cy="33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2941560"/>
              <a:ext cx="1461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62280" y="2960640"/>
              <a:ext cx="83880" cy="82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873080" y="3409560"/>
              <a:ext cx="385920" cy="31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76640" y="4137120"/>
              <a:ext cx="376200" cy="28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08280" y="3565440"/>
              <a:ext cx="11880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5200" y="3584520"/>
              <a:ext cx="11916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9800" y="3565440"/>
              <a:ext cx="63360" cy="6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0" y="4759200"/>
              <a:ext cx="476280" cy="184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522160" y="4419720"/>
              <a:ext cx="128520" cy="191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689200" y="4952880"/>
              <a:ext cx="633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74680" y="26193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52360" y="321300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44440" y="39639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7600" y="27957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6000" y="460692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SF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2502000"/>
              <a:ext cx="89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9280" y="271296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4280" y="3060720"/>
              <a:ext cx="81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16200" y="330840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47800" y="4727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5280" y="4044960"/>
              <a:ext cx="46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58960" y="381168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5200" y="4484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7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41964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55920" y="4132440"/>
              <a:ext cx="21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0720" y="475632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3200" y="4592520"/>
              <a:ext cx="771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015.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41520" y="476100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62280" y="2554200"/>
              <a:ext cx="149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PW=1.18” (181% OF NORMA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0680" y="5291280"/>
              <a:ext cx="187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RH=66% (SFC-500 M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8600" y="5749920"/>
              <a:ext cx="15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LI=-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49640" y="2546280"/>
              <a:ext cx="27000" cy="24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7160" y="6027840"/>
              <a:ext cx="6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K=3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5320" y="5769000"/>
              <a:ext cx="2149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AVERAGE SOUNDING FOR BLOCKING ANTICYCLONE</a:t>
              </a:r>
              <a:r>
                <a:rPr b="0" lang="en-US" sz="1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38560" y="2859120"/>
            <a:ext cx="351324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Times when the surface dewpoints extend westward to the front range should be monitored very closely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21160" y="4170240"/>
            <a:ext cx="349596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specially when the low-level winds are easterly or southeaster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3880" y="26208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9200" y="965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0360" y="16527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370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697280" y="2435400"/>
            <a:ext cx="4114800" cy="3690720"/>
            <a:chOff x="4697280" y="2435400"/>
            <a:chExt cx="4114800" cy="3690720"/>
          </a:xfrm>
        </p:grpSpPr>
        <p:sp>
          <p:nvSpPr>
            <p:cNvPr id="577" name=""/>
            <p:cNvSpPr/>
            <p:nvPr/>
          </p:nvSpPr>
          <p:spPr>
            <a:xfrm>
              <a:off x="4954680" y="2435400"/>
              <a:ext cx="3852720" cy="36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97280" y="2516040"/>
              <a:ext cx="4114800" cy="3610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505640" y="4309920"/>
              <a:ext cx="190440" cy="44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80360" y="4284720"/>
              <a:ext cx="336600" cy="25200"/>
            </a:xfrm>
            <a:prstGeom prst="line">
              <a:avLst/>
            </a:prstGeom>
            <a:ln w="507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6960" y="3379680"/>
              <a:ext cx="223920" cy="22716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0200" y="3755880"/>
              <a:ext cx="2239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72280" y="351000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43560" y="401652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91440" y="3687840"/>
              <a:ext cx="2221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3800" y="3908520"/>
              <a:ext cx="222120" cy="2286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31040" y="4081320"/>
              <a:ext cx="2221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053200" y="3895560"/>
              <a:ext cx="704520" cy="2080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695720" y="4091040"/>
              <a:ext cx="412920" cy="1936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269120" y="4262400"/>
              <a:ext cx="447840" cy="1364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54840" y="4363920"/>
              <a:ext cx="349200" cy="60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6776640" y="4330440"/>
              <a:ext cx="222120" cy="680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6620040" y="4158720"/>
              <a:ext cx="188640" cy="195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6517800" y="3701880"/>
              <a:ext cx="112680" cy="479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6473880" y="3371760"/>
              <a:ext cx="33120" cy="3621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6361200" y="3242880"/>
              <a:ext cx="100080" cy="1508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6203520" y="3187800"/>
              <a:ext cx="181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6170400" y="3200400"/>
              <a:ext cx="245880" cy="101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460000">
              <a:off x="7902720" y="4108320"/>
              <a:ext cx="17748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880000">
              <a:off x="7267680" y="433044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80000">
              <a:off x="8427960" y="390060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0120" y="3449520"/>
              <a:ext cx="177840" cy="1368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97720" y="4046400"/>
              <a:ext cx="179280" cy="138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03720" y="2567160"/>
              <a:ext cx="3498840" cy="1693800"/>
            </a:xfrm>
            <a:custGeom>
              <a:avLst/>
              <a:gdLst/>
              <a:ahLst/>
              <a:rect l="l" t="t" r="r" b="b"/>
              <a:pathLst>
                <a:path w="2204" h="1067">
                  <a:moveTo>
                    <a:pt x="2174" y="50"/>
                  </a:moveTo>
                  <a:lnTo>
                    <a:pt x="2174" y="93"/>
                  </a:lnTo>
                  <a:lnTo>
                    <a:pt x="2181" y="108"/>
                  </a:lnTo>
                  <a:lnTo>
                    <a:pt x="2181" y="130"/>
                  </a:lnTo>
                  <a:lnTo>
                    <a:pt x="2181" y="151"/>
                  </a:lnTo>
                  <a:lnTo>
                    <a:pt x="2181" y="173"/>
                  </a:lnTo>
                  <a:lnTo>
                    <a:pt x="2181" y="202"/>
                  </a:lnTo>
                  <a:lnTo>
                    <a:pt x="2181" y="224"/>
                  </a:lnTo>
                  <a:lnTo>
                    <a:pt x="2181" y="245"/>
                  </a:lnTo>
                  <a:lnTo>
                    <a:pt x="2181" y="260"/>
                  </a:lnTo>
                  <a:lnTo>
                    <a:pt x="2181" y="288"/>
                  </a:lnTo>
                  <a:lnTo>
                    <a:pt x="2181" y="317"/>
                  </a:lnTo>
                  <a:lnTo>
                    <a:pt x="2181" y="338"/>
                  </a:lnTo>
                  <a:lnTo>
                    <a:pt x="2188" y="360"/>
                  </a:lnTo>
                  <a:lnTo>
                    <a:pt x="2188" y="382"/>
                  </a:lnTo>
                  <a:lnTo>
                    <a:pt x="2188" y="403"/>
                  </a:lnTo>
                  <a:lnTo>
                    <a:pt x="2188" y="418"/>
                  </a:lnTo>
                  <a:lnTo>
                    <a:pt x="2188" y="439"/>
                  </a:lnTo>
                  <a:lnTo>
                    <a:pt x="2188" y="454"/>
                  </a:lnTo>
                  <a:lnTo>
                    <a:pt x="2196" y="476"/>
                  </a:lnTo>
                  <a:lnTo>
                    <a:pt x="2196" y="497"/>
                  </a:lnTo>
                  <a:lnTo>
                    <a:pt x="2203" y="512"/>
                  </a:lnTo>
                  <a:lnTo>
                    <a:pt x="2203" y="533"/>
                  </a:lnTo>
                  <a:lnTo>
                    <a:pt x="2203" y="547"/>
                  </a:lnTo>
                  <a:lnTo>
                    <a:pt x="2203" y="569"/>
                  </a:lnTo>
                  <a:lnTo>
                    <a:pt x="2203" y="590"/>
                  </a:lnTo>
                  <a:lnTo>
                    <a:pt x="2203" y="605"/>
                  </a:lnTo>
                  <a:lnTo>
                    <a:pt x="2203" y="634"/>
                  </a:lnTo>
                  <a:lnTo>
                    <a:pt x="2203" y="655"/>
                  </a:lnTo>
                  <a:lnTo>
                    <a:pt x="2203" y="670"/>
                  </a:lnTo>
                  <a:lnTo>
                    <a:pt x="2203" y="691"/>
                  </a:lnTo>
                  <a:lnTo>
                    <a:pt x="2203" y="706"/>
                  </a:lnTo>
                  <a:lnTo>
                    <a:pt x="2203" y="735"/>
                  </a:lnTo>
                  <a:lnTo>
                    <a:pt x="2188" y="764"/>
                  </a:lnTo>
                  <a:lnTo>
                    <a:pt x="2188" y="785"/>
                  </a:lnTo>
                  <a:lnTo>
                    <a:pt x="2181" y="799"/>
                  </a:lnTo>
                  <a:lnTo>
                    <a:pt x="2160" y="813"/>
                  </a:lnTo>
                  <a:lnTo>
                    <a:pt x="2153" y="828"/>
                  </a:lnTo>
                  <a:lnTo>
                    <a:pt x="2132" y="835"/>
                  </a:lnTo>
                  <a:lnTo>
                    <a:pt x="2118" y="842"/>
                  </a:lnTo>
                  <a:lnTo>
                    <a:pt x="2054" y="849"/>
                  </a:lnTo>
                  <a:lnTo>
                    <a:pt x="1984" y="849"/>
                  </a:lnTo>
                  <a:lnTo>
                    <a:pt x="1941" y="857"/>
                  </a:lnTo>
                  <a:lnTo>
                    <a:pt x="1920" y="864"/>
                  </a:lnTo>
                  <a:lnTo>
                    <a:pt x="1906" y="878"/>
                  </a:lnTo>
                  <a:lnTo>
                    <a:pt x="1877" y="886"/>
                  </a:lnTo>
                  <a:lnTo>
                    <a:pt x="1849" y="900"/>
                  </a:lnTo>
                  <a:lnTo>
                    <a:pt x="1807" y="914"/>
                  </a:lnTo>
                  <a:lnTo>
                    <a:pt x="1765" y="922"/>
                  </a:lnTo>
                  <a:lnTo>
                    <a:pt x="1750" y="929"/>
                  </a:lnTo>
                  <a:lnTo>
                    <a:pt x="1701" y="943"/>
                  </a:lnTo>
                  <a:lnTo>
                    <a:pt x="1659" y="951"/>
                  </a:lnTo>
                  <a:lnTo>
                    <a:pt x="1630" y="965"/>
                  </a:lnTo>
                  <a:lnTo>
                    <a:pt x="1588" y="965"/>
                  </a:lnTo>
                  <a:lnTo>
                    <a:pt x="1574" y="965"/>
                  </a:lnTo>
                  <a:lnTo>
                    <a:pt x="1567" y="980"/>
                  </a:lnTo>
                  <a:lnTo>
                    <a:pt x="1525" y="987"/>
                  </a:lnTo>
                  <a:lnTo>
                    <a:pt x="1503" y="1001"/>
                  </a:lnTo>
                  <a:lnTo>
                    <a:pt x="1496" y="1016"/>
                  </a:lnTo>
                  <a:lnTo>
                    <a:pt x="1454" y="1023"/>
                  </a:lnTo>
                  <a:lnTo>
                    <a:pt x="1433" y="1045"/>
                  </a:lnTo>
                  <a:lnTo>
                    <a:pt x="1418" y="1045"/>
                  </a:lnTo>
                  <a:lnTo>
                    <a:pt x="1390" y="1052"/>
                  </a:lnTo>
                  <a:lnTo>
                    <a:pt x="1306" y="1059"/>
                  </a:lnTo>
                  <a:lnTo>
                    <a:pt x="1291" y="1059"/>
                  </a:lnTo>
                  <a:lnTo>
                    <a:pt x="1249" y="1066"/>
                  </a:lnTo>
                  <a:lnTo>
                    <a:pt x="1235" y="1066"/>
                  </a:lnTo>
                  <a:lnTo>
                    <a:pt x="1214" y="1066"/>
                  </a:lnTo>
                  <a:lnTo>
                    <a:pt x="1200" y="1066"/>
                  </a:lnTo>
                  <a:lnTo>
                    <a:pt x="1151" y="1052"/>
                  </a:lnTo>
                  <a:lnTo>
                    <a:pt x="1066" y="1052"/>
                  </a:lnTo>
                  <a:lnTo>
                    <a:pt x="967" y="1052"/>
                  </a:lnTo>
                  <a:lnTo>
                    <a:pt x="953" y="1052"/>
                  </a:lnTo>
                  <a:lnTo>
                    <a:pt x="946" y="1030"/>
                  </a:lnTo>
                  <a:lnTo>
                    <a:pt x="931" y="1016"/>
                  </a:lnTo>
                  <a:lnTo>
                    <a:pt x="917" y="994"/>
                  </a:lnTo>
                  <a:lnTo>
                    <a:pt x="903" y="943"/>
                  </a:lnTo>
                  <a:lnTo>
                    <a:pt x="889" y="922"/>
                  </a:lnTo>
                  <a:lnTo>
                    <a:pt x="882" y="907"/>
                  </a:lnTo>
                  <a:lnTo>
                    <a:pt x="868" y="893"/>
                  </a:lnTo>
                  <a:lnTo>
                    <a:pt x="861" y="871"/>
                  </a:lnTo>
                  <a:lnTo>
                    <a:pt x="854" y="842"/>
                  </a:lnTo>
                  <a:lnTo>
                    <a:pt x="839" y="828"/>
                  </a:lnTo>
                  <a:lnTo>
                    <a:pt x="839" y="813"/>
                  </a:lnTo>
                  <a:lnTo>
                    <a:pt x="826" y="793"/>
                  </a:lnTo>
                  <a:lnTo>
                    <a:pt x="826" y="778"/>
                  </a:lnTo>
                  <a:lnTo>
                    <a:pt x="819" y="756"/>
                  </a:lnTo>
                  <a:lnTo>
                    <a:pt x="812" y="735"/>
                  </a:lnTo>
                  <a:lnTo>
                    <a:pt x="804" y="720"/>
                  </a:lnTo>
                  <a:lnTo>
                    <a:pt x="797" y="670"/>
                  </a:lnTo>
                  <a:lnTo>
                    <a:pt x="797" y="648"/>
                  </a:lnTo>
                  <a:lnTo>
                    <a:pt x="790" y="626"/>
                  </a:lnTo>
                  <a:lnTo>
                    <a:pt x="776" y="605"/>
                  </a:lnTo>
                  <a:lnTo>
                    <a:pt x="776" y="590"/>
                  </a:lnTo>
                  <a:lnTo>
                    <a:pt x="762" y="561"/>
                  </a:lnTo>
                  <a:lnTo>
                    <a:pt x="748" y="554"/>
                  </a:lnTo>
                  <a:lnTo>
                    <a:pt x="699" y="526"/>
                  </a:lnTo>
                  <a:lnTo>
                    <a:pt x="684" y="519"/>
                  </a:lnTo>
                  <a:lnTo>
                    <a:pt x="664" y="526"/>
                  </a:lnTo>
                  <a:lnTo>
                    <a:pt x="614" y="540"/>
                  </a:lnTo>
                  <a:lnTo>
                    <a:pt x="572" y="533"/>
                  </a:lnTo>
                  <a:lnTo>
                    <a:pt x="557" y="512"/>
                  </a:lnTo>
                  <a:lnTo>
                    <a:pt x="543" y="490"/>
                  </a:lnTo>
                  <a:lnTo>
                    <a:pt x="537" y="468"/>
                  </a:lnTo>
                  <a:lnTo>
                    <a:pt x="529" y="447"/>
                  </a:lnTo>
                  <a:lnTo>
                    <a:pt x="529" y="432"/>
                  </a:lnTo>
                  <a:lnTo>
                    <a:pt x="508" y="410"/>
                  </a:lnTo>
                  <a:lnTo>
                    <a:pt x="508" y="382"/>
                  </a:lnTo>
                  <a:lnTo>
                    <a:pt x="508" y="367"/>
                  </a:lnTo>
                  <a:lnTo>
                    <a:pt x="494" y="353"/>
                  </a:lnTo>
                  <a:lnTo>
                    <a:pt x="480" y="302"/>
                  </a:lnTo>
                  <a:lnTo>
                    <a:pt x="465" y="252"/>
                  </a:lnTo>
                  <a:lnTo>
                    <a:pt x="452" y="231"/>
                  </a:lnTo>
                  <a:lnTo>
                    <a:pt x="437" y="173"/>
                  </a:lnTo>
                  <a:lnTo>
                    <a:pt x="367" y="115"/>
                  </a:lnTo>
                  <a:lnTo>
                    <a:pt x="310" y="101"/>
                  </a:lnTo>
                  <a:lnTo>
                    <a:pt x="268" y="57"/>
                  </a:lnTo>
                  <a:lnTo>
                    <a:pt x="225" y="43"/>
                  </a:lnTo>
                  <a:lnTo>
                    <a:pt x="218" y="28"/>
                  </a:lnTo>
                  <a:lnTo>
                    <a:pt x="155" y="36"/>
                  </a:lnTo>
                  <a:lnTo>
                    <a:pt x="133" y="28"/>
                  </a:lnTo>
                  <a:lnTo>
                    <a:pt x="84" y="21"/>
                  </a:lnTo>
                  <a:lnTo>
                    <a:pt x="70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1800" y="2657520"/>
              <a:ext cx="1906560" cy="1468440"/>
            </a:xfrm>
            <a:custGeom>
              <a:avLst/>
              <a:gdLst/>
              <a:ahLst/>
              <a:rect l="l" t="t" r="r" b="b"/>
              <a:pathLst>
                <a:path w="1201" h="925">
                  <a:moveTo>
                    <a:pt x="0" y="526"/>
                  </a:moveTo>
                  <a:lnTo>
                    <a:pt x="0" y="562"/>
                  </a:lnTo>
                  <a:lnTo>
                    <a:pt x="7" y="584"/>
                  </a:lnTo>
                  <a:lnTo>
                    <a:pt x="14" y="605"/>
                  </a:lnTo>
                  <a:lnTo>
                    <a:pt x="21" y="620"/>
                  </a:lnTo>
                  <a:lnTo>
                    <a:pt x="28" y="642"/>
                  </a:lnTo>
                  <a:lnTo>
                    <a:pt x="35" y="663"/>
                  </a:lnTo>
                  <a:lnTo>
                    <a:pt x="42" y="678"/>
                  </a:lnTo>
                  <a:lnTo>
                    <a:pt x="49" y="699"/>
                  </a:lnTo>
                  <a:lnTo>
                    <a:pt x="56" y="714"/>
                  </a:lnTo>
                  <a:lnTo>
                    <a:pt x="63" y="736"/>
                  </a:lnTo>
                  <a:lnTo>
                    <a:pt x="63" y="757"/>
                  </a:lnTo>
                  <a:lnTo>
                    <a:pt x="78" y="764"/>
                  </a:lnTo>
                  <a:lnTo>
                    <a:pt x="84" y="779"/>
                  </a:lnTo>
                  <a:lnTo>
                    <a:pt x="84" y="801"/>
                  </a:lnTo>
                  <a:lnTo>
                    <a:pt x="91" y="822"/>
                  </a:lnTo>
                  <a:lnTo>
                    <a:pt x="106" y="822"/>
                  </a:lnTo>
                  <a:lnTo>
                    <a:pt x="113" y="837"/>
                  </a:lnTo>
                  <a:lnTo>
                    <a:pt x="155" y="858"/>
                  </a:lnTo>
                  <a:lnTo>
                    <a:pt x="163" y="873"/>
                  </a:lnTo>
                  <a:lnTo>
                    <a:pt x="183" y="895"/>
                  </a:lnTo>
                  <a:lnTo>
                    <a:pt x="233" y="909"/>
                  </a:lnTo>
                  <a:lnTo>
                    <a:pt x="261" y="924"/>
                  </a:lnTo>
                  <a:lnTo>
                    <a:pt x="310" y="924"/>
                  </a:lnTo>
                  <a:lnTo>
                    <a:pt x="325" y="924"/>
                  </a:lnTo>
                  <a:lnTo>
                    <a:pt x="353" y="924"/>
                  </a:lnTo>
                  <a:lnTo>
                    <a:pt x="381" y="924"/>
                  </a:lnTo>
                  <a:lnTo>
                    <a:pt x="423" y="924"/>
                  </a:lnTo>
                  <a:lnTo>
                    <a:pt x="438" y="924"/>
                  </a:lnTo>
                  <a:lnTo>
                    <a:pt x="522" y="916"/>
                  </a:lnTo>
                  <a:lnTo>
                    <a:pt x="565" y="909"/>
                  </a:lnTo>
                  <a:lnTo>
                    <a:pt x="572" y="887"/>
                  </a:lnTo>
                  <a:lnTo>
                    <a:pt x="593" y="873"/>
                  </a:lnTo>
                  <a:lnTo>
                    <a:pt x="614" y="866"/>
                  </a:lnTo>
                  <a:lnTo>
                    <a:pt x="628" y="858"/>
                  </a:lnTo>
                  <a:lnTo>
                    <a:pt x="650" y="851"/>
                  </a:lnTo>
                  <a:lnTo>
                    <a:pt x="670" y="837"/>
                  </a:lnTo>
                  <a:lnTo>
                    <a:pt x="685" y="830"/>
                  </a:lnTo>
                  <a:lnTo>
                    <a:pt x="705" y="830"/>
                  </a:lnTo>
                  <a:lnTo>
                    <a:pt x="720" y="815"/>
                  </a:lnTo>
                  <a:lnTo>
                    <a:pt x="742" y="801"/>
                  </a:lnTo>
                  <a:lnTo>
                    <a:pt x="762" y="801"/>
                  </a:lnTo>
                  <a:lnTo>
                    <a:pt x="777" y="793"/>
                  </a:lnTo>
                  <a:lnTo>
                    <a:pt x="797" y="786"/>
                  </a:lnTo>
                  <a:lnTo>
                    <a:pt x="847" y="779"/>
                  </a:lnTo>
                  <a:lnTo>
                    <a:pt x="868" y="772"/>
                  </a:lnTo>
                  <a:lnTo>
                    <a:pt x="910" y="772"/>
                  </a:lnTo>
                  <a:lnTo>
                    <a:pt x="932" y="764"/>
                  </a:lnTo>
                  <a:lnTo>
                    <a:pt x="952" y="750"/>
                  </a:lnTo>
                  <a:lnTo>
                    <a:pt x="974" y="743"/>
                  </a:lnTo>
                  <a:lnTo>
                    <a:pt x="1037" y="721"/>
                  </a:lnTo>
                  <a:lnTo>
                    <a:pt x="1052" y="714"/>
                  </a:lnTo>
                  <a:lnTo>
                    <a:pt x="1059" y="699"/>
                  </a:lnTo>
                  <a:lnTo>
                    <a:pt x="1080" y="685"/>
                  </a:lnTo>
                  <a:lnTo>
                    <a:pt x="1101" y="671"/>
                  </a:lnTo>
                  <a:lnTo>
                    <a:pt x="1116" y="663"/>
                  </a:lnTo>
                  <a:lnTo>
                    <a:pt x="1122" y="642"/>
                  </a:lnTo>
                  <a:lnTo>
                    <a:pt x="1136" y="627"/>
                  </a:lnTo>
                  <a:lnTo>
                    <a:pt x="1151" y="613"/>
                  </a:lnTo>
                  <a:lnTo>
                    <a:pt x="1151" y="598"/>
                  </a:lnTo>
                  <a:lnTo>
                    <a:pt x="1164" y="577"/>
                  </a:lnTo>
                  <a:lnTo>
                    <a:pt x="1172" y="562"/>
                  </a:lnTo>
                  <a:lnTo>
                    <a:pt x="1179" y="540"/>
                  </a:lnTo>
                  <a:lnTo>
                    <a:pt x="1186" y="519"/>
                  </a:lnTo>
                  <a:lnTo>
                    <a:pt x="1193" y="504"/>
                  </a:lnTo>
                  <a:lnTo>
                    <a:pt x="1193" y="483"/>
                  </a:lnTo>
                  <a:lnTo>
                    <a:pt x="1200" y="462"/>
                  </a:lnTo>
                  <a:lnTo>
                    <a:pt x="1200" y="447"/>
                  </a:lnTo>
                  <a:lnTo>
                    <a:pt x="1200" y="426"/>
                  </a:lnTo>
                  <a:lnTo>
                    <a:pt x="1200" y="404"/>
                  </a:lnTo>
                  <a:lnTo>
                    <a:pt x="1200" y="382"/>
                  </a:lnTo>
                  <a:lnTo>
                    <a:pt x="1200" y="361"/>
                  </a:lnTo>
                  <a:lnTo>
                    <a:pt x="1200" y="339"/>
                  </a:lnTo>
                  <a:lnTo>
                    <a:pt x="1200" y="317"/>
                  </a:lnTo>
                  <a:lnTo>
                    <a:pt x="1200" y="296"/>
                  </a:lnTo>
                  <a:lnTo>
                    <a:pt x="1200" y="281"/>
                  </a:lnTo>
                  <a:lnTo>
                    <a:pt x="1200" y="260"/>
                  </a:lnTo>
                  <a:lnTo>
                    <a:pt x="1200" y="238"/>
                  </a:lnTo>
                  <a:lnTo>
                    <a:pt x="1193" y="223"/>
                  </a:lnTo>
                  <a:lnTo>
                    <a:pt x="1193" y="202"/>
                  </a:lnTo>
                  <a:lnTo>
                    <a:pt x="1186" y="180"/>
                  </a:lnTo>
                  <a:lnTo>
                    <a:pt x="1179" y="158"/>
                  </a:lnTo>
                  <a:lnTo>
                    <a:pt x="1172" y="137"/>
                  </a:lnTo>
                  <a:lnTo>
                    <a:pt x="1164" y="122"/>
                  </a:lnTo>
                  <a:lnTo>
                    <a:pt x="1158" y="101"/>
                  </a:lnTo>
                  <a:lnTo>
                    <a:pt x="1158" y="86"/>
                  </a:lnTo>
                  <a:lnTo>
                    <a:pt x="1158" y="43"/>
                  </a:lnTo>
                  <a:lnTo>
                    <a:pt x="1151" y="28"/>
                  </a:lnTo>
                  <a:lnTo>
                    <a:pt x="1136" y="0"/>
                  </a:lnTo>
                  <a:lnTo>
                    <a:pt x="1129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6920" y="2644920"/>
              <a:ext cx="695160" cy="852480"/>
            </a:xfrm>
            <a:custGeom>
              <a:avLst/>
              <a:gdLst/>
              <a:ahLst/>
              <a:rect l="l" t="t" r="r" b="b"/>
              <a:pathLst>
                <a:path w="438" h="537">
                  <a:moveTo>
                    <a:pt x="437" y="536"/>
                  </a:moveTo>
                  <a:lnTo>
                    <a:pt x="437" y="499"/>
                  </a:lnTo>
                  <a:lnTo>
                    <a:pt x="415" y="484"/>
                  </a:lnTo>
                  <a:lnTo>
                    <a:pt x="401" y="463"/>
                  </a:lnTo>
                  <a:lnTo>
                    <a:pt x="380" y="448"/>
                  </a:lnTo>
                  <a:lnTo>
                    <a:pt x="331" y="434"/>
                  </a:lnTo>
                  <a:lnTo>
                    <a:pt x="323" y="419"/>
                  </a:lnTo>
                  <a:lnTo>
                    <a:pt x="296" y="412"/>
                  </a:lnTo>
                  <a:lnTo>
                    <a:pt x="281" y="412"/>
                  </a:lnTo>
                  <a:lnTo>
                    <a:pt x="225" y="405"/>
                  </a:lnTo>
                  <a:lnTo>
                    <a:pt x="211" y="390"/>
                  </a:lnTo>
                  <a:lnTo>
                    <a:pt x="197" y="383"/>
                  </a:lnTo>
                  <a:lnTo>
                    <a:pt x="183" y="361"/>
                  </a:lnTo>
                  <a:lnTo>
                    <a:pt x="168" y="361"/>
                  </a:lnTo>
                  <a:lnTo>
                    <a:pt x="161" y="340"/>
                  </a:lnTo>
                  <a:lnTo>
                    <a:pt x="161" y="325"/>
                  </a:lnTo>
                  <a:lnTo>
                    <a:pt x="148" y="304"/>
                  </a:lnTo>
                  <a:lnTo>
                    <a:pt x="133" y="282"/>
                  </a:lnTo>
                  <a:lnTo>
                    <a:pt x="126" y="260"/>
                  </a:lnTo>
                  <a:lnTo>
                    <a:pt x="113" y="231"/>
                  </a:lnTo>
                  <a:lnTo>
                    <a:pt x="105" y="210"/>
                  </a:lnTo>
                  <a:lnTo>
                    <a:pt x="105" y="195"/>
                  </a:lnTo>
                  <a:lnTo>
                    <a:pt x="98" y="174"/>
                  </a:lnTo>
                  <a:lnTo>
                    <a:pt x="98" y="159"/>
                  </a:lnTo>
                  <a:lnTo>
                    <a:pt x="84" y="130"/>
                  </a:lnTo>
                  <a:lnTo>
                    <a:pt x="77" y="109"/>
                  </a:lnTo>
                  <a:lnTo>
                    <a:pt x="70" y="94"/>
                  </a:lnTo>
                  <a:lnTo>
                    <a:pt x="48" y="72"/>
                  </a:lnTo>
                  <a:lnTo>
                    <a:pt x="41" y="51"/>
                  </a:lnTo>
                  <a:lnTo>
                    <a:pt x="21" y="29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6680" y="4033800"/>
              <a:ext cx="2354400" cy="1716120"/>
            </a:xfrm>
            <a:custGeom>
              <a:avLst/>
              <a:gdLst/>
              <a:ahLst/>
              <a:rect l="l" t="t" r="r" b="b"/>
              <a:pathLst>
                <a:path w="1483" h="1081">
                  <a:moveTo>
                    <a:pt x="1383" y="979"/>
                  </a:moveTo>
                  <a:lnTo>
                    <a:pt x="1383" y="921"/>
                  </a:lnTo>
                  <a:lnTo>
                    <a:pt x="1383" y="906"/>
                  </a:lnTo>
                  <a:lnTo>
                    <a:pt x="1383" y="885"/>
                  </a:lnTo>
                  <a:lnTo>
                    <a:pt x="1383" y="870"/>
                  </a:lnTo>
                  <a:lnTo>
                    <a:pt x="1383" y="827"/>
                  </a:lnTo>
                  <a:lnTo>
                    <a:pt x="1383" y="777"/>
                  </a:lnTo>
                  <a:lnTo>
                    <a:pt x="1383" y="734"/>
                  </a:lnTo>
                  <a:lnTo>
                    <a:pt x="1383" y="719"/>
                  </a:lnTo>
                  <a:lnTo>
                    <a:pt x="1383" y="698"/>
                  </a:lnTo>
                  <a:lnTo>
                    <a:pt x="1383" y="683"/>
                  </a:lnTo>
                  <a:lnTo>
                    <a:pt x="1383" y="662"/>
                  </a:lnTo>
                  <a:lnTo>
                    <a:pt x="1383" y="647"/>
                  </a:lnTo>
                  <a:lnTo>
                    <a:pt x="1383" y="626"/>
                  </a:lnTo>
                  <a:lnTo>
                    <a:pt x="1383" y="611"/>
                  </a:lnTo>
                  <a:lnTo>
                    <a:pt x="1397" y="582"/>
                  </a:lnTo>
                  <a:lnTo>
                    <a:pt x="1404" y="560"/>
                  </a:lnTo>
                  <a:lnTo>
                    <a:pt x="1404" y="540"/>
                  </a:lnTo>
                  <a:lnTo>
                    <a:pt x="1411" y="525"/>
                  </a:lnTo>
                  <a:lnTo>
                    <a:pt x="1425" y="504"/>
                  </a:lnTo>
                  <a:lnTo>
                    <a:pt x="1425" y="489"/>
                  </a:lnTo>
                  <a:lnTo>
                    <a:pt x="1440" y="460"/>
                  </a:lnTo>
                  <a:lnTo>
                    <a:pt x="1440" y="417"/>
                  </a:lnTo>
                  <a:lnTo>
                    <a:pt x="1453" y="402"/>
                  </a:lnTo>
                  <a:lnTo>
                    <a:pt x="1453" y="381"/>
                  </a:lnTo>
                  <a:lnTo>
                    <a:pt x="1453" y="366"/>
                  </a:lnTo>
                  <a:lnTo>
                    <a:pt x="1460" y="345"/>
                  </a:lnTo>
                  <a:lnTo>
                    <a:pt x="1460" y="330"/>
                  </a:lnTo>
                  <a:lnTo>
                    <a:pt x="1468" y="308"/>
                  </a:lnTo>
                  <a:lnTo>
                    <a:pt x="1475" y="287"/>
                  </a:lnTo>
                  <a:lnTo>
                    <a:pt x="1482" y="272"/>
                  </a:lnTo>
                  <a:lnTo>
                    <a:pt x="1482" y="252"/>
                  </a:lnTo>
                  <a:lnTo>
                    <a:pt x="1482" y="237"/>
                  </a:lnTo>
                  <a:lnTo>
                    <a:pt x="1460" y="223"/>
                  </a:lnTo>
                  <a:lnTo>
                    <a:pt x="1397" y="208"/>
                  </a:lnTo>
                  <a:lnTo>
                    <a:pt x="1355" y="201"/>
                  </a:lnTo>
                  <a:lnTo>
                    <a:pt x="1313" y="201"/>
                  </a:lnTo>
                  <a:lnTo>
                    <a:pt x="1298" y="201"/>
                  </a:lnTo>
                  <a:lnTo>
                    <a:pt x="1256" y="194"/>
                  </a:lnTo>
                  <a:lnTo>
                    <a:pt x="1241" y="194"/>
                  </a:lnTo>
                  <a:lnTo>
                    <a:pt x="1193" y="194"/>
                  </a:lnTo>
                  <a:lnTo>
                    <a:pt x="1178" y="194"/>
                  </a:lnTo>
                  <a:lnTo>
                    <a:pt x="1108" y="179"/>
                  </a:lnTo>
                  <a:lnTo>
                    <a:pt x="1093" y="179"/>
                  </a:lnTo>
                  <a:lnTo>
                    <a:pt x="1072" y="158"/>
                  </a:lnTo>
                  <a:lnTo>
                    <a:pt x="1058" y="150"/>
                  </a:lnTo>
                  <a:lnTo>
                    <a:pt x="1037" y="150"/>
                  </a:lnTo>
                  <a:lnTo>
                    <a:pt x="1029" y="129"/>
                  </a:lnTo>
                  <a:lnTo>
                    <a:pt x="1023" y="107"/>
                  </a:lnTo>
                  <a:lnTo>
                    <a:pt x="1016" y="85"/>
                  </a:lnTo>
                  <a:lnTo>
                    <a:pt x="1001" y="78"/>
                  </a:lnTo>
                  <a:lnTo>
                    <a:pt x="994" y="57"/>
                  </a:lnTo>
                  <a:lnTo>
                    <a:pt x="981" y="35"/>
                  </a:lnTo>
                  <a:lnTo>
                    <a:pt x="966" y="28"/>
                  </a:lnTo>
                  <a:lnTo>
                    <a:pt x="959" y="13"/>
                  </a:lnTo>
                  <a:lnTo>
                    <a:pt x="938" y="6"/>
                  </a:lnTo>
                  <a:lnTo>
                    <a:pt x="917" y="6"/>
                  </a:lnTo>
                  <a:lnTo>
                    <a:pt x="903" y="0"/>
                  </a:lnTo>
                  <a:lnTo>
                    <a:pt x="882" y="0"/>
                  </a:lnTo>
                  <a:lnTo>
                    <a:pt x="867" y="6"/>
                  </a:lnTo>
                  <a:lnTo>
                    <a:pt x="846" y="28"/>
                  </a:lnTo>
                  <a:lnTo>
                    <a:pt x="825" y="49"/>
                  </a:lnTo>
                  <a:lnTo>
                    <a:pt x="811" y="64"/>
                  </a:lnTo>
                  <a:lnTo>
                    <a:pt x="790" y="93"/>
                  </a:lnTo>
                  <a:lnTo>
                    <a:pt x="776" y="107"/>
                  </a:lnTo>
                  <a:lnTo>
                    <a:pt x="754" y="114"/>
                  </a:lnTo>
                  <a:lnTo>
                    <a:pt x="747" y="129"/>
                  </a:lnTo>
                  <a:lnTo>
                    <a:pt x="741" y="150"/>
                  </a:lnTo>
                  <a:lnTo>
                    <a:pt x="726" y="150"/>
                  </a:lnTo>
                  <a:lnTo>
                    <a:pt x="712" y="165"/>
                  </a:lnTo>
                  <a:lnTo>
                    <a:pt x="691" y="172"/>
                  </a:lnTo>
                  <a:lnTo>
                    <a:pt x="670" y="187"/>
                  </a:lnTo>
                  <a:lnTo>
                    <a:pt x="649" y="194"/>
                  </a:lnTo>
                  <a:lnTo>
                    <a:pt x="607" y="201"/>
                  </a:lnTo>
                  <a:lnTo>
                    <a:pt x="592" y="201"/>
                  </a:lnTo>
                  <a:lnTo>
                    <a:pt x="564" y="216"/>
                  </a:lnTo>
                  <a:lnTo>
                    <a:pt x="515" y="216"/>
                  </a:lnTo>
                  <a:lnTo>
                    <a:pt x="458" y="223"/>
                  </a:lnTo>
                  <a:lnTo>
                    <a:pt x="437" y="223"/>
                  </a:lnTo>
                  <a:lnTo>
                    <a:pt x="415" y="230"/>
                  </a:lnTo>
                  <a:lnTo>
                    <a:pt x="395" y="230"/>
                  </a:lnTo>
                  <a:lnTo>
                    <a:pt x="338" y="237"/>
                  </a:lnTo>
                  <a:lnTo>
                    <a:pt x="324" y="237"/>
                  </a:lnTo>
                  <a:lnTo>
                    <a:pt x="317" y="252"/>
                  </a:lnTo>
                  <a:lnTo>
                    <a:pt x="288" y="259"/>
                  </a:lnTo>
                  <a:lnTo>
                    <a:pt x="232" y="259"/>
                  </a:lnTo>
                  <a:lnTo>
                    <a:pt x="175" y="259"/>
                  </a:lnTo>
                  <a:lnTo>
                    <a:pt x="120" y="259"/>
                  </a:lnTo>
                  <a:lnTo>
                    <a:pt x="105" y="272"/>
                  </a:lnTo>
                  <a:lnTo>
                    <a:pt x="98" y="287"/>
                  </a:lnTo>
                  <a:lnTo>
                    <a:pt x="77" y="316"/>
                  </a:lnTo>
                  <a:lnTo>
                    <a:pt x="63" y="337"/>
                  </a:lnTo>
                  <a:lnTo>
                    <a:pt x="56" y="352"/>
                  </a:lnTo>
                  <a:lnTo>
                    <a:pt x="41" y="374"/>
                  </a:lnTo>
                  <a:lnTo>
                    <a:pt x="35" y="395"/>
                  </a:lnTo>
                  <a:lnTo>
                    <a:pt x="28" y="417"/>
                  </a:lnTo>
                  <a:lnTo>
                    <a:pt x="13" y="431"/>
                  </a:lnTo>
                  <a:lnTo>
                    <a:pt x="13" y="446"/>
                  </a:lnTo>
                  <a:lnTo>
                    <a:pt x="6" y="504"/>
                  </a:lnTo>
                  <a:lnTo>
                    <a:pt x="6" y="546"/>
                  </a:lnTo>
                  <a:lnTo>
                    <a:pt x="6" y="568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6"/>
                  </a:lnTo>
                  <a:lnTo>
                    <a:pt x="0" y="647"/>
                  </a:lnTo>
                  <a:lnTo>
                    <a:pt x="6" y="662"/>
                  </a:lnTo>
                  <a:lnTo>
                    <a:pt x="13" y="683"/>
                  </a:lnTo>
                  <a:lnTo>
                    <a:pt x="28" y="727"/>
                  </a:lnTo>
                  <a:lnTo>
                    <a:pt x="28" y="770"/>
                  </a:lnTo>
                  <a:lnTo>
                    <a:pt x="35" y="792"/>
                  </a:lnTo>
                  <a:lnTo>
                    <a:pt x="35" y="849"/>
                  </a:lnTo>
                  <a:lnTo>
                    <a:pt x="41" y="870"/>
                  </a:lnTo>
                  <a:lnTo>
                    <a:pt x="41" y="885"/>
                  </a:lnTo>
                  <a:lnTo>
                    <a:pt x="56" y="899"/>
                  </a:lnTo>
                  <a:lnTo>
                    <a:pt x="63" y="914"/>
                  </a:lnTo>
                  <a:lnTo>
                    <a:pt x="77" y="986"/>
                  </a:lnTo>
                  <a:lnTo>
                    <a:pt x="91" y="1000"/>
                  </a:lnTo>
                  <a:lnTo>
                    <a:pt x="98" y="1015"/>
                  </a:lnTo>
                  <a:lnTo>
                    <a:pt x="140" y="1029"/>
                  </a:lnTo>
                  <a:lnTo>
                    <a:pt x="148" y="1073"/>
                  </a:lnTo>
                  <a:lnTo>
                    <a:pt x="140" y="108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59440" y="2805120"/>
              <a:ext cx="1000080" cy="1332000"/>
            </a:xfrm>
            <a:custGeom>
              <a:avLst/>
              <a:gdLst/>
              <a:ahLst/>
              <a:rect l="l" t="t" r="r" b="b"/>
              <a:pathLst>
                <a:path w="630" h="839">
                  <a:moveTo>
                    <a:pt x="0" y="0"/>
                  </a:moveTo>
                  <a:lnTo>
                    <a:pt x="56" y="0"/>
                  </a:lnTo>
                  <a:lnTo>
                    <a:pt x="198" y="7"/>
                  </a:lnTo>
                  <a:lnTo>
                    <a:pt x="268" y="7"/>
                  </a:lnTo>
                  <a:lnTo>
                    <a:pt x="290" y="28"/>
                  </a:lnTo>
                  <a:lnTo>
                    <a:pt x="310" y="43"/>
                  </a:lnTo>
                  <a:lnTo>
                    <a:pt x="325" y="64"/>
                  </a:lnTo>
                  <a:lnTo>
                    <a:pt x="338" y="115"/>
                  </a:lnTo>
                  <a:lnTo>
                    <a:pt x="353" y="129"/>
                  </a:lnTo>
                  <a:lnTo>
                    <a:pt x="360" y="144"/>
                  </a:lnTo>
                  <a:lnTo>
                    <a:pt x="367" y="166"/>
                  </a:lnTo>
                  <a:lnTo>
                    <a:pt x="381" y="180"/>
                  </a:lnTo>
                  <a:lnTo>
                    <a:pt x="395" y="202"/>
                  </a:lnTo>
                  <a:lnTo>
                    <a:pt x="402" y="245"/>
                  </a:lnTo>
                  <a:lnTo>
                    <a:pt x="417" y="267"/>
                  </a:lnTo>
                  <a:lnTo>
                    <a:pt x="417" y="325"/>
                  </a:lnTo>
                  <a:lnTo>
                    <a:pt x="423" y="346"/>
                  </a:lnTo>
                  <a:lnTo>
                    <a:pt x="430" y="361"/>
                  </a:lnTo>
                  <a:lnTo>
                    <a:pt x="445" y="382"/>
                  </a:lnTo>
                  <a:lnTo>
                    <a:pt x="452" y="426"/>
                  </a:lnTo>
                  <a:lnTo>
                    <a:pt x="465" y="447"/>
                  </a:lnTo>
                  <a:lnTo>
                    <a:pt x="473" y="462"/>
                  </a:lnTo>
                  <a:lnTo>
                    <a:pt x="494" y="520"/>
                  </a:lnTo>
                  <a:lnTo>
                    <a:pt x="508" y="520"/>
                  </a:lnTo>
                  <a:lnTo>
                    <a:pt x="572" y="541"/>
                  </a:lnTo>
                  <a:lnTo>
                    <a:pt x="600" y="606"/>
                  </a:lnTo>
                  <a:lnTo>
                    <a:pt x="614" y="621"/>
                  </a:lnTo>
                  <a:lnTo>
                    <a:pt x="621" y="650"/>
                  </a:lnTo>
                  <a:lnTo>
                    <a:pt x="629" y="671"/>
                  </a:lnTo>
                  <a:lnTo>
                    <a:pt x="629" y="686"/>
                  </a:lnTo>
                  <a:lnTo>
                    <a:pt x="629" y="708"/>
                  </a:lnTo>
                  <a:lnTo>
                    <a:pt x="621" y="765"/>
                  </a:lnTo>
                  <a:lnTo>
                    <a:pt x="537" y="773"/>
                  </a:lnTo>
                  <a:lnTo>
                    <a:pt x="480" y="773"/>
                  </a:lnTo>
                  <a:lnTo>
                    <a:pt x="465" y="773"/>
                  </a:lnTo>
                  <a:lnTo>
                    <a:pt x="409" y="787"/>
                  </a:lnTo>
                  <a:lnTo>
                    <a:pt x="367" y="802"/>
                  </a:lnTo>
                  <a:lnTo>
                    <a:pt x="345" y="816"/>
                  </a:lnTo>
                  <a:lnTo>
                    <a:pt x="325" y="823"/>
                  </a:lnTo>
                  <a:lnTo>
                    <a:pt x="310" y="831"/>
                  </a:lnTo>
                  <a:lnTo>
                    <a:pt x="290" y="838"/>
                  </a:lnTo>
                  <a:lnTo>
                    <a:pt x="233" y="838"/>
                  </a:lnTo>
                  <a:lnTo>
                    <a:pt x="133" y="838"/>
                  </a:lnTo>
                  <a:lnTo>
                    <a:pt x="63" y="838"/>
                  </a:lnTo>
                  <a:lnTo>
                    <a:pt x="56" y="787"/>
                  </a:lnTo>
                  <a:lnTo>
                    <a:pt x="56" y="765"/>
                  </a:lnTo>
                  <a:lnTo>
                    <a:pt x="56" y="744"/>
                  </a:lnTo>
                  <a:lnTo>
                    <a:pt x="56" y="729"/>
                  </a:lnTo>
                  <a:lnTo>
                    <a:pt x="56" y="708"/>
                  </a:lnTo>
                  <a:lnTo>
                    <a:pt x="56" y="693"/>
                  </a:lnTo>
                  <a:lnTo>
                    <a:pt x="56" y="671"/>
                  </a:lnTo>
                  <a:lnTo>
                    <a:pt x="56" y="643"/>
                  </a:lnTo>
                  <a:lnTo>
                    <a:pt x="63" y="592"/>
                  </a:lnTo>
                  <a:lnTo>
                    <a:pt x="78" y="549"/>
                  </a:lnTo>
                  <a:lnTo>
                    <a:pt x="84" y="527"/>
                  </a:lnTo>
                  <a:lnTo>
                    <a:pt x="126" y="512"/>
                  </a:lnTo>
                  <a:lnTo>
                    <a:pt x="133" y="491"/>
                  </a:lnTo>
                  <a:lnTo>
                    <a:pt x="133" y="476"/>
                  </a:lnTo>
                  <a:lnTo>
                    <a:pt x="155" y="455"/>
                  </a:lnTo>
                  <a:lnTo>
                    <a:pt x="155" y="440"/>
                  </a:lnTo>
                  <a:lnTo>
                    <a:pt x="162" y="419"/>
                  </a:lnTo>
                  <a:lnTo>
                    <a:pt x="162" y="397"/>
                  </a:lnTo>
                  <a:lnTo>
                    <a:pt x="162" y="353"/>
                  </a:lnTo>
                  <a:lnTo>
                    <a:pt x="162" y="310"/>
                  </a:lnTo>
                  <a:lnTo>
                    <a:pt x="155" y="288"/>
                  </a:lnTo>
                  <a:lnTo>
                    <a:pt x="141" y="267"/>
                  </a:lnTo>
                  <a:lnTo>
                    <a:pt x="126" y="252"/>
                  </a:lnTo>
                  <a:lnTo>
                    <a:pt x="113" y="231"/>
                  </a:lnTo>
                  <a:lnTo>
                    <a:pt x="98" y="216"/>
                  </a:lnTo>
                  <a:lnTo>
                    <a:pt x="84" y="194"/>
                  </a:lnTo>
                  <a:lnTo>
                    <a:pt x="78" y="173"/>
                  </a:lnTo>
                  <a:lnTo>
                    <a:pt x="70" y="158"/>
                  </a:lnTo>
                  <a:lnTo>
                    <a:pt x="56" y="129"/>
                  </a:lnTo>
                  <a:lnTo>
                    <a:pt x="49" y="108"/>
                  </a:lnTo>
                  <a:lnTo>
                    <a:pt x="35" y="100"/>
                  </a:lnTo>
                  <a:lnTo>
                    <a:pt x="28" y="79"/>
                  </a:lnTo>
                  <a:lnTo>
                    <a:pt x="6" y="5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23080" y="2533680"/>
              <a:ext cx="2232000" cy="1338120"/>
            </a:xfrm>
            <a:custGeom>
              <a:avLst/>
              <a:gdLst/>
              <a:ahLst/>
              <a:rect l="l" t="t" r="r" b="b"/>
              <a:pathLst>
                <a:path w="1406" h="843">
                  <a:moveTo>
                    <a:pt x="1320" y="100"/>
                  </a:moveTo>
                  <a:lnTo>
                    <a:pt x="1348" y="158"/>
                  </a:lnTo>
                  <a:lnTo>
                    <a:pt x="1355" y="187"/>
                  </a:lnTo>
                  <a:lnTo>
                    <a:pt x="1368" y="216"/>
                  </a:lnTo>
                  <a:lnTo>
                    <a:pt x="1383" y="237"/>
                  </a:lnTo>
                  <a:lnTo>
                    <a:pt x="1383" y="252"/>
                  </a:lnTo>
                  <a:lnTo>
                    <a:pt x="1383" y="273"/>
                  </a:lnTo>
                  <a:lnTo>
                    <a:pt x="1383" y="287"/>
                  </a:lnTo>
                  <a:lnTo>
                    <a:pt x="1383" y="309"/>
                  </a:lnTo>
                  <a:lnTo>
                    <a:pt x="1383" y="338"/>
                  </a:lnTo>
                  <a:lnTo>
                    <a:pt x="1383" y="359"/>
                  </a:lnTo>
                  <a:lnTo>
                    <a:pt x="1390" y="374"/>
                  </a:lnTo>
                  <a:lnTo>
                    <a:pt x="1390" y="403"/>
                  </a:lnTo>
                  <a:lnTo>
                    <a:pt x="1397" y="431"/>
                  </a:lnTo>
                  <a:lnTo>
                    <a:pt x="1405" y="446"/>
                  </a:lnTo>
                  <a:lnTo>
                    <a:pt x="1405" y="475"/>
                  </a:lnTo>
                  <a:lnTo>
                    <a:pt x="1405" y="497"/>
                  </a:lnTo>
                  <a:lnTo>
                    <a:pt x="1405" y="518"/>
                  </a:lnTo>
                  <a:lnTo>
                    <a:pt x="1405" y="533"/>
                  </a:lnTo>
                  <a:lnTo>
                    <a:pt x="1405" y="590"/>
                  </a:lnTo>
                  <a:lnTo>
                    <a:pt x="1405" y="611"/>
                  </a:lnTo>
                  <a:lnTo>
                    <a:pt x="1405" y="626"/>
                  </a:lnTo>
                  <a:lnTo>
                    <a:pt x="1405" y="647"/>
                  </a:lnTo>
                  <a:lnTo>
                    <a:pt x="1397" y="662"/>
                  </a:lnTo>
                  <a:lnTo>
                    <a:pt x="1376" y="676"/>
                  </a:lnTo>
                  <a:lnTo>
                    <a:pt x="1362" y="683"/>
                  </a:lnTo>
                  <a:lnTo>
                    <a:pt x="1305" y="683"/>
                  </a:lnTo>
                  <a:lnTo>
                    <a:pt x="1206" y="683"/>
                  </a:lnTo>
                  <a:lnTo>
                    <a:pt x="1164" y="683"/>
                  </a:lnTo>
                  <a:lnTo>
                    <a:pt x="1150" y="691"/>
                  </a:lnTo>
                  <a:lnTo>
                    <a:pt x="1121" y="712"/>
                  </a:lnTo>
                  <a:lnTo>
                    <a:pt x="1101" y="712"/>
                  </a:lnTo>
                  <a:lnTo>
                    <a:pt x="1058" y="763"/>
                  </a:lnTo>
                  <a:lnTo>
                    <a:pt x="1037" y="777"/>
                  </a:lnTo>
                  <a:lnTo>
                    <a:pt x="1023" y="785"/>
                  </a:lnTo>
                  <a:lnTo>
                    <a:pt x="952" y="799"/>
                  </a:lnTo>
                  <a:lnTo>
                    <a:pt x="938" y="799"/>
                  </a:lnTo>
                  <a:lnTo>
                    <a:pt x="910" y="806"/>
                  </a:lnTo>
                  <a:lnTo>
                    <a:pt x="896" y="806"/>
                  </a:lnTo>
                  <a:lnTo>
                    <a:pt x="854" y="821"/>
                  </a:lnTo>
                  <a:lnTo>
                    <a:pt x="797" y="821"/>
                  </a:lnTo>
                  <a:lnTo>
                    <a:pt x="783" y="821"/>
                  </a:lnTo>
                  <a:lnTo>
                    <a:pt x="741" y="828"/>
                  </a:lnTo>
                  <a:lnTo>
                    <a:pt x="662" y="842"/>
                  </a:lnTo>
                  <a:lnTo>
                    <a:pt x="592" y="835"/>
                  </a:lnTo>
                  <a:lnTo>
                    <a:pt x="571" y="821"/>
                  </a:lnTo>
                  <a:lnTo>
                    <a:pt x="543" y="799"/>
                  </a:lnTo>
                  <a:lnTo>
                    <a:pt x="529" y="785"/>
                  </a:lnTo>
                  <a:lnTo>
                    <a:pt x="515" y="770"/>
                  </a:lnTo>
                  <a:lnTo>
                    <a:pt x="507" y="741"/>
                  </a:lnTo>
                  <a:lnTo>
                    <a:pt x="494" y="720"/>
                  </a:lnTo>
                  <a:lnTo>
                    <a:pt x="487" y="705"/>
                  </a:lnTo>
                  <a:lnTo>
                    <a:pt x="487" y="683"/>
                  </a:lnTo>
                  <a:lnTo>
                    <a:pt x="479" y="662"/>
                  </a:lnTo>
                  <a:lnTo>
                    <a:pt x="472" y="647"/>
                  </a:lnTo>
                  <a:lnTo>
                    <a:pt x="465" y="626"/>
                  </a:lnTo>
                  <a:lnTo>
                    <a:pt x="452" y="611"/>
                  </a:lnTo>
                  <a:lnTo>
                    <a:pt x="437" y="604"/>
                  </a:lnTo>
                  <a:lnTo>
                    <a:pt x="430" y="582"/>
                  </a:lnTo>
                  <a:lnTo>
                    <a:pt x="423" y="554"/>
                  </a:lnTo>
                  <a:lnTo>
                    <a:pt x="409" y="525"/>
                  </a:lnTo>
                  <a:lnTo>
                    <a:pt x="402" y="468"/>
                  </a:lnTo>
                  <a:lnTo>
                    <a:pt x="395" y="453"/>
                  </a:lnTo>
                  <a:lnTo>
                    <a:pt x="395" y="410"/>
                  </a:lnTo>
                  <a:lnTo>
                    <a:pt x="395" y="395"/>
                  </a:lnTo>
                  <a:lnTo>
                    <a:pt x="380" y="381"/>
                  </a:lnTo>
                  <a:lnTo>
                    <a:pt x="373" y="359"/>
                  </a:lnTo>
                  <a:lnTo>
                    <a:pt x="352" y="345"/>
                  </a:lnTo>
                  <a:lnTo>
                    <a:pt x="310" y="338"/>
                  </a:lnTo>
                  <a:lnTo>
                    <a:pt x="282" y="330"/>
                  </a:lnTo>
                  <a:lnTo>
                    <a:pt x="260" y="316"/>
                  </a:lnTo>
                  <a:lnTo>
                    <a:pt x="240" y="316"/>
                  </a:lnTo>
                  <a:lnTo>
                    <a:pt x="190" y="309"/>
                  </a:lnTo>
                  <a:lnTo>
                    <a:pt x="148" y="309"/>
                  </a:lnTo>
                  <a:lnTo>
                    <a:pt x="133" y="309"/>
                  </a:lnTo>
                  <a:lnTo>
                    <a:pt x="113" y="294"/>
                  </a:lnTo>
                  <a:lnTo>
                    <a:pt x="105" y="237"/>
                  </a:lnTo>
                  <a:lnTo>
                    <a:pt x="91" y="208"/>
                  </a:lnTo>
                  <a:lnTo>
                    <a:pt x="84" y="187"/>
                  </a:lnTo>
                  <a:lnTo>
                    <a:pt x="77" y="172"/>
                  </a:lnTo>
                  <a:lnTo>
                    <a:pt x="56" y="151"/>
                  </a:lnTo>
                  <a:lnTo>
                    <a:pt x="56" y="136"/>
                  </a:lnTo>
                  <a:lnTo>
                    <a:pt x="41" y="114"/>
                  </a:lnTo>
                  <a:lnTo>
                    <a:pt x="28" y="57"/>
                  </a:lnTo>
                  <a:lnTo>
                    <a:pt x="21" y="42"/>
                  </a:lnTo>
                  <a:lnTo>
                    <a:pt x="6" y="0"/>
                  </a:lnTo>
                  <a:lnTo>
                    <a:pt x="0" y="20"/>
                  </a:lnTo>
                  <a:lnTo>
                    <a:pt x="6" y="2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3520" y="2556000"/>
              <a:ext cx="1749240" cy="995400"/>
            </a:xfrm>
            <a:custGeom>
              <a:avLst/>
              <a:gdLst/>
              <a:ahLst/>
              <a:rect l="l" t="t" r="r" b="b"/>
              <a:pathLst>
                <a:path w="1102" h="627">
                  <a:moveTo>
                    <a:pt x="1037" y="35"/>
                  </a:moveTo>
                  <a:lnTo>
                    <a:pt x="1051" y="64"/>
                  </a:lnTo>
                  <a:lnTo>
                    <a:pt x="1064" y="86"/>
                  </a:lnTo>
                  <a:lnTo>
                    <a:pt x="1079" y="115"/>
                  </a:lnTo>
                  <a:lnTo>
                    <a:pt x="1093" y="137"/>
                  </a:lnTo>
                  <a:lnTo>
                    <a:pt x="1093" y="158"/>
                  </a:lnTo>
                  <a:lnTo>
                    <a:pt x="1093" y="173"/>
                  </a:lnTo>
                  <a:lnTo>
                    <a:pt x="1101" y="194"/>
                  </a:lnTo>
                  <a:lnTo>
                    <a:pt x="1101" y="208"/>
                  </a:lnTo>
                  <a:lnTo>
                    <a:pt x="1101" y="230"/>
                  </a:lnTo>
                  <a:lnTo>
                    <a:pt x="1101" y="251"/>
                  </a:lnTo>
                  <a:lnTo>
                    <a:pt x="1101" y="266"/>
                  </a:lnTo>
                  <a:lnTo>
                    <a:pt x="1101" y="287"/>
                  </a:lnTo>
                  <a:lnTo>
                    <a:pt x="1101" y="302"/>
                  </a:lnTo>
                  <a:lnTo>
                    <a:pt x="1101" y="324"/>
                  </a:lnTo>
                  <a:lnTo>
                    <a:pt x="1101" y="345"/>
                  </a:lnTo>
                  <a:lnTo>
                    <a:pt x="1101" y="360"/>
                  </a:lnTo>
                  <a:lnTo>
                    <a:pt x="1101" y="381"/>
                  </a:lnTo>
                  <a:lnTo>
                    <a:pt x="1101" y="396"/>
                  </a:lnTo>
                  <a:lnTo>
                    <a:pt x="1086" y="417"/>
                  </a:lnTo>
                  <a:lnTo>
                    <a:pt x="1079" y="431"/>
                  </a:lnTo>
                  <a:lnTo>
                    <a:pt x="1064" y="453"/>
                  </a:lnTo>
                  <a:lnTo>
                    <a:pt x="987" y="467"/>
                  </a:lnTo>
                  <a:lnTo>
                    <a:pt x="966" y="474"/>
                  </a:lnTo>
                  <a:lnTo>
                    <a:pt x="959" y="489"/>
                  </a:lnTo>
                  <a:lnTo>
                    <a:pt x="917" y="496"/>
                  </a:lnTo>
                  <a:lnTo>
                    <a:pt x="902" y="503"/>
                  </a:lnTo>
                  <a:lnTo>
                    <a:pt x="889" y="518"/>
                  </a:lnTo>
                  <a:lnTo>
                    <a:pt x="874" y="525"/>
                  </a:lnTo>
                  <a:lnTo>
                    <a:pt x="854" y="539"/>
                  </a:lnTo>
                  <a:lnTo>
                    <a:pt x="811" y="547"/>
                  </a:lnTo>
                  <a:lnTo>
                    <a:pt x="782" y="561"/>
                  </a:lnTo>
                  <a:lnTo>
                    <a:pt x="754" y="576"/>
                  </a:lnTo>
                  <a:lnTo>
                    <a:pt x="726" y="590"/>
                  </a:lnTo>
                  <a:lnTo>
                    <a:pt x="705" y="597"/>
                  </a:lnTo>
                  <a:lnTo>
                    <a:pt x="691" y="597"/>
                  </a:lnTo>
                  <a:lnTo>
                    <a:pt x="634" y="604"/>
                  </a:lnTo>
                  <a:lnTo>
                    <a:pt x="613" y="612"/>
                  </a:lnTo>
                  <a:lnTo>
                    <a:pt x="564" y="626"/>
                  </a:lnTo>
                  <a:lnTo>
                    <a:pt x="507" y="612"/>
                  </a:lnTo>
                  <a:lnTo>
                    <a:pt x="487" y="604"/>
                  </a:lnTo>
                  <a:lnTo>
                    <a:pt x="479" y="583"/>
                  </a:lnTo>
                  <a:lnTo>
                    <a:pt x="479" y="568"/>
                  </a:lnTo>
                  <a:lnTo>
                    <a:pt x="472" y="547"/>
                  </a:lnTo>
                  <a:lnTo>
                    <a:pt x="458" y="525"/>
                  </a:lnTo>
                  <a:lnTo>
                    <a:pt x="450" y="510"/>
                  </a:lnTo>
                  <a:lnTo>
                    <a:pt x="437" y="489"/>
                  </a:lnTo>
                  <a:lnTo>
                    <a:pt x="430" y="474"/>
                  </a:lnTo>
                  <a:lnTo>
                    <a:pt x="423" y="445"/>
                  </a:lnTo>
                  <a:lnTo>
                    <a:pt x="415" y="424"/>
                  </a:lnTo>
                  <a:lnTo>
                    <a:pt x="415" y="410"/>
                  </a:lnTo>
                  <a:lnTo>
                    <a:pt x="402" y="352"/>
                  </a:lnTo>
                  <a:lnTo>
                    <a:pt x="395" y="309"/>
                  </a:lnTo>
                  <a:lnTo>
                    <a:pt x="387" y="280"/>
                  </a:lnTo>
                  <a:lnTo>
                    <a:pt x="373" y="258"/>
                  </a:lnTo>
                  <a:lnTo>
                    <a:pt x="359" y="237"/>
                  </a:lnTo>
                  <a:lnTo>
                    <a:pt x="345" y="222"/>
                  </a:lnTo>
                  <a:lnTo>
                    <a:pt x="317" y="194"/>
                  </a:lnTo>
                  <a:lnTo>
                    <a:pt x="295" y="180"/>
                  </a:lnTo>
                  <a:lnTo>
                    <a:pt x="211" y="180"/>
                  </a:lnTo>
                  <a:lnTo>
                    <a:pt x="197" y="173"/>
                  </a:lnTo>
                  <a:lnTo>
                    <a:pt x="190" y="158"/>
                  </a:lnTo>
                  <a:lnTo>
                    <a:pt x="183" y="137"/>
                  </a:lnTo>
                  <a:lnTo>
                    <a:pt x="168" y="129"/>
                  </a:lnTo>
                  <a:lnTo>
                    <a:pt x="162" y="108"/>
                  </a:lnTo>
                  <a:lnTo>
                    <a:pt x="112" y="57"/>
                  </a:lnTo>
                  <a:lnTo>
                    <a:pt x="84" y="6"/>
                  </a:lnTo>
                  <a:lnTo>
                    <a:pt x="41" y="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61000" y="2589120"/>
              <a:ext cx="719280" cy="700200"/>
            </a:xfrm>
            <a:custGeom>
              <a:avLst/>
              <a:gdLst/>
              <a:ahLst/>
              <a:rect l="l" t="t" r="r" b="b"/>
              <a:pathLst>
                <a:path w="453" h="441">
                  <a:moveTo>
                    <a:pt x="430" y="0"/>
                  </a:moveTo>
                  <a:lnTo>
                    <a:pt x="437" y="28"/>
                  </a:lnTo>
                  <a:lnTo>
                    <a:pt x="452" y="50"/>
                  </a:lnTo>
                  <a:lnTo>
                    <a:pt x="452" y="78"/>
                  </a:lnTo>
                  <a:lnTo>
                    <a:pt x="452" y="100"/>
                  </a:lnTo>
                  <a:lnTo>
                    <a:pt x="452" y="115"/>
                  </a:lnTo>
                  <a:lnTo>
                    <a:pt x="452" y="136"/>
                  </a:lnTo>
                  <a:lnTo>
                    <a:pt x="452" y="151"/>
                  </a:lnTo>
                  <a:lnTo>
                    <a:pt x="452" y="180"/>
                  </a:lnTo>
                  <a:lnTo>
                    <a:pt x="452" y="201"/>
                  </a:lnTo>
                  <a:lnTo>
                    <a:pt x="444" y="252"/>
                  </a:lnTo>
                  <a:lnTo>
                    <a:pt x="437" y="295"/>
                  </a:lnTo>
                  <a:lnTo>
                    <a:pt x="437" y="339"/>
                  </a:lnTo>
                  <a:lnTo>
                    <a:pt x="430" y="360"/>
                  </a:lnTo>
                  <a:lnTo>
                    <a:pt x="423" y="375"/>
                  </a:lnTo>
                  <a:lnTo>
                    <a:pt x="409" y="425"/>
                  </a:lnTo>
                  <a:lnTo>
                    <a:pt x="367" y="433"/>
                  </a:lnTo>
                  <a:lnTo>
                    <a:pt x="317" y="440"/>
                  </a:lnTo>
                  <a:lnTo>
                    <a:pt x="310" y="425"/>
                  </a:lnTo>
                  <a:lnTo>
                    <a:pt x="288" y="404"/>
                  </a:lnTo>
                  <a:lnTo>
                    <a:pt x="282" y="389"/>
                  </a:lnTo>
                  <a:lnTo>
                    <a:pt x="275" y="368"/>
                  </a:lnTo>
                  <a:lnTo>
                    <a:pt x="260" y="353"/>
                  </a:lnTo>
                  <a:lnTo>
                    <a:pt x="253" y="331"/>
                  </a:lnTo>
                  <a:lnTo>
                    <a:pt x="246" y="310"/>
                  </a:lnTo>
                  <a:lnTo>
                    <a:pt x="240" y="288"/>
                  </a:lnTo>
                  <a:lnTo>
                    <a:pt x="218" y="230"/>
                  </a:lnTo>
                  <a:lnTo>
                    <a:pt x="205" y="209"/>
                  </a:lnTo>
                  <a:lnTo>
                    <a:pt x="197" y="194"/>
                  </a:lnTo>
                  <a:lnTo>
                    <a:pt x="176" y="180"/>
                  </a:lnTo>
                  <a:lnTo>
                    <a:pt x="168" y="165"/>
                  </a:lnTo>
                  <a:lnTo>
                    <a:pt x="148" y="151"/>
                  </a:lnTo>
                  <a:lnTo>
                    <a:pt x="133" y="144"/>
                  </a:lnTo>
                  <a:lnTo>
                    <a:pt x="105" y="129"/>
                  </a:lnTo>
                  <a:lnTo>
                    <a:pt x="84" y="115"/>
                  </a:lnTo>
                  <a:lnTo>
                    <a:pt x="63" y="71"/>
                  </a:lnTo>
                  <a:lnTo>
                    <a:pt x="41" y="50"/>
                  </a:lnTo>
                  <a:lnTo>
                    <a:pt x="21" y="28"/>
                  </a:lnTo>
                  <a:lnTo>
                    <a:pt x="6" y="21"/>
                  </a:lnTo>
                  <a:lnTo>
                    <a:pt x="0" y="3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40360" y="2533680"/>
              <a:ext cx="56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99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6040" y="3446640"/>
              <a:ext cx="87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41920" y="41482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35480" y="46576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24720" y="4444920"/>
              <a:ext cx="1054080" cy="1238400"/>
            </a:xfrm>
            <a:custGeom>
              <a:avLst/>
              <a:gdLst/>
              <a:ahLst/>
              <a:rect l="l" t="t" r="r" b="b"/>
              <a:pathLst>
                <a:path w="664" h="780">
                  <a:moveTo>
                    <a:pt x="663" y="0"/>
                  </a:moveTo>
                  <a:lnTo>
                    <a:pt x="621" y="0"/>
                  </a:lnTo>
                  <a:lnTo>
                    <a:pt x="550" y="0"/>
                  </a:lnTo>
                  <a:lnTo>
                    <a:pt x="494" y="0"/>
                  </a:lnTo>
                  <a:lnTo>
                    <a:pt x="479" y="6"/>
                  </a:lnTo>
                  <a:lnTo>
                    <a:pt x="423" y="13"/>
                  </a:lnTo>
                  <a:lnTo>
                    <a:pt x="380" y="21"/>
                  </a:lnTo>
                  <a:lnTo>
                    <a:pt x="359" y="42"/>
                  </a:lnTo>
                  <a:lnTo>
                    <a:pt x="310" y="93"/>
                  </a:lnTo>
                  <a:lnTo>
                    <a:pt x="295" y="115"/>
                  </a:lnTo>
                  <a:lnTo>
                    <a:pt x="253" y="129"/>
                  </a:lnTo>
                  <a:lnTo>
                    <a:pt x="240" y="151"/>
                  </a:lnTo>
                  <a:lnTo>
                    <a:pt x="218" y="165"/>
                  </a:lnTo>
                  <a:lnTo>
                    <a:pt x="211" y="180"/>
                  </a:lnTo>
                  <a:lnTo>
                    <a:pt x="197" y="194"/>
                  </a:lnTo>
                  <a:lnTo>
                    <a:pt x="155" y="209"/>
                  </a:lnTo>
                  <a:lnTo>
                    <a:pt x="133" y="237"/>
                  </a:lnTo>
                  <a:lnTo>
                    <a:pt x="126" y="252"/>
                  </a:lnTo>
                  <a:lnTo>
                    <a:pt x="105" y="281"/>
                  </a:lnTo>
                  <a:lnTo>
                    <a:pt x="91" y="324"/>
                  </a:lnTo>
                  <a:lnTo>
                    <a:pt x="91" y="339"/>
                  </a:lnTo>
                  <a:lnTo>
                    <a:pt x="77" y="353"/>
                  </a:lnTo>
                  <a:lnTo>
                    <a:pt x="63" y="375"/>
                  </a:lnTo>
                  <a:lnTo>
                    <a:pt x="63" y="395"/>
                  </a:lnTo>
                  <a:lnTo>
                    <a:pt x="48" y="410"/>
                  </a:lnTo>
                  <a:lnTo>
                    <a:pt x="41" y="453"/>
                  </a:lnTo>
                  <a:lnTo>
                    <a:pt x="41" y="468"/>
                  </a:lnTo>
                  <a:lnTo>
                    <a:pt x="41" y="489"/>
                  </a:lnTo>
                  <a:lnTo>
                    <a:pt x="35" y="511"/>
                  </a:lnTo>
                  <a:lnTo>
                    <a:pt x="35" y="526"/>
                  </a:lnTo>
                  <a:lnTo>
                    <a:pt x="35" y="547"/>
                  </a:lnTo>
                  <a:lnTo>
                    <a:pt x="35" y="569"/>
                  </a:lnTo>
                  <a:lnTo>
                    <a:pt x="20" y="591"/>
                  </a:lnTo>
                  <a:lnTo>
                    <a:pt x="13" y="663"/>
                  </a:lnTo>
                  <a:lnTo>
                    <a:pt x="13" y="685"/>
                  </a:lnTo>
                  <a:lnTo>
                    <a:pt x="6" y="706"/>
                  </a:lnTo>
                  <a:lnTo>
                    <a:pt x="6" y="721"/>
                  </a:lnTo>
                  <a:lnTo>
                    <a:pt x="6" y="779"/>
                  </a:lnTo>
                  <a:lnTo>
                    <a:pt x="0" y="7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05320" y="5132520"/>
              <a:ext cx="2241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DEALIZED SURFACE PATTE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2400" y="5681520"/>
              <a:ext cx="27000" cy="425520"/>
            </a:xfrm>
            <a:custGeom>
              <a:avLst/>
              <a:gdLst/>
              <a:ahLst/>
              <a:rect l="l" t="t" r="r" b="b"/>
              <a:pathLst>
                <a:path w="17" h="268">
                  <a:moveTo>
                    <a:pt x="16" y="0"/>
                  </a:moveTo>
                  <a:lnTo>
                    <a:pt x="16" y="50"/>
                  </a:lnTo>
                  <a:lnTo>
                    <a:pt x="16" y="7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16" y="137"/>
                  </a:lnTo>
                  <a:lnTo>
                    <a:pt x="8" y="159"/>
                  </a:lnTo>
                  <a:lnTo>
                    <a:pt x="8" y="187"/>
                  </a:lnTo>
                  <a:lnTo>
                    <a:pt x="0" y="202"/>
                  </a:lnTo>
                  <a:lnTo>
                    <a:pt x="0" y="245"/>
                  </a:lnTo>
                  <a:lnTo>
                    <a:pt x="0" y="267"/>
                  </a:lnTo>
                  <a:lnTo>
                    <a:pt x="0" y="2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7008480" y="5564160"/>
              <a:ext cx="34920" cy="480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3200" y="5724360"/>
              <a:ext cx="31680" cy="35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437160" y="2556000"/>
              <a:ext cx="146160" cy="79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927920" y="2589120"/>
              <a:ext cx="101520" cy="123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656400" y="3832200"/>
            <a:ext cx="2131920" cy="2324160"/>
          </a:xfrm>
          <a:custGeom>
            <a:avLst/>
            <a:gdLst/>
            <a:ahLst/>
            <a:rect l="l" t="t" r="r" b="b"/>
            <a:pathLst>
              <a:path w="1343" h="1464">
                <a:moveTo>
                  <a:pt x="52" y="1433"/>
                </a:moveTo>
                <a:lnTo>
                  <a:pt x="52" y="1410"/>
                </a:lnTo>
                <a:lnTo>
                  <a:pt x="52" y="1386"/>
                </a:lnTo>
                <a:lnTo>
                  <a:pt x="52" y="1340"/>
                </a:lnTo>
                <a:lnTo>
                  <a:pt x="52" y="1323"/>
                </a:lnTo>
                <a:lnTo>
                  <a:pt x="52" y="1305"/>
                </a:lnTo>
                <a:lnTo>
                  <a:pt x="52" y="1271"/>
                </a:lnTo>
                <a:lnTo>
                  <a:pt x="52" y="1253"/>
                </a:lnTo>
                <a:lnTo>
                  <a:pt x="52" y="1236"/>
                </a:lnTo>
                <a:lnTo>
                  <a:pt x="52" y="1213"/>
                </a:lnTo>
                <a:lnTo>
                  <a:pt x="52" y="1190"/>
                </a:lnTo>
                <a:lnTo>
                  <a:pt x="52" y="1172"/>
                </a:lnTo>
                <a:lnTo>
                  <a:pt x="52" y="1154"/>
                </a:lnTo>
                <a:lnTo>
                  <a:pt x="52" y="1137"/>
                </a:lnTo>
                <a:lnTo>
                  <a:pt x="52" y="1102"/>
                </a:lnTo>
                <a:lnTo>
                  <a:pt x="52" y="1085"/>
                </a:lnTo>
                <a:lnTo>
                  <a:pt x="52" y="1067"/>
                </a:lnTo>
                <a:lnTo>
                  <a:pt x="52" y="1021"/>
                </a:lnTo>
                <a:lnTo>
                  <a:pt x="52" y="975"/>
                </a:lnTo>
                <a:lnTo>
                  <a:pt x="52" y="929"/>
                </a:lnTo>
                <a:lnTo>
                  <a:pt x="52" y="882"/>
                </a:lnTo>
                <a:lnTo>
                  <a:pt x="52" y="835"/>
                </a:lnTo>
                <a:lnTo>
                  <a:pt x="52" y="800"/>
                </a:lnTo>
                <a:lnTo>
                  <a:pt x="52" y="754"/>
                </a:lnTo>
                <a:lnTo>
                  <a:pt x="52" y="708"/>
                </a:lnTo>
                <a:lnTo>
                  <a:pt x="52" y="673"/>
                </a:lnTo>
                <a:lnTo>
                  <a:pt x="52" y="656"/>
                </a:lnTo>
                <a:lnTo>
                  <a:pt x="52" y="639"/>
                </a:lnTo>
                <a:lnTo>
                  <a:pt x="58" y="604"/>
                </a:lnTo>
                <a:lnTo>
                  <a:pt x="58" y="557"/>
                </a:lnTo>
                <a:lnTo>
                  <a:pt x="58" y="522"/>
                </a:lnTo>
                <a:lnTo>
                  <a:pt x="58" y="505"/>
                </a:lnTo>
                <a:lnTo>
                  <a:pt x="58" y="458"/>
                </a:lnTo>
                <a:lnTo>
                  <a:pt x="58" y="441"/>
                </a:lnTo>
                <a:lnTo>
                  <a:pt x="58" y="424"/>
                </a:lnTo>
                <a:lnTo>
                  <a:pt x="58" y="406"/>
                </a:lnTo>
                <a:lnTo>
                  <a:pt x="52" y="366"/>
                </a:lnTo>
                <a:lnTo>
                  <a:pt x="52" y="319"/>
                </a:lnTo>
                <a:lnTo>
                  <a:pt x="46" y="278"/>
                </a:lnTo>
                <a:lnTo>
                  <a:pt x="35" y="255"/>
                </a:lnTo>
                <a:lnTo>
                  <a:pt x="29" y="238"/>
                </a:lnTo>
                <a:lnTo>
                  <a:pt x="23" y="220"/>
                </a:lnTo>
                <a:lnTo>
                  <a:pt x="12" y="203"/>
                </a:lnTo>
                <a:lnTo>
                  <a:pt x="6" y="185"/>
                </a:lnTo>
                <a:lnTo>
                  <a:pt x="6" y="168"/>
                </a:lnTo>
                <a:lnTo>
                  <a:pt x="6" y="128"/>
                </a:lnTo>
                <a:lnTo>
                  <a:pt x="0" y="81"/>
                </a:lnTo>
                <a:lnTo>
                  <a:pt x="17" y="76"/>
                </a:lnTo>
                <a:lnTo>
                  <a:pt x="35" y="76"/>
                </a:lnTo>
                <a:lnTo>
                  <a:pt x="52" y="81"/>
                </a:lnTo>
                <a:lnTo>
                  <a:pt x="69" y="87"/>
                </a:lnTo>
                <a:lnTo>
                  <a:pt x="87" y="93"/>
                </a:lnTo>
                <a:lnTo>
                  <a:pt x="104" y="105"/>
                </a:lnTo>
                <a:lnTo>
                  <a:pt x="127" y="110"/>
                </a:lnTo>
                <a:lnTo>
                  <a:pt x="174" y="116"/>
                </a:lnTo>
                <a:lnTo>
                  <a:pt x="208" y="122"/>
                </a:lnTo>
                <a:lnTo>
                  <a:pt x="243" y="128"/>
                </a:lnTo>
                <a:lnTo>
                  <a:pt x="266" y="128"/>
                </a:lnTo>
                <a:lnTo>
                  <a:pt x="283" y="128"/>
                </a:lnTo>
                <a:lnTo>
                  <a:pt x="301" y="139"/>
                </a:lnTo>
                <a:lnTo>
                  <a:pt x="324" y="145"/>
                </a:lnTo>
                <a:lnTo>
                  <a:pt x="341" y="145"/>
                </a:lnTo>
                <a:lnTo>
                  <a:pt x="399" y="145"/>
                </a:lnTo>
                <a:lnTo>
                  <a:pt x="416" y="145"/>
                </a:lnTo>
                <a:lnTo>
                  <a:pt x="434" y="145"/>
                </a:lnTo>
                <a:lnTo>
                  <a:pt x="451" y="145"/>
                </a:lnTo>
                <a:lnTo>
                  <a:pt x="469" y="139"/>
                </a:lnTo>
                <a:lnTo>
                  <a:pt x="486" y="139"/>
                </a:lnTo>
                <a:lnTo>
                  <a:pt x="509" y="133"/>
                </a:lnTo>
                <a:lnTo>
                  <a:pt x="555" y="128"/>
                </a:lnTo>
                <a:lnTo>
                  <a:pt x="590" y="122"/>
                </a:lnTo>
                <a:lnTo>
                  <a:pt x="648" y="122"/>
                </a:lnTo>
                <a:lnTo>
                  <a:pt x="665" y="122"/>
                </a:lnTo>
                <a:lnTo>
                  <a:pt x="683" y="122"/>
                </a:lnTo>
                <a:lnTo>
                  <a:pt x="700" y="116"/>
                </a:lnTo>
                <a:lnTo>
                  <a:pt x="816" y="70"/>
                </a:lnTo>
                <a:lnTo>
                  <a:pt x="920" y="58"/>
                </a:lnTo>
                <a:lnTo>
                  <a:pt x="937" y="52"/>
                </a:lnTo>
                <a:lnTo>
                  <a:pt x="954" y="47"/>
                </a:lnTo>
                <a:lnTo>
                  <a:pt x="995" y="47"/>
                </a:lnTo>
                <a:lnTo>
                  <a:pt x="1030" y="35"/>
                </a:lnTo>
                <a:lnTo>
                  <a:pt x="1064" y="29"/>
                </a:lnTo>
                <a:lnTo>
                  <a:pt x="1082" y="24"/>
                </a:lnTo>
                <a:lnTo>
                  <a:pt x="1122" y="18"/>
                </a:lnTo>
                <a:lnTo>
                  <a:pt x="1157" y="6"/>
                </a:lnTo>
                <a:lnTo>
                  <a:pt x="1174" y="0"/>
                </a:lnTo>
                <a:lnTo>
                  <a:pt x="1192" y="0"/>
                </a:lnTo>
                <a:lnTo>
                  <a:pt x="1209" y="0"/>
                </a:lnTo>
                <a:lnTo>
                  <a:pt x="1249" y="0"/>
                </a:lnTo>
                <a:lnTo>
                  <a:pt x="1272" y="12"/>
                </a:lnTo>
                <a:lnTo>
                  <a:pt x="1296" y="29"/>
                </a:lnTo>
                <a:lnTo>
                  <a:pt x="1336" y="52"/>
                </a:lnTo>
                <a:lnTo>
                  <a:pt x="1342" y="70"/>
                </a:lnTo>
                <a:lnTo>
                  <a:pt x="1336" y="87"/>
                </a:lnTo>
                <a:lnTo>
                  <a:pt x="1336" y="105"/>
                </a:lnTo>
                <a:lnTo>
                  <a:pt x="1336" y="122"/>
                </a:lnTo>
                <a:lnTo>
                  <a:pt x="1336" y="145"/>
                </a:lnTo>
                <a:lnTo>
                  <a:pt x="1336" y="162"/>
                </a:lnTo>
                <a:lnTo>
                  <a:pt x="1336" y="180"/>
                </a:lnTo>
                <a:lnTo>
                  <a:pt x="1336" y="197"/>
                </a:lnTo>
                <a:lnTo>
                  <a:pt x="1336" y="220"/>
                </a:lnTo>
                <a:lnTo>
                  <a:pt x="1336" y="243"/>
                </a:lnTo>
                <a:lnTo>
                  <a:pt x="1336" y="290"/>
                </a:lnTo>
                <a:lnTo>
                  <a:pt x="1336" y="314"/>
                </a:lnTo>
                <a:lnTo>
                  <a:pt x="1336" y="366"/>
                </a:lnTo>
                <a:lnTo>
                  <a:pt x="1336" y="412"/>
                </a:lnTo>
                <a:lnTo>
                  <a:pt x="1336" y="429"/>
                </a:lnTo>
                <a:lnTo>
                  <a:pt x="1336" y="487"/>
                </a:lnTo>
                <a:lnTo>
                  <a:pt x="1336" y="505"/>
                </a:lnTo>
                <a:lnTo>
                  <a:pt x="1336" y="522"/>
                </a:lnTo>
                <a:lnTo>
                  <a:pt x="1336" y="539"/>
                </a:lnTo>
                <a:lnTo>
                  <a:pt x="1336" y="610"/>
                </a:lnTo>
                <a:lnTo>
                  <a:pt x="1336" y="627"/>
                </a:lnTo>
                <a:lnTo>
                  <a:pt x="1336" y="644"/>
                </a:lnTo>
                <a:lnTo>
                  <a:pt x="1336" y="702"/>
                </a:lnTo>
                <a:lnTo>
                  <a:pt x="1336" y="725"/>
                </a:lnTo>
                <a:lnTo>
                  <a:pt x="1336" y="795"/>
                </a:lnTo>
                <a:lnTo>
                  <a:pt x="1336" y="841"/>
                </a:lnTo>
                <a:lnTo>
                  <a:pt x="1336" y="882"/>
                </a:lnTo>
                <a:lnTo>
                  <a:pt x="1336" y="929"/>
                </a:lnTo>
                <a:lnTo>
                  <a:pt x="1336" y="963"/>
                </a:lnTo>
                <a:lnTo>
                  <a:pt x="1336" y="981"/>
                </a:lnTo>
                <a:lnTo>
                  <a:pt x="1336" y="1027"/>
                </a:lnTo>
                <a:lnTo>
                  <a:pt x="1336" y="1050"/>
                </a:lnTo>
                <a:lnTo>
                  <a:pt x="1336" y="1096"/>
                </a:lnTo>
                <a:lnTo>
                  <a:pt x="1336" y="1114"/>
                </a:lnTo>
                <a:lnTo>
                  <a:pt x="1336" y="1137"/>
                </a:lnTo>
                <a:lnTo>
                  <a:pt x="1336" y="1184"/>
                </a:lnTo>
                <a:lnTo>
                  <a:pt x="1336" y="1201"/>
                </a:lnTo>
                <a:lnTo>
                  <a:pt x="1336" y="1219"/>
                </a:lnTo>
                <a:lnTo>
                  <a:pt x="1336" y="1236"/>
                </a:lnTo>
                <a:lnTo>
                  <a:pt x="1336" y="1259"/>
                </a:lnTo>
                <a:lnTo>
                  <a:pt x="1336" y="1277"/>
                </a:lnTo>
                <a:lnTo>
                  <a:pt x="1336" y="1294"/>
                </a:lnTo>
                <a:lnTo>
                  <a:pt x="1336" y="1311"/>
                </a:lnTo>
                <a:lnTo>
                  <a:pt x="1336" y="1334"/>
                </a:lnTo>
                <a:lnTo>
                  <a:pt x="1336" y="1381"/>
                </a:lnTo>
                <a:lnTo>
                  <a:pt x="1336" y="1450"/>
                </a:lnTo>
                <a:lnTo>
                  <a:pt x="1330" y="1463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180000">
            <a:off x="6521400" y="3447720"/>
            <a:ext cx="316080" cy="754200"/>
          </a:xfrm>
          <a:prstGeom prst="rect">
            <a:avLst/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232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ells develop east of highest terrain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Cells move slowly north and northwest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redevelopment on southeast or southern flank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heaviest rain falls over a very small are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92520" y="5718240"/>
            <a:ext cx="29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MAL AX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59120" y="2878200"/>
            <a:ext cx="189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ND MOISTURE TONG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5160" y="6357960"/>
            <a:ext cx="493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DOPTED 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6240" y="2503440"/>
            <a:ext cx="421632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84160" y="4595400"/>
            <a:ext cx="217440" cy="128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77520" y="4699080"/>
            <a:ext cx="25236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58640" y="4780080"/>
            <a:ext cx="276480" cy="9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6120" y="4871880"/>
            <a:ext cx="193680" cy="115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44160" y="4849920"/>
            <a:ext cx="160200" cy="81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251000" y="3352680"/>
            <a:ext cx="23760" cy="285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239840" y="3074760"/>
            <a:ext cx="22320" cy="322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7480" y="3581280"/>
            <a:ext cx="311040" cy="1096920"/>
          </a:xfrm>
          <a:custGeom>
            <a:avLst/>
            <a:gdLst/>
            <a:ahLst/>
            <a:rect l="l" t="t" r="r" b="b"/>
            <a:pathLst>
              <a:path w="196" h="691">
                <a:moveTo>
                  <a:pt x="173" y="0"/>
                </a:moveTo>
                <a:lnTo>
                  <a:pt x="195" y="29"/>
                </a:lnTo>
                <a:lnTo>
                  <a:pt x="195" y="44"/>
                </a:lnTo>
                <a:lnTo>
                  <a:pt x="195" y="73"/>
                </a:lnTo>
                <a:lnTo>
                  <a:pt x="195" y="94"/>
                </a:lnTo>
                <a:lnTo>
                  <a:pt x="188" y="109"/>
                </a:lnTo>
                <a:lnTo>
                  <a:pt x="188" y="130"/>
                </a:lnTo>
                <a:lnTo>
                  <a:pt x="188" y="145"/>
                </a:lnTo>
                <a:lnTo>
                  <a:pt x="188" y="167"/>
                </a:lnTo>
                <a:lnTo>
                  <a:pt x="188" y="188"/>
                </a:lnTo>
                <a:lnTo>
                  <a:pt x="188" y="203"/>
                </a:lnTo>
                <a:lnTo>
                  <a:pt x="188" y="224"/>
                </a:lnTo>
                <a:lnTo>
                  <a:pt x="188" y="240"/>
                </a:lnTo>
                <a:lnTo>
                  <a:pt x="188" y="262"/>
                </a:lnTo>
                <a:lnTo>
                  <a:pt x="188" y="283"/>
                </a:lnTo>
                <a:lnTo>
                  <a:pt x="188" y="298"/>
                </a:lnTo>
                <a:lnTo>
                  <a:pt x="195" y="319"/>
                </a:lnTo>
                <a:lnTo>
                  <a:pt x="195" y="334"/>
                </a:lnTo>
                <a:lnTo>
                  <a:pt x="195" y="356"/>
                </a:lnTo>
                <a:lnTo>
                  <a:pt x="195" y="377"/>
                </a:lnTo>
                <a:lnTo>
                  <a:pt x="195" y="392"/>
                </a:lnTo>
                <a:lnTo>
                  <a:pt x="195" y="413"/>
                </a:lnTo>
                <a:lnTo>
                  <a:pt x="188" y="428"/>
                </a:lnTo>
                <a:lnTo>
                  <a:pt x="181" y="457"/>
                </a:lnTo>
                <a:lnTo>
                  <a:pt x="181" y="479"/>
                </a:lnTo>
                <a:lnTo>
                  <a:pt x="173" y="494"/>
                </a:lnTo>
                <a:lnTo>
                  <a:pt x="166" y="516"/>
                </a:lnTo>
                <a:lnTo>
                  <a:pt x="152" y="537"/>
                </a:lnTo>
                <a:lnTo>
                  <a:pt x="144" y="552"/>
                </a:lnTo>
                <a:lnTo>
                  <a:pt x="123" y="573"/>
                </a:lnTo>
                <a:lnTo>
                  <a:pt x="123" y="588"/>
                </a:lnTo>
                <a:lnTo>
                  <a:pt x="108" y="602"/>
                </a:lnTo>
                <a:lnTo>
                  <a:pt x="87" y="617"/>
                </a:lnTo>
                <a:lnTo>
                  <a:pt x="72" y="624"/>
                </a:lnTo>
                <a:lnTo>
                  <a:pt x="58" y="646"/>
                </a:lnTo>
                <a:lnTo>
                  <a:pt x="43" y="653"/>
                </a:lnTo>
                <a:lnTo>
                  <a:pt x="29" y="675"/>
                </a:lnTo>
                <a:lnTo>
                  <a:pt x="14" y="675"/>
                </a:lnTo>
                <a:lnTo>
                  <a:pt x="0" y="690"/>
                </a:lnTo>
                <a:lnTo>
                  <a:pt x="0" y="67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12920" y="5586480"/>
            <a:ext cx="161640" cy="69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50800" y="544788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73000" y="5321160"/>
            <a:ext cx="36684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193760" y="5230800"/>
            <a:ext cx="366840" cy="101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432320"/>
            <a:ext cx="539640" cy="822240"/>
          </a:xfrm>
          <a:custGeom>
            <a:avLst/>
            <a:gdLst/>
            <a:ahLst/>
            <a:rect l="l" t="t" r="r" b="b"/>
            <a:pathLst>
              <a:path w="340" h="518">
                <a:moveTo>
                  <a:pt x="339" y="0"/>
                </a:moveTo>
                <a:lnTo>
                  <a:pt x="339" y="30"/>
                </a:lnTo>
                <a:lnTo>
                  <a:pt x="339" y="46"/>
                </a:lnTo>
                <a:lnTo>
                  <a:pt x="339" y="68"/>
                </a:lnTo>
                <a:lnTo>
                  <a:pt x="339" y="84"/>
                </a:lnTo>
                <a:lnTo>
                  <a:pt x="339" y="106"/>
                </a:lnTo>
                <a:lnTo>
                  <a:pt x="339" y="121"/>
                </a:lnTo>
                <a:lnTo>
                  <a:pt x="332" y="145"/>
                </a:lnTo>
                <a:lnTo>
                  <a:pt x="332" y="174"/>
                </a:lnTo>
                <a:lnTo>
                  <a:pt x="325" y="190"/>
                </a:lnTo>
                <a:lnTo>
                  <a:pt x="318" y="213"/>
                </a:lnTo>
                <a:lnTo>
                  <a:pt x="312" y="235"/>
                </a:lnTo>
                <a:lnTo>
                  <a:pt x="304" y="251"/>
                </a:lnTo>
                <a:lnTo>
                  <a:pt x="304" y="273"/>
                </a:lnTo>
                <a:lnTo>
                  <a:pt x="284" y="296"/>
                </a:lnTo>
                <a:lnTo>
                  <a:pt x="276" y="312"/>
                </a:lnTo>
                <a:lnTo>
                  <a:pt x="270" y="341"/>
                </a:lnTo>
                <a:lnTo>
                  <a:pt x="256" y="364"/>
                </a:lnTo>
                <a:lnTo>
                  <a:pt x="248" y="380"/>
                </a:lnTo>
                <a:lnTo>
                  <a:pt x="228" y="402"/>
                </a:lnTo>
                <a:lnTo>
                  <a:pt x="222" y="418"/>
                </a:lnTo>
                <a:lnTo>
                  <a:pt x="207" y="425"/>
                </a:lnTo>
                <a:lnTo>
                  <a:pt x="194" y="448"/>
                </a:lnTo>
                <a:lnTo>
                  <a:pt x="180" y="456"/>
                </a:lnTo>
                <a:lnTo>
                  <a:pt x="152" y="463"/>
                </a:lnTo>
                <a:lnTo>
                  <a:pt x="138" y="479"/>
                </a:lnTo>
                <a:lnTo>
                  <a:pt x="124" y="486"/>
                </a:lnTo>
                <a:lnTo>
                  <a:pt x="104" y="501"/>
                </a:lnTo>
                <a:lnTo>
                  <a:pt x="83" y="501"/>
                </a:lnTo>
                <a:lnTo>
                  <a:pt x="42" y="508"/>
                </a:lnTo>
                <a:lnTo>
                  <a:pt x="0" y="517"/>
                </a:lnTo>
                <a:lnTo>
                  <a:pt x="14" y="51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19320" y="3281400"/>
            <a:ext cx="412920" cy="323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9840" y="2556000"/>
            <a:ext cx="528480" cy="600120"/>
          </a:xfrm>
          <a:custGeom>
            <a:avLst/>
            <a:gdLst/>
            <a:ahLst/>
            <a:rect l="l" t="t" r="r" b="b"/>
            <a:pathLst>
              <a:path w="333" h="378">
                <a:moveTo>
                  <a:pt x="332" y="0"/>
                </a:moveTo>
                <a:lnTo>
                  <a:pt x="296" y="7"/>
                </a:lnTo>
                <a:lnTo>
                  <a:pt x="282" y="22"/>
                </a:lnTo>
                <a:lnTo>
                  <a:pt x="267" y="22"/>
                </a:lnTo>
                <a:lnTo>
                  <a:pt x="246" y="36"/>
                </a:lnTo>
                <a:lnTo>
                  <a:pt x="231" y="51"/>
                </a:lnTo>
                <a:lnTo>
                  <a:pt x="210" y="65"/>
                </a:lnTo>
                <a:lnTo>
                  <a:pt x="195" y="72"/>
                </a:lnTo>
                <a:lnTo>
                  <a:pt x="173" y="87"/>
                </a:lnTo>
                <a:lnTo>
                  <a:pt x="152" y="108"/>
                </a:lnTo>
                <a:lnTo>
                  <a:pt x="144" y="123"/>
                </a:lnTo>
                <a:lnTo>
                  <a:pt x="123" y="137"/>
                </a:lnTo>
                <a:lnTo>
                  <a:pt x="116" y="152"/>
                </a:lnTo>
                <a:lnTo>
                  <a:pt x="101" y="166"/>
                </a:lnTo>
                <a:lnTo>
                  <a:pt x="87" y="181"/>
                </a:lnTo>
                <a:lnTo>
                  <a:pt x="65" y="202"/>
                </a:lnTo>
                <a:lnTo>
                  <a:pt x="58" y="217"/>
                </a:lnTo>
                <a:lnTo>
                  <a:pt x="43" y="239"/>
                </a:lnTo>
                <a:lnTo>
                  <a:pt x="29" y="260"/>
                </a:lnTo>
                <a:lnTo>
                  <a:pt x="29" y="275"/>
                </a:lnTo>
                <a:lnTo>
                  <a:pt x="22" y="296"/>
                </a:lnTo>
                <a:lnTo>
                  <a:pt x="22" y="311"/>
                </a:lnTo>
                <a:lnTo>
                  <a:pt x="7" y="325"/>
                </a:lnTo>
                <a:lnTo>
                  <a:pt x="7" y="340"/>
                </a:lnTo>
                <a:lnTo>
                  <a:pt x="7" y="361"/>
                </a:lnTo>
                <a:lnTo>
                  <a:pt x="0" y="3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867040"/>
            <a:ext cx="677880" cy="1627200"/>
          </a:xfrm>
          <a:custGeom>
            <a:avLst/>
            <a:gdLst/>
            <a:ahLst/>
            <a:rect l="l" t="t" r="r" b="b"/>
            <a:pathLst>
              <a:path w="427" h="1025">
                <a:moveTo>
                  <a:pt x="426" y="15"/>
                </a:moveTo>
                <a:lnTo>
                  <a:pt x="361" y="15"/>
                </a:lnTo>
                <a:lnTo>
                  <a:pt x="339" y="7"/>
                </a:lnTo>
                <a:lnTo>
                  <a:pt x="318" y="7"/>
                </a:lnTo>
                <a:lnTo>
                  <a:pt x="303" y="7"/>
                </a:lnTo>
                <a:lnTo>
                  <a:pt x="180" y="0"/>
                </a:lnTo>
                <a:lnTo>
                  <a:pt x="144" y="15"/>
                </a:lnTo>
                <a:lnTo>
                  <a:pt x="123" y="29"/>
                </a:lnTo>
                <a:lnTo>
                  <a:pt x="108" y="36"/>
                </a:lnTo>
                <a:lnTo>
                  <a:pt x="101" y="51"/>
                </a:lnTo>
                <a:lnTo>
                  <a:pt x="79" y="58"/>
                </a:lnTo>
                <a:lnTo>
                  <a:pt x="72" y="80"/>
                </a:lnTo>
                <a:lnTo>
                  <a:pt x="57" y="87"/>
                </a:lnTo>
                <a:lnTo>
                  <a:pt x="43" y="109"/>
                </a:lnTo>
                <a:lnTo>
                  <a:pt x="29" y="130"/>
                </a:lnTo>
                <a:lnTo>
                  <a:pt x="14" y="145"/>
                </a:lnTo>
                <a:lnTo>
                  <a:pt x="14" y="166"/>
                </a:lnTo>
                <a:lnTo>
                  <a:pt x="14" y="188"/>
                </a:lnTo>
                <a:lnTo>
                  <a:pt x="14" y="211"/>
                </a:lnTo>
                <a:lnTo>
                  <a:pt x="7" y="240"/>
                </a:lnTo>
                <a:lnTo>
                  <a:pt x="7" y="261"/>
                </a:lnTo>
                <a:lnTo>
                  <a:pt x="7" y="276"/>
                </a:lnTo>
                <a:lnTo>
                  <a:pt x="0" y="312"/>
                </a:lnTo>
                <a:lnTo>
                  <a:pt x="0" y="334"/>
                </a:lnTo>
                <a:lnTo>
                  <a:pt x="0" y="355"/>
                </a:lnTo>
                <a:lnTo>
                  <a:pt x="7" y="377"/>
                </a:lnTo>
                <a:lnTo>
                  <a:pt x="7" y="399"/>
                </a:lnTo>
                <a:lnTo>
                  <a:pt x="7" y="421"/>
                </a:lnTo>
                <a:lnTo>
                  <a:pt x="14" y="443"/>
                </a:lnTo>
                <a:lnTo>
                  <a:pt x="21" y="458"/>
                </a:lnTo>
                <a:lnTo>
                  <a:pt x="29" y="479"/>
                </a:lnTo>
                <a:lnTo>
                  <a:pt x="36" y="501"/>
                </a:lnTo>
                <a:lnTo>
                  <a:pt x="36" y="523"/>
                </a:lnTo>
                <a:lnTo>
                  <a:pt x="43" y="544"/>
                </a:lnTo>
                <a:lnTo>
                  <a:pt x="43" y="559"/>
                </a:lnTo>
                <a:lnTo>
                  <a:pt x="57" y="580"/>
                </a:lnTo>
                <a:lnTo>
                  <a:pt x="57" y="595"/>
                </a:lnTo>
                <a:lnTo>
                  <a:pt x="65" y="618"/>
                </a:lnTo>
                <a:lnTo>
                  <a:pt x="65" y="639"/>
                </a:lnTo>
                <a:lnTo>
                  <a:pt x="65" y="654"/>
                </a:lnTo>
                <a:lnTo>
                  <a:pt x="72" y="675"/>
                </a:lnTo>
                <a:lnTo>
                  <a:pt x="79" y="690"/>
                </a:lnTo>
                <a:lnTo>
                  <a:pt x="86" y="712"/>
                </a:lnTo>
                <a:lnTo>
                  <a:pt x="94" y="733"/>
                </a:lnTo>
                <a:lnTo>
                  <a:pt x="94" y="748"/>
                </a:lnTo>
                <a:lnTo>
                  <a:pt x="101" y="769"/>
                </a:lnTo>
                <a:lnTo>
                  <a:pt x="101" y="784"/>
                </a:lnTo>
                <a:lnTo>
                  <a:pt x="108" y="806"/>
                </a:lnTo>
                <a:lnTo>
                  <a:pt x="115" y="828"/>
                </a:lnTo>
                <a:lnTo>
                  <a:pt x="123" y="843"/>
                </a:lnTo>
                <a:lnTo>
                  <a:pt x="123" y="864"/>
                </a:lnTo>
                <a:lnTo>
                  <a:pt x="123" y="879"/>
                </a:lnTo>
                <a:lnTo>
                  <a:pt x="130" y="900"/>
                </a:lnTo>
                <a:lnTo>
                  <a:pt x="130" y="915"/>
                </a:lnTo>
                <a:lnTo>
                  <a:pt x="130" y="937"/>
                </a:lnTo>
                <a:lnTo>
                  <a:pt x="137" y="958"/>
                </a:lnTo>
                <a:lnTo>
                  <a:pt x="137" y="973"/>
                </a:lnTo>
                <a:lnTo>
                  <a:pt x="144" y="994"/>
                </a:lnTo>
                <a:lnTo>
                  <a:pt x="144" y="1009"/>
                </a:lnTo>
                <a:lnTo>
                  <a:pt x="151" y="102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25960" y="3005280"/>
            <a:ext cx="1103040" cy="726840"/>
          </a:xfrm>
          <a:custGeom>
            <a:avLst/>
            <a:gdLst/>
            <a:ahLst/>
            <a:rect l="l" t="t" r="r" b="b"/>
            <a:pathLst>
              <a:path w="695" h="458">
                <a:moveTo>
                  <a:pt x="0" y="0"/>
                </a:moveTo>
                <a:lnTo>
                  <a:pt x="29" y="14"/>
                </a:lnTo>
                <a:lnTo>
                  <a:pt x="36" y="29"/>
                </a:lnTo>
                <a:lnTo>
                  <a:pt x="50" y="51"/>
                </a:lnTo>
                <a:lnTo>
                  <a:pt x="65" y="65"/>
                </a:lnTo>
                <a:lnTo>
                  <a:pt x="94" y="94"/>
                </a:lnTo>
                <a:lnTo>
                  <a:pt x="115" y="108"/>
                </a:lnTo>
                <a:lnTo>
                  <a:pt x="123" y="123"/>
                </a:lnTo>
                <a:lnTo>
                  <a:pt x="144" y="144"/>
                </a:lnTo>
                <a:lnTo>
                  <a:pt x="152" y="159"/>
                </a:lnTo>
                <a:lnTo>
                  <a:pt x="173" y="173"/>
                </a:lnTo>
                <a:lnTo>
                  <a:pt x="180" y="188"/>
                </a:lnTo>
                <a:lnTo>
                  <a:pt x="195" y="202"/>
                </a:lnTo>
                <a:lnTo>
                  <a:pt x="209" y="217"/>
                </a:lnTo>
                <a:lnTo>
                  <a:pt x="224" y="232"/>
                </a:lnTo>
                <a:lnTo>
                  <a:pt x="238" y="254"/>
                </a:lnTo>
                <a:lnTo>
                  <a:pt x="253" y="268"/>
                </a:lnTo>
                <a:lnTo>
                  <a:pt x="267" y="283"/>
                </a:lnTo>
                <a:lnTo>
                  <a:pt x="282" y="283"/>
                </a:lnTo>
                <a:lnTo>
                  <a:pt x="296" y="305"/>
                </a:lnTo>
                <a:lnTo>
                  <a:pt x="318" y="312"/>
                </a:lnTo>
                <a:lnTo>
                  <a:pt x="347" y="326"/>
                </a:lnTo>
                <a:lnTo>
                  <a:pt x="405" y="341"/>
                </a:lnTo>
                <a:lnTo>
                  <a:pt x="426" y="348"/>
                </a:lnTo>
                <a:lnTo>
                  <a:pt x="441" y="355"/>
                </a:lnTo>
                <a:lnTo>
                  <a:pt x="462" y="370"/>
                </a:lnTo>
                <a:lnTo>
                  <a:pt x="477" y="370"/>
                </a:lnTo>
                <a:lnTo>
                  <a:pt x="506" y="384"/>
                </a:lnTo>
                <a:lnTo>
                  <a:pt x="527" y="398"/>
                </a:lnTo>
                <a:lnTo>
                  <a:pt x="542" y="398"/>
                </a:lnTo>
                <a:lnTo>
                  <a:pt x="556" y="413"/>
                </a:lnTo>
                <a:lnTo>
                  <a:pt x="571" y="413"/>
                </a:lnTo>
                <a:lnTo>
                  <a:pt x="593" y="420"/>
                </a:lnTo>
                <a:lnTo>
                  <a:pt x="621" y="427"/>
                </a:lnTo>
                <a:lnTo>
                  <a:pt x="636" y="427"/>
                </a:lnTo>
                <a:lnTo>
                  <a:pt x="658" y="435"/>
                </a:lnTo>
                <a:lnTo>
                  <a:pt x="687" y="442"/>
                </a:lnTo>
                <a:lnTo>
                  <a:pt x="694" y="45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52600" y="2890800"/>
            <a:ext cx="24120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48080" y="2970360"/>
            <a:ext cx="30960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46520" y="3132000"/>
            <a:ext cx="241200" cy="220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60640" y="2809800"/>
            <a:ext cx="31104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97120" y="2660760"/>
            <a:ext cx="29844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2444760" y="2567160"/>
            <a:ext cx="263520" cy="117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2134800" y="2518920"/>
            <a:ext cx="320760" cy="73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950840" y="2533680"/>
            <a:ext cx="206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709280" y="2533680"/>
            <a:ext cx="252360" cy="33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08040" y="5943600"/>
            <a:ext cx="127080" cy="114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11360" y="5876640"/>
            <a:ext cx="21888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06480" y="5803920"/>
            <a:ext cx="333360" cy="84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04920" y="5724360"/>
            <a:ext cx="3794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60600" y="5668920"/>
            <a:ext cx="344520" cy="68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893960" y="5493960"/>
            <a:ext cx="195120" cy="174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054160" y="5078520"/>
            <a:ext cx="263520" cy="45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284200" y="4584600"/>
            <a:ext cx="160200" cy="554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433600" y="4354560"/>
            <a:ext cx="22320" cy="230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3760" y="4133880"/>
            <a:ext cx="8100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4720" y="3767040"/>
            <a:ext cx="149040" cy="40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181240" y="3560760"/>
            <a:ext cx="2232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170080" y="3467160"/>
            <a:ext cx="33480" cy="149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214360" y="3363840"/>
            <a:ext cx="115560" cy="103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73400" y="3352680"/>
            <a:ext cx="171360" cy="44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09840" y="3352680"/>
            <a:ext cx="149040" cy="20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2000" y="3373560"/>
            <a:ext cx="447480" cy="198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3400" y="3560760"/>
            <a:ext cx="482760" cy="320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7320" y="3594240"/>
            <a:ext cx="298440" cy="136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60840" y="3719520"/>
            <a:ext cx="34452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59280" y="3835440"/>
            <a:ext cx="311040" cy="57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28920" y="385920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49680" y="3998880"/>
            <a:ext cx="26352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44800" y="4067280"/>
            <a:ext cx="412920" cy="79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708280" y="5668920"/>
            <a:ext cx="115920" cy="333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697120" y="5414760"/>
            <a:ext cx="2376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697120" y="4987800"/>
            <a:ext cx="57240" cy="449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743200" y="4527720"/>
            <a:ext cx="160200" cy="50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03400" y="4319280"/>
            <a:ext cx="18432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76560" y="4308480"/>
            <a:ext cx="195120" cy="46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25960" y="4308480"/>
            <a:ext cx="458640" cy="114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16200" y="4411800"/>
            <a:ext cx="505080" cy="10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82800" y="5575320"/>
            <a:ext cx="22320" cy="28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1760" y="4238640"/>
            <a:ext cx="241200" cy="34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8240" y="4308480"/>
            <a:ext cx="208080" cy="46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01600" y="4422600"/>
            <a:ext cx="263520" cy="1051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00040" y="4630680"/>
            <a:ext cx="217800" cy="184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41600" y="4861080"/>
            <a:ext cx="149040" cy="264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01800" y="5230800"/>
            <a:ext cx="69840" cy="2430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434960" y="2603160"/>
            <a:ext cx="298440" cy="11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584360" y="2614680"/>
            <a:ext cx="138240" cy="2077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606680" y="2728440"/>
            <a:ext cx="25236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67960" y="2719440"/>
            <a:ext cx="79560" cy="239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744560" y="2855880"/>
            <a:ext cx="320760" cy="114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951200" y="2878200"/>
            <a:ext cx="80640" cy="2538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951200" y="3026880"/>
            <a:ext cx="230040" cy="93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077560" y="3038400"/>
            <a:ext cx="5580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77920" y="3177720"/>
            <a:ext cx="239760" cy="1033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236320" y="3201840"/>
            <a:ext cx="58680" cy="2415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203560" y="3397320"/>
            <a:ext cx="252360" cy="47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352600" y="3384720"/>
            <a:ext cx="69840" cy="209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352600" y="3512880"/>
            <a:ext cx="20628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502000" y="3524400"/>
            <a:ext cx="56880" cy="1951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502000" y="3651120"/>
            <a:ext cx="218880" cy="46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82640" y="3662280"/>
            <a:ext cx="137880" cy="208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583000" y="3835080"/>
            <a:ext cx="252360" cy="34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85600" y="3848040"/>
            <a:ext cx="1256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97120" y="3962520"/>
            <a:ext cx="241200" cy="56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824200" y="3975120"/>
            <a:ext cx="79200" cy="1713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835360" y="4089240"/>
            <a:ext cx="206280" cy="446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37960" y="4102200"/>
            <a:ext cx="81000" cy="2174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949480" y="4284720"/>
            <a:ext cx="344520" cy="23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110040" y="4284720"/>
            <a:ext cx="149040" cy="2318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122640" y="4411440"/>
            <a:ext cx="298440" cy="104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271680" y="4432320"/>
            <a:ext cx="11448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9440" y="33717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2320" y="37544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14400" y="35020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87480" y="40132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35000" y="36813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17720" y="39038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76400" y="408132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536920" y="4652640"/>
            <a:ext cx="722160" cy="39204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2203560" y="4330800"/>
            <a:ext cx="379440" cy="3571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1985760" y="3962520"/>
            <a:ext cx="252360" cy="4032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638160" y="3892680"/>
            <a:ext cx="722520" cy="2095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71680" y="4089240"/>
            <a:ext cx="424080" cy="1954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835360" y="4262400"/>
            <a:ext cx="458640" cy="1382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513160" y="4365720"/>
            <a:ext cx="357120" cy="568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329920" y="4330800"/>
            <a:ext cx="228600" cy="69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170080" y="4157280"/>
            <a:ext cx="193680" cy="1969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065320" y="3696840"/>
            <a:ext cx="115920" cy="4827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021040" y="3363480"/>
            <a:ext cx="33120" cy="366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1905120" y="3234960"/>
            <a:ext cx="102960" cy="1494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1744560" y="3177720"/>
            <a:ext cx="18432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1709280" y="3191040"/>
            <a:ext cx="252360" cy="1029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460000">
            <a:off x="3483000" y="4106880"/>
            <a:ext cx="182520" cy="19368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880000">
            <a:off x="2833560" y="432900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280000">
            <a:off x="4020840" y="389736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95480" y="344340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47760" y="404496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840" y="3768840"/>
            <a:ext cx="16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00 M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4360" y="39402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7360" y="3914640"/>
            <a:ext cx="1020600" cy="26532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639520" y="4157640"/>
            <a:ext cx="505080" cy="6984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2214720" y="4067280"/>
            <a:ext cx="460080" cy="149040"/>
          </a:xfrm>
          <a:prstGeom prst="line">
            <a:avLst/>
          </a:prstGeom>
          <a:ln w="101520">
            <a:solidFill>
              <a:srgbClr val="99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35360" y="541980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949480" y="4883040"/>
            <a:ext cx="11160" cy="44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6040" y="2660760"/>
            <a:ext cx="159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LOW LEVEL J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5160" y="3306600"/>
            <a:ext cx="20628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680" y="3079800"/>
            <a:ext cx="1461960" cy="2967120"/>
          </a:xfrm>
          <a:custGeom>
            <a:avLst/>
            <a:gdLst/>
            <a:ahLst/>
            <a:rect l="l" t="t" r="r" b="b"/>
            <a:pathLst>
              <a:path w="921" h="1869">
                <a:moveTo>
                  <a:pt x="238" y="1799"/>
                </a:moveTo>
                <a:lnTo>
                  <a:pt x="238" y="1735"/>
                </a:lnTo>
                <a:lnTo>
                  <a:pt x="168" y="1174"/>
                </a:lnTo>
                <a:lnTo>
                  <a:pt x="168" y="1157"/>
                </a:lnTo>
                <a:lnTo>
                  <a:pt x="24" y="769"/>
                </a:lnTo>
                <a:lnTo>
                  <a:pt x="24" y="752"/>
                </a:lnTo>
                <a:lnTo>
                  <a:pt x="0" y="428"/>
                </a:lnTo>
                <a:lnTo>
                  <a:pt x="12" y="168"/>
                </a:lnTo>
                <a:lnTo>
                  <a:pt x="122" y="0"/>
                </a:lnTo>
                <a:lnTo>
                  <a:pt x="469" y="237"/>
                </a:lnTo>
                <a:lnTo>
                  <a:pt x="579" y="717"/>
                </a:lnTo>
                <a:lnTo>
                  <a:pt x="602" y="816"/>
                </a:lnTo>
                <a:lnTo>
                  <a:pt x="845" y="1423"/>
                </a:lnTo>
                <a:lnTo>
                  <a:pt x="845" y="1440"/>
                </a:lnTo>
                <a:lnTo>
                  <a:pt x="891" y="1654"/>
                </a:lnTo>
                <a:lnTo>
                  <a:pt x="891" y="1706"/>
                </a:lnTo>
                <a:lnTo>
                  <a:pt x="891" y="1741"/>
                </a:lnTo>
                <a:lnTo>
                  <a:pt x="885" y="1799"/>
                </a:lnTo>
                <a:lnTo>
                  <a:pt x="885" y="1833"/>
                </a:lnTo>
                <a:lnTo>
                  <a:pt x="920" y="1787"/>
                </a:lnTo>
                <a:lnTo>
                  <a:pt x="914" y="1804"/>
                </a:lnTo>
                <a:lnTo>
                  <a:pt x="891" y="1868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40000">
            <a:off x="1943640" y="5687640"/>
            <a:ext cx="1001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88120" y="33814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THREA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748200" y="3686040"/>
            <a:ext cx="623880" cy="24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42040" y="446580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vast majority of front range events occur during the late July and early August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4645080" y="1790640"/>
          <a:ext cx="4370400" cy="33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5080" y="1790640"/>
                    <a:ext cx="43704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219240" y="1811160"/>
          <a:ext cx="4233600" cy="335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1811160"/>
                    <a:ext cx="42336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430200" y="5430960"/>
            <a:ext cx="866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d take place during the late afternoon and early evening (2 PM-8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389640" y="3960720"/>
            <a:ext cx="385920" cy="376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3096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7040" y="1755720"/>
            <a:ext cx="3897360" cy="4172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560" y="3778200"/>
            <a:ext cx="3354480" cy="1754280"/>
          </a:xfrm>
          <a:custGeom>
            <a:avLst/>
            <a:gdLst/>
            <a:ahLst/>
            <a:rect l="l" t="t" r="r" b="b"/>
            <a:pathLst>
              <a:path w="2113" h="1105">
                <a:moveTo>
                  <a:pt x="1435" y="1098"/>
                </a:moveTo>
                <a:lnTo>
                  <a:pt x="1406" y="1098"/>
                </a:lnTo>
                <a:lnTo>
                  <a:pt x="1389" y="1098"/>
                </a:lnTo>
                <a:lnTo>
                  <a:pt x="1371" y="1098"/>
                </a:lnTo>
                <a:lnTo>
                  <a:pt x="1354" y="1098"/>
                </a:lnTo>
                <a:lnTo>
                  <a:pt x="1331" y="1098"/>
                </a:lnTo>
                <a:lnTo>
                  <a:pt x="1313" y="1098"/>
                </a:lnTo>
                <a:lnTo>
                  <a:pt x="1290" y="1098"/>
                </a:lnTo>
                <a:lnTo>
                  <a:pt x="1273" y="1098"/>
                </a:lnTo>
                <a:lnTo>
                  <a:pt x="1227" y="1098"/>
                </a:lnTo>
                <a:lnTo>
                  <a:pt x="1180" y="1098"/>
                </a:lnTo>
                <a:lnTo>
                  <a:pt x="1134" y="1098"/>
                </a:lnTo>
                <a:lnTo>
                  <a:pt x="1088" y="1098"/>
                </a:lnTo>
                <a:lnTo>
                  <a:pt x="1053" y="1098"/>
                </a:lnTo>
                <a:lnTo>
                  <a:pt x="1036" y="1098"/>
                </a:lnTo>
                <a:lnTo>
                  <a:pt x="1013" y="1098"/>
                </a:lnTo>
                <a:lnTo>
                  <a:pt x="978" y="1098"/>
                </a:lnTo>
                <a:lnTo>
                  <a:pt x="932" y="1104"/>
                </a:lnTo>
                <a:lnTo>
                  <a:pt x="874" y="1104"/>
                </a:lnTo>
                <a:lnTo>
                  <a:pt x="828" y="1104"/>
                </a:lnTo>
                <a:lnTo>
                  <a:pt x="793" y="1104"/>
                </a:lnTo>
                <a:lnTo>
                  <a:pt x="747" y="1104"/>
                </a:lnTo>
                <a:lnTo>
                  <a:pt x="712" y="1098"/>
                </a:lnTo>
                <a:lnTo>
                  <a:pt x="666" y="1098"/>
                </a:lnTo>
                <a:lnTo>
                  <a:pt x="648" y="1098"/>
                </a:lnTo>
                <a:lnTo>
                  <a:pt x="631" y="1093"/>
                </a:lnTo>
                <a:lnTo>
                  <a:pt x="614" y="1087"/>
                </a:lnTo>
                <a:lnTo>
                  <a:pt x="596" y="1075"/>
                </a:lnTo>
                <a:lnTo>
                  <a:pt x="579" y="1064"/>
                </a:lnTo>
                <a:lnTo>
                  <a:pt x="562" y="1064"/>
                </a:lnTo>
                <a:lnTo>
                  <a:pt x="544" y="1064"/>
                </a:lnTo>
                <a:lnTo>
                  <a:pt x="527" y="1064"/>
                </a:lnTo>
                <a:lnTo>
                  <a:pt x="509" y="1064"/>
                </a:lnTo>
                <a:lnTo>
                  <a:pt x="486" y="1058"/>
                </a:lnTo>
                <a:lnTo>
                  <a:pt x="469" y="1058"/>
                </a:lnTo>
                <a:lnTo>
                  <a:pt x="452" y="1058"/>
                </a:lnTo>
                <a:lnTo>
                  <a:pt x="434" y="1052"/>
                </a:lnTo>
                <a:lnTo>
                  <a:pt x="417" y="1052"/>
                </a:lnTo>
                <a:lnTo>
                  <a:pt x="394" y="1052"/>
                </a:lnTo>
                <a:lnTo>
                  <a:pt x="376" y="1052"/>
                </a:lnTo>
                <a:lnTo>
                  <a:pt x="359" y="1052"/>
                </a:lnTo>
                <a:lnTo>
                  <a:pt x="324" y="1052"/>
                </a:lnTo>
                <a:lnTo>
                  <a:pt x="301" y="1046"/>
                </a:lnTo>
                <a:lnTo>
                  <a:pt x="284" y="1041"/>
                </a:lnTo>
                <a:lnTo>
                  <a:pt x="267" y="1035"/>
                </a:lnTo>
                <a:lnTo>
                  <a:pt x="249" y="1035"/>
                </a:lnTo>
                <a:lnTo>
                  <a:pt x="226" y="1023"/>
                </a:lnTo>
                <a:lnTo>
                  <a:pt x="209" y="1017"/>
                </a:lnTo>
                <a:lnTo>
                  <a:pt x="197" y="1000"/>
                </a:lnTo>
                <a:lnTo>
                  <a:pt x="180" y="983"/>
                </a:lnTo>
                <a:lnTo>
                  <a:pt x="162" y="965"/>
                </a:lnTo>
                <a:lnTo>
                  <a:pt x="151" y="948"/>
                </a:lnTo>
                <a:lnTo>
                  <a:pt x="134" y="942"/>
                </a:lnTo>
                <a:lnTo>
                  <a:pt x="122" y="925"/>
                </a:lnTo>
                <a:lnTo>
                  <a:pt x="105" y="908"/>
                </a:lnTo>
                <a:lnTo>
                  <a:pt x="87" y="890"/>
                </a:lnTo>
                <a:lnTo>
                  <a:pt x="70" y="873"/>
                </a:lnTo>
                <a:lnTo>
                  <a:pt x="53" y="861"/>
                </a:lnTo>
                <a:lnTo>
                  <a:pt x="35" y="844"/>
                </a:lnTo>
                <a:lnTo>
                  <a:pt x="29" y="827"/>
                </a:lnTo>
                <a:lnTo>
                  <a:pt x="12" y="804"/>
                </a:lnTo>
                <a:lnTo>
                  <a:pt x="6" y="780"/>
                </a:lnTo>
                <a:lnTo>
                  <a:pt x="0" y="757"/>
                </a:lnTo>
                <a:lnTo>
                  <a:pt x="0" y="734"/>
                </a:lnTo>
                <a:lnTo>
                  <a:pt x="0" y="711"/>
                </a:lnTo>
                <a:lnTo>
                  <a:pt x="12" y="694"/>
                </a:lnTo>
                <a:lnTo>
                  <a:pt x="12" y="676"/>
                </a:lnTo>
                <a:lnTo>
                  <a:pt x="12" y="659"/>
                </a:lnTo>
                <a:lnTo>
                  <a:pt x="18" y="642"/>
                </a:lnTo>
                <a:lnTo>
                  <a:pt x="24" y="624"/>
                </a:lnTo>
                <a:lnTo>
                  <a:pt x="41" y="607"/>
                </a:lnTo>
                <a:lnTo>
                  <a:pt x="53" y="590"/>
                </a:lnTo>
                <a:lnTo>
                  <a:pt x="76" y="566"/>
                </a:lnTo>
                <a:lnTo>
                  <a:pt x="93" y="555"/>
                </a:lnTo>
                <a:lnTo>
                  <a:pt x="110" y="538"/>
                </a:lnTo>
                <a:lnTo>
                  <a:pt x="128" y="485"/>
                </a:lnTo>
                <a:lnTo>
                  <a:pt x="134" y="451"/>
                </a:lnTo>
                <a:lnTo>
                  <a:pt x="151" y="433"/>
                </a:lnTo>
                <a:lnTo>
                  <a:pt x="174" y="422"/>
                </a:lnTo>
                <a:lnTo>
                  <a:pt x="209" y="422"/>
                </a:lnTo>
                <a:lnTo>
                  <a:pt x="226" y="422"/>
                </a:lnTo>
                <a:lnTo>
                  <a:pt x="243" y="416"/>
                </a:lnTo>
                <a:lnTo>
                  <a:pt x="261" y="405"/>
                </a:lnTo>
                <a:lnTo>
                  <a:pt x="278" y="399"/>
                </a:lnTo>
                <a:lnTo>
                  <a:pt x="295" y="393"/>
                </a:lnTo>
                <a:lnTo>
                  <a:pt x="313" y="387"/>
                </a:lnTo>
                <a:lnTo>
                  <a:pt x="330" y="381"/>
                </a:lnTo>
                <a:lnTo>
                  <a:pt x="348" y="376"/>
                </a:lnTo>
                <a:lnTo>
                  <a:pt x="365" y="370"/>
                </a:lnTo>
                <a:lnTo>
                  <a:pt x="382" y="364"/>
                </a:lnTo>
                <a:lnTo>
                  <a:pt x="400" y="352"/>
                </a:lnTo>
                <a:lnTo>
                  <a:pt x="417" y="341"/>
                </a:lnTo>
                <a:lnTo>
                  <a:pt x="434" y="329"/>
                </a:lnTo>
                <a:lnTo>
                  <a:pt x="452" y="312"/>
                </a:lnTo>
                <a:lnTo>
                  <a:pt x="469" y="300"/>
                </a:lnTo>
                <a:lnTo>
                  <a:pt x="486" y="295"/>
                </a:lnTo>
                <a:lnTo>
                  <a:pt x="504" y="283"/>
                </a:lnTo>
                <a:lnTo>
                  <a:pt x="521" y="283"/>
                </a:lnTo>
                <a:lnTo>
                  <a:pt x="538" y="277"/>
                </a:lnTo>
                <a:lnTo>
                  <a:pt x="556" y="266"/>
                </a:lnTo>
                <a:lnTo>
                  <a:pt x="567" y="248"/>
                </a:lnTo>
                <a:lnTo>
                  <a:pt x="585" y="237"/>
                </a:lnTo>
                <a:lnTo>
                  <a:pt x="596" y="219"/>
                </a:lnTo>
                <a:lnTo>
                  <a:pt x="608" y="202"/>
                </a:lnTo>
                <a:lnTo>
                  <a:pt x="619" y="179"/>
                </a:lnTo>
                <a:lnTo>
                  <a:pt x="631" y="162"/>
                </a:lnTo>
                <a:lnTo>
                  <a:pt x="643" y="144"/>
                </a:lnTo>
                <a:lnTo>
                  <a:pt x="654" y="127"/>
                </a:lnTo>
                <a:lnTo>
                  <a:pt x="666" y="110"/>
                </a:lnTo>
                <a:lnTo>
                  <a:pt x="683" y="98"/>
                </a:lnTo>
                <a:lnTo>
                  <a:pt x="700" y="86"/>
                </a:lnTo>
                <a:lnTo>
                  <a:pt x="724" y="69"/>
                </a:lnTo>
                <a:lnTo>
                  <a:pt x="741" y="52"/>
                </a:lnTo>
                <a:lnTo>
                  <a:pt x="752" y="34"/>
                </a:lnTo>
                <a:lnTo>
                  <a:pt x="776" y="17"/>
                </a:lnTo>
                <a:lnTo>
                  <a:pt x="793" y="6"/>
                </a:lnTo>
                <a:lnTo>
                  <a:pt x="810" y="6"/>
                </a:lnTo>
                <a:lnTo>
                  <a:pt x="833" y="11"/>
                </a:lnTo>
                <a:lnTo>
                  <a:pt x="851" y="0"/>
                </a:lnTo>
                <a:lnTo>
                  <a:pt x="868" y="6"/>
                </a:lnTo>
                <a:lnTo>
                  <a:pt x="885" y="46"/>
                </a:lnTo>
                <a:lnTo>
                  <a:pt x="897" y="63"/>
                </a:lnTo>
                <a:lnTo>
                  <a:pt x="920" y="86"/>
                </a:lnTo>
                <a:lnTo>
                  <a:pt x="938" y="104"/>
                </a:lnTo>
                <a:lnTo>
                  <a:pt x="955" y="127"/>
                </a:lnTo>
                <a:lnTo>
                  <a:pt x="961" y="162"/>
                </a:lnTo>
                <a:lnTo>
                  <a:pt x="972" y="179"/>
                </a:lnTo>
                <a:lnTo>
                  <a:pt x="990" y="191"/>
                </a:lnTo>
                <a:lnTo>
                  <a:pt x="1007" y="191"/>
                </a:lnTo>
                <a:lnTo>
                  <a:pt x="1024" y="191"/>
                </a:lnTo>
                <a:lnTo>
                  <a:pt x="1042" y="191"/>
                </a:lnTo>
                <a:lnTo>
                  <a:pt x="1059" y="191"/>
                </a:lnTo>
                <a:lnTo>
                  <a:pt x="1076" y="191"/>
                </a:lnTo>
                <a:lnTo>
                  <a:pt x="1123" y="202"/>
                </a:lnTo>
                <a:lnTo>
                  <a:pt x="1140" y="202"/>
                </a:lnTo>
                <a:lnTo>
                  <a:pt x="1163" y="202"/>
                </a:lnTo>
                <a:lnTo>
                  <a:pt x="1180" y="202"/>
                </a:lnTo>
                <a:lnTo>
                  <a:pt x="1215" y="202"/>
                </a:lnTo>
                <a:lnTo>
                  <a:pt x="1233" y="202"/>
                </a:lnTo>
                <a:lnTo>
                  <a:pt x="1279" y="202"/>
                </a:lnTo>
                <a:lnTo>
                  <a:pt x="1296" y="202"/>
                </a:lnTo>
                <a:lnTo>
                  <a:pt x="1348" y="196"/>
                </a:lnTo>
                <a:lnTo>
                  <a:pt x="1366" y="191"/>
                </a:lnTo>
                <a:lnTo>
                  <a:pt x="1383" y="185"/>
                </a:lnTo>
                <a:lnTo>
                  <a:pt x="1441" y="179"/>
                </a:lnTo>
                <a:lnTo>
                  <a:pt x="1475" y="173"/>
                </a:lnTo>
                <a:lnTo>
                  <a:pt x="1493" y="173"/>
                </a:lnTo>
                <a:lnTo>
                  <a:pt x="1510" y="167"/>
                </a:lnTo>
                <a:lnTo>
                  <a:pt x="1551" y="156"/>
                </a:lnTo>
                <a:lnTo>
                  <a:pt x="1597" y="150"/>
                </a:lnTo>
                <a:lnTo>
                  <a:pt x="1614" y="150"/>
                </a:lnTo>
                <a:lnTo>
                  <a:pt x="1632" y="150"/>
                </a:lnTo>
                <a:lnTo>
                  <a:pt x="1649" y="144"/>
                </a:lnTo>
                <a:lnTo>
                  <a:pt x="1718" y="133"/>
                </a:lnTo>
                <a:lnTo>
                  <a:pt x="1736" y="133"/>
                </a:lnTo>
                <a:lnTo>
                  <a:pt x="1753" y="133"/>
                </a:lnTo>
                <a:lnTo>
                  <a:pt x="1811" y="127"/>
                </a:lnTo>
                <a:lnTo>
                  <a:pt x="1903" y="121"/>
                </a:lnTo>
                <a:lnTo>
                  <a:pt x="1927" y="121"/>
                </a:lnTo>
                <a:lnTo>
                  <a:pt x="1996" y="110"/>
                </a:lnTo>
                <a:lnTo>
                  <a:pt x="2077" y="98"/>
                </a:lnTo>
                <a:lnTo>
                  <a:pt x="2094" y="98"/>
                </a:lnTo>
                <a:lnTo>
                  <a:pt x="2112" y="104"/>
                </a:lnTo>
                <a:lnTo>
                  <a:pt x="2112" y="121"/>
                </a:lnTo>
                <a:lnTo>
                  <a:pt x="2112" y="139"/>
                </a:lnTo>
                <a:lnTo>
                  <a:pt x="2112" y="156"/>
                </a:lnTo>
                <a:lnTo>
                  <a:pt x="2112" y="173"/>
                </a:lnTo>
                <a:lnTo>
                  <a:pt x="2112" y="191"/>
                </a:lnTo>
                <a:lnTo>
                  <a:pt x="2094" y="202"/>
                </a:lnTo>
                <a:lnTo>
                  <a:pt x="2036" y="208"/>
                </a:lnTo>
                <a:lnTo>
                  <a:pt x="2013" y="208"/>
                </a:lnTo>
                <a:lnTo>
                  <a:pt x="1990" y="208"/>
                </a:lnTo>
                <a:lnTo>
                  <a:pt x="1973" y="208"/>
                </a:lnTo>
                <a:lnTo>
                  <a:pt x="1956" y="214"/>
                </a:lnTo>
                <a:lnTo>
                  <a:pt x="1938" y="214"/>
                </a:lnTo>
                <a:lnTo>
                  <a:pt x="1921" y="214"/>
                </a:lnTo>
                <a:lnTo>
                  <a:pt x="1875" y="214"/>
                </a:lnTo>
                <a:lnTo>
                  <a:pt x="1840" y="214"/>
                </a:lnTo>
                <a:lnTo>
                  <a:pt x="1794" y="214"/>
                </a:lnTo>
                <a:lnTo>
                  <a:pt x="1770" y="214"/>
                </a:lnTo>
                <a:lnTo>
                  <a:pt x="1736" y="214"/>
                </a:lnTo>
                <a:lnTo>
                  <a:pt x="1713" y="214"/>
                </a:lnTo>
                <a:lnTo>
                  <a:pt x="1689" y="214"/>
                </a:lnTo>
                <a:lnTo>
                  <a:pt x="1666" y="225"/>
                </a:lnTo>
                <a:lnTo>
                  <a:pt x="1649" y="225"/>
                </a:lnTo>
                <a:lnTo>
                  <a:pt x="1632" y="231"/>
                </a:lnTo>
                <a:lnTo>
                  <a:pt x="1608" y="237"/>
                </a:lnTo>
                <a:lnTo>
                  <a:pt x="1585" y="243"/>
                </a:lnTo>
                <a:lnTo>
                  <a:pt x="1551" y="243"/>
                </a:lnTo>
                <a:lnTo>
                  <a:pt x="1510" y="248"/>
                </a:lnTo>
                <a:lnTo>
                  <a:pt x="1475" y="254"/>
                </a:lnTo>
                <a:lnTo>
                  <a:pt x="1452" y="260"/>
                </a:lnTo>
                <a:lnTo>
                  <a:pt x="1435" y="266"/>
                </a:lnTo>
                <a:lnTo>
                  <a:pt x="1418" y="277"/>
                </a:lnTo>
                <a:lnTo>
                  <a:pt x="1394" y="283"/>
                </a:lnTo>
                <a:lnTo>
                  <a:pt x="1377" y="295"/>
                </a:lnTo>
                <a:lnTo>
                  <a:pt x="1354" y="306"/>
                </a:lnTo>
                <a:lnTo>
                  <a:pt x="1319" y="312"/>
                </a:lnTo>
                <a:lnTo>
                  <a:pt x="1296" y="329"/>
                </a:lnTo>
                <a:lnTo>
                  <a:pt x="1273" y="341"/>
                </a:lnTo>
                <a:lnTo>
                  <a:pt x="1256" y="352"/>
                </a:lnTo>
                <a:lnTo>
                  <a:pt x="1238" y="358"/>
                </a:lnTo>
                <a:lnTo>
                  <a:pt x="1221" y="370"/>
                </a:lnTo>
                <a:lnTo>
                  <a:pt x="1198" y="387"/>
                </a:lnTo>
                <a:lnTo>
                  <a:pt x="1180" y="399"/>
                </a:lnTo>
                <a:lnTo>
                  <a:pt x="1163" y="410"/>
                </a:lnTo>
                <a:lnTo>
                  <a:pt x="1146" y="416"/>
                </a:lnTo>
                <a:lnTo>
                  <a:pt x="1134" y="439"/>
                </a:lnTo>
                <a:lnTo>
                  <a:pt x="1123" y="457"/>
                </a:lnTo>
                <a:lnTo>
                  <a:pt x="1117" y="474"/>
                </a:lnTo>
                <a:lnTo>
                  <a:pt x="1117" y="491"/>
                </a:lnTo>
                <a:lnTo>
                  <a:pt x="1111" y="509"/>
                </a:lnTo>
                <a:lnTo>
                  <a:pt x="1111" y="526"/>
                </a:lnTo>
                <a:lnTo>
                  <a:pt x="1111" y="543"/>
                </a:lnTo>
                <a:lnTo>
                  <a:pt x="1117" y="590"/>
                </a:lnTo>
                <a:lnTo>
                  <a:pt x="1128" y="613"/>
                </a:lnTo>
                <a:lnTo>
                  <a:pt x="1134" y="630"/>
                </a:lnTo>
                <a:lnTo>
                  <a:pt x="1146" y="647"/>
                </a:lnTo>
                <a:lnTo>
                  <a:pt x="1163" y="665"/>
                </a:lnTo>
                <a:lnTo>
                  <a:pt x="1186" y="671"/>
                </a:lnTo>
                <a:lnTo>
                  <a:pt x="1204" y="676"/>
                </a:lnTo>
                <a:lnTo>
                  <a:pt x="1250" y="688"/>
                </a:lnTo>
                <a:lnTo>
                  <a:pt x="1267" y="694"/>
                </a:lnTo>
                <a:lnTo>
                  <a:pt x="1285" y="705"/>
                </a:lnTo>
                <a:lnTo>
                  <a:pt x="1319" y="740"/>
                </a:lnTo>
                <a:lnTo>
                  <a:pt x="1337" y="757"/>
                </a:lnTo>
                <a:lnTo>
                  <a:pt x="1360" y="763"/>
                </a:lnTo>
                <a:lnTo>
                  <a:pt x="1383" y="769"/>
                </a:lnTo>
                <a:lnTo>
                  <a:pt x="1400" y="775"/>
                </a:lnTo>
                <a:lnTo>
                  <a:pt x="1418" y="780"/>
                </a:lnTo>
                <a:lnTo>
                  <a:pt x="1435" y="792"/>
                </a:lnTo>
                <a:lnTo>
                  <a:pt x="1452" y="809"/>
                </a:lnTo>
                <a:lnTo>
                  <a:pt x="1458" y="832"/>
                </a:lnTo>
                <a:lnTo>
                  <a:pt x="1464" y="879"/>
                </a:lnTo>
                <a:lnTo>
                  <a:pt x="1464" y="896"/>
                </a:lnTo>
                <a:lnTo>
                  <a:pt x="1464" y="913"/>
                </a:lnTo>
                <a:lnTo>
                  <a:pt x="1464" y="931"/>
                </a:lnTo>
                <a:lnTo>
                  <a:pt x="1464" y="948"/>
                </a:lnTo>
                <a:lnTo>
                  <a:pt x="1464" y="965"/>
                </a:lnTo>
                <a:lnTo>
                  <a:pt x="1464" y="1000"/>
                </a:lnTo>
                <a:lnTo>
                  <a:pt x="1464" y="1017"/>
                </a:lnTo>
                <a:lnTo>
                  <a:pt x="1464" y="1035"/>
                </a:lnTo>
                <a:lnTo>
                  <a:pt x="1464" y="1069"/>
                </a:lnTo>
                <a:lnTo>
                  <a:pt x="1458" y="1087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3280" y="4062240"/>
            <a:ext cx="1525680" cy="1424160"/>
          </a:xfrm>
          <a:custGeom>
            <a:avLst/>
            <a:gdLst/>
            <a:ahLst/>
            <a:rect l="l" t="t" r="r" b="b"/>
            <a:pathLst>
              <a:path w="961" h="897">
                <a:moveTo>
                  <a:pt x="492" y="896"/>
                </a:moveTo>
                <a:lnTo>
                  <a:pt x="474" y="873"/>
                </a:lnTo>
                <a:lnTo>
                  <a:pt x="463" y="856"/>
                </a:lnTo>
                <a:lnTo>
                  <a:pt x="457" y="838"/>
                </a:lnTo>
                <a:lnTo>
                  <a:pt x="445" y="821"/>
                </a:lnTo>
                <a:lnTo>
                  <a:pt x="434" y="804"/>
                </a:lnTo>
                <a:lnTo>
                  <a:pt x="416" y="792"/>
                </a:lnTo>
                <a:lnTo>
                  <a:pt x="399" y="775"/>
                </a:lnTo>
                <a:lnTo>
                  <a:pt x="387" y="752"/>
                </a:lnTo>
                <a:lnTo>
                  <a:pt x="370" y="734"/>
                </a:lnTo>
                <a:lnTo>
                  <a:pt x="353" y="717"/>
                </a:lnTo>
                <a:lnTo>
                  <a:pt x="330" y="705"/>
                </a:lnTo>
                <a:lnTo>
                  <a:pt x="283" y="682"/>
                </a:lnTo>
                <a:lnTo>
                  <a:pt x="260" y="671"/>
                </a:lnTo>
                <a:lnTo>
                  <a:pt x="243" y="659"/>
                </a:lnTo>
                <a:lnTo>
                  <a:pt x="231" y="642"/>
                </a:lnTo>
                <a:lnTo>
                  <a:pt x="220" y="625"/>
                </a:lnTo>
                <a:lnTo>
                  <a:pt x="202" y="613"/>
                </a:lnTo>
                <a:lnTo>
                  <a:pt x="191" y="596"/>
                </a:lnTo>
                <a:lnTo>
                  <a:pt x="173" y="578"/>
                </a:lnTo>
                <a:lnTo>
                  <a:pt x="162" y="561"/>
                </a:lnTo>
                <a:lnTo>
                  <a:pt x="139" y="538"/>
                </a:lnTo>
                <a:lnTo>
                  <a:pt x="127" y="520"/>
                </a:lnTo>
                <a:lnTo>
                  <a:pt x="116" y="503"/>
                </a:lnTo>
                <a:lnTo>
                  <a:pt x="104" y="486"/>
                </a:lnTo>
                <a:lnTo>
                  <a:pt x="87" y="474"/>
                </a:lnTo>
                <a:lnTo>
                  <a:pt x="69" y="457"/>
                </a:lnTo>
                <a:lnTo>
                  <a:pt x="52" y="445"/>
                </a:lnTo>
                <a:lnTo>
                  <a:pt x="6" y="411"/>
                </a:lnTo>
                <a:lnTo>
                  <a:pt x="0" y="393"/>
                </a:lnTo>
                <a:lnTo>
                  <a:pt x="0" y="376"/>
                </a:lnTo>
                <a:lnTo>
                  <a:pt x="0" y="335"/>
                </a:lnTo>
                <a:lnTo>
                  <a:pt x="0" y="318"/>
                </a:lnTo>
                <a:lnTo>
                  <a:pt x="0" y="301"/>
                </a:lnTo>
                <a:lnTo>
                  <a:pt x="0" y="283"/>
                </a:lnTo>
                <a:lnTo>
                  <a:pt x="6" y="266"/>
                </a:lnTo>
                <a:lnTo>
                  <a:pt x="12" y="249"/>
                </a:lnTo>
                <a:lnTo>
                  <a:pt x="23" y="231"/>
                </a:lnTo>
                <a:lnTo>
                  <a:pt x="35" y="214"/>
                </a:lnTo>
                <a:lnTo>
                  <a:pt x="52" y="202"/>
                </a:lnTo>
                <a:lnTo>
                  <a:pt x="69" y="185"/>
                </a:lnTo>
                <a:lnTo>
                  <a:pt x="87" y="173"/>
                </a:lnTo>
                <a:lnTo>
                  <a:pt x="104" y="156"/>
                </a:lnTo>
                <a:lnTo>
                  <a:pt x="121" y="150"/>
                </a:lnTo>
                <a:lnTo>
                  <a:pt x="139" y="139"/>
                </a:lnTo>
                <a:lnTo>
                  <a:pt x="156" y="133"/>
                </a:lnTo>
                <a:lnTo>
                  <a:pt x="173" y="121"/>
                </a:lnTo>
                <a:lnTo>
                  <a:pt x="197" y="110"/>
                </a:lnTo>
                <a:lnTo>
                  <a:pt x="214" y="98"/>
                </a:lnTo>
                <a:lnTo>
                  <a:pt x="231" y="87"/>
                </a:lnTo>
                <a:lnTo>
                  <a:pt x="266" y="81"/>
                </a:lnTo>
                <a:lnTo>
                  <a:pt x="283" y="69"/>
                </a:lnTo>
                <a:lnTo>
                  <a:pt x="301" y="64"/>
                </a:lnTo>
                <a:lnTo>
                  <a:pt x="318" y="58"/>
                </a:lnTo>
                <a:lnTo>
                  <a:pt x="335" y="58"/>
                </a:lnTo>
                <a:lnTo>
                  <a:pt x="353" y="58"/>
                </a:lnTo>
                <a:lnTo>
                  <a:pt x="370" y="52"/>
                </a:lnTo>
                <a:lnTo>
                  <a:pt x="387" y="52"/>
                </a:lnTo>
                <a:lnTo>
                  <a:pt x="405" y="46"/>
                </a:lnTo>
                <a:lnTo>
                  <a:pt x="422" y="35"/>
                </a:lnTo>
                <a:lnTo>
                  <a:pt x="445" y="17"/>
                </a:lnTo>
                <a:lnTo>
                  <a:pt x="463" y="12"/>
                </a:lnTo>
                <a:lnTo>
                  <a:pt x="480" y="6"/>
                </a:lnTo>
                <a:lnTo>
                  <a:pt x="497" y="6"/>
                </a:lnTo>
                <a:lnTo>
                  <a:pt x="521" y="6"/>
                </a:lnTo>
                <a:lnTo>
                  <a:pt x="538" y="6"/>
                </a:lnTo>
                <a:lnTo>
                  <a:pt x="561" y="6"/>
                </a:lnTo>
                <a:lnTo>
                  <a:pt x="584" y="6"/>
                </a:lnTo>
                <a:lnTo>
                  <a:pt x="630" y="6"/>
                </a:lnTo>
                <a:lnTo>
                  <a:pt x="648" y="6"/>
                </a:lnTo>
                <a:lnTo>
                  <a:pt x="694" y="6"/>
                </a:lnTo>
                <a:lnTo>
                  <a:pt x="711" y="6"/>
                </a:lnTo>
                <a:lnTo>
                  <a:pt x="729" y="6"/>
                </a:lnTo>
                <a:lnTo>
                  <a:pt x="763" y="6"/>
                </a:lnTo>
                <a:lnTo>
                  <a:pt x="781" y="6"/>
                </a:lnTo>
                <a:lnTo>
                  <a:pt x="798" y="6"/>
                </a:lnTo>
                <a:lnTo>
                  <a:pt x="816" y="6"/>
                </a:lnTo>
                <a:lnTo>
                  <a:pt x="833" y="6"/>
                </a:lnTo>
                <a:lnTo>
                  <a:pt x="850" y="0"/>
                </a:lnTo>
                <a:lnTo>
                  <a:pt x="868" y="0"/>
                </a:lnTo>
                <a:lnTo>
                  <a:pt x="885" y="0"/>
                </a:lnTo>
                <a:lnTo>
                  <a:pt x="908" y="0"/>
                </a:lnTo>
                <a:lnTo>
                  <a:pt x="931" y="0"/>
                </a:lnTo>
                <a:lnTo>
                  <a:pt x="943" y="17"/>
                </a:lnTo>
                <a:lnTo>
                  <a:pt x="943" y="35"/>
                </a:lnTo>
                <a:lnTo>
                  <a:pt x="949" y="52"/>
                </a:lnTo>
                <a:lnTo>
                  <a:pt x="949" y="69"/>
                </a:lnTo>
                <a:lnTo>
                  <a:pt x="949" y="87"/>
                </a:lnTo>
                <a:lnTo>
                  <a:pt x="949" y="104"/>
                </a:lnTo>
                <a:lnTo>
                  <a:pt x="949" y="127"/>
                </a:lnTo>
                <a:lnTo>
                  <a:pt x="949" y="145"/>
                </a:lnTo>
                <a:lnTo>
                  <a:pt x="949" y="162"/>
                </a:lnTo>
                <a:lnTo>
                  <a:pt x="949" y="185"/>
                </a:lnTo>
                <a:lnTo>
                  <a:pt x="943" y="202"/>
                </a:lnTo>
                <a:lnTo>
                  <a:pt x="937" y="249"/>
                </a:lnTo>
                <a:lnTo>
                  <a:pt x="937" y="266"/>
                </a:lnTo>
                <a:lnTo>
                  <a:pt x="931" y="289"/>
                </a:lnTo>
                <a:lnTo>
                  <a:pt x="925" y="306"/>
                </a:lnTo>
                <a:lnTo>
                  <a:pt x="925" y="341"/>
                </a:lnTo>
                <a:lnTo>
                  <a:pt x="925" y="376"/>
                </a:lnTo>
                <a:lnTo>
                  <a:pt x="925" y="393"/>
                </a:lnTo>
                <a:lnTo>
                  <a:pt x="925" y="451"/>
                </a:lnTo>
                <a:lnTo>
                  <a:pt x="925" y="497"/>
                </a:lnTo>
                <a:lnTo>
                  <a:pt x="925" y="532"/>
                </a:lnTo>
                <a:lnTo>
                  <a:pt x="925" y="549"/>
                </a:lnTo>
                <a:lnTo>
                  <a:pt x="925" y="572"/>
                </a:lnTo>
                <a:lnTo>
                  <a:pt x="925" y="596"/>
                </a:lnTo>
                <a:lnTo>
                  <a:pt x="925" y="613"/>
                </a:lnTo>
                <a:lnTo>
                  <a:pt x="925" y="636"/>
                </a:lnTo>
                <a:lnTo>
                  <a:pt x="925" y="653"/>
                </a:lnTo>
                <a:lnTo>
                  <a:pt x="925" y="671"/>
                </a:lnTo>
                <a:lnTo>
                  <a:pt x="931" y="694"/>
                </a:lnTo>
                <a:lnTo>
                  <a:pt x="931" y="711"/>
                </a:lnTo>
                <a:lnTo>
                  <a:pt x="943" y="757"/>
                </a:lnTo>
                <a:lnTo>
                  <a:pt x="949" y="775"/>
                </a:lnTo>
                <a:lnTo>
                  <a:pt x="949" y="792"/>
                </a:lnTo>
                <a:lnTo>
                  <a:pt x="949" y="833"/>
                </a:lnTo>
                <a:lnTo>
                  <a:pt x="954" y="850"/>
                </a:lnTo>
                <a:lnTo>
                  <a:pt x="960" y="82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8680" y="1755720"/>
            <a:ext cx="4271760" cy="4118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rcRect l="0" t="0" r="6705" b="0"/>
          <a:stretch/>
        </p:blipFill>
        <p:spPr>
          <a:xfrm>
            <a:off x="4923000" y="1766880"/>
            <a:ext cx="3797280" cy="41324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257560" y="5210280"/>
            <a:ext cx="1112760" cy="312480"/>
          </a:xfrm>
          <a:custGeom>
            <a:avLst/>
            <a:gdLst/>
            <a:ahLst/>
            <a:rect l="l" t="t" r="r" b="b"/>
            <a:pathLst>
              <a:path w="701" h="197">
                <a:moveTo>
                  <a:pt x="6" y="0"/>
                </a:moveTo>
                <a:lnTo>
                  <a:pt x="29" y="6"/>
                </a:lnTo>
                <a:lnTo>
                  <a:pt x="47" y="6"/>
                </a:lnTo>
                <a:lnTo>
                  <a:pt x="64" y="6"/>
                </a:lnTo>
                <a:lnTo>
                  <a:pt x="87" y="6"/>
                </a:lnTo>
                <a:lnTo>
                  <a:pt x="133" y="6"/>
                </a:lnTo>
                <a:lnTo>
                  <a:pt x="151" y="6"/>
                </a:lnTo>
                <a:lnTo>
                  <a:pt x="168" y="17"/>
                </a:lnTo>
                <a:lnTo>
                  <a:pt x="185" y="17"/>
                </a:lnTo>
                <a:lnTo>
                  <a:pt x="226" y="23"/>
                </a:lnTo>
                <a:lnTo>
                  <a:pt x="249" y="34"/>
                </a:lnTo>
                <a:lnTo>
                  <a:pt x="266" y="40"/>
                </a:lnTo>
                <a:lnTo>
                  <a:pt x="313" y="46"/>
                </a:lnTo>
                <a:lnTo>
                  <a:pt x="330" y="52"/>
                </a:lnTo>
                <a:lnTo>
                  <a:pt x="353" y="52"/>
                </a:lnTo>
                <a:lnTo>
                  <a:pt x="388" y="58"/>
                </a:lnTo>
                <a:lnTo>
                  <a:pt x="405" y="75"/>
                </a:lnTo>
                <a:lnTo>
                  <a:pt x="423" y="81"/>
                </a:lnTo>
                <a:lnTo>
                  <a:pt x="440" y="87"/>
                </a:lnTo>
                <a:lnTo>
                  <a:pt x="463" y="92"/>
                </a:lnTo>
                <a:lnTo>
                  <a:pt x="480" y="98"/>
                </a:lnTo>
                <a:lnTo>
                  <a:pt x="504" y="115"/>
                </a:lnTo>
                <a:lnTo>
                  <a:pt x="538" y="127"/>
                </a:lnTo>
                <a:lnTo>
                  <a:pt x="573" y="139"/>
                </a:lnTo>
                <a:lnTo>
                  <a:pt x="608" y="144"/>
                </a:lnTo>
                <a:lnTo>
                  <a:pt x="631" y="150"/>
                </a:lnTo>
                <a:lnTo>
                  <a:pt x="648" y="150"/>
                </a:lnTo>
                <a:lnTo>
                  <a:pt x="666" y="156"/>
                </a:lnTo>
                <a:lnTo>
                  <a:pt x="683" y="173"/>
                </a:lnTo>
                <a:lnTo>
                  <a:pt x="700" y="196"/>
                </a:lnTo>
                <a:lnTo>
                  <a:pt x="677" y="191"/>
                </a:lnTo>
                <a:lnTo>
                  <a:pt x="631" y="179"/>
                </a:lnTo>
                <a:lnTo>
                  <a:pt x="585" y="173"/>
                </a:lnTo>
                <a:lnTo>
                  <a:pt x="550" y="167"/>
                </a:lnTo>
                <a:lnTo>
                  <a:pt x="515" y="167"/>
                </a:lnTo>
                <a:lnTo>
                  <a:pt x="480" y="167"/>
                </a:lnTo>
                <a:lnTo>
                  <a:pt x="446" y="167"/>
                </a:lnTo>
                <a:lnTo>
                  <a:pt x="411" y="167"/>
                </a:lnTo>
                <a:lnTo>
                  <a:pt x="376" y="167"/>
                </a:lnTo>
                <a:lnTo>
                  <a:pt x="342" y="167"/>
                </a:lnTo>
                <a:lnTo>
                  <a:pt x="295" y="162"/>
                </a:lnTo>
                <a:lnTo>
                  <a:pt x="249" y="156"/>
                </a:lnTo>
                <a:lnTo>
                  <a:pt x="214" y="156"/>
                </a:lnTo>
                <a:lnTo>
                  <a:pt x="180" y="156"/>
                </a:lnTo>
                <a:lnTo>
                  <a:pt x="145" y="156"/>
                </a:lnTo>
                <a:lnTo>
                  <a:pt x="110" y="156"/>
                </a:lnTo>
                <a:lnTo>
                  <a:pt x="87" y="156"/>
                </a:lnTo>
                <a:lnTo>
                  <a:pt x="52" y="156"/>
                </a:lnTo>
                <a:lnTo>
                  <a:pt x="35" y="156"/>
                </a:lnTo>
                <a:lnTo>
                  <a:pt x="18" y="156"/>
                </a:lnTo>
                <a:lnTo>
                  <a:pt x="18" y="139"/>
                </a:lnTo>
                <a:lnTo>
                  <a:pt x="12" y="121"/>
                </a:lnTo>
                <a:lnTo>
                  <a:pt x="12" y="98"/>
                </a:lnTo>
                <a:lnTo>
                  <a:pt x="6" y="81"/>
                </a:lnTo>
                <a:lnTo>
                  <a:pt x="0" y="63"/>
                </a:lnTo>
                <a:lnTo>
                  <a:pt x="0" y="40"/>
                </a:lnTo>
                <a:lnTo>
                  <a:pt x="0" y="23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6920" y="3355920"/>
            <a:ext cx="2270160" cy="2176560"/>
          </a:xfrm>
          <a:custGeom>
            <a:avLst/>
            <a:gdLst/>
            <a:ahLst/>
            <a:rect l="l" t="t" r="r" b="b"/>
            <a:pathLst>
              <a:path w="1430" h="1371">
                <a:moveTo>
                  <a:pt x="0" y="1156"/>
                </a:moveTo>
                <a:lnTo>
                  <a:pt x="0" y="1104"/>
                </a:lnTo>
                <a:lnTo>
                  <a:pt x="6" y="1087"/>
                </a:lnTo>
                <a:lnTo>
                  <a:pt x="6" y="1041"/>
                </a:lnTo>
                <a:lnTo>
                  <a:pt x="12" y="1006"/>
                </a:lnTo>
                <a:lnTo>
                  <a:pt x="12" y="989"/>
                </a:lnTo>
                <a:lnTo>
                  <a:pt x="12" y="942"/>
                </a:lnTo>
                <a:lnTo>
                  <a:pt x="12" y="925"/>
                </a:lnTo>
                <a:lnTo>
                  <a:pt x="12" y="908"/>
                </a:lnTo>
                <a:lnTo>
                  <a:pt x="12" y="890"/>
                </a:lnTo>
                <a:lnTo>
                  <a:pt x="12" y="867"/>
                </a:lnTo>
                <a:lnTo>
                  <a:pt x="12" y="850"/>
                </a:lnTo>
                <a:lnTo>
                  <a:pt x="12" y="832"/>
                </a:lnTo>
                <a:lnTo>
                  <a:pt x="12" y="809"/>
                </a:lnTo>
                <a:lnTo>
                  <a:pt x="12" y="792"/>
                </a:lnTo>
                <a:lnTo>
                  <a:pt x="6" y="775"/>
                </a:lnTo>
                <a:lnTo>
                  <a:pt x="6" y="757"/>
                </a:lnTo>
                <a:lnTo>
                  <a:pt x="6" y="734"/>
                </a:lnTo>
                <a:lnTo>
                  <a:pt x="6" y="717"/>
                </a:lnTo>
                <a:lnTo>
                  <a:pt x="6" y="699"/>
                </a:lnTo>
                <a:lnTo>
                  <a:pt x="6" y="676"/>
                </a:lnTo>
                <a:lnTo>
                  <a:pt x="6" y="630"/>
                </a:lnTo>
                <a:lnTo>
                  <a:pt x="6" y="613"/>
                </a:lnTo>
                <a:lnTo>
                  <a:pt x="6" y="595"/>
                </a:lnTo>
                <a:lnTo>
                  <a:pt x="6" y="561"/>
                </a:lnTo>
                <a:lnTo>
                  <a:pt x="12" y="514"/>
                </a:lnTo>
                <a:lnTo>
                  <a:pt x="18" y="497"/>
                </a:lnTo>
                <a:lnTo>
                  <a:pt x="29" y="480"/>
                </a:lnTo>
                <a:lnTo>
                  <a:pt x="35" y="445"/>
                </a:lnTo>
                <a:lnTo>
                  <a:pt x="41" y="428"/>
                </a:lnTo>
                <a:lnTo>
                  <a:pt x="46" y="410"/>
                </a:lnTo>
                <a:lnTo>
                  <a:pt x="52" y="393"/>
                </a:lnTo>
                <a:lnTo>
                  <a:pt x="58" y="370"/>
                </a:lnTo>
                <a:lnTo>
                  <a:pt x="64" y="352"/>
                </a:lnTo>
                <a:lnTo>
                  <a:pt x="75" y="329"/>
                </a:lnTo>
                <a:lnTo>
                  <a:pt x="81" y="312"/>
                </a:lnTo>
                <a:lnTo>
                  <a:pt x="81" y="295"/>
                </a:lnTo>
                <a:lnTo>
                  <a:pt x="81" y="277"/>
                </a:lnTo>
                <a:lnTo>
                  <a:pt x="81" y="260"/>
                </a:lnTo>
                <a:lnTo>
                  <a:pt x="81" y="237"/>
                </a:lnTo>
                <a:lnTo>
                  <a:pt x="87" y="219"/>
                </a:lnTo>
                <a:lnTo>
                  <a:pt x="104" y="214"/>
                </a:lnTo>
                <a:lnTo>
                  <a:pt x="145" y="191"/>
                </a:lnTo>
                <a:lnTo>
                  <a:pt x="162" y="185"/>
                </a:lnTo>
                <a:lnTo>
                  <a:pt x="179" y="185"/>
                </a:lnTo>
                <a:lnTo>
                  <a:pt x="226" y="185"/>
                </a:lnTo>
                <a:lnTo>
                  <a:pt x="243" y="185"/>
                </a:lnTo>
                <a:lnTo>
                  <a:pt x="260" y="185"/>
                </a:lnTo>
                <a:lnTo>
                  <a:pt x="278" y="185"/>
                </a:lnTo>
                <a:lnTo>
                  <a:pt x="295" y="185"/>
                </a:lnTo>
                <a:lnTo>
                  <a:pt x="330" y="185"/>
                </a:lnTo>
                <a:lnTo>
                  <a:pt x="365" y="185"/>
                </a:lnTo>
                <a:lnTo>
                  <a:pt x="382" y="185"/>
                </a:lnTo>
                <a:lnTo>
                  <a:pt x="399" y="185"/>
                </a:lnTo>
                <a:lnTo>
                  <a:pt x="434" y="185"/>
                </a:lnTo>
                <a:lnTo>
                  <a:pt x="469" y="185"/>
                </a:lnTo>
                <a:lnTo>
                  <a:pt x="486" y="185"/>
                </a:lnTo>
                <a:lnTo>
                  <a:pt x="509" y="185"/>
                </a:lnTo>
                <a:lnTo>
                  <a:pt x="532" y="185"/>
                </a:lnTo>
                <a:lnTo>
                  <a:pt x="579" y="179"/>
                </a:lnTo>
                <a:lnTo>
                  <a:pt x="596" y="179"/>
                </a:lnTo>
                <a:lnTo>
                  <a:pt x="613" y="179"/>
                </a:lnTo>
                <a:lnTo>
                  <a:pt x="654" y="173"/>
                </a:lnTo>
                <a:lnTo>
                  <a:pt x="688" y="167"/>
                </a:lnTo>
                <a:lnTo>
                  <a:pt x="706" y="167"/>
                </a:lnTo>
                <a:lnTo>
                  <a:pt x="723" y="162"/>
                </a:lnTo>
                <a:lnTo>
                  <a:pt x="741" y="162"/>
                </a:lnTo>
                <a:lnTo>
                  <a:pt x="758" y="162"/>
                </a:lnTo>
                <a:lnTo>
                  <a:pt x="775" y="156"/>
                </a:lnTo>
                <a:lnTo>
                  <a:pt x="822" y="156"/>
                </a:lnTo>
                <a:lnTo>
                  <a:pt x="839" y="150"/>
                </a:lnTo>
                <a:lnTo>
                  <a:pt x="856" y="150"/>
                </a:lnTo>
                <a:lnTo>
                  <a:pt x="903" y="144"/>
                </a:lnTo>
                <a:lnTo>
                  <a:pt x="920" y="144"/>
                </a:lnTo>
                <a:lnTo>
                  <a:pt x="943" y="139"/>
                </a:lnTo>
                <a:lnTo>
                  <a:pt x="960" y="139"/>
                </a:lnTo>
                <a:lnTo>
                  <a:pt x="983" y="133"/>
                </a:lnTo>
                <a:lnTo>
                  <a:pt x="1041" y="121"/>
                </a:lnTo>
                <a:lnTo>
                  <a:pt x="1059" y="115"/>
                </a:lnTo>
                <a:lnTo>
                  <a:pt x="1076" y="110"/>
                </a:lnTo>
                <a:lnTo>
                  <a:pt x="1099" y="98"/>
                </a:lnTo>
                <a:lnTo>
                  <a:pt x="1117" y="92"/>
                </a:lnTo>
                <a:lnTo>
                  <a:pt x="1134" y="81"/>
                </a:lnTo>
                <a:lnTo>
                  <a:pt x="1157" y="69"/>
                </a:lnTo>
                <a:lnTo>
                  <a:pt x="1180" y="58"/>
                </a:lnTo>
                <a:lnTo>
                  <a:pt x="1197" y="52"/>
                </a:lnTo>
                <a:lnTo>
                  <a:pt x="1215" y="34"/>
                </a:lnTo>
                <a:lnTo>
                  <a:pt x="1250" y="29"/>
                </a:lnTo>
                <a:lnTo>
                  <a:pt x="1284" y="23"/>
                </a:lnTo>
                <a:lnTo>
                  <a:pt x="1302" y="17"/>
                </a:lnTo>
                <a:lnTo>
                  <a:pt x="1325" y="11"/>
                </a:lnTo>
                <a:lnTo>
                  <a:pt x="1348" y="6"/>
                </a:lnTo>
                <a:lnTo>
                  <a:pt x="1371" y="0"/>
                </a:lnTo>
                <a:lnTo>
                  <a:pt x="1388" y="0"/>
                </a:lnTo>
                <a:lnTo>
                  <a:pt x="1406" y="0"/>
                </a:lnTo>
                <a:lnTo>
                  <a:pt x="1423" y="6"/>
                </a:lnTo>
                <a:lnTo>
                  <a:pt x="1429" y="23"/>
                </a:lnTo>
                <a:lnTo>
                  <a:pt x="1429" y="40"/>
                </a:lnTo>
                <a:lnTo>
                  <a:pt x="1417" y="58"/>
                </a:lnTo>
                <a:lnTo>
                  <a:pt x="1400" y="63"/>
                </a:lnTo>
                <a:lnTo>
                  <a:pt x="1383" y="69"/>
                </a:lnTo>
                <a:lnTo>
                  <a:pt x="1365" y="81"/>
                </a:lnTo>
                <a:lnTo>
                  <a:pt x="1348" y="86"/>
                </a:lnTo>
                <a:lnTo>
                  <a:pt x="1331" y="86"/>
                </a:lnTo>
                <a:lnTo>
                  <a:pt x="1313" y="92"/>
                </a:lnTo>
                <a:lnTo>
                  <a:pt x="1278" y="98"/>
                </a:lnTo>
                <a:lnTo>
                  <a:pt x="1261" y="98"/>
                </a:lnTo>
                <a:lnTo>
                  <a:pt x="1244" y="104"/>
                </a:lnTo>
                <a:lnTo>
                  <a:pt x="1226" y="110"/>
                </a:lnTo>
                <a:lnTo>
                  <a:pt x="1209" y="121"/>
                </a:lnTo>
                <a:lnTo>
                  <a:pt x="1192" y="127"/>
                </a:lnTo>
                <a:lnTo>
                  <a:pt x="1174" y="139"/>
                </a:lnTo>
                <a:lnTo>
                  <a:pt x="1151" y="156"/>
                </a:lnTo>
                <a:lnTo>
                  <a:pt x="1134" y="162"/>
                </a:lnTo>
                <a:lnTo>
                  <a:pt x="1117" y="167"/>
                </a:lnTo>
                <a:lnTo>
                  <a:pt x="1099" y="173"/>
                </a:lnTo>
                <a:lnTo>
                  <a:pt x="1076" y="191"/>
                </a:lnTo>
                <a:lnTo>
                  <a:pt x="1053" y="202"/>
                </a:lnTo>
                <a:lnTo>
                  <a:pt x="1036" y="214"/>
                </a:lnTo>
                <a:lnTo>
                  <a:pt x="1018" y="219"/>
                </a:lnTo>
                <a:lnTo>
                  <a:pt x="1001" y="231"/>
                </a:lnTo>
                <a:lnTo>
                  <a:pt x="983" y="248"/>
                </a:lnTo>
                <a:lnTo>
                  <a:pt x="960" y="266"/>
                </a:lnTo>
                <a:lnTo>
                  <a:pt x="943" y="277"/>
                </a:lnTo>
                <a:lnTo>
                  <a:pt x="926" y="289"/>
                </a:lnTo>
                <a:lnTo>
                  <a:pt x="908" y="300"/>
                </a:lnTo>
                <a:lnTo>
                  <a:pt x="891" y="306"/>
                </a:lnTo>
                <a:lnTo>
                  <a:pt x="868" y="312"/>
                </a:lnTo>
                <a:lnTo>
                  <a:pt x="850" y="324"/>
                </a:lnTo>
                <a:lnTo>
                  <a:pt x="833" y="324"/>
                </a:lnTo>
                <a:lnTo>
                  <a:pt x="810" y="335"/>
                </a:lnTo>
                <a:lnTo>
                  <a:pt x="793" y="335"/>
                </a:lnTo>
                <a:lnTo>
                  <a:pt x="769" y="335"/>
                </a:lnTo>
                <a:lnTo>
                  <a:pt x="723" y="341"/>
                </a:lnTo>
                <a:lnTo>
                  <a:pt x="700" y="341"/>
                </a:lnTo>
                <a:lnTo>
                  <a:pt x="683" y="347"/>
                </a:lnTo>
                <a:lnTo>
                  <a:pt x="665" y="347"/>
                </a:lnTo>
                <a:lnTo>
                  <a:pt x="648" y="347"/>
                </a:lnTo>
                <a:lnTo>
                  <a:pt x="631" y="347"/>
                </a:lnTo>
                <a:lnTo>
                  <a:pt x="613" y="347"/>
                </a:lnTo>
                <a:lnTo>
                  <a:pt x="596" y="347"/>
                </a:lnTo>
                <a:lnTo>
                  <a:pt x="555" y="347"/>
                </a:lnTo>
                <a:lnTo>
                  <a:pt x="538" y="347"/>
                </a:lnTo>
                <a:lnTo>
                  <a:pt x="515" y="358"/>
                </a:lnTo>
                <a:lnTo>
                  <a:pt x="498" y="364"/>
                </a:lnTo>
                <a:lnTo>
                  <a:pt x="480" y="376"/>
                </a:lnTo>
                <a:lnTo>
                  <a:pt x="463" y="381"/>
                </a:lnTo>
                <a:lnTo>
                  <a:pt x="457" y="399"/>
                </a:lnTo>
                <a:lnTo>
                  <a:pt x="440" y="422"/>
                </a:lnTo>
                <a:lnTo>
                  <a:pt x="428" y="439"/>
                </a:lnTo>
                <a:lnTo>
                  <a:pt x="411" y="457"/>
                </a:lnTo>
                <a:lnTo>
                  <a:pt x="399" y="474"/>
                </a:lnTo>
                <a:lnTo>
                  <a:pt x="394" y="491"/>
                </a:lnTo>
                <a:lnTo>
                  <a:pt x="382" y="509"/>
                </a:lnTo>
                <a:lnTo>
                  <a:pt x="370" y="526"/>
                </a:lnTo>
                <a:lnTo>
                  <a:pt x="359" y="543"/>
                </a:lnTo>
                <a:lnTo>
                  <a:pt x="347" y="578"/>
                </a:lnTo>
                <a:lnTo>
                  <a:pt x="336" y="595"/>
                </a:lnTo>
                <a:lnTo>
                  <a:pt x="330" y="618"/>
                </a:lnTo>
                <a:lnTo>
                  <a:pt x="318" y="636"/>
                </a:lnTo>
                <a:lnTo>
                  <a:pt x="313" y="653"/>
                </a:lnTo>
                <a:lnTo>
                  <a:pt x="301" y="676"/>
                </a:lnTo>
                <a:lnTo>
                  <a:pt x="295" y="694"/>
                </a:lnTo>
                <a:lnTo>
                  <a:pt x="289" y="711"/>
                </a:lnTo>
                <a:lnTo>
                  <a:pt x="278" y="728"/>
                </a:lnTo>
                <a:lnTo>
                  <a:pt x="272" y="746"/>
                </a:lnTo>
                <a:lnTo>
                  <a:pt x="266" y="769"/>
                </a:lnTo>
                <a:lnTo>
                  <a:pt x="260" y="786"/>
                </a:lnTo>
                <a:lnTo>
                  <a:pt x="249" y="804"/>
                </a:lnTo>
                <a:lnTo>
                  <a:pt x="249" y="821"/>
                </a:lnTo>
                <a:lnTo>
                  <a:pt x="249" y="844"/>
                </a:lnTo>
                <a:lnTo>
                  <a:pt x="243" y="867"/>
                </a:lnTo>
                <a:lnTo>
                  <a:pt x="243" y="884"/>
                </a:lnTo>
                <a:lnTo>
                  <a:pt x="255" y="902"/>
                </a:lnTo>
                <a:lnTo>
                  <a:pt x="272" y="902"/>
                </a:lnTo>
                <a:lnTo>
                  <a:pt x="295" y="896"/>
                </a:lnTo>
                <a:lnTo>
                  <a:pt x="313" y="873"/>
                </a:lnTo>
                <a:lnTo>
                  <a:pt x="313" y="856"/>
                </a:lnTo>
                <a:lnTo>
                  <a:pt x="307" y="838"/>
                </a:lnTo>
                <a:lnTo>
                  <a:pt x="301" y="821"/>
                </a:lnTo>
                <a:lnTo>
                  <a:pt x="301" y="804"/>
                </a:lnTo>
                <a:lnTo>
                  <a:pt x="301" y="786"/>
                </a:lnTo>
                <a:lnTo>
                  <a:pt x="301" y="769"/>
                </a:lnTo>
                <a:lnTo>
                  <a:pt x="307" y="751"/>
                </a:lnTo>
                <a:lnTo>
                  <a:pt x="318" y="734"/>
                </a:lnTo>
                <a:lnTo>
                  <a:pt x="341" y="728"/>
                </a:lnTo>
                <a:lnTo>
                  <a:pt x="359" y="728"/>
                </a:lnTo>
                <a:lnTo>
                  <a:pt x="382" y="728"/>
                </a:lnTo>
                <a:lnTo>
                  <a:pt x="428" y="728"/>
                </a:lnTo>
                <a:lnTo>
                  <a:pt x="451" y="728"/>
                </a:lnTo>
                <a:lnTo>
                  <a:pt x="474" y="728"/>
                </a:lnTo>
                <a:lnTo>
                  <a:pt x="492" y="723"/>
                </a:lnTo>
                <a:lnTo>
                  <a:pt x="509" y="723"/>
                </a:lnTo>
                <a:lnTo>
                  <a:pt x="532" y="723"/>
                </a:lnTo>
                <a:lnTo>
                  <a:pt x="550" y="717"/>
                </a:lnTo>
                <a:lnTo>
                  <a:pt x="584" y="717"/>
                </a:lnTo>
                <a:lnTo>
                  <a:pt x="619" y="717"/>
                </a:lnTo>
                <a:lnTo>
                  <a:pt x="636" y="717"/>
                </a:lnTo>
                <a:lnTo>
                  <a:pt x="654" y="734"/>
                </a:lnTo>
                <a:lnTo>
                  <a:pt x="665" y="751"/>
                </a:lnTo>
                <a:lnTo>
                  <a:pt x="665" y="769"/>
                </a:lnTo>
                <a:lnTo>
                  <a:pt x="665" y="786"/>
                </a:lnTo>
                <a:lnTo>
                  <a:pt x="665" y="804"/>
                </a:lnTo>
                <a:lnTo>
                  <a:pt x="665" y="821"/>
                </a:lnTo>
                <a:lnTo>
                  <a:pt x="665" y="844"/>
                </a:lnTo>
                <a:lnTo>
                  <a:pt x="665" y="867"/>
                </a:lnTo>
                <a:lnTo>
                  <a:pt x="671" y="884"/>
                </a:lnTo>
                <a:lnTo>
                  <a:pt x="671" y="902"/>
                </a:lnTo>
                <a:lnTo>
                  <a:pt x="671" y="948"/>
                </a:lnTo>
                <a:lnTo>
                  <a:pt x="671" y="994"/>
                </a:lnTo>
                <a:lnTo>
                  <a:pt x="671" y="1012"/>
                </a:lnTo>
                <a:lnTo>
                  <a:pt x="665" y="1029"/>
                </a:lnTo>
                <a:lnTo>
                  <a:pt x="660" y="1046"/>
                </a:lnTo>
                <a:lnTo>
                  <a:pt x="660" y="1064"/>
                </a:lnTo>
                <a:lnTo>
                  <a:pt x="654" y="1081"/>
                </a:lnTo>
                <a:lnTo>
                  <a:pt x="654" y="1098"/>
                </a:lnTo>
                <a:lnTo>
                  <a:pt x="654" y="1122"/>
                </a:lnTo>
                <a:lnTo>
                  <a:pt x="654" y="1139"/>
                </a:lnTo>
                <a:lnTo>
                  <a:pt x="660" y="1162"/>
                </a:lnTo>
                <a:lnTo>
                  <a:pt x="660" y="1179"/>
                </a:lnTo>
                <a:lnTo>
                  <a:pt x="665" y="1197"/>
                </a:lnTo>
                <a:lnTo>
                  <a:pt x="677" y="1214"/>
                </a:lnTo>
                <a:lnTo>
                  <a:pt x="688" y="1231"/>
                </a:lnTo>
                <a:lnTo>
                  <a:pt x="694" y="1249"/>
                </a:lnTo>
                <a:lnTo>
                  <a:pt x="706" y="1272"/>
                </a:lnTo>
                <a:lnTo>
                  <a:pt x="717" y="1289"/>
                </a:lnTo>
                <a:lnTo>
                  <a:pt x="735" y="1307"/>
                </a:lnTo>
                <a:lnTo>
                  <a:pt x="746" y="1324"/>
                </a:lnTo>
                <a:lnTo>
                  <a:pt x="764" y="1341"/>
                </a:lnTo>
                <a:lnTo>
                  <a:pt x="775" y="1359"/>
                </a:lnTo>
                <a:lnTo>
                  <a:pt x="781" y="137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89200" y="3603600"/>
            <a:ext cx="4143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89200" y="3639960"/>
            <a:ext cx="432000" cy="293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8040" y="353700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52840" y="3465360"/>
            <a:ext cx="1930320" cy="2132280"/>
          </a:xfrm>
          <a:custGeom>
            <a:avLst/>
            <a:gdLst/>
            <a:ahLst/>
            <a:rect l="l" t="t" r="r" b="b"/>
            <a:pathLst>
              <a:path w="1216" h="1343">
                <a:moveTo>
                  <a:pt x="492" y="625"/>
                </a:moveTo>
                <a:lnTo>
                  <a:pt x="469" y="630"/>
                </a:lnTo>
                <a:lnTo>
                  <a:pt x="451" y="636"/>
                </a:lnTo>
                <a:lnTo>
                  <a:pt x="434" y="636"/>
                </a:lnTo>
                <a:lnTo>
                  <a:pt x="417" y="642"/>
                </a:lnTo>
                <a:lnTo>
                  <a:pt x="393" y="642"/>
                </a:lnTo>
                <a:lnTo>
                  <a:pt x="376" y="642"/>
                </a:lnTo>
                <a:lnTo>
                  <a:pt x="353" y="642"/>
                </a:lnTo>
                <a:lnTo>
                  <a:pt x="336" y="642"/>
                </a:lnTo>
                <a:lnTo>
                  <a:pt x="312" y="642"/>
                </a:lnTo>
                <a:lnTo>
                  <a:pt x="295" y="642"/>
                </a:lnTo>
                <a:lnTo>
                  <a:pt x="260" y="642"/>
                </a:lnTo>
                <a:lnTo>
                  <a:pt x="243" y="642"/>
                </a:lnTo>
                <a:lnTo>
                  <a:pt x="226" y="642"/>
                </a:lnTo>
                <a:lnTo>
                  <a:pt x="191" y="642"/>
                </a:lnTo>
                <a:lnTo>
                  <a:pt x="174" y="642"/>
                </a:lnTo>
                <a:lnTo>
                  <a:pt x="156" y="642"/>
                </a:lnTo>
                <a:lnTo>
                  <a:pt x="139" y="642"/>
                </a:lnTo>
                <a:lnTo>
                  <a:pt x="122" y="642"/>
                </a:lnTo>
                <a:lnTo>
                  <a:pt x="104" y="654"/>
                </a:lnTo>
                <a:lnTo>
                  <a:pt x="87" y="665"/>
                </a:lnTo>
                <a:lnTo>
                  <a:pt x="70" y="682"/>
                </a:lnTo>
                <a:lnTo>
                  <a:pt x="58" y="700"/>
                </a:lnTo>
                <a:lnTo>
                  <a:pt x="46" y="717"/>
                </a:lnTo>
                <a:lnTo>
                  <a:pt x="46" y="735"/>
                </a:lnTo>
                <a:lnTo>
                  <a:pt x="46" y="752"/>
                </a:lnTo>
                <a:lnTo>
                  <a:pt x="46" y="769"/>
                </a:lnTo>
                <a:lnTo>
                  <a:pt x="46" y="787"/>
                </a:lnTo>
                <a:lnTo>
                  <a:pt x="41" y="804"/>
                </a:lnTo>
                <a:lnTo>
                  <a:pt x="29" y="821"/>
                </a:lnTo>
                <a:lnTo>
                  <a:pt x="6" y="810"/>
                </a:lnTo>
                <a:lnTo>
                  <a:pt x="0" y="792"/>
                </a:lnTo>
                <a:lnTo>
                  <a:pt x="0" y="775"/>
                </a:lnTo>
                <a:lnTo>
                  <a:pt x="0" y="758"/>
                </a:lnTo>
                <a:lnTo>
                  <a:pt x="6" y="740"/>
                </a:lnTo>
                <a:lnTo>
                  <a:pt x="12" y="723"/>
                </a:lnTo>
                <a:lnTo>
                  <a:pt x="17" y="706"/>
                </a:lnTo>
                <a:lnTo>
                  <a:pt x="23" y="688"/>
                </a:lnTo>
                <a:lnTo>
                  <a:pt x="29" y="671"/>
                </a:lnTo>
                <a:lnTo>
                  <a:pt x="35" y="654"/>
                </a:lnTo>
                <a:lnTo>
                  <a:pt x="41" y="636"/>
                </a:lnTo>
                <a:lnTo>
                  <a:pt x="52" y="619"/>
                </a:lnTo>
                <a:lnTo>
                  <a:pt x="52" y="602"/>
                </a:lnTo>
                <a:lnTo>
                  <a:pt x="70" y="584"/>
                </a:lnTo>
                <a:lnTo>
                  <a:pt x="75" y="567"/>
                </a:lnTo>
                <a:lnTo>
                  <a:pt x="81" y="549"/>
                </a:lnTo>
                <a:lnTo>
                  <a:pt x="87" y="532"/>
                </a:lnTo>
                <a:lnTo>
                  <a:pt x="87" y="515"/>
                </a:lnTo>
                <a:lnTo>
                  <a:pt x="87" y="497"/>
                </a:lnTo>
                <a:lnTo>
                  <a:pt x="104" y="480"/>
                </a:lnTo>
                <a:lnTo>
                  <a:pt x="116" y="463"/>
                </a:lnTo>
                <a:lnTo>
                  <a:pt x="127" y="445"/>
                </a:lnTo>
                <a:lnTo>
                  <a:pt x="133" y="428"/>
                </a:lnTo>
                <a:lnTo>
                  <a:pt x="139" y="411"/>
                </a:lnTo>
                <a:lnTo>
                  <a:pt x="156" y="393"/>
                </a:lnTo>
                <a:lnTo>
                  <a:pt x="162" y="376"/>
                </a:lnTo>
                <a:lnTo>
                  <a:pt x="174" y="359"/>
                </a:lnTo>
                <a:lnTo>
                  <a:pt x="185" y="341"/>
                </a:lnTo>
                <a:lnTo>
                  <a:pt x="197" y="324"/>
                </a:lnTo>
                <a:lnTo>
                  <a:pt x="220" y="307"/>
                </a:lnTo>
                <a:lnTo>
                  <a:pt x="237" y="307"/>
                </a:lnTo>
                <a:lnTo>
                  <a:pt x="255" y="301"/>
                </a:lnTo>
                <a:lnTo>
                  <a:pt x="272" y="301"/>
                </a:lnTo>
                <a:lnTo>
                  <a:pt x="289" y="301"/>
                </a:lnTo>
                <a:lnTo>
                  <a:pt x="307" y="289"/>
                </a:lnTo>
                <a:lnTo>
                  <a:pt x="324" y="289"/>
                </a:lnTo>
                <a:lnTo>
                  <a:pt x="341" y="278"/>
                </a:lnTo>
                <a:lnTo>
                  <a:pt x="365" y="272"/>
                </a:lnTo>
                <a:lnTo>
                  <a:pt x="388" y="260"/>
                </a:lnTo>
                <a:lnTo>
                  <a:pt x="405" y="255"/>
                </a:lnTo>
                <a:lnTo>
                  <a:pt x="428" y="249"/>
                </a:lnTo>
                <a:lnTo>
                  <a:pt x="451" y="243"/>
                </a:lnTo>
                <a:lnTo>
                  <a:pt x="469" y="243"/>
                </a:lnTo>
                <a:lnTo>
                  <a:pt x="486" y="243"/>
                </a:lnTo>
                <a:lnTo>
                  <a:pt x="503" y="237"/>
                </a:lnTo>
                <a:lnTo>
                  <a:pt x="521" y="231"/>
                </a:lnTo>
                <a:lnTo>
                  <a:pt x="544" y="231"/>
                </a:lnTo>
                <a:lnTo>
                  <a:pt x="561" y="231"/>
                </a:lnTo>
                <a:lnTo>
                  <a:pt x="579" y="231"/>
                </a:lnTo>
                <a:lnTo>
                  <a:pt x="596" y="231"/>
                </a:lnTo>
                <a:lnTo>
                  <a:pt x="613" y="220"/>
                </a:lnTo>
                <a:lnTo>
                  <a:pt x="631" y="208"/>
                </a:lnTo>
                <a:lnTo>
                  <a:pt x="648" y="197"/>
                </a:lnTo>
                <a:lnTo>
                  <a:pt x="688" y="185"/>
                </a:lnTo>
                <a:lnTo>
                  <a:pt x="706" y="179"/>
                </a:lnTo>
                <a:lnTo>
                  <a:pt x="723" y="168"/>
                </a:lnTo>
                <a:lnTo>
                  <a:pt x="740" y="156"/>
                </a:lnTo>
                <a:lnTo>
                  <a:pt x="758" y="145"/>
                </a:lnTo>
                <a:lnTo>
                  <a:pt x="804" y="127"/>
                </a:lnTo>
                <a:lnTo>
                  <a:pt x="821" y="122"/>
                </a:lnTo>
                <a:lnTo>
                  <a:pt x="839" y="116"/>
                </a:lnTo>
                <a:lnTo>
                  <a:pt x="856" y="110"/>
                </a:lnTo>
                <a:lnTo>
                  <a:pt x="874" y="98"/>
                </a:lnTo>
                <a:lnTo>
                  <a:pt x="891" y="93"/>
                </a:lnTo>
                <a:lnTo>
                  <a:pt x="908" y="87"/>
                </a:lnTo>
                <a:lnTo>
                  <a:pt x="926" y="81"/>
                </a:lnTo>
                <a:lnTo>
                  <a:pt x="978" y="70"/>
                </a:lnTo>
                <a:lnTo>
                  <a:pt x="995" y="64"/>
                </a:lnTo>
                <a:lnTo>
                  <a:pt x="1012" y="64"/>
                </a:lnTo>
                <a:lnTo>
                  <a:pt x="1030" y="58"/>
                </a:lnTo>
                <a:lnTo>
                  <a:pt x="1047" y="52"/>
                </a:lnTo>
                <a:lnTo>
                  <a:pt x="1064" y="46"/>
                </a:lnTo>
                <a:lnTo>
                  <a:pt x="1082" y="35"/>
                </a:lnTo>
                <a:lnTo>
                  <a:pt x="1099" y="29"/>
                </a:lnTo>
                <a:lnTo>
                  <a:pt x="1116" y="17"/>
                </a:lnTo>
                <a:lnTo>
                  <a:pt x="1134" y="12"/>
                </a:lnTo>
                <a:lnTo>
                  <a:pt x="1151" y="6"/>
                </a:lnTo>
                <a:lnTo>
                  <a:pt x="1174" y="0"/>
                </a:lnTo>
                <a:lnTo>
                  <a:pt x="1192" y="0"/>
                </a:lnTo>
                <a:lnTo>
                  <a:pt x="1203" y="17"/>
                </a:lnTo>
                <a:lnTo>
                  <a:pt x="1203" y="35"/>
                </a:lnTo>
                <a:lnTo>
                  <a:pt x="1203" y="52"/>
                </a:lnTo>
                <a:lnTo>
                  <a:pt x="1215" y="70"/>
                </a:lnTo>
                <a:lnTo>
                  <a:pt x="1215" y="93"/>
                </a:lnTo>
                <a:lnTo>
                  <a:pt x="1209" y="139"/>
                </a:lnTo>
                <a:lnTo>
                  <a:pt x="1209" y="185"/>
                </a:lnTo>
                <a:lnTo>
                  <a:pt x="1209" y="208"/>
                </a:lnTo>
                <a:lnTo>
                  <a:pt x="1209" y="255"/>
                </a:lnTo>
                <a:lnTo>
                  <a:pt x="1203" y="301"/>
                </a:lnTo>
                <a:lnTo>
                  <a:pt x="1203" y="347"/>
                </a:lnTo>
                <a:lnTo>
                  <a:pt x="1203" y="393"/>
                </a:lnTo>
                <a:lnTo>
                  <a:pt x="1203" y="428"/>
                </a:lnTo>
                <a:lnTo>
                  <a:pt x="1203" y="463"/>
                </a:lnTo>
                <a:lnTo>
                  <a:pt x="1197" y="509"/>
                </a:lnTo>
                <a:lnTo>
                  <a:pt x="1197" y="555"/>
                </a:lnTo>
                <a:lnTo>
                  <a:pt x="1197" y="602"/>
                </a:lnTo>
                <a:lnTo>
                  <a:pt x="1197" y="648"/>
                </a:lnTo>
                <a:lnTo>
                  <a:pt x="1197" y="694"/>
                </a:lnTo>
                <a:lnTo>
                  <a:pt x="1197" y="740"/>
                </a:lnTo>
                <a:lnTo>
                  <a:pt x="1197" y="758"/>
                </a:lnTo>
                <a:lnTo>
                  <a:pt x="1197" y="781"/>
                </a:lnTo>
                <a:lnTo>
                  <a:pt x="1197" y="798"/>
                </a:lnTo>
                <a:lnTo>
                  <a:pt x="1197" y="844"/>
                </a:lnTo>
                <a:lnTo>
                  <a:pt x="1197" y="862"/>
                </a:lnTo>
                <a:lnTo>
                  <a:pt x="1197" y="908"/>
                </a:lnTo>
                <a:lnTo>
                  <a:pt x="1197" y="943"/>
                </a:lnTo>
                <a:lnTo>
                  <a:pt x="1197" y="960"/>
                </a:lnTo>
                <a:lnTo>
                  <a:pt x="1197" y="983"/>
                </a:lnTo>
                <a:lnTo>
                  <a:pt x="1197" y="1018"/>
                </a:lnTo>
                <a:lnTo>
                  <a:pt x="1197" y="1064"/>
                </a:lnTo>
                <a:lnTo>
                  <a:pt x="1197" y="1081"/>
                </a:lnTo>
                <a:lnTo>
                  <a:pt x="1197" y="1099"/>
                </a:lnTo>
                <a:lnTo>
                  <a:pt x="1192" y="1145"/>
                </a:lnTo>
                <a:lnTo>
                  <a:pt x="1192" y="1162"/>
                </a:lnTo>
                <a:lnTo>
                  <a:pt x="1174" y="1180"/>
                </a:lnTo>
                <a:lnTo>
                  <a:pt x="1157" y="1186"/>
                </a:lnTo>
                <a:lnTo>
                  <a:pt x="1116" y="1197"/>
                </a:lnTo>
                <a:lnTo>
                  <a:pt x="1093" y="1197"/>
                </a:lnTo>
                <a:lnTo>
                  <a:pt x="1047" y="1197"/>
                </a:lnTo>
                <a:lnTo>
                  <a:pt x="1030" y="1203"/>
                </a:lnTo>
                <a:lnTo>
                  <a:pt x="1012" y="1209"/>
                </a:lnTo>
                <a:lnTo>
                  <a:pt x="995" y="1209"/>
                </a:lnTo>
                <a:lnTo>
                  <a:pt x="972" y="1214"/>
                </a:lnTo>
                <a:lnTo>
                  <a:pt x="954" y="1214"/>
                </a:lnTo>
                <a:lnTo>
                  <a:pt x="937" y="1220"/>
                </a:lnTo>
                <a:lnTo>
                  <a:pt x="920" y="1226"/>
                </a:lnTo>
                <a:lnTo>
                  <a:pt x="902" y="1238"/>
                </a:lnTo>
                <a:lnTo>
                  <a:pt x="885" y="1243"/>
                </a:lnTo>
                <a:lnTo>
                  <a:pt x="862" y="1255"/>
                </a:lnTo>
                <a:lnTo>
                  <a:pt x="845" y="1261"/>
                </a:lnTo>
                <a:lnTo>
                  <a:pt x="821" y="1266"/>
                </a:lnTo>
                <a:lnTo>
                  <a:pt x="798" y="1278"/>
                </a:lnTo>
                <a:lnTo>
                  <a:pt x="781" y="1278"/>
                </a:lnTo>
                <a:lnTo>
                  <a:pt x="758" y="1284"/>
                </a:lnTo>
                <a:lnTo>
                  <a:pt x="735" y="1284"/>
                </a:lnTo>
                <a:lnTo>
                  <a:pt x="700" y="1290"/>
                </a:lnTo>
                <a:lnTo>
                  <a:pt x="683" y="1295"/>
                </a:lnTo>
                <a:lnTo>
                  <a:pt x="665" y="1295"/>
                </a:lnTo>
                <a:lnTo>
                  <a:pt x="665" y="1313"/>
                </a:lnTo>
                <a:lnTo>
                  <a:pt x="654" y="1330"/>
                </a:lnTo>
                <a:lnTo>
                  <a:pt x="636" y="1330"/>
                </a:lnTo>
                <a:lnTo>
                  <a:pt x="613" y="1330"/>
                </a:lnTo>
                <a:lnTo>
                  <a:pt x="596" y="1330"/>
                </a:lnTo>
                <a:lnTo>
                  <a:pt x="579" y="1342"/>
                </a:lnTo>
                <a:lnTo>
                  <a:pt x="561" y="1342"/>
                </a:lnTo>
                <a:lnTo>
                  <a:pt x="544" y="1342"/>
                </a:lnTo>
                <a:lnTo>
                  <a:pt x="526" y="1330"/>
                </a:lnTo>
                <a:lnTo>
                  <a:pt x="509" y="1319"/>
                </a:lnTo>
                <a:lnTo>
                  <a:pt x="492" y="1301"/>
                </a:lnTo>
                <a:lnTo>
                  <a:pt x="474" y="1278"/>
                </a:lnTo>
                <a:lnTo>
                  <a:pt x="463" y="1243"/>
                </a:lnTo>
                <a:lnTo>
                  <a:pt x="451" y="1226"/>
                </a:lnTo>
                <a:lnTo>
                  <a:pt x="445" y="1209"/>
                </a:lnTo>
                <a:lnTo>
                  <a:pt x="434" y="1191"/>
                </a:lnTo>
                <a:lnTo>
                  <a:pt x="422" y="1168"/>
                </a:lnTo>
                <a:lnTo>
                  <a:pt x="417" y="1151"/>
                </a:lnTo>
                <a:lnTo>
                  <a:pt x="411" y="1133"/>
                </a:lnTo>
                <a:lnTo>
                  <a:pt x="399" y="1099"/>
                </a:lnTo>
                <a:lnTo>
                  <a:pt x="399" y="1081"/>
                </a:lnTo>
                <a:lnTo>
                  <a:pt x="393" y="1064"/>
                </a:lnTo>
                <a:lnTo>
                  <a:pt x="393" y="1041"/>
                </a:lnTo>
                <a:lnTo>
                  <a:pt x="393" y="1024"/>
                </a:lnTo>
                <a:lnTo>
                  <a:pt x="393" y="1006"/>
                </a:lnTo>
                <a:lnTo>
                  <a:pt x="393" y="989"/>
                </a:lnTo>
                <a:lnTo>
                  <a:pt x="399" y="972"/>
                </a:lnTo>
                <a:lnTo>
                  <a:pt x="405" y="954"/>
                </a:lnTo>
                <a:lnTo>
                  <a:pt x="411" y="937"/>
                </a:lnTo>
                <a:lnTo>
                  <a:pt x="417" y="914"/>
                </a:lnTo>
                <a:lnTo>
                  <a:pt x="422" y="879"/>
                </a:lnTo>
                <a:lnTo>
                  <a:pt x="428" y="862"/>
                </a:lnTo>
                <a:lnTo>
                  <a:pt x="434" y="844"/>
                </a:lnTo>
                <a:lnTo>
                  <a:pt x="434" y="821"/>
                </a:lnTo>
                <a:lnTo>
                  <a:pt x="434" y="798"/>
                </a:lnTo>
                <a:lnTo>
                  <a:pt x="434" y="752"/>
                </a:lnTo>
                <a:lnTo>
                  <a:pt x="440" y="735"/>
                </a:lnTo>
                <a:lnTo>
                  <a:pt x="440" y="717"/>
                </a:lnTo>
                <a:lnTo>
                  <a:pt x="440" y="700"/>
                </a:lnTo>
                <a:lnTo>
                  <a:pt x="440" y="682"/>
                </a:lnTo>
                <a:lnTo>
                  <a:pt x="440" y="665"/>
                </a:lnTo>
                <a:lnTo>
                  <a:pt x="440" y="65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rcRect l="15730" t="2688" r="20449" b="20683"/>
          <a:stretch/>
        </p:blipFill>
        <p:spPr>
          <a:xfrm>
            <a:off x="374760" y="1793880"/>
            <a:ext cx="4252680" cy="4149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 flipH="1">
            <a:off x="2963520" y="3627360"/>
            <a:ext cx="9036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27280" y="3046320"/>
            <a:ext cx="2476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54200" y="295272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63920" y="2363760"/>
            <a:ext cx="2458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89040" y="232092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74880" y="3295800"/>
            <a:ext cx="1050840" cy="1058760"/>
          </a:xfrm>
          <a:custGeom>
            <a:avLst/>
            <a:gdLst/>
            <a:ahLst/>
            <a:rect l="l" t="t" r="r" b="b"/>
            <a:pathLst>
              <a:path w="662" h="667">
                <a:moveTo>
                  <a:pt x="0" y="0"/>
                </a:moveTo>
                <a:lnTo>
                  <a:pt x="12" y="22"/>
                </a:lnTo>
                <a:lnTo>
                  <a:pt x="12" y="39"/>
                </a:lnTo>
                <a:lnTo>
                  <a:pt x="19" y="56"/>
                </a:lnTo>
                <a:lnTo>
                  <a:pt x="31" y="73"/>
                </a:lnTo>
                <a:lnTo>
                  <a:pt x="37" y="90"/>
                </a:lnTo>
                <a:lnTo>
                  <a:pt x="44" y="107"/>
                </a:lnTo>
                <a:lnTo>
                  <a:pt x="50" y="124"/>
                </a:lnTo>
                <a:lnTo>
                  <a:pt x="56" y="141"/>
                </a:lnTo>
                <a:lnTo>
                  <a:pt x="56" y="157"/>
                </a:lnTo>
                <a:lnTo>
                  <a:pt x="62" y="175"/>
                </a:lnTo>
                <a:lnTo>
                  <a:pt x="75" y="192"/>
                </a:lnTo>
                <a:lnTo>
                  <a:pt x="87" y="208"/>
                </a:lnTo>
                <a:lnTo>
                  <a:pt x="100" y="226"/>
                </a:lnTo>
                <a:lnTo>
                  <a:pt x="118" y="236"/>
                </a:lnTo>
                <a:lnTo>
                  <a:pt x="136" y="254"/>
                </a:lnTo>
                <a:lnTo>
                  <a:pt x="149" y="271"/>
                </a:lnTo>
                <a:lnTo>
                  <a:pt x="162" y="287"/>
                </a:lnTo>
                <a:lnTo>
                  <a:pt x="181" y="305"/>
                </a:lnTo>
                <a:lnTo>
                  <a:pt x="187" y="321"/>
                </a:lnTo>
                <a:lnTo>
                  <a:pt x="199" y="338"/>
                </a:lnTo>
                <a:lnTo>
                  <a:pt x="199" y="355"/>
                </a:lnTo>
                <a:lnTo>
                  <a:pt x="199" y="372"/>
                </a:lnTo>
                <a:lnTo>
                  <a:pt x="199" y="389"/>
                </a:lnTo>
                <a:lnTo>
                  <a:pt x="199" y="406"/>
                </a:lnTo>
                <a:lnTo>
                  <a:pt x="199" y="423"/>
                </a:lnTo>
                <a:lnTo>
                  <a:pt x="194" y="439"/>
                </a:lnTo>
                <a:lnTo>
                  <a:pt x="194" y="457"/>
                </a:lnTo>
                <a:lnTo>
                  <a:pt x="187" y="473"/>
                </a:lnTo>
                <a:lnTo>
                  <a:pt x="181" y="490"/>
                </a:lnTo>
                <a:lnTo>
                  <a:pt x="181" y="508"/>
                </a:lnTo>
                <a:lnTo>
                  <a:pt x="168" y="524"/>
                </a:lnTo>
                <a:lnTo>
                  <a:pt x="162" y="541"/>
                </a:lnTo>
                <a:lnTo>
                  <a:pt x="156" y="558"/>
                </a:lnTo>
                <a:lnTo>
                  <a:pt x="149" y="575"/>
                </a:lnTo>
                <a:lnTo>
                  <a:pt x="143" y="591"/>
                </a:lnTo>
                <a:lnTo>
                  <a:pt x="136" y="609"/>
                </a:lnTo>
                <a:lnTo>
                  <a:pt x="131" y="626"/>
                </a:lnTo>
                <a:lnTo>
                  <a:pt x="131" y="643"/>
                </a:lnTo>
                <a:lnTo>
                  <a:pt x="149" y="654"/>
                </a:lnTo>
                <a:lnTo>
                  <a:pt x="168" y="666"/>
                </a:lnTo>
                <a:lnTo>
                  <a:pt x="187" y="666"/>
                </a:lnTo>
                <a:lnTo>
                  <a:pt x="205" y="666"/>
                </a:lnTo>
                <a:lnTo>
                  <a:pt x="224" y="666"/>
                </a:lnTo>
                <a:lnTo>
                  <a:pt x="243" y="660"/>
                </a:lnTo>
                <a:lnTo>
                  <a:pt x="262" y="660"/>
                </a:lnTo>
                <a:lnTo>
                  <a:pt x="281" y="654"/>
                </a:lnTo>
                <a:lnTo>
                  <a:pt x="299" y="654"/>
                </a:lnTo>
                <a:lnTo>
                  <a:pt x="318" y="654"/>
                </a:lnTo>
                <a:lnTo>
                  <a:pt x="337" y="654"/>
                </a:lnTo>
                <a:lnTo>
                  <a:pt x="355" y="648"/>
                </a:lnTo>
                <a:lnTo>
                  <a:pt x="374" y="648"/>
                </a:lnTo>
                <a:lnTo>
                  <a:pt x="393" y="637"/>
                </a:lnTo>
                <a:lnTo>
                  <a:pt x="411" y="626"/>
                </a:lnTo>
                <a:lnTo>
                  <a:pt x="430" y="620"/>
                </a:lnTo>
                <a:lnTo>
                  <a:pt x="449" y="615"/>
                </a:lnTo>
                <a:lnTo>
                  <a:pt x="467" y="609"/>
                </a:lnTo>
                <a:lnTo>
                  <a:pt x="486" y="609"/>
                </a:lnTo>
                <a:lnTo>
                  <a:pt x="512" y="609"/>
                </a:lnTo>
                <a:lnTo>
                  <a:pt x="530" y="609"/>
                </a:lnTo>
                <a:lnTo>
                  <a:pt x="548" y="609"/>
                </a:lnTo>
                <a:lnTo>
                  <a:pt x="573" y="609"/>
                </a:lnTo>
                <a:lnTo>
                  <a:pt x="593" y="609"/>
                </a:lnTo>
                <a:lnTo>
                  <a:pt x="611" y="609"/>
                </a:lnTo>
                <a:lnTo>
                  <a:pt x="629" y="603"/>
                </a:lnTo>
                <a:lnTo>
                  <a:pt x="642" y="587"/>
                </a:lnTo>
                <a:lnTo>
                  <a:pt x="661" y="56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2640" y="1909800"/>
            <a:ext cx="1138320" cy="2165400"/>
          </a:xfrm>
          <a:custGeom>
            <a:avLst/>
            <a:gdLst/>
            <a:ahLst/>
            <a:rect l="l" t="t" r="r" b="b"/>
            <a:pathLst>
              <a:path w="717" h="1364">
                <a:moveTo>
                  <a:pt x="156" y="0"/>
                </a:moveTo>
                <a:lnTo>
                  <a:pt x="180" y="5"/>
                </a:lnTo>
                <a:lnTo>
                  <a:pt x="199" y="16"/>
                </a:lnTo>
                <a:lnTo>
                  <a:pt x="217" y="28"/>
                </a:lnTo>
                <a:lnTo>
                  <a:pt x="230" y="44"/>
                </a:lnTo>
                <a:lnTo>
                  <a:pt x="248" y="50"/>
                </a:lnTo>
                <a:lnTo>
                  <a:pt x="268" y="50"/>
                </a:lnTo>
                <a:lnTo>
                  <a:pt x="286" y="62"/>
                </a:lnTo>
                <a:lnTo>
                  <a:pt x="304" y="73"/>
                </a:lnTo>
                <a:lnTo>
                  <a:pt x="330" y="90"/>
                </a:lnTo>
                <a:lnTo>
                  <a:pt x="342" y="107"/>
                </a:lnTo>
                <a:lnTo>
                  <a:pt x="355" y="123"/>
                </a:lnTo>
                <a:lnTo>
                  <a:pt x="373" y="141"/>
                </a:lnTo>
                <a:lnTo>
                  <a:pt x="391" y="151"/>
                </a:lnTo>
                <a:lnTo>
                  <a:pt x="404" y="168"/>
                </a:lnTo>
                <a:lnTo>
                  <a:pt x="417" y="186"/>
                </a:lnTo>
                <a:lnTo>
                  <a:pt x="436" y="202"/>
                </a:lnTo>
                <a:lnTo>
                  <a:pt x="447" y="220"/>
                </a:lnTo>
                <a:lnTo>
                  <a:pt x="467" y="236"/>
                </a:lnTo>
                <a:lnTo>
                  <a:pt x="479" y="253"/>
                </a:lnTo>
                <a:lnTo>
                  <a:pt x="492" y="270"/>
                </a:lnTo>
                <a:lnTo>
                  <a:pt x="504" y="287"/>
                </a:lnTo>
                <a:lnTo>
                  <a:pt x="510" y="303"/>
                </a:lnTo>
                <a:lnTo>
                  <a:pt x="523" y="321"/>
                </a:lnTo>
                <a:lnTo>
                  <a:pt x="535" y="338"/>
                </a:lnTo>
                <a:lnTo>
                  <a:pt x="554" y="354"/>
                </a:lnTo>
                <a:lnTo>
                  <a:pt x="560" y="372"/>
                </a:lnTo>
                <a:lnTo>
                  <a:pt x="572" y="388"/>
                </a:lnTo>
                <a:lnTo>
                  <a:pt x="579" y="405"/>
                </a:lnTo>
                <a:lnTo>
                  <a:pt x="585" y="422"/>
                </a:lnTo>
                <a:lnTo>
                  <a:pt x="597" y="439"/>
                </a:lnTo>
                <a:lnTo>
                  <a:pt x="604" y="455"/>
                </a:lnTo>
                <a:lnTo>
                  <a:pt x="610" y="473"/>
                </a:lnTo>
                <a:lnTo>
                  <a:pt x="616" y="490"/>
                </a:lnTo>
                <a:lnTo>
                  <a:pt x="628" y="506"/>
                </a:lnTo>
                <a:lnTo>
                  <a:pt x="635" y="524"/>
                </a:lnTo>
                <a:lnTo>
                  <a:pt x="635" y="540"/>
                </a:lnTo>
                <a:lnTo>
                  <a:pt x="641" y="557"/>
                </a:lnTo>
                <a:lnTo>
                  <a:pt x="648" y="574"/>
                </a:lnTo>
                <a:lnTo>
                  <a:pt x="648" y="591"/>
                </a:lnTo>
                <a:lnTo>
                  <a:pt x="653" y="608"/>
                </a:lnTo>
                <a:lnTo>
                  <a:pt x="653" y="625"/>
                </a:lnTo>
                <a:lnTo>
                  <a:pt x="660" y="642"/>
                </a:lnTo>
                <a:lnTo>
                  <a:pt x="660" y="659"/>
                </a:lnTo>
                <a:lnTo>
                  <a:pt x="666" y="676"/>
                </a:lnTo>
                <a:lnTo>
                  <a:pt x="672" y="692"/>
                </a:lnTo>
                <a:lnTo>
                  <a:pt x="679" y="710"/>
                </a:lnTo>
                <a:lnTo>
                  <a:pt x="684" y="726"/>
                </a:lnTo>
                <a:lnTo>
                  <a:pt x="684" y="743"/>
                </a:lnTo>
                <a:lnTo>
                  <a:pt x="691" y="760"/>
                </a:lnTo>
                <a:lnTo>
                  <a:pt x="691" y="777"/>
                </a:lnTo>
                <a:lnTo>
                  <a:pt x="697" y="794"/>
                </a:lnTo>
                <a:lnTo>
                  <a:pt x="704" y="811"/>
                </a:lnTo>
                <a:lnTo>
                  <a:pt x="709" y="828"/>
                </a:lnTo>
                <a:lnTo>
                  <a:pt x="709" y="844"/>
                </a:lnTo>
                <a:lnTo>
                  <a:pt x="709" y="862"/>
                </a:lnTo>
                <a:lnTo>
                  <a:pt x="716" y="878"/>
                </a:lnTo>
                <a:lnTo>
                  <a:pt x="716" y="895"/>
                </a:lnTo>
                <a:lnTo>
                  <a:pt x="716" y="912"/>
                </a:lnTo>
                <a:lnTo>
                  <a:pt x="709" y="929"/>
                </a:lnTo>
                <a:lnTo>
                  <a:pt x="697" y="946"/>
                </a:lnTo>
                <a:lnTo>
                  <a:pt x="691" y="963"/>
                </a:lnTo>
                <a:lnTo>
                  <a:pt x="679" y="980"/>
                </a:lnTo>
                <a:lnTo>
                  <a:pt x="672" y="997"/>
                </a:lnTo>
                <a:lnTo>
                  <a:pt x="666" y="1020"/>
                </a:lnTo>
                <a:lnTo>
                  <a:pt x="660" y="1036"/>
                </a:lnTo>
                <a:lnTo>
                  <a:pt x="648" y="1053"/>
                </a:lnTo>
                <a:lnTo>
                  <a:pt x="628" y="1064"/>
                </a:lnTo>
                <a:lnTo>
                  <a:pt x="610" y="1075"/>
                </a:lnTo>
                <a:lnTo>
                  <a:pt x="592" y="1081"/>
                </a:lnTo>
                <a:lnTo>
                  <a:pt x="572" y="1087"/>
                </a:lnTo>
                <a:lnTo>
                  <a:pt x="554" y="1093"/>
                </a:lnTo>
                <a:lnTo>
                  <a:pt x="535" y="1103"/>
                </a:lnTo>
                <a:lnTo>
                  <a:pt x="516" y="1109"/>
                </a:lnTo>
                <a:lnTo>
                  <a:pt x="498" y="1115"/>
                </a:lnTo>
                <a:lnTo>
                  <a:pt x="479" y="1121"/>
                </a:lnTo>
                <a:lnTo>
                  <a:pt x="460" y="1132"/>
                </a:lnTo>
                <a:lnTo>
                  <a:pt x="442" y="1143"/>
                </a:lnTo>
                <a:lnTo>
                  <a:pt x="423" y="1154"/>
                </a:lnTo>
                <a:lnTo>
                  <a:pt x="404" y="1166"/>
                </a:lnTo>
                <a:lnTo>
                  <a:pt x="386" y="1182"/>
                </a:lnTo>
                <a:lnTo>
                  <a:pt x="367" y="1194"/>
                </a:lnTo>
                <a:lnTo>
                  <a:pt x="348" y="1200"/>
                </a:lnTo>
                <a:lnTo>
                  <a:pt x="330" y="1205"/>
                </a:lnTo>
                <a:lnTo>
                  <a:pt x="311" y="1211"/>
                </a:lnTo>
                <a:lnTo>
                  <a:pt x="286" y="1228"/>
                </a:lnTo>
                <a:lnTo>
                  <a:pt x="268" y="1233"/>
                </a:lnTo>
                <a:lnTo>
                  <a:pt x="248" y="1245"/>
                </a:lnTo>
                <a:lnTo>
                  <a:pt x="230" y="1250"/>
                </a:lnTo>
                <a:lnTo>
                  <a:pt x="212" y="1256"/>
                </a:lnTo>
                <a:lnTo>
                  <a:pt x="192" y="1261"/>
                </a:lnTo>
                <a:lnTo>
                  <a:pt x="174" y="1267"/>
                </a:lnTo>
                <a:lnTo>
                  <a:pt x="156" y="1279"/>
                </a:lnTo>
                <a:lnTo>
                  <a:pt x="136" y="1295"/>
                </a:lnTo>
                <a:lnTo>
                  <a:pt x="118" y="1307"/>
                </a:lnTo>
                <a:lnTo>
                  <a:pt x="100" y="1312"/>
                </a:lnTo>
                <a:lnTo>
                  <a:pt x="80" y="1318"/>
                </a:lnTo>
                <a:lnTo>
                  <a:pt x="62" y="1324"/>
                </a:lnTo>
                <a:lnTo>
                  <a:pt x="44" y="1334"/>
                </a:lnTo>
                <a:lnTo>
                  <a:pt x="24" y="1346"/>
                </a:lnTo>
                <a:lnTo>
                  <a:pt x="6" y="1358"/>
                </a:lnTo>
                <a:lnTo>
                  <a:pt x="0" y="1363"/>
                </a:lnTo>
                <a:lnTo>
                  <a:pt x="12" y="135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95400" y="1803240"/>
            <a:ext cx="723960" cy="1208160"/>
          </a:xfrm>
          <a:custGeom>
            <a:avLst/>
            <a:gdLst/>
            <a:ahLst/>
            <a:rect l="l" t="t" r="r" b="b"/>
            <a:pathLst>
              <a:path w="456" h="761">
                <a:moveTo>
                  <a:pt x="37" y="0"/>
                </a:moveTo>
                <a:lnTo>
                  <a:pt x="31" y="22"/>
                </a:lnTo>
                <a:lnTo>
                  <a:pt x="11" y="33"/>
                </a:lnTo>
                <a:lnTo>
                  <a:pt x="6" y="50"/>
                </a:lnTo>
                <a:lnTo>
                  <a:pt x="0" y="67"/>
                </a:lnTo>
                <a:lnTo>
                  <a:pt x="0" y="83"/>
                </a:lnTo>
                <a:lnTo>
                  <a:pt x="0" y="101"/>
                </a:lnTo>
                <a:lnTo>
                  <a:pt x="0" y="117"/>
                </a:lnTo>
                <a:lnTo>
                  <a:pt x="6" y="134"/>
                </a:lnTo>
                <a:lnTo>
                  <a:pt x="11" y="152"/>
                </a:lnTo>
                <a:lnTo>
                  <a:pt x="24" y="168"/>
                </a:lnTo>
                <a:lnTo>
                  <a:pt x="31" y="185"/>
                </a:lnTo>
                <a:lnTo>
                  <a:pt x="43" y="202"/>
                </a:lnTo>
                <a:lnTo>
                  <a:pt x="56" y="219"/>
                </a:lnTo>
                <a:lnTo>
                  <a:pt x="62" y="235"/>
                </a:lnTo>
                <a:lnTo>
                  <a:pt x="67" y="253"/>
                </a:lnTo>
                <a:lnTo>
                  <a:pt x="74" y="269"/>
                </a:lnTo>
                <a:lnTo>
                  <a:pt x="80" y="287"/>
                </a:lnTo>
                <a:lnTo>
                  <a:pt x="93" y="304"/>
                </a:lnTo>
                <a:lnTo>
                  <a:pt x="99" y="320"/>
                </a:lnTo>
                <a:lnTo>
                  <a:pt x="112" y="338"/>
                </a:lnTo>
                <a:lnTo>
                  <a:pt x="118" y="354"/>
                </a:lnTo>
                <a:lnTo>
                  <a:pt x="130" y="371"/>
                </a:lnTo>
                <a:lnTo>
                  <a:pt x="143" y="388"/>
                </a:lnTo>
                <a:lnTo>
                  <a:pt x="149" y="405"/>
                </a:lnTo>
                <a:lnTo>
                  <a:pt x="161" y="421"/>
                </a:lnTo>
                <a:lnTo>
                  <a:pt x="181" y="439"/>
                </a:lnTo>
                <a:lnTo>
                  <a:pt x="192" y="456"/>
                </a:lnTo>
                <a:lnTo>
                  <a:pt x="205" y="472"/>
                </a:lnTo>
                <a:lnTo>
                  <a:pt x="224" y="478"/>
                </a:lnTo>
                <a:lnTo>
                  <a:pt x="242" y="490"/>
                </a:lnTo>
                <a:lnTo>
                  <a:pt x="262" y="500"/>
                </a:lnTo>
                <a:lnTo>
                  <a:pt x="268" y="518"/>
                </a:lnTo>
                <a:lnTo>
                  <a:pt x="280" y="534"/>
                </a:lnTo>
                <a:lnTo>
                  <a:pt x="298" y="546"/>
                </a:lnTo>
                <a:lnTo>
                  <a:pt x="318" y="557"/>
                </a:lnTo>
                <a:lnTo>
                  <a:pt x="336" y="569"/>
                </a:lnTo>
                <a:lnTo>
                  <a:pt x="355" y="579"/>
                </a:lnTo>
                <a:lnTo>
                  <a:pt x="374" y="597"/>
                </a:lnTo>
                <a:lnTo>
                  <a:pt x="380" y="613"/>
                </a:lnTo>
                <a:lnTo>
                  <a:pt x="392" y="630"/>
                </a:lnTo>
                <a:lnTo>
                  <a:pt x="398" y="647"/>
                </a:lnTo>
                <a:lnTo>
                  <a:pt x="411" y="664"/>
                </a:lnTo>
                <a:lnTo>
                  <a:pt x="411" y="681"/>
                </a:lnTo>
                <a:lnTo>
                  <a:pt x="417" y="698"/>
                </a:lnTo>
                <a:lnTo>
                  <a:pt x="423" y="715"/>
                </a:lnTo>
                <a:lnTo>
                  <a:pt x="436" y="731"/>
                </a:lnTo>
                <a:lnTo>
                  <a:pt x="442" y="749"/>
                </a:lnTo>
                <a:lnTo>
                  <a:pt x="455" y="76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41640" y="1803240"/>
            <a:ext cx="1071360" cy="1316160"/>
          </a:xfrm>
          <a:custGeom>
            <a:avLst/>
            <a:gdLst/>
            <a:ahLst/>
            <a:rect l="l" t="t" r="r" b="b"/>
            <a:pathLst>
              <a:path w="675" h="829">
                <a:moveTo>
                  <a:pt x="0" y="0"/>
                </a:moveTo>
                <a:lnTo>
                  <a:pt x="25" y="22"/>
                </a:lnTo>
                <a:lnTo>
                  <a:pt x="37" y="38"/>
                </a:lnTo>
                <a:lnTo>
                  <a:pt x="56" y="50"/>
                </a:lnTo>
                <a:lnTo>
                  <a:pt x="75" y="61"/>
                </a:lnTo>
                <a:lnTo>
                  <a:pt x="93" y="78"/>
                </a:lnTo>
                <a:lnTo>
                  <a:pt x="106" y="95"/>
                </a:lnTo>
                <a:lnTo>
                  <a:pt x="125" y="106"/>
                </a:lnTo>
                <a:lnTo>
                  <a:pt x="143" y="123"/>
                </a:lnTo>
                <a:lnTo>
                  <a:pt x="162" y="134"/>
                </a:lnTo>
                <a:lnTo>
                  <a:pt x="174" y="151"/>
                </a:lnTo>
                <a:lnTo>
                  <a:pt x="194" y="162"/>
                </a:lnTo>
                <a:lnTo>
                  <a:pt x="212" y="180"/>
                </a:lnTo>
                <a:lnTo>
                  <a:pt x="225" y="196"/>
                </a:lnTo>
                <a:lnTo>
                  <a:pt x="243" y="208"/>
                </a:lnTo>
                <a:lnTo>
                  <a:pt x="262" y="225"/>
                </a:lnTo>
                <a:lnTo>
                  <a:pt x="281" y="235"/>
                </a:lnTo>
                <a:lnTo>
                  <a:pt x="299" y="241"/>
                </a:lnTo>
                <a:lnTo>
                  <a:pt x="318" y="253"/>
                </a:lnTo>
                <a:lnTo>
                  <a:pt x="337" y="263"/>
                </a:lnTo>
                <a:lnTo>
                  <a:pt x="355" y="275"/>
                </a:lnTo>
                <a:lnTo>
                  <a:pt x="374" y="281"/>
                </a:lnTo>
                <a:lnTo>
                  <a:pt x="393" y="292"/>
                </a:lnTo>
                <a:lnTo>
                  <a:pt x="411" y="303"/>
                </a:lnTo>
                <a:lnTo>
                  <a:pt x="436" y="320"/>
                </a:lnTo>
                <a:lnTo>
                  <a:pt x="456" y="326"/>
                </a:lnTo>
                <a:lnTo>
                  <a:pt x="474" y="342"/>
                </a:lnTo>
                <a:lnTo>
                  <a:pt x="492" y="354"/>
                </a:lnTo>
                <a:lnTo>
                  <a:pt x="512" y="365"/>
                </a:lnTo>
                <a:lnTo>
                  <a:pt x="530" y="382"/>
                </a:lnTo>
                <a:lnTo>
                  <a:pt x="548" y="393"/>
                </a:lnTo>
                <a:lnTo>
                  <a:pt x="568" y="405"/>
                </a:lnTo>
                <a:lnTo>
                  <a:pt x="586" y="416"/>
                </a:lnTo>
                <a:lnTo>
                  <a:pt x="599" y="433"/>
                </a:lnTo>
                <a:lnTo>
                  <a:pt x="611" y="450"/>
                </a:lnTo>
                <a:lnTo>
                  <a:pt x="624" y="467"/>
                </a:lnTo>
                <a:lnTo>
                  <a:pt x="636" y="484"/>
                </a:lnTo>
                <a:lnTo>
                  <a:pt x="642" y="500"/>
                </a:lnTo>
                <a:lnTo>
                  <a:pt x="642" y="518"/>
                </a:lnTo>
                <a:lnTo>
                  <a:pt x="649" y="534"/>
                </a:lnTo>
                <a:lnTo>
                  <a:pt x="655" y="551"/>
                </a:lnTo>
                <a:lnTo>
                  <a:pt x="655" y="568"/>
                </a:lnTo>
                <a:lnTo>
                  <a:pt x="655" y="585"/>
                </a:lnTo>
                <a:lnTo>
                  <a:pt x="655" y="602"/>
                </a:lnTo>
                <a:lnTo>
                  <a:pt x="662" y="619"/>
                </a:lnTo>
                <a:lnTo>
                  <a:pt x="667" y="636"/>
                </a:lnTo>
                <a:lnTo>
                  <a:pt x="674" y="652"/>
                </a:lnTo>
                <a:lnTo>
                  <a:pt x="674" y="670"/>
                </a:lnTo>
                <a:lnTo>
                  <a:pt x="674" y="686"/>
                </a:lnTo>
                <a:lnTo>
                  <a:pt x="674" y="703"/>
                </a:lnTo>
                <a:lnTo>
                  <a:pt x="667" y="720"/>
                </a:lnTo>
                <a:lnTo>
                  <a:pt x="662" y="737"/>
                </a:lnTo>
                <a:lnTo>
                  <a:pt x="642" y="749"/>
                </a:lnTo>
                <a:lnTo>
                  <a:pt x="630" y="765"/>
                </a:lnTo>
                <a:lnTo>
                  <a:pt x="611" y="782"/>
                </a:lnTo>
                <a:lnTo>
                  <a:pt x="599" y="799"/>
                </a:lnTo>
                <a:lnTo>
                  <a:pt x="580" y="816"/>
                </a:lnTo>
                <a:lnTo>
                  <a:pt x="561" y="822"/>
                </a:lnTo>
                <a:lnTo>
                  <a:pt x="543" y="828"/>
                </a:lnTo>
                <a:lnTo>
                  <a:pt x="524" y="828"/>
                </a:lnTo>
                <a:lnTo>
                  <a:pt x="505" y="828"/>
                </a:lnTo>
                <a:lnTo>
                  <a:pt x="487" y="828"/>
                </a:lnTo>
                <a:lnTo>
                  <a:pt x="480" y="828"/>
                </a:lnTo>
                <a:lnTo>
                  <a:pt x="487" y="82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09760" y="1784520"/>
            <a:ext cx="1407960" cy="2084040"/>
          </a:xfrm>
          <a:custGeom>
            <a:avLst/>
            <a:gdLst/>
            <a:ahLst/>
            <a:rect l="l" t="t" r="r" b="b"/>
            <a:pathLst>
              <a:path w="887" h="1313">
                <a:moveTo>
                  <a:pt x="44" y="0"/>
                </a:moveTo>
                <a:lnTo>
                  <a:pt x="56" y="22"/>
                </a:lnTo>
                <a:lnTo>
                  <a:pt x="56" y="39"/>
                </a:lnTo>
                <a:lnTo>
                  <a:pt x="62" y="56"/>
                </a:lnTo>
                <a:lnTo>
                  <a:pt x="68" y="73"/>
                </a:lnTo>
                <a:lnTo>
                  <a:pt x="75" y="90"/>
                </a:lnTo>
                <a:lnTo>
                  <a:pt x="87" y="107"/>
                </a:lnTo>
                <a:lnTo>
                  <a:pt x="100" y="123"/>
                </a:lnTo>
                <a:lnTo>
                  <a:pt x="113" y="141"/>
                </a:lnTo>
                <a:lnTo>
                  <a:pt x="118" y="157"/>
                </a:lnTo>
                <a:lnTo>
                  <a:pt x="125" y="174"/>
                </a:lnTo>
                <a:lnTo>
                  <a:pt x="137" y="191"/>
                </a:lnTo>
                <a:lnTo>
                  <a:pt x="143" y="208"/>
                </a:lnTo>
                <a:lnTo>
                  <a:pt x="149" y="224"/>
                </a:lnTo>
                <a:lnTo>
                  <a:pt x="156" y="242"/>
                </a:lnTo>
                <a:lnTo>
                  <a:pt x="156" y="259"/>
                </a:lnTo>
                <a:lnTo>
                  <a:pt x="162" y="275"/>
                </a:lnTo>
                <a:lnTo>
                  <a:pt x="169" y="293"/>
                </a:lnTo>
                <a:lnTo>
                  <a:pt x="174" y="309"/>
                </a:lnTo>
                <a:lnTo>
                  <a:pt x="174" y="326"/>
                </a:lnTo>
                <a:lnTo>
                  <a:pt x="174" y="343"/>
                </a:lnTo>
                <a:lnTo>
                  <a:pt x="174" y="360"/>
                </a:lnTo>
                <a:lnTo>
                  <a:pt x="174" y="376"/>
                </a:lnTo>
                <a:lnTo>
                  <a:pt x="174" y="394"/>
                </a:lnTo>
                <a:lnTo>
                  <a:pt x="174" y="411"/>
                </a:lnTo>
                <a:lnTo>
                  <a:pt x="169" y="428"/>
                </a:lnTo>
                <a:lnTo>
                  <a:pt x="156" y="445"/>
                </a:lnTo>
                <a:lnTo>
                  <a:pt x="137" y="455"/>
                </a:lnTo>
                <a:lnTo>
                  <a:pt x="118" y="467"/>
                </a:lnTo>
                <a:lnTo>
                  <a:pt x="100" y="473"/>
                </a:lnTo>
                <a:lnTo>
                  <a:pt x="81" y="473"/>
                </a:lnTo>
                <a:lnTo>
                  <a:pt x="62" y="473"/>
                </a:lnTo>
                <a:lnTo>
                  <a:pt x="44" y="467"/>
                </a:lnTo>
                <a:lnTo>
                  <a:pt x="25" y="467"/>
                </a:lnTo>
                <a:lnTo>
                  <a:pt x="6" y="473"/>
                </a:lnTo>
                <a:lnTo>
                  <a:pt x="0" y="489"/>
                </a:lnTo>
                <a:lnTo>
                  <a:pt x="0" y="506"/>
                </a:lnTo>
                <a:lnTo>
                  <a:pt x="0" y="524"/>
                </a:lnTo>
                <a:lnTo>
                  <a:pt x="12" y="540"/>
                </a:lnTo>
                <a:lnTo>
                  <a:pt x="31" y="546"/>
                </a:lnTo>
                <a:lnTo>
                  <a:pt x="50" y="552"/>
                </a:lnTo>
                <a:lnTo>
                  <a:pt x="68" y="552"/>
                </a:lnTo>
                <a:lnTo>
                  <a:pt x="87" y="558"/>
                </a:lnTo>
                <a:lnTo>
                  <a:pt x="106" y="568"/>
                </a:lnTo>
                <a:lnTo>
                  <a:pt x="125" y="568"/>
                </a:lnTo>
                <a:lnTo>
                  <a:pt x="143" y="585"/>
                </a:lnTo>
                <a:lnTo>
                  <a:pt x="162" y="597"/>
                </a:lnTo>
                <a:lnTo>
                  <a:pt x="174" y="613"/>
                </a:lnTo>
                <a:lnTo>
                  <a:pt x="194" y="631"/>
                </a:lnTo>
                <a:lnTo>
                  <a:pt x="205" y="647"/>
                </a:lnTo>
                <a:lnTo>
                  <a:pt x="225" y="659"/>
                </a:lnTo>
                <a:lnTo>
                  <a:pt x="243" y="675"/>
                </a:lnTo>
                <a:lnTo>
                  <a:pt x="261" y="687"/>
                </a:lnTo>
                <a:lnTo>
                  <a:pt x="281" y="704"/>
                </a:lnTo>
                <a:lnTo>
                  <a:pt x="299" y="720"/>
                </a:lnTo>
                <a:lnTo>
                  <a:pt x="317" y="732"/>
                </a:lnTo>
                <a:lnTo>
                  <a:pt x="337" y="743"/>
                </a:lnTo>
                <a:lnTo>
                  <a:pt x="349" y="760"/>
                </a:lnTo>
                <a:lnTo>
                  <a:pt x="368" y="771"/>
                </a:lnTo>
                <a:lnTo>
                  <a:pt x="380" y="788"/>
                </a:lnTo>
                <a:lnTo>
                  <a:pt x="393" y="805"/>
                </a:lnTo>
                <a:lnTo>
                  <a:pt x="411" y="822"/>
                </a:lnTo>
                <a:lnTo>
                  <a:pt x="430" y="833"/>
                </a:lnTo>
                <a:lnTo>
                  <a:pt x="443" y="850"/>
                </a:lnTo>
                <a:lnTo>
                  <a:pt x="455" y="867"/>
                </a:lnTo>
                <a:lnTo>
                  <a:pt x="474" y="878"/>
                </a:lnTo>
                <a:lnTo>
                  <a:pt x="480" y="895"/>
                </a:lnTo>
                <a:lnTo>
                  <a:pt x="492" y="912"/>
                </a:lnTo>
                <a:lnTo>
                  <a:pt x="505" y="929"/>
                </a:lnTo>
                <a:lnTo>
                  <a:pt x="517" y="946"/>
                </a:lnTo>
                <a:lnTo>
                  <a:pt x="530" y="963"/>
                </a:lnTo>
                <a:lnTo>
                  <a:pt x="536" y="979"/>
                </a:lnTo>
                <a:lnTo>
                  <a:pt x="543" y="997"/>
                </a:lnTo>
                <a:lnTo>
                  <a:pt x="548" y="1013"/>
                </a:lnTo>
                <a:lnTo>
                  <a:pt x="555" y="1030"/>
                </a:lnTo>
                <a:lnTo>
                  <a:pt x="561" y="1048"/>
                </a:lnTo>
                <a:lnTo>
                  <a:pt x="574" y="1064"/>
                </a:lnTo>
                <a:lnTo>
                  <a:pt x="579" y="1081"/>
                </a:lnTo>
                <a:lnTo>
                  <a:pt x="592" y="1098"/>
                </a:lnTo>
                <a:lnTo>
                  <a:pt x="599" y="1115"/>
                </a:lnTo>
                <a:lnTo>
                  <a:pt x="599" y="1131"/>
                </a:lnTo>
                <a:lnTo>
                  <a:pt x="604" y="1149"/>
                </a:lnTo>
                <a:lnTo>
                  <a:pt x="604" y="1165"/>
                </a:lnTo>
                <a:lnTo>
                  <a:pt x="611" y="1182"/>
                </a:lnTo>
                <a:lnTo>
                  <a:pt x="624" y="1199"/>
                </a:lnTo>
                <a:lnTo>
                  <a:pt x="630" y="1216"/>
                </a:lnTo>
                <a:lnTo>
                  <a:pt x="635" y="1233"/>
                </a:lnTo>
                <a:lnTo>
                  <a:pt x="642" y="1250"/>
                </a:lnTo>
                <a:lnTo>
                  <a:pt x="648" y="1267"/>
                </a:lnTo>
                <a:lnTo>
                  <a:pt x="655" y="1283"/>
                </a:lnTo>
                <a:lnTo>
                  <a:pt x="667" y="1301"/>
                </a:lnTo>
                <a:lnTo>
                  <a:pt x="686" y="1312"/>
                </a:lnTo>
                <a:lnTo>
                  <a:pt x="704" y="1312"/>
                </a:lnTo>
                <a:lnTo>
                  <a:pt x="723" y="1312"/>
                </a:lnTo>
                <a:lnTo>
                  <a:pt x="742" y="1312"/>
                </a:lnTo>
                <a:lnTo>
                  <a:pt x="760" y="1312"/>
                </a:lnTo>
                <a:lnTo>
                  <a:pt x="779" y="1301"/>
                </a:lnTo>
                <a:lnTo>
                  <a:pt x="798" y="1295"/>
                </a:lnTo>
                <a:lnTo>
                  <a:pt x="817" y="1283"/>
                </a:lnTo>
                <a:lnTo>
                  <a:pt x="835" y="1278"/>
                </a:lnTo>
                <a:lnTo>
                  <a:pt x="854" y="1273"/>
                </a:lnTo>
                <a:lnTo>
                  <a:pt x="873" y="1267"/>
                </a:lnTo>
                <a:lnTo>
                  <a:pt x="886" y="1250"/>
                </a:lnTo>
                <a:lnTo>
                  <a:pt x="886" y="125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17920" y="1803240"/>
            <a:ext cx="1336680" cy="1870200"/>
          </a:xfrm>
          <a:custGeom>
            <a:avLst/>
            <a:gdLst/>
            <a:ahLst/>
            <a:rect l="l" t="t" r="r" b="b"/>
            <a:pathLst>
              <a:path w="842" h="1178">
                <a:moveTo>
                  <a:pt x="0" y="0"/>
                </a:moveTo>
                <a:lnTo>
                  <a:pt x="24" y="16"/>
                </a:lnTo>
                <a:lnTo>
                  <a:pt x="37" y="33"/>
                </a:lnTo>
                <a:lnTo>
                  <a:pt x="55" y="38"/>
                </a:lnTo>
                <a:lnTo>
                  <a:pt x="74" y="55"/>
                </a:lnTo>
                <a:lnTo>
                  <a:pt x="93" y="67"/>
                </a:lnTo>
                <a:lnTo>
                  <a:pt x="111" y="78"/>
                </a:lnTo>
                <a:lnTo>
                  <a:pt x="131" y="95"/>
                </a:lnTo>
                <a:lnTo>
                  <a:pt x="149" y="106"/>
                </a:lnTo>
                <a:lnTo>
                  <a:pt x="167" y="117"/>
                </a:lnTo>
                <a:lnTo>
                  <a:pt x="187" y="129"/>
                </a:lnTo>
                <a:lnTo>
                  <a:pt x="212" y="146"/>
                </a:lnTo>
                <a:lnTo>
                  <a:pt x="230" y="162"/>
                </a:lnTo>
                <a:lnTo>
                  <a:pt x="248" y="180"/>
                </a:lnTo>
                <a:lnTo>
                  <a:pt x="268" y="196"/>
                </a:lnTo>
                <a:lnTo>
                  <a:pt x="286" y="202"/>
                </a:lnTo>
                <a:lnTo>
                  <a:pt x="304" y="219"/>
                </a:lnTo>
                <a:lnTo>
                  <a:pt x="324" y="230"/>
                </a:lnTo>
                <a:lnTo>
                  <a:pt x="342" y="241"/>
                </a:lnTo>
                <a:lnTo>
                  <a:pt x="361" y="247"/>
                </a:lnTo>
                <a:lnTo>
                  <a:pt x="380" y="259"/>
                </a:lnTo>
                <a:lnTo>
                  <a:pt x="398" y="275"/>
                </a:lnTo>
                <a:lnTo>
                  <a:pt x="417" y="292"/>
                </a:lnTo>
                <a:lnTo>
                  <a:pt x="436" y="303"/>
                </a:lnTo>
                <a:lnTo>
                  <a:pt x="454" y="314"/>
                </a:lnTo>
                <a:lnTo>
                  <a:pt x="467" y="332"/>
                </a:lnTo>
                <a:lnTo>
                  <a:pt x="485" y="338"/>
                </a:lnTo>
                <a:lnTo>
                  <a:pt x="505" y="354"/>
                </a:lnTo>
                <a:lnTo>
                  <a:pt x="523" y="360"/>
                </a:lnTo>
                <a:lnTo>
                  <a:pt x="541" y="377"/>
                </a:lnTo>
                <a:lnTo>
                  <a:pt x="561" y="382"/>
                </a:lnTo>
                <a:lnTo>
                  <a:pt x="579" y="399"/>
                </a:lnTo>
                <a:lnTo>
                  <a:pt x="592" y="417"/>
                </a:lnTo>
                <a:lnTo>
                  <a:pt x="610" y="427"/>
                </a:lnTo>
                <a:lnTo>
                  <a:pt x="628" y="444"/>
                </a:lnTo>
                <a:lnTo>
                  <a:pt x="648" y="461"/>
                </a:lnTo>
                <a:lnTo>
                  <a:pt x="660" y="478"/>
                </a:lnTo>
                <a:lnTo>
                  <a:pt x="673" y="494"/>
                </a:lnTo>
                <a:lnTo>
                  <a:pt x="684" y="512"/>
                </a:lnTo>
                <a:lnTo>
                  <a:pt x="697" y="529"/>
                </a:lnTo>
                <a:lnTo>
                  <a:pt x="709" y="546"/>
                </a:lnTo>
                <a:lnTo>
                  <a:pt x="722" y="563"/>
                </a:lnTo>
                <a:lnTo>
                  <a:pt x="729" y="579"/>
                </a:lnTo>
                <a:lnTo>
                  <a:pt x="735" y="597"/>
                </a:lnTo>
                <a:lnTo>
                  <a:pt x="747" y="613"/>
                </a:lnTo>
                <a:lnTo>
                  <a:pt x="760" y="630"/>
                </a:lnTo>
                <a:lnTo>
                  <a:pt x="778" y="647"/>
                </a:lnTo>
                <a:lnTo>
                  <a:pt x="785" y="664"/>
                </a:lnTo>
                <a:lnTo>
                  <a:pt x="796" y="681"/>
                </a:lnTo>
                <a:lnTo>
                  <a:pt x="803" y="698"/>
                </a:lnTo>
                <a:lnTo>
                  <a:pt x="809" y="715"/>
                </a:lnTo>
                <a:lnTo>
                  <a:pt x="816" y="731"/>
                </a:lnTo>
                <a:lnTo>
                  <a:pt x="816" y="749"/>
                </a:lnTo>
                <a:lnTo>
                  <a:pt x="822" y="765"/>
                </a:lnTo>
                <a:lnTo>
                  <a:pt x="828" y="782"/>
                </a:lnTo>
                <a:lnTo>
                  <a:pt x="834" y="799"/>
                </a:lnTo>
                <a:lnTo>
                  <a:pt x="834" y="816"/>
                </a:lnTo>
                <a:lnTo>
                  <a:pt x="841" y="833"/>
                </a:lnTo>
                <a:lnTo>
                  <a:pt x="841" y="850"/>
                </a:lnTo>
                <a:lnTo>
                  <a:pt x="841" y="867"/>
                </a:lnTo>
                <a:lnTo>
                  <a:pt x="841" y="883"/>
                </a:lnTo>
                <a:lnTo>
                  <a:pt x="841" y="901"/>
                </a:lnTo>
                <a:lnTo>
                  <a:pt x="841" y="917"/>
                </a:lnTo>
                <a:lnTo>
                  <a:pt x="834" y="935"/>
                </a:lnTo>
                <a:lnTo>
                  <a:pt x="822" y="951"/>
                </a:lnTo>
                <a:lnTo>
                  <a:pt x="816" y="968"/>
                </a:lnTo>
                <a:lnTo>
                  <a:pt x="796" y="986"/>
                </a:lnTo>
                <a:lnTo>
                  <a:pt x="778" y="990"/>
                </a:lnTo>
                <a:lnTo>
                  <a:pt x="760" y="996"/>
                </a:lnTo>
                <a:lnTo>
                  <a:pt x="740" y="996"/>
                </a:lnTo>
                <a:lnTo>
                  <a:pt x="722" y="1002"/>
                </a:lnTo>
                <a:lnTo>
                  <a:pt x="704" y="1008"/>
                </a:lnTo>
                <a:lnTo>
                  <a:pt x="684" y="1013"/>
                </a:lnTo>
                <a:lnTo>
                  <a:pt x="666" y="1019"/>
                </a:lnTo>
                <a:lnTo>
                  <a:pt x="648" y="1025"/>
                </a:lnTo>
                <a:lnTo>
                  <a:pt x="628" y="1030"/>
                </a:lnTo>
                <a:lnTo>
                  <a:pt x="610" y="1030"/>
                </a:lnTo>
                <a:lnTo>
                  <a:pt x="592" y="1030"/>
                </a:lnTo>
                <a:lnTo>
                  <a:pt x="572" y="1030"/>
                </a:lnTo>
                <a:lnTo>
                  <a:pt x="554" y="1041"/>
                </a:lnTo>
                <a:lnTo>
                  <a:pt x="535" y="1053"/>
                </a:lnTo>
                <a:lnTo>
                  <a:pt x="516" y="1059"/>
                </a:lnTo>
                <a:lnTo>
                  <a:pt x="498" y="1064"/>
                </a:lnTo>
                <a:lnTo>
                  <a:pt x="479" y="1075"/>
                </a:lnTo>
                <a:lnTo>
                  <a:pt x="460" y="1081"/>
                </a:lnTo>
                <a:lnTo>
                  <a:pt x="442" y="1087"/>
                </a:lnTo>
                <a:lnTo>
                  <a:pt x="423" y="1092"/>
                </a:lnTo>
                <a:lnTo>
                  <a:pt x="404" y="1103"/>
                </a:lnTo>
                <a:lnTo>
                  <a:pt x="386" y="1115"/>
                </a:lnTo>
                <a:lnTo>
                  <a:pt x="367" y="1126"/>
                </a:lnTo>
                <a:lnTo>
                  <a:pt x="348" y="1132"/>
                </a:lnTo>
                <a:lnTo>
                  <a:pt x="330" y="1138"/>
                </a:lnTo>
                <a:lnTo>
                  <a:pt x="311" y="1138"/>
                </a:lnTo>
                <a:lnTo>
                  <a:pt x="292" y="1142"/>
                </a:lnTo>
                <a:lnTo>
                  <a:pt x="274" y="1148"/>
                </a:lnTo>
                <a:lnTo>
                  <a:pt x="255" y="1154"/>
                </a:lnTo>
                <a:lnTo>
                  <a:pt x="236" y="1160"/>
                </a:lnTo>
                <a:lnTo>
                  <a:pt x="223" y="1177"/>
                </a:lnTo>
                <a:lnTo>
                  <a:pt x="230" y="11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25640" y="1803240"/>
            <a:ext cx="920520" cy="1592280"/>
          </a:xfrm>
          <a:custGeom>
            <a:avLst/>
            <a:gdLst/>
            <a:ahLst/>
            <a:rect l="l" t="t" r="r" b="b"/>
            <a:pathLst>
              <a:path w="580" h="1003">
                <a:moveTo>
                  <a:pt x="31" y="0"/>
                </a:moveTo>
                <a:lnTo>
                  <a:pt x="55" y="16"/>
                </a:lnTo>
                <a:lnTo>
                  <a:pt x="67" y="33"/>
                </a:lnTo>
                <a:lnTo>
                  <a:pt x="74" y="50"/>
                </a:lnTo>
                <a:lnTo>
                  <a:pt x="80" y="67"/>
                </a:lnTo>
                <a:lnTo>
                  <a:pt x="87" y="83"/>
                </a:lnTo>
                <a:lnTo>
                  <a:pt x="93" y="101"/>
                </a:lnTo>
                <a:lnTo>
                  <a:pt x="99" y="117"/>
                </a:lnTo>
                <a:lnTo>
                  <a:pt x="105" y="134"/>
                </a:lnTo>
                <a:lnTo>
                  <a:pt x="105" y="151"/>
                </a:lnTo>
                <a:lnTo>
                  <a:pt x="105" y="168"/>
                </a:lnTo>
                <a:lnTo>
                  <a:pt x="105" y="185"/>
                </a:lnTo>
                <a:lnTo>
                  <a:pt x="105" y="202"/>
                </a:lnTo>
                <a:lnTo>
                  <a:pt x="99" y="219"/>
                </a:lnTo>
                <a:lnTo>
                  <a:pt x="87" y="235"/>
                </a:lnTo>
                <a:lnTo>
                  <a:pt x="80" y="253"/>
                </a:lnTo>
                <a:lnTo>
                  <a:pt x="74" y="269"/>
                </a:lnTo>
                <a:lnTo>
                  <a:pt x="62" y="287"/>
                </a:lnTo>
                <a:lnTo>
                  <a:pt x="49" y="303"/>
                </a:lnTo>
                <a:lnTo>
                  <a:pt x="37" y="320"/>
                </a:lnTo>
                <a:lnTo>
                  <a:pt x="37" y="337"/>
                </a:lnTo>
                <a:lnTo>
                  <a:pt x="31" y="354"/>
                </a:lnTo>
                <a:lnTo>
                  <a:pt x="18" y="371"/>
                </a:lnTo>
                <a:lnTo>
                  <a:pt x="11" y="388"/>
                </a:lnTo>
                <a:lnTo>
                  <a:pt x="6" y="405"/>
                </a:lnTo>
                <a:lnTo>
                  <a:pt x="0" y="421"/>
                </a:lnTo>
                <a:lnTo>
                  <a:pt x="0" y="439"/>
                </a:lnTo>
                <a:lnTo>
                  <a:pt x="0" y="455"/>
                </a:lnTo>
                <a:lnTo>
                  <a:pt x="0" y="472"/>
                </a:lnTo>
                <a:lnTo>
                  <a:pt x="0" y="489"/>
                </a:lnTo>
                <a:lnTo>
                  <a:pt x="0" y="506"/>
                </a:lnTo>
                <a:lnTo>
                  <a:pt x="0" y="522"/>
                </a:lnTo>
                <a:lnTo>
                  <a:pt x="0" y="540"/>
                </a:lnTo>
                <a:lnTo>
                  <a:pt x="6" y="556"/>
                </a:lnTo>
                <a:lnTo>
                  <a:pt x="18" y="573"/>
                </a:lnTo>
                <a:lnTo>
                  <a:pt x="31" y="591"/>
                </a:lnTo>
                <a:lnTo>
                  <a:pt x="43" y="607"/>
                </a:lnTo>
                <a:lnTo>
                  <a:pt x="62" y="619"/>
                </a:lnTo>
                <a:lnTo>
                  <a:pt x="80" y="630"/>
                </a:lnTo>
                <a:lnTo>
                  <a:pt x="99" y="635"/>
                </a:lnTo>
                <a:lnTo>
                  <a:pt x="118" y="652"/>
                </a:lnTo>
                <a:lnTo>
                  <a:pt x="136" y="658"/>
                </a:lnTo>
                <a:lnTo>
                  <a:pt x="161" y="669"/>
                </a:lnTo>
                <a:lnTo>
                  <a:pt x="180" y="675"/>
                </a:lnTo>
                <a:lnTo>
                  <a:pt x="199" y="686"/>
                </a:lnTo>
                <a:lnTo>
                  <a:pt x="217" y="698"/>
                </a:lnTo>
                <a:lnTo>
                  <a:pt x="236" y="703"/>
                </a:lnTo>
                <a:lnTo>
                  <a:pt x="255" y="708"/>
                </a:lnTo>
                <a:lnTo>
                  <a:pt x="273" y="720"/>
                </a:lnTo>
                <a:lnTo>
                  <a:pt x="292" y="726"/>
                </a:lnTo>
                <a:lnTo>
                  <a:pt x="311" y="737"/>
                </a:lnTo>
                <a:lnTo>
                  <a:pt x="329" y="742"/>
                </a:lnTo>
                <a:lnTo>
                  <a:pt x="342" y="759"/>
                </a:lnTo>
                <a:lnTo>
                  <a:pt x="360" y="771"/>
                </a:lnTo>
                <a:lnTo>
                  <a:pt x="379" y="781"/>
                </a:lnTo>
                <a:lnTo>
                  <a:pt x="398" y="793"/>
                </a:lnTo>
                <a:lnTo>
                  <a:pt x="411" y="810"/>
                </a:lnTo>
                <a:lnTo>
                  <a:pt x="429" y="821"/>
                </a:lnTo>
                <a:lnTo>
                  <a:pt x="441" y="838"/>
                </a:lnTo>
                <a:lnTo>
                  <a:pt x="460" y="855"/>
                </a:lnTo>
                <a:lnTo>
                  <a:pt x="478" y="866"/>
                </a:lnTo>
                <a:lnTo>
                  <a:pt x="491" y="883"/>
                </a:lnTo>
                <a:lnTo>
                  <a:pt x="498" y="900"/>
                </a:lnTo>
                <a:lnTo>
                  <a:pt x="510" y="917"/>
                </a:lnTo>
                <a:lnTo>
                  <a:pt x="523" y="934"/>
                </a:lnTo>
                <a:lnTo>
                  <a:pt x="528" y="951"/>
                </a:lnTo>
                <a:lnTo>
                  <a:pt x="534" y="967"/>
                </a:lnTo>
                <a:lnTo>
                  <a:pt x="554" y="985"/>
                </a:lnTo>
                <a:lnTo>
                  <a:pt x="559" y="996"/>
                </a:lnTo>
                <a:lnTo>
                  <a:pt x="566" y="996"/>
                </a:lnTo>
                <a:lnTo>
                  <a:pt x="579" y="100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1520" y="3009960"/>
            <a:ext cx="852480" cy="912600"/>
          </a:xfrm>
          <a:custGeom>
            <a:avLst/>
            <a:gdLst/>
            <a:ahLst/>
            <a:rect l="l" t="t" r="r" b="b"/>
            <a:pathLst>
              <a:path w="537" h="575">
                <a:moveTo>
                  <a:pt x="362" y="0"/>
                </a:moveTo>
                <a:lnTo>
                  <a:pt x="387" y="0"/>
                </a:lnTo>
                <a:lnTo>
                  <a:pt x="405" y="0"/>
                </a:lnTo>
                <a:lnTo>
                  <a:pt x="423" y="11"/>
                </a:lnTo>
                <a:lnTo>
                  <a:pt x="443" y="17"/>
                </a:lnTo>
                <a:lnTo>
                  <a:pt x="461" y="34"/>
                </a:lnTo>
                <a:lnTo>
                  <a:pt x="474" y="50"/>
                </a:lnTo>
                <a:lnTo>
                  <a:pt x="492" y="62"/>
                </a:lnTo>
                <a:lnTo>
                  <a:pt x="511" y="72"/>
                </a:lnTo>
                <a:lnTo>
                  <a:pt x="530" y="90"/>
                </a:lnTo>
                <a:lnTo>
                  <a:pt x="530" y="107"/>
                </a:lnTo>
                <a:lnTo>
                  <a:pt x="530" y="123"/>
                </a:lnTo>
                <a:lnTo>
                  <a:pt x="536" y="141"/>
                </a:lnTo>
                <a:lnTo>
                  <a:pt x="536" y="157"/>
                </a:lnTo>
                <a:lnTo>
                  <a:pt x="517" y="163"/>
                </a:lnTo>
                <a:lnTo>
                  <a:pt x="499" y="175"/>
                </a:lnTo>
                <a:lnTo>
                  <a:pt x="486" y="191"/>
                </a:lnTo>
                <a:lnTo>
                  <a:pt x="479" y="208"/>
                </a:lnTo>
                <a:lnTo>
                  <a:pt x="479" y="225"/>
                </a:lnTo>
                <a:lnTo>
                  <a:pt x="479" y="242"/>
                </a:lnTo>
                <a:lnTo>
                  <a:pt x="479" y="258"/>
                </a:lnTo>
                <a:lnTo>
                  <a:pt x="486" y="276"/>
                </a:lnTo>
                <a:lnTo>
                  <a:pt x="486" y="292"/>
                </a:lnTo>
                <a:lnTo>
                  <a:pt x="486" y="309"/>
                </a:lnTo>
                <a:lnTo>
                  <a:pt x="486" y="326"/>
                </a:lnTo>
                <a:lnTo>
                  <a:pt x="486" y="343"/>
                </a:lnTo>
                <a:lnTo>
                  <a:pt x="486" y="359"/>
                </a:lnTo>
                <a:lnTo>
                  <a:pt x="486" y="377"/>
                </a:lnTo>
                <a:lnTo>
                  <a:pt x="486" y="394"/>
                </a:lnTo>
                <a:lnTo>
                  <a:pt x="479" y="410"/>
                </a:lnTo>
                <a:lnTo>
                  <a:pt x="474" y="428"/>
                </a:lnTo>
                <a:lnTo>
                  <a:pt x="468" y="444"/>
                </a:lnTo>
                <a:lnTo>
                  <a:pt x="455" y="461"/>
                </a:lnTo>
                <a:lnTo>
                  <a:pt x="449" y="478"/>
                </a:lnTo>
                <a:lnTo>
                  <a:pt x="430" y="495"/>
                </a:lnTo>
                <a:lnTo>
                  <a:pt x="418" y="511"/>
                </a:lnTo>
                <a:lnTo>
                  <a:pt x="399" y="517"/>
                </a:lnTo>
                <a:lnTo>
                  <a:pt x="380" y="529"/>
                </a:lnTo>
                <a:lnTo>
                  <a:pt x="362" y="535"/>
                </a:lnTo>
                <a:lnTo>
                  <a:pt x="342" y="539"/>
                </a:lnTo>
                <a:lnTo>
                  <a:pt x="324" y="539"/>
                </a:lnTo>
                <a:lnTo>
                  <a:pt x="305" y="539"/>
                </a:lnTo>
                <a:lnTo>
                  <a:pt x="286" y="545"/>
                </a:lnTo>
                <a:lnTo>
                  <a:pt x="268" y="545"/>
                </a:lnTo>
                <a:lnTo>
                  <a:pt x="249" y="551"/>
                </a:lnTo>
                <a:lnTo>
                  <a:pt x="230" y="551"/>
                </a:lnTo>
                <a:lnTo>
                  <a:pt x="212" y="557"/>
                </a:lnTo>
                <a:lnTo>
                  <a:pt x="193" y="563"/>
                </a:lnTo>
                <a:lnTo>
                  <a:pt x="174" y="563"/>
                </a:lnTo>
                <a:lnTo>
                  <a:pt x="156" y="568"/>
                </a:lnTo>
                <a:lnTo>
                  <a:pt x="136" y="574"/>
                </a:lnTo>
                <a:lnTo>
                  <a:pt x="118" y="574"/>
                </a:lnTo>
                <a:lnTo>
                  <a:pt x="100" y="574"/>
                </a:lnTo>
                <a:lnTo>
                  <a:pt x="80" y="574"/>
                </a:lnTo>
                <a:lnTo>
                  <a:pt x="56" y="574"/>
                </a:lnTo>
                <a:lnTo>
                  <a:pt x="37" y="574"/>
                </a:lnTo>
                <a:lnTo>
                  <a:pt x="18" y="568"/>
                </a:lnTo>
                <a:lnTo>
                  <a:pt x="12" y="551"/>
                </a:lnTo>
                <a:lnTo>
                  <a:pt x="0" y="535"/>
                </a:lnTo>
                <a:lnTo>
                  <a:pt x="18" y="5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1000" y="3009960"/>
            <a:ext cx="587160" cy="628560"/>
          </a:xfrm>
          <a:custGeom>
            <a:avLst/>
            <a:gdLst/>
            <a:ahLst/>
            <a:rect l="l" t="t" r="r" b="b"/>
            <a:pathLst>
              <a:path w="370" h="396">
                <a:moveTo>
                  <a:pt x="369" y="0"/>
                </a:moveTo>
                <a:lnTo>
                  <a:pt x="344" y="0"/>
                </a:lnTo>
                <a:lnTo>
                  <a:pt x="324" y="0"/>
                </a:lnTo>
                <a:lnTo>
                  <a:pt x="306" y="11"/>
                </a:lnTo>
                <a:lnTo>
                  <a:pt x="288" y="22"/>
                </a:lnTo>
                <a:lnTo>
                  <a:pt x="275" y="39"/>
                </a:lnTo>
                <a:lnTo>
                  <a:pt x="268" y="56"/>
                </a:lnTo>
                <a:lnTo>
                  <a:pt x="256" y="73"/>
                </a:lnTo>
                <a:lnTo>
                  <a:pt x="243" y="90"/>
                </a:lnTo>
                <a:lnTo>
                  <a:pt x="231" y="107"/>
                </a:lnTo>
                <a:lnTo>
                  <a:pt x="212" y="118"/>
                </a:lnTo>
                <a:lnTo>
                  <a:pt x="200" y="135"/>
                </a:lnTo>
                <a:lnTo>
                  <a:pt x="181" y="152"/>
                </a:lnTo>
                <a:lnTo>
                  <a:pt x="169" y="169"/>
                </a:lnTo>
                <a:lnTo>
                  <a:pt x="156" y="186"/>
                </a:lnTo>
                <a:lnTo>
                  <a:pt x="138" y="202"/>
                </a:lnTo>
                <a:lnTo>
                  <a:pt x="125" y="220"/>
                </a:lnTo>
                <a:lnTo>
                  <a:pt x="113" y="237"/>
                </a:lnTo>
                <a:lnTo>
                  <a:pt x="93" y="253"/>
                </a:lnTo>
                <a:lnTo>
                  <a:pt x="87" y="271"/>
                </a:lnTo>
                <a:lnTo>
                  <a:pt x="69" y="281"/>
                </a:lnTo>
                <a:lnTo>
                  <a:pt x="50" y="293"/>
                </a:lnTo>
                <a:lnTo>
                  <a:pt x="44" y="310"/>
                </a:lnTo>
                <a:lnTo>
                  <a:pt x="25" y="321"/>
                </a:lnTo>
                <a:lnTo>
                  <a:pt x="19" y="338"/>
                </a:lnTo>
                <a:lnTo>
                  <a:pt x="12" y="355"/>
                </a:lnTo>
                <a:lnTo>
                  <a:pt x="0" y="372"/>
                </a:lnTo>
                <a:lnTo>
                  <a:pt x="0" y="389"/>
                </a:lnTo>
                <a:lnTo>
                  <a:pt x="0" y="39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1800" y="2481120"/>
            <a:ext cx="71640" cy="682920"/>
          </a:xfrm>
          <a:custGeom>
            <a:avLst/>
            <a:gdLst/>
            <a:ahLst/>
            <a:rect l="l" t="t" r="r" b="b"/>
            <a:pathLst>
              <a:path w="45" h="430">
                <a:moveTo>
                  <a:pt x="24" y="0"/>
                </a:moveTo>
                <a:lnTo>
                  <a:pt x="19" y="22"/>
                </a:lnTo>
                <a:lnTo>
                  <a:pt x="24" y="39"/>
                </a:lnTo>
                <a:lnTo>
                  <a:pt x="24" y="56"/>
                </a:lnTo>
                <a:lnTo>
                  <a:pt x="31" y="73"/>
                </a:lnTo>
                <a:lnTo>
                  <a:pt x="31" y="90"/>
                </a:lnTo>
                <a:lnTo>
                  <a:pt x="37" y="107"/>
                </a:lnTo>
                <a:lnTo>
                  <a:pt x="37" y="123"/>
                </a:lnTo>
                <a:lnTo>
                  <a:pt x="37" y="141"/>
                </a:lnTo>
                <a:lnTo>
                  <a:pt x="44" y="157"/>
                </a:lnTo>
                <a:lnTo>
                  <a:pt x="44" y="174"/>
                </a:lnTo>
                <a:lnTo>
                  <a:pt x="44" y="192"/>
                </a:lnTo>
                <a:lnTo>
                  <a:pt x="44" y="214"/>
                </a:lnTo>
                <a:lnTo>
                  <a:pt x="44" y="231"/>
                </a:lnTo>
                <a:lnTo>
                  <a:pt x="44" y="248"/>
                </a:lnTo>
                <a:lnTo>
                  <a:pt x="44" y="265"/>
                </a:lnTo>
                <a:lnTo>
                  <a:pt x="44" y="281"/>
                </a:lnTo>
                <a:lnTo>
                  <a:pt x="44" y="299"/>
                </a:lnTo>
                <a:lnTo>
                  <a:pt x="44" y="315"/>
                </a:lnTo>
                <a:lnTo>
                  <a:pt x="44" y="332"/>
                </a:lnTo>
                <a:lnTo>
                  <a:pt x="37" y="350"/>
                </a:lnTo>
                <a:lnTo>
                  <a:pt x="31" y="366"/>
                </a:lnTo>
                <a:lnTo>
                  <a:pt x="19" y="383"/>
                </a:lnTo>
                <a:lnTo>
                  <a:pt x="6" y="400"/>
                </a:lnTo>
                <a:lnTo>
                  <a:pt x="0" y="417"/>
                </a:lnTo>
                <a:lnTo>
                  <a:pt x="0" y="4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63880" y="1793880"/>
            <a:ext cx="735120" cy="1547640"/>
          </a:xfrm>
          <a:custGeom>
            <a:avLst/>
            <a:gdLst/>
            <a:ahLst/>
            <a:rect l="l" t="t" r="r" b="b"/>
            <a:pathLst>
              <a:path w="463" h="975">
                <a:moveTo>
                  <a:pt x="0" y="0"/>
                </a:moveTo>
                <a:lnTo>
                  <a:pt x="24" y="16"/>
                </a:lnTo>
                <a:lnTo>
                  <a:pt x="37" y="34"/>
                </a:lnTo>
                <a:lnTo>
                  <a:pt x="49" y="50"/>
                </a:lnTo>
                <a:lnTo>
                  <a:pt x="56" y="67"/>
                </a:lnTo>
                <a:lnTo>
                  <a:pt x="62" y="84"/>
                </a:lnTo>
                <a:lnTo>
                  <a:pt x="74" y="101"/>
                </a:lnTo>
                <a:lnTo>
                  <a:pt x="80" y="117"/>
                </a:lnTo>
                <a:lnTo>
                  <a:pt x="93" y="135"/>
                </a:lnTo>
                <a:lnTo>
                  <a:pt x="105" y="151"/>
                </a:lnTo>
                <a:lnTo>
                  <a:pt x="118" y="168"/>
                </a:lnTo>
                <a:lnTo>
                  <a:pt x="130" y="186"/>
                </a:lnTo>
                <a:lnTo>
                  <a:pt x="143" y="202"/>
                </a:lnTo>
                <a:lnTo>
                  <a:pt x="150" y="219"/>
                </a:lnTo>
                <a:lnTo>
                  <a:pt x="161" y="241"/>
                </a:lnTo>
                <a:lnTo>
                  <a:pt x="168" y="259"/>
                </a:lnTo>
                <a:lnTo>
                  <a:pt x="174" y="275"/>
                </a:lnTo>
                <a:lnTo>
                  <a:pt x="186" y="293"/>
                </a:lnTo>
                <a:lnTo>
                  <a:pt x="199" y="309"/>
                </a:lnTo>
                <a:lnTo>
                  <a:pt x="206" y="326"/>
                </a:lnTo>
                <a:lnTo>
                  <a:pt x="218" y="343"/>
                </a:lnTo>
                <a:lnTo>
                  <a:pt x="231" y="360"/>
                </a:lnTo>
                <a:lnTo>
                  <a:pt x="242" y="376"/>
                </a:lnTo>
                <a:lnTo>
                  <a:pt x="249" y="394"/>
                </a:lnTo>
                <a:lnTo>
                  <a:pt x="268" y="411"/>
                </a:lnTo>
                <a:lnTo>
                  <a:pt x="280" y="427"/>
                </a:lnTo>
                <a:lnTo>
                  <a:pt x="293" y="445"/>
                </a:lnTo>
                <a:lnTo>
                  <a:pt x="305" y="461"/>
                </a:lnTo>
                <a:lnTo>
                  <a:pt x="318" y="478"/>
                </a:lnTo>
                <a:lnTo>
                  <a:pt x="324" y="495"/>
                </a:lnTo>
                <a:lnTo>
                  <a:pt x="330" y="512"/>
                </a:lnTo>
                <a:lnTo>
                  <a:pt x="330" y="528"/>
                </a:lnTo>
                <a:lnTo>
                  <a:pt x="336" y="546"/>
                </a:lnTo>
                <a:lnTo>
                  <a:pt x="343" y="562"/>
                </a:lnTo>
                <a:lnTo>
                  <a:pt x="343" y="579"/>
                </a:lnTo>
                <a:lnTo>
                  <a:pt x="349" y="597"/>
                </a:lnTo>
                <a:lnTo>
                  <a:pt x="349" y="613"/>
                </a:lnTo>
                <a:lnTo>
                  <a:pt x="356" y="630"/>
                </a:lnTo>
                <a:lnTo>
                  <a:pt x="356" y="647"/>
                </a:lnTo>
                <a:lnTo>
                  <a:pt x="356" y="664"/>
                </a:lnTo>
                <a:lnTo>
                  <a:pt x="356" y="681"/>
                </a:lnTo>
                <a:lnTo>
                  <a:pt x="361" y="698"/>
                </a:lnTo>
                <a:lnTo>
                  <a:pt x="361" y="714"/>
                </a:lnTo>
                <a:lnTo>
                  <a:pt x="368" y="732"/>
                </a:lnTo>
                <a:lnTo>
                  <a:pt x="374" y="749"/>
                </a:lnTo>
                <a:lnTo>
                  <a:pt x="374" y="765"/>
                </a:lnTo>
                <a:lnTo>
                  <a:pt x="386" y="787"/>
                </a:lnTo>
                <a:lnTo>
                  <a:pt x="392" y="805"/>
                </a:lnTo>
                <a:lnTo>
                  <a:pt x="399" y="822"/>
                </a:lnTo>
                <a:lnTo>
                  <a:pt x="405" y="838"/>
                </a:lnTo>
                <a:lnTo>
                  <a:pt x="417" y="856"/>
                </a:lnTo>
                <a:lnTo>
                  <a:pt x="424" y="872"/>
                </a:lnTo>
                <a:lnTo>
                  <a:pt x="430" y="889"/>
                </a:lnTo>
                <a:lnTo>
                  <a:pt x="437" y="906"/>
                </a:lnTo>
                <a:lnTo>
                  <a:pt x="443" y="923"/>
                </a:lnTo>
                <a:lnTo>
                  <a:pt x="449" y="940"/>
                </a:lnTo>
                <a:lnTo>
                  <a:pt x="462" y="957"/>
                </a:lnTo>
                <a:lnTo>
                  <a:pt x="462" y="974"/>
                </a:lnTo>
                <a:lnTo>
                  <a:pt x="462" y="96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81320" y="1793880"/>
            <a:ext cx="517680" cy="673200"/>
          </a:xfrm>
          <a:custGeom>
            <a:avLst/>
            <a:gdLst/>
            <a:ahLst/>
            <a:rect l="l" t="t" r="r" b="b"/>
            <a:pathLst>
              <a:path w="326" h="424">
                <a:moveTo>
                  <a:pt x="0" y="0"/>
                </a:moveTo>
                <a:lnTo>
                  <a:pt x="12" y="22"/>
                </a:lnTo>
                <a:lnTo>
                  <a:pt x="24" y="38"/>
                </a:lnTo>
                <a:lnTo>
                  <a:pt x="24" y="56"/>
                </a:lnTo>
                <a:lnTo>
                  <a:pt x="31" y="73"/>
                </a:lnTo>
                <a:lnTo>
                  <a:pt x="37" y="89"/>
                </a:lnTo>
                <a:lnTo>
                  <a:pt x="44" y="107"/>
                </a:lnTo>
                <a:lnTo>
                  <a:pt x="49" y="123"/>
                </a:lnTo>
                <a:lnTo>
                  <a:pt x="62" y="140"/>
                </a:lnTo>
                <a:lnTo>
                  <a:pt x="69" y="157"/>
                </a:lnTo>
                <a:lnTo>
                  <a:pt x="80" y="174"/>
                </a:lnTo>
                <a:lnTo>
                  <a:pt x="80" y="191"/>
                </a:lnTo>
                <a:lnTo>
                  <a:pt x="100" y="208"/>
                </a:lnTo>
                <a:lnTo>
                  <a:pt x="105" y="225"/>
                </a:lnTo>
                <a:lnTo>
                  <a:pt x="118" y="241"/>
                </a:lnTo>
                <a:lnTo>
                  <a:pt x="137" y="259"/>
                </a:lnTo>
                <a:lnTo>
                  <a:pt x="156" y="275"/>
                </a:lnTo>
                <a:lnTo>
                  <a:pt x="168" y="293"/>
                </a:lnTo>
                <a:lnTo>
                  <a:pt x="187" y="309"/>
                </a:lnTo>
                <a:lnTo>
                  <a:pt x="206" y="326"/>
                </a:lnTo>
                <a:lnTo>
                  <a:pt x="219" y="344"/>
                </a:lnTo>
                <a:lnTo>
                  <a:pt x="231" y="360"/>
                </a:lnTo>
                <a:lnTo>
                  <a:pt x="249" y="377"/>
                </a:lnTo>
                <a:lnTo>
                  <a:pt x="268" y="388"/>
                </a:lnTo>
                <a:lnTo>
                  <a:pt x="287" y="399"/>
                </a:lnTo>
                <a:lnTo>
                  <a:pt x="306" y="411"/>
                </a:lnTo>
                <a:lnTo>
                  <a:pt x="325" y="423"/>
                </a:lnTo>
                <a:lnTo>
                  <a:pt x="318" y="4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70320" y="1793880"/>
            <a:ext cx="308160" cy="511200"/>
          </a:xfrm>
          <a:custGeom>
            <a:avLst/>
            <a:gdLst/>
            <a:ahLst/>
            <a:rect l="l" t="t" r="r" b="b"/>
            <a:pathLst>
              <a:path w="194" h="322">
                <a:moveTo>
                  <a:pt x="0" y="0"/>
                </a:moveTo>
                <a:lnTo>
                  <a:pt x="18" y="22"/>
                </a:lnTo>
                <a:lnTo>
                  <a:pt x="31" y="39"/>
                </a:lnTo>
                <a:lnTo>
                  <a:pt x="37" y="56"/>
                </a:lnTo>
                <a:lnTo>
                  <a:pt x="49" y="73"/>
                </a:lnTo>
                <a:lnTo>
                  <a:pt x="56" y="89"/>
                </a:lnTo>
                <a:lnTo>
                  <a:pt x="62" y="107"/>
                </a:lnTo>
                <a:lnTo>
                  <a:pt x="69" y="123"/>
                </a:lnTo>
                <a:lnTo>
                  <a:pt x="74" y="140"/>
                </a:lnTo>
                <a:lnTo>
                  <a:pt x="80" y="158"/>
                </a:lnTo>
                <a:lnTo>
                  <a:pt x="100" y="174"/>
                </a:lnTo>
                <a:lnTo>
                  <a:pt x="105" y="191"/>
                </a:lnTo>
                <a:lnTo>
                  <a:pt x="118" y="208"/>
                </a:lnTo>
                <a:lnTo>
                  <a:pt x="130" y="225"/>
                </a:lnTo>
                <a:lnTo>
                  <a:pt x="143" y="241"/>
                </a:lnTo>
                <a:lnTo>
                  <a:pt x="156" y="259"/>
                </a:lnTo>
                <a:lnTo>
                  <a:pt x="161" y="276"/>
                </a:lnTo>
                <a:lnTo>
                  <a:pt x="174" y="293"/>
                </a:lnTo>
                <a:lnTo>
                  <a:pt x="187" y="310"/>
                </a:lnTo>
                <a:lnTo>
                  <a:pt x="193" y="3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08560" y="1793880"/>
            <a:ext cx="139680" cy="216000"/>
          </a:xfrm>
          <a:custGeom>
            <a:avLst/>
            <a:gdLst/>
            <a:ahLst/>
            <a:rect l="l" t="t" r="r" b="b"/>
            <a:pathLst>
              <a:path w="88" h="136">
                <a:moveTo>
                  <a:pt x="0" y="0"/>
                </a:moveTo>
                <a:lnTo>
                  <a:pt x="14" y="19"/>
                </a:lnTo>
                <a:lnTo>
                  <a:pt x="19" y="34"/>
                </a:lnTo>
                <a:lnTo>
                  <a:pt x="24" y="50"/>
                </a:lnTo>
                <a:lnTo>
                  <a:pt x="29" y="64"/>
                </a:lnTo>
                <a:lnTo>
                  <a:pt x="38" y="79"/>
                </a:lnTo>
                <a:lnTo>
                  <a:pt x="48" y="95"/>
                </a:lnTo>
                <a:lnTo>
                  <a:pt x="62" y="104"/>
                </a:lnTo>
                <a:lnTo>
                  <a:pt x="77" y="115"/>
                </a:lnTo>
                <a:lnTo>
                  <a:pt x="87" y="129"/>
                </a:lnTo>
                <a:lnTo>
                  <a:pt x="87" y="135"/>
                </a:lnTo>
              </a:path>
            </a:pathLst>
          </a:custGeom>
          <a:noFill/>
          <a:ln cap="rnd"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18000" y="1757520"/>
            <a:ext cx="98280" cy="7272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0"/>
                </a:moveTo>
                <a:lnTo>
                  <a:pt x="24" y="10"/>
                </a:lnTo>
                <a:lnTo>
                  <a:pt x="42" y="28"/>
                </a:lnTo>
                <a:lnTo>
                  <a:pt x="55" y="45"/>
                </a:lnTo>
                <a:lnTo>
                  <a:pt x="61" y="4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9640" y="4208400"/>
            <a:ext cx="546120" cy="1656000"/>
          </a:xfrm>
          <a:custGeom>
            <a:avLst/>
            <a:gdLst/>
            <a:ahLst/>
            <a:rect l="l" t="t" r="r" b="b"/>
            <a:pathLst>
              <a:path w="344" h="1043">
                <a:moveTo>
                  <a:pt x="343" y="11"/>
                </a:moveTo>
                <a:lnTo>
                  <a:pt x="317" y="0"/>
                </a:lnTo>
                <a:lnTo>
                  <a:pt x="298" y="0"/>
                </a:lnTo>
                <a:lnTo>
                  <a:pt x="280" y="0"/>
                </a:lnTo>
                <a:lnTo>
                  <a:pt x="261" y="0"/>
                </a:lnTo>
                <a:lnTo>
                  <a:pt x="243" y="0"/>
                </a:lnTo>
                <a:lnTo>
                  <a:pt x="224" y="0"/>
                </a:lnTo>
                <a:lnTo>
                  <a:pt x="205" y="5"/>
                </a:lnTo>
                <a:lnTo>
                  <a:pt x="187" y="16"/>
                </a:lnTo>
                <a:lnTo>
                  <a:pt x="168" y="22"/>
                </a:lnTo>
                <a:lnTo>
                  <a:pt x="149" y="34"/>
                </a:lnTo>
                <a:lnTo>
                  <a:pt x="131" y="39"/>
                </a:lnTo>
                <a:lnTo>
                  <a:pt x="112" y="39"/>
                </a:lnTo>
                <a:lnTo>
                  <a:pt x="93" y="39"/>
                </a:lnTo>
                <a:lnTo>
                  <a:pt x="75" y="39"/>
                </a:lnTo>
                <a:lnTo>
                  <a:pt x="37" y="39"/>
                </a:lnTo>
                <a:lnTo>
                  <a:pt x="19" y="44"/>
                </a:lnTo>
                <a:lnTo>
                  <a:pt x="0" y="62"/>
                </a:lnTo>
                <a:lnTo>
                  <a:pt x="0" y="78"/>
                </a:lnTo>
                <a:lnTo>
                  <a:pt x="0" y="95"/>
                </a:lnTo>
                <a:lnTo>
                  <a:pt x="12" y="112"/>
                </a:lnTo>
                <a:lnTo>
                  <a:pt x="31" y="123"/>
                </a:lnTo>
                <a:lnTo>
                  <a:pt x="44" y="141"/>
                </a:lnTo>
                <a:lnTo>
                  <a:pt x="55" y="157"/>
                </a:lnTo>
                <a:lnTo>
                  <a:pt x="68" y="174"/>
                </a:lnTo>
                <a:lnTo>
                  <a:pt x="81" y="191"/>
                </a:lnTo>
                <a:lnTo>
                  <a:pt x="93" y="208"/>
                </a:lnTo>
                <a:lnTo>
                  <a:pt x="112" y="224"/>
                </a:lnTo>
                <a:lnTo>
                  <a:pt x="124" y="242"/>
                </a:lnTo>
                <a:lnTo>
                  <a:pt x="137" y="259"/>
                </a:lnTo>
                <a:lnTo>
                  <a:pt x="149" y="275"/>
                </a:lnTo>
                <a:lnTo>
                  <a:pt x="155" y="293"/>
                </a:lnTo>
                <a:lnTo>
                  <a:pt x="168" y="309"/>
                </a:lnTo>
                <a:lnTo>
                  <a:pt x="174" y="327"/>
                </a:lnTo>
                <a:lnTo>
                  <a:pt x="187" y="343"/>
                </a:lnTo>
                <a:lnTo>
                  <a:pt x="193" y="366"/>
                </a:lnTo>
                <a:lnTo>
                  <a:pt x="193" y="382"/>
                </a:lnTo>
                <a:lnTo>
                  <a:pt x="198" y="400"/>
                </a:lnTo>
                <a:lnTo>
                  <a:pt x="198" y="416"/>
                </a:lnTo>
                <a:lnTo>
                  <a:pt x="198" y="433"/>
                </a:lnTo>
                <a:lnTo>
                  <a:pt x="211" y="450"/>
                </a:lnTo>
                <a:lnTo>
                  <a:pt x="211" y="467"/>
                </a:lnTo>
                <a:lnTo>
                  <a:pt x="218" y="483"/>
                </a:lnTo>
                <a:lnTo>
                  <a:pt x="224" y="501"/>
                </a:lnTo>
                <a:lnTo>
                  <a:pt x="230" y="518"/>
                </a:lnTo>
                <a:lnTo>
                  <a:pt x="236" y="534"/>
                </a:lnTo>
                <a:lnTo>
                  <a:pt x="249" y="552"/>
                </a:lnTo>
                <a:lnTo>
                  <a:pt x="261" y="568"/>
                </a:lnTo>
                <a:lnTo>
                  <a:pt x="274" y="585"/>
                </a:lnTo>
                <a:lnTo>
                  <a:pt x="280" y="602"/>
                </a:lnTo>
                <a:lnTo>
                  <a:pt x="292" y="619"/>
                </a:lnTo>
                <a:lnTo>
                  <a:pt x="305" y="636"/>
                </a:lnTo>
                <a:lnTo>
                  <a:pt x="311" y="653"/>
                </a:lnTo>
                <a:lnTo>
                  <a:pt x="323" y="669"/>
                </a:lnTo>
                <a:lnTo>
                  <a:pt x="330" y="687"/>
                </a:lnTo>
                <a:lnTo>
                  <a:pt x="330" y="704"/>
                </a:lnTo>
                <a:lnTo>
                  <a:pt x="336" y="720"/>
                </a:lnTo>
                <a:lnTo>
                  <a:pt x="336" y="738"/>
                </a:lnTo>
                <a:lnTo>
                  <a:pt x="336" y="754"/>
                </a:lnTo>
                <a:lnTo>
                  <a:pt x="336" y="771"/>
                </a:lnTo>
                <a:lnTo>
                  <a:pt x="336" y="788"/>
                </a:lnTo>
                <a:lnTo>
                  <a:pt x="336" y="811"/>
                </a:lnTo>
                <a:lnTo>
                  <a:pt x="336" y="827"/>
                </a:lnTo>
                <a:lnTo>
                  <a:pt x="336" y="844"/>
                </a:lnTo>
                <a:lnTo>
                  <a:pt x="330" y="861"/>
                </a:lnTo>
                <a:lnTo>
                  <a:pt x="323" y="884"/>
                </a:lnTo>
                <a:lnTo>
                  <a:pt x="317" y="900"/>
                </a:lnTo>
                <a:lnTo>
                  <a:pt x="317" y="923"/>
                </a:lnTo>
                <a:lnTo>
                  <a:pt x="311" y="946"/>
                </a:lnTo>
                <a:lnTo>
                  <a:pt x="311" y="968"/>
                </a:lnTo>
                <a:lnTo>
                  <a:pt x="311" y="991"/>
                </a:lnTo>
                <a:lnTo>
                  <a:pt x="311" y="1007"/>
                </a:lnTo>
                <a:lnTo>
                  <a:pt x="311" y="1025"/>
                </a:lnTo>
                <a:lnTo>
                  <a:pt x="305" y="10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084320" y="4218120"/>
            <a:ext cx="812880" cy="1638000"/>
          </a:xfrm>
          <a:custGeom>
            <a:avLst/>
            <a:gdLst/>
            <a:ahLst/>
            <a:rect l="l" t="t" r="r" b="b"/>
            <a:pathLst>
              <a:path w="512" h="1032">
                <a:moveTo>
                  <a:pt x="0" y="0"/>
                </a:moveTo>
                <a:lnTo>
                  <a:pt x="24" y="5"/>
                </a:lnTo>
                <a:lnTo>
                  <a:pt x="43" y="16"/>
                </a:lnTo>
                <a:lnTo>
                  <a:pt x="56" y="34"/>
                </a:lnTo>
                <a:lnTo>
                  <a:pt x="67" y="50"/>
                </a:lnTo>
                <a:lnTo>
                  <a:pt x="80" y="67"/>
                </a:lnTo>
                <a:lnTo>
                  <a:pt x="92" y="84"/>
                </a:lnTo>
                <a:lnTo>
                  <a:pt x="112" y="95"/>
                </a:lnTo>
                <a:lnTo>
                  <a:pt x="117" y="113"/>
                </a:lnTo>
                <a:lnTo>
                  <a:pt x="130" y="129"/>
                </a:lnTo>
                <a:lnTo>
                  <a:pt x="136" y="146"/>
                </a:lnTo>
                <a:lnTo>
                  <a:pt x="143" y="163"/>
                </a:lnTo>
                <a:lnTo>
                  <a:pt x="161" y="174"/>
                </a:lnTo>
                <a:lnTo>
                  <a:pt x="173" y="191"/>
                </a:lnTo>
                <a:lnTo>
                  <a:pt x="192" y="208"/>
                </a:lnTo>
                <a:lnTo>
                  <a:pt x="204" y="225"/>
                </a:lnTo>
                <a:lnTo>
                  <a:pt x="211" y="242"/>
                </a:lnTo>
                <a:lnTo>
                  <a:pt x="217" y="259"/>
                </a:lnTo>
                <a:lnTo>
                  <a:pt x="224" y="281"/>
                </a:lnTo>
                <a:lnTo>
                  <a:pt x="224" y="315"/>
                </a:lnTo>
                <a:lnTo>
                  <a:pt x="230" y="332"/>
                </a:lnTo>
                <a:lnTo>
                  <a:pt x="230" y="348"/>
                </a:lnTo>
                <a:lnTo>
                  <a:pt x="236" y="366"/>
                </a:lnTo>
                <a:lnTo>
                  <a:pt x="236" y="382"/>
                </a:lnTo>
                <a:lnTo>
                  <a:pt x="242" y="399"/>
                </a:lnTo>
                <a:lnTo>
                  <a:pt x="255" y="417"/>
                </a:lnTo>
                <a:lnTo>
                  <a:pt x="255" y="433"/>
                </a:lnTo>
                <a:lnTo>
                  <a:pt x="260" y="451"/>
                </a:lnTo>
                <a:lnTo>
                  <a:pt x="267" y="473"/>
                </a:lnTo>
                <a:lnTo>
                  <a:pt x="267" y="490"/>
                </a:lnTo>
                <a:lnTo>
                  <a:pt x="273" y="506"/>
                </a:lnTo>
                <a:lnTo>
                  <a:pt x="280" y="524"/>
                </a:lnTo>
                <a:lnTo>
                  <a:pt x="286" y="540"/>
                </a:lnTo>
                <a:lnTo>
                  <a:pt x="292" y="557"/>
                </a:lnTo>
                <a:lnTo>
                  <a:pt x="292" y="574"/>
                </a:lnTo>
                <a:lnTo>
                  <a:pt x="298" y="591"/>
                </a:lnTo>
                <a:lnTo>
                  <a:pt x="305" y="608"/>
                </a:lnTo>
                <a:lnTo>
                  <a:pt x="305" y="625"/>
                </a:lnTo>
                <a:lnTo>
                  <a:pt x="311" y="642"/>
                </a:lnTo>
                <a:lnTo>
                  <a:pt x="318" y="658"/>
                </a:lnTo>
                <a:lnTo>
                  <a:pt x="318" y="676"/>
                </a:lnTo>
                <a:lnTo>
                  <a:pt x="318" y="692"/>
                </a:lnTo>
                <a:lnTo>
                  <a:pt x="318" y="709"/>
                </a:lnTo>
                <a:lnTo>
                  <a:pt x="318" y="726"/>
                </a:lnTo>
                <a:lnTo>
                  <a:pt x="318" y="743"/>
                </a:lnTo>
                <a:lnTo>
                  <a:pt x="323" y="761"/>
                </a:lnTo>
                <a:lnTo>
                  <a:pt x="329" y="794"/>
                </a:lnTo>
                <a:lnTo>
                  <a:pt x="336" y="828"/>
                </a:lnTo>
                <a:lnTo>
                  <a:pt x="342" y="844"/>
                </a:lnTo>
                <a:lnTo>
                  <a:pt x="354" y="862"/>
                </a:lnTo>
                <a:lnTo>
                  <a:pt x="367" y="878"/>
                </a:lnTo>
                <a:lnTo>
                  <a:pt x="385" y="895"/>
                </a:lnTo>
                <a:lnTo>
                  <a:pt x="404" y="913"/>
                </a:lnTo>
                <a:lnTo>
                  <a:pt x="410" y="929"/>
                </a:lnTo>
                <a:lnTo>
                  <a:pt x="423" y="946"/>
                </a:lnTo>
                <a:lnTo>
                  <a:pt x="442" y="963"/>
                </a:lnTo>
                <a:lnTo>
                  <a:pt x="454" y="980"/>
                </a:lnTo>
                <a:lnTo>
                  <a:pt x="466" y="996"/>
                </a:lnTo>
                <a:lnTo>
                  <a:pt x="479" y="1014"/>
                </a:lnTo>
                <a:lnTo>
                  <a:pt x="491" y="1031"/>
                </a:lnTo>
                <a:lnTo>
                  <a:pt x="504" y="1031"/>
                </a:lnTo>
                <a:lnTo>
                  <a:pt x="511" y="103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62240" y="4522680"/>
            <a:ext cx="434880" cy="1359000"/>
          </a:xfrm>
          <a:custGeom>
            <a:avLst/>
            <a:gdLst/>
            <a:ahLst/>
            <a:rect l="l" t="t" r="r" b="b"/>
            <a:pathLst>
              <a:path w="274" h="856">
                <a:moveTo>
                  <a:pt x="273" y="27"/>
                </a:moveTo>
                <a:lnTo>
                  <a:pt x="248" y="10"/>
                </a:lnTo>
                <a:lnTo>
                  <a:pt x="230" y="4"/>
                </a:lnTo>
                <a:lnTo>
                  <a:pt x="210" y="4"/>
                </a:lnTo>
                <a:lnTo>
                  <a:pt x="192" y="0"/>
                </a:lnTo>
                <a:lnTo>
                  <a:pt x="174" y="0"/>
                </a:lnTo>
                <a:lnTo>
                  <a:pt x="154" y="0"/>
                </a:lnTo>
                <a:lnTo>
                  <a:pt x="136" y="0"/>
                </a:lnTo>
                <a:lnTo>
                  <a:pt x="118" y="16"/>
                </a:lnTo>
                <a:lnTo>
                  <a:pt x="98" y="27"/>
                </a:lnTo>
                <a:lnTo>
                  <a:pt x="80" y="38"/>
                </a:lnTo>
                <a:lnTo>
                  <a:pt x="62" y="55"/>
                </a:lnTo>
                <a:lnTo>
                  <a:pt x="55" y="73"/>
                </a:lnTo>
                <a:lnTo>
                  <a:pt x="37" y="89"/>
                </a:lnTo>
                <a:lnTo>
                  <a:pt x="31" y="106"/>
                </a:lnTo>
                <a:lnTo>
                  <a:pt x="24" y="123"/>
                </a:lnTo>
                <a:lnTo>
                  <a:pt x="18" y="140"/>
                </a:lnTo>
                <a:lnTo>
                  <a:pt x="6" y="156"/>
                </a:lnTo>
                <a:lnTo>
                  <a:pt x="0" y="174"/>
                </a:lnTo>
                <a:lnTo>
                  <a:pt x="0" y="190"/>
                </a:lnTo>
                <a:lnTo>
                  <a:pt x="0" y="207"/>
                </a:lnTo>
                <a:lnTo>
                  <a:pt x="0" y="224"/>
                </a:lnTo>
                <a:lnTo>
                  <a:pt x="6" y="241"/>
                </a:lnTo>
                <a:lnTo>
                  <a:pt x="18" y="259"/>
                </a:lnTo>
                <a:lnTo>
                  <a:pt x="37" y="269"/>
                </a:lnTo>
                <a:lnTo>
                  <a:pt x="42" y="286"/>
                </a:lnTo>
                <a:lnTo>
                  <a:pt x="49" y="303"/>
                </a:lnTo>
                <a:lnTo>
                  <a:pt x="62" y="326"/>
                </a:lnTo>
                <a:lnTo>
                  <a:pt x="74" y="342"/>
                </a:lnTo>
                <a:lnTo>
                  <a:pt x="80" y="360"/>
                </a:lnTo>
                <a:lnTo>
                  <a:pt x="87" y="382"/>
                </a:lnTo>
                <a:lnTo>
                  <a:pt x="98" y="399"/>
                </a:lnTo>
                <a:lnTo>
                  <a:pt x="105" y="415"/>
                </a:lnTo>
                <a:lnTo>
                  <a:pt x="111" y="439"/>
                </a:lnTo>
                <a:lnTo>
                  <a:pt x="118" y="455"/>
                </a:lnTo>
                <a:lnTo>
                  <a:pt x="124" y="472"/>
                </a:lnTo>
                <a:lnTo>
                  <a:pt x="136" y="489"/>
                </a:lnTo>
                <a:lnTo>
                  <a:pt x="154" y="506"/>
                </a:lnTo>
                <a:lnTo>
                  <a:pt x="174" y="517"/>
                </a:lnTo>
                <a:lnTo>
                  <a:pt x="185" y="534"/>
                </a:lnTo>
                <a:lnTo>
                  <a:pt x="205" y="545"/>
                </a:lnTo>
                <a:lnTo>
                  <a:pt x="217" y="562"/>
                </a:lnTo>
                <a:lnTo>
                  <a:pt x="223" y="579"/>
                </a:lnTo>
                <a:lnTo>
                  <a:pt x="223" y="595"/>
                </a:lnTo>
                <a:lnTo>
                  <a:pt x="223" y="613"/>
                </a:lnTo>
                <a:lnTo>
                  <a:pt x="223" y="630"/>
                </a:lnTo>
                <a:lnTo>
                  <a:pt x="217" y="646"/>
                </a:lnTo>
                <a:lnTo>
                  <a:pt x="205" y="664"/>
                </a:lnTo>
                <a:lnTo>
                  <a:pt x="192" y="680"/>
                </a:lnTo>
                <a:lnTo>
                  <a:pt x="192" y="698"/>
                </a:lnTo>
                <a:lnTo>
                  <a:pt x="185" y="714"/>
                </a:lnTo>
                <a:lnTo>
                  <a:pt x="185" y="731"/>
                </a:lnTo>
                <a:lnTo>
                  <a:pt x="185" y="748"/>
                </a:lnTo>
                <a:lnTo>
                  <a:pt x="185" y="765"/>
                </a:lnTo>
                <a:lnTo>
                  <a:pt x="185" y="781"/>
                </a:lnTo>
                <a:lnTo>
                  <a:pt x="185" y="799"/>
                </a:lnTo>
                <a:lnTo>
                  <a:pt x="185" y="816"/>
                </a:lnTo>
                <a:lnTo>
                  <a:pt x="192" y="832"/>
                </a:lnTo>
                <a:lnTo>
                  <a:pt x="198" y="850"/>
                </a:lnTo>
                <a:lnTo>
                  <a:pt x="210" y="85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7760" y="4557600"/>
            <a:ext cx="585720" cy="1324080"/>
          </a:xfrm>
          <a:custGeom>
            <a:avLst/>
            <a:gdLst/>
            <a:ahLst/>
            <a:rect l="l" t="t" r="r" b="b"/>
            <a:pathLst>
              <a:path w="369" h="834">
                <a:moveTo>
                  <a:pt x="0" y="0"/>
                </a:moveTo>
                <a:lnTo>
                  <a:pt x="30" y="0"/>
                </a:lnTo>
                <a:lnTo>
                  <a:pt x="49" y="0"/>
                </a:lnTo>
                <a:lnTo>
                  <a:pt x="67" y="10"/>
                </a:lnTo>
                <a:lnTo>
                  <a:pt x="87" y="22"/>
                </a:lnTo>
                <a:lnTo>
                  <a:pt x="105" y="38"/>
                </a:lnTo>
                <a:lnTo>
                  <a:pt x="124" y="55"/>
                </a:lnTo>
                <a:lnTo>
                  <a:pt x="143" y="67"/>
                </a:lnTo>
                <a:lnTo>
                  <a:pt x="155" y="83"/>
                </a:lnTo>
                <a:lnTo>
                  <a:pt x="168" y="101"/>
                </a:lnTo>
                <a:lnTo>
                  <a:pt x="173" y="117"/>
                </a:lnTo>
                <a:lnTo>
                  <a:pt x="180" y="134"/>
                </a:lnTo>
                <a:lnTo>
                  <a:pt x="180" y="151"/>
                </a:lnTo>
                <a:lnTo>
                  <a:pt x="180" y="168"/>
                </a:lnTo>
                <a:lnTo>
                  <a:pt x="173" y="185"/>
                </a:lnTo>
                <a:lnTo>
                  <a:pt x="161" y="202"/>
                </a:lnTo>
                <a:lnTo>
                  <a:pt x="143" y="219"/>
                </a:lnTo>
                <a:lnTo>
                  <a:pt x="137" y="236"/>
                </a:lnTo>
                <a:lnTo>
                  <a:pt x="130" y="253"/>
                </a:lnTo>
                <a:lnTo>
                  <a:pt x="124" y="269"/>
                </a:lnTo>
                <a:lnTo>
                  <a:pt x="124" y="287"/>
                </a:lnTo>
                <a:lnTo>
                  <a:pt x="117" y="303"/>
                </a:lnTo>
                <a:lnTo>
                  <a:pt x="112" y="320"/>
                </a:lnTo>
                <a:lnTo>
                  <a:pt x="99" y="338"/>
                </a:lnTo>
                <a:lnTo>
                  <a:pt x="92" y="354"/>
                </a:lnTo>
                <a:lnTo>
                  <a:pt x="87" y="371"/>
                </a:lnTo>
                <a:lnTo>
                  <a:pt x="80" y="388"/>
                </a:lnTo>
                <a:lnTo>
                  <a:pt x="74" y="405"/>
                </a:lnTo>
                <a:lnTo>
                  <a:pt x="74" y="421"/>
                </a:lnTo>
                <a:lnTo>
                  <a:pt x="74" y="439"/>
                </a:lnTo>
                <a:lnTo>
                  <a:pt x="74" y="461"/>
                </a:lnTo>
                <a:lnTo>
                  <a:pt x="74" y="478"/>
                </a:lnTo>
                <a:lnTo>
                  <a:pt x="74" y="494"/>
                </a:lnTo>
                <a:lnTo>
                  <a:pt x="80" y="512"/>
                </a:lnTo>
                <a:lnTo>
                  <a:pt x="92" y="529"/>
                </a:lnTo>
                <a:lnTo>
                  <a:pt x="112" y="540"/>
                </a:lnTo>
                <a:lnTo>
                  <a:pt x="117" y="557"/>
                </a:lnTo>
                <a:lnTo>
                  <a:pt x="137" y="568"/>
                </a:lnTo>
                <a:lnTo>
                  <a:pt x="155" y="573"/>
                </a:lnTo>
                <a:lnTo>
                  <a:pt x="173" y="585"/>
                </a:lnTo>
                <a:lnTo>
                  <a:pt x="193" y="597"/>
                </a:lnTo>
                <a:lnTo>
                  <a:pt x="211" y="602"/>
                </a:lnTo>
                <a:lnTo>
                  <a:pt x="230" y="613"/>
                </a:lnTo>
                <a:lnTo>
                  <a:pt x="249" y="624"/>
                </a:lnTo>
                <a:lnTo>
                  <a:pt x="267" y="636"/>
                </a:lnTo>
                <a:lnTo>
                  <a:pt x="280" y="652"/>
                </a:lnTo>
                <a:lnTo>
                  <a:pt x="292" y="670"/>
                </a:lnTo>
                <a:lnTo>
                  <a:pt x="298" y="686"/>
                </a:lnTo>
                <a:lnTo>
                  <a:pt x="305" y="703"/>
                </a:lnTo>
                <a:lnTo>
                  <a:pt x="318" y="726"/>
                </a:lnTo>
                <a:lnTo>
                  <a:pt x="330" y="743"/>
                </a:lnTo>
                <a:lnTo>
                  <a:pt x="336" y="759"/>
                </a:lnTo>
                <a:lnTo>
                  <a:pt x="343" y="777"/>
                </a:lnTo>
                <a:lnTo>
                  <a:pt x="355" y="794"/>
                </a:lnTo>
                <a:lnTo>
                  <a:pt x="361" y="816"/>
                </a:lnTo>
                <a:lnTo>
                  <a:pt x="368" y="8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40080" y="4683240"/>
            <a:ext cx="32688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489040" y="4646520"/>
            <a:ext cx="792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19200" y="503064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TA MODEL FORECAST OF SFC AN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000-500 MB THICKNESS.  USING THESE FORECASTS AND THE THE MAPS  TO FOLLOW, PREDICT WHERE THE HEAVIEST RAIN WILL FAL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97400" y="1776240"/>
            <a:ext cx="727200" cy="1819440"/>
          </a:xfrm>
          <a:custGeom>
            <a:avLst/>
            <a:gdLst/>
            <a:ahLst/>
            <a:rect l="l" t="t" r="r" b="b"/>
            <a:pathLst>
              <a:path w="458" h="1146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6" y="127"/>
                </a:lnTo>
                <a:lnTo>
                  <a:pt x="23" y="139"/>
                </a:lnTo>
                <a:lnTo>
                  <a:pt x="40" y="150"/>
                </a:lnTo>
                <a:lnTo>
                  <a:pt x="58" y="156"/>
                </a:lnTo>
                <a:lnTo>
                  <a:pt x="75" y="162"/>
                </a:lnTo>
                <a:lnTo>
                  <a:pt x="92" y="174"/>
                </a:lnTo>
                <a:lnTo>
                  <a:pt x="116" y="185"/>
                </a:lnTo>
                <a:lnTo>
                  <a:pt x="133" y="197"/>
                </a:lnTo>
                <a:lnTo>
                  <a:pt x="150" y="208"/>
                </a:lnTo>
                <a:lnTo>
                  <a:pt x="168" y="220"/>
                </a:lnTo>
                <a:lnTo>
                  <a:pt x="185" y="231"/>
                </a:lnTo>
                <a:lnTo>
                  <a:pt x="202" y="243"/>
                </a:lnTo>
                <a:lnTo>
                  <a:pt x="220" y="255"/>
                </a:lnTo>
                <a:lnTo>
                  <a:pt x="237" y="266"/>
                </a:lnTo>
                <a:lnTo>
                  <a:pt x="254" y="278"/>
                </a:lnTo>
                <a:lnTo>
                  <a:pt x="266" y="295"/>
                </a:lnTo>
                <a:lnTo>
                  <a:pt x="283" y="312"/>
                </a:lnTo>
                <a:lnTo>
                  <a:pt x="301" y="324"/>
                </a:lnTo>
                <a:lnTo>
                  <a:pt x="307" y="341"/>
                </a:lnTo>
                <a:lnTo>
                  <a:pt x="318" y="359"/>
                </a:lnTo>
                <a:lnTo>
                  <a:pt x="330" y="376"/>
                </a:lnTo>
                <a:lnTo>
                  <a:pt x="341" y="393"/>
                </a:lnTo>
                <a:lnTo>
                  <a:pt x="347" y="411"/>
                </a:lnTo>
                <a:lnTo>
                  <a:pt x="353" y="428"/>
                </a:lnTo>
                <a:lnTo>
                  <a:pt x="353" y="445"/>
                </a:lnTo>
                <a:lnTo>
                  <a:pt x="364" y="463"/>
                </a:lnTo>
                <a:lnTo>
                  <a:pt x="370" y="480"/>
                </a:lnTo>
                <a:lnTo>
                  <a:pt x="376" y="497"/>
                </a:lnTo>
                <a:lnTo>
                  <a:pt x="382" y="515"/>
                </a:lnTo>
                <a:lnTo>
                  <a:pt x="382" y="532"/>
                </a:lnTo>
                <a:lnTo>
                  <a:pt x="387" y="549"/>
                </a:lnTo>
                <a:lnTo>
                  <a:pt x="393" y="567"/>
                </a:lnTo>
                <a:lnTo>
                  <a:pt x="399" y="584"/>
                </a:lnTo>
                <a:lnTo>
                  <a:pt x="399" y="602"/>
                </a:lnTo>
                <a:lnTo>
                  <a:pt x="399" y="619"/>
                </a:lnTo>
                <a:lnTo>
                  <a:pt x="399" y="636"/>
                </a:lnTo>
                <a:lnTo>
                  <a:pt x="405" y="654"/>
                </a:lnTo>
                <a:lnTo>
                  <a:pt x="405" y="671"/>
                </a:lnTo>
                <a:lnTo>
                  <a:pt x="405" y="688"/>
                </a:lnTo>
                <a:lnTo>
                  <a:pt x="405" y="706"/>
                </a:lnTo>
                <a:lnTo>
                  <a:pt x="405" y="723"/>
                </a:lnTo>
                <a:lnTo>
                  <a:pt x="405" y="746"/>
                </a:lnTo>
                <a:lnTo>
                  <a:pt x="411" y="769"/>
                </a:lnTo>
                <a:lnTo>
                  <a:pt x="416" y="787"/>
                </a:lnTo>
                <a:lnTo>
                  <a:pt x="416" y="804"/>
                </a:lnTo>
                <a:lnTo>
                  <a:pt x="422" y="821"/>
                </a:lnTo>
                <a:lnTo>
                  <a:pt x="428" y="839"/>
                </a:lnTo>
                <a:lnTo>
                  <a:pt x="440" y="856"/>
                </a:lnTo>
                <a:lnTo>
                  <a:pt x="445" y="873"/>
                </a:lnTo>
                <a:lnTo>
                  <a:pt x="451" y="891"/>
                </a:lnTo>
                <a:lnTo>
                  <a:pt x="451" y="908"/>
                </a:lnTo>
                <a:lnTo>
                  <a:pt x="457" y="925"/>
                </a:lnTo>
                <a:lnTo>
                  <a:pt x="457" y="943"/>
                </a:lnTo>
                <a:lnTo>
                  <a:pt x="457" y="966"/>
                </a:lnTo>
                <a:lnTo>
                  <a:pt x="457" y="983"/>
                </a:lnTo>
                <a:lnTo>
                  <a:pt x="451" y="1001"/>
                </a:lnTo>
                <a:lnTo>
                  <a:pt x="434" y="1018"/>
                </a:lnTo>
                <a:lnTo>
                  <a:pt x="422" y="1035"/>
                </a:lnTo>
                <a:lnTo>
                  <a:pt x="405" y="1047"/>
                </a:lnTo>
                <a:lnTo>
                  <a:pt x="387" y="1064"/>
                </a:lnTo>
                <a:lnTo>
                  <a:pt x="370" y="1076"/>
                </a:lnTo>
                <a:lnTo>
                  <a:pt x="353" y="1087"/>
                </a:lnTo>
                <a:lnTo>
                  <a:pt x="335" y="1105"/>
                </a:lnTo>
                <a:lnTo>
                  <a:pt x="318" y="1105"/>
                </a:lnTo>
                <a:lnTo>
                  <a:pt x="301" y="1116"/>
                </a:lnTo>
                <a:lnTo>
                  <a:pt x="283" y="1128"/>
                </a:lnTo>
                <a:lnTo>
                  <a:pt x="266" y="1134"/>
                </a:lnTo>
                <a:lnTo>
                  <a:pt x="249" y="1139"/>
                </a:lnTo>
                <a:lnTo>
                  <a:pt x="243" y="114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59440" y="3584520"/>
            <a:ext cx="1166760" cy="2287800"/>
          </a:xfrm>
          <a:custGeom>
            <a:avLst/>
            <a:gdLst/>
            <a:ahLst/>
            <a:rect l="l" t="t" r="r" b="b"/>
            <a:pathLst>
              <a:path w="735" h="1441">
                <a:moveTo>
                  <a:pt x="387" y="0"/>
                </a:moveTo>
                <a:lnTo>
                  <a:pt x="364" y="18"/>
                </a:lnTo>
                <a:lnTo>
                  <a:pt x="347" y="23"/>
                </a:lnTo>
                <a:lnTo>
                  <a:pt x="329" y="29"/>
                </a:lnTo>
                <a:lnTo>
                  <a:pt x="312" y="35"/>
                </a:lnTo>
                <a:lnTo>
                  <a:pt x="295" y="35"/>
                </a:lnTo>
                <a:lnTo>
                  <a:pt x="277" y="35"/>
                </a:lnTo>
                <a:lnTo>
                  <a:pt x="260" y="35"/>
                </a:lnTo>
                <a:lnTo>
                  <a:pt x="242" y="41"/>
                </a:lnTo>
                <a:lnTo>
                  <a:pt x="225" y="41"/>
                </a:lnTo>
                <a:lnTo>
                  <a:pt x="208" y="47"/>
                </a:lnTo>
                <a:lnTo>
                  <a:pt x="190" y="47"/>
                </a:lnTo>
                <a:lnTo>
                  <a:pt x="173" y="47"/>
                </a:lnTo>
                <a:lnTo>
                  <a:pt x="156" y="47"/>
                </a:lnTo>
                <a:lnTo>
                  <a:pt x="138" y="47"/>
                </a:lnTo>
                <a:lnTo>
                  <a:pt x="121" y="47"/>
                </a:lnTo>
                <a:lnTo>
                  <a:pt x="104" y="47"/>
                </a:lnTo>
                <a:lnTo>
                  <a:pt x="86" y="52"/>
                </a:lnTo>
                <a:lnTo>
                  <a:pt x="63" y="58"/>
                </a:lnTo>
                <a:lnTo>
                  <a:pt x="46" y="64"/>
                </a:lnTo>
                <a:lnTo>
                  <a:pt x="28" y="70"/>
                </a:lnTo>
                <a:lnTo>
                  <a:pt x="17" y="87"/>
                </a:lnTo>
                <a:lnTo>
                  <a:pt x="5" y="104"/>
                </a:lnTo>
                <a:lnTo>
                  <a:pt x="0" y="122"/>
                </a:lnTo>
                <a:lnTo>
                  <a:pt x="0" y="139"/>
                </a:lnTo>
                <a:lnTo>
                  <a:pt x="0" y="156"/>
                </a:lnTo>
                <a:lnTo>
                  <a:pt x="0" y="174"/>
                </a:lnTo>
                <a:lnTo>
                  <a:pt x="5" y="191"/>
                </a:lnTo>
                <a:lnTo>
                  <a:pt x="11" y="208"/>
                </a:lnTo>
                <a:lnTo>
                  <a:pt x="17" y="226"/>
                </a:lnTo>
                <a:lnTo>
                  <a:pt x="28" y="243"/>
                </a:lnTo>
                <a:lnTo>
                  <a:pt x="46" y="255"/>
                </a:lnTo>
                <a:lnTo>
                  <a:pt x="57" y="272"/>
                </a:lnTo>
                <a:lnTo>
                  <a:pt x="75" y="284"/>
                </a:lnTo>
                <a:lnTo>
                  <a:pt x="92" y="295"/>
                </a:lnTo>
                <a:lnTo>
                  <a:pt x="109" y="301"/>
                </a:lnTo>
                <a:lnTo>
                  <a:pt x="127" y="307"/>
                </a:lnTo>
                <a:lnTo>
                  <a:pt x="144" y="313"/>
                </a:lnTo>
                <a:lnTo>
                  <a:pt x="162" y="318"/>
                </a:lnTo>
                <a:lnTo>
                  <a:pt x="179" y="330"/>
                </a:lnTo>
                <a:lnTo>
                  <a:pt x="196" y="353"/>
                </a:lnTo>
                <a:lnTo>
                  <a:pt x="214" y="365"/>
                </a:lnTo>
                <a:lnTo>
                  <a:pt x="231" y="382"/>
                </a:lnTo>
                <a:lnTo>
                  <a:pt x="248" y="399"/>
                </a:lnTo>
                <a:lnTo>
                  <a:pt x="266" y="417"/>
                </a:lnTo>
                <a:lnTo>
                  <a:pt x="277" y="434"/>
                </a:lnTo>
                <a:lnTo>
                  <a:pt x="289" y="451"/>
                </a:lnTo>
                <a:lnTo>
                  <a:pt x="300" y="469"/>
                </a:lnTo>
                <a:lnTo>
                  <a:pt x="312" y="486"/>
                </a:lnTo>
                <a:lnTo>
                  <a:pt x="335" y="509"/>
                </a:lnTo>
                <a:lnTo>
                  <a:pt x="352" y="532"/>
                </a:lnTo>
                <a:lnTo>
                  <a:pt x="370" y="550"/>
                </a:lnTo>
                <a:lnTo>
                  <a:pt x="381" y="567"/>
                </a:lnTo>
                <a:lnTo>
                  <a:pt x="393" y="584"/>
                </a:lnTo>
                <a:lnTo>
                  <a:pt x="410" y="602"/>
                </a:lnTo>
                <a:lnTo>
                  <a:pt x="422" y="625"/>
                </a:lnTo>
                <a:lnTo>
                  <a:pt x="433" y="642"/>
                </a:lnTo>
                <a:lnTo>
                  <a:pt x="445" y="660"/>
                </a:lnTo>
                <a:lnTo>
                  <a:pt x="457" y="677"/>
                </a:lnTo>
                <a:lnTo>
                  <a:pt x="468" y="694"/>
                </a:lnTo>
                <a:lnTo>
                  <a:pt x="480" y="712"/>
                </a:lnTo>
                <a:lnTo>
                  <a:pt x="491" y="729"/>
                </a:lnTo>
                <a:lnTo>
                  <a:pt x="503" y="746"/>
                </a:lnTo>
                <a:lnTo>
                  <a:pt x="514" y="764"/>
                </a:lnTo>
                <a:lnTo>
                  <a:pt x="532" y="775"/>
                </a:lnTo>
                <a:lnTo>
                  <a:pt x="537" y="793"/>
                </a:lnTo>
                <a:lnTo>
                  <a:pt x="549" y="810"/>
                </a:lnTo>
                <a:lnTo>
                  <a:pt x="566" y="833"/>
                </a:lnTo>
                <a:lnTo>
                  <a:pt x="572" y="856"/>
                </a:lnTo>
                <a:lnTo>
                  <a:pt x="584" y="873"/>
                </a:lnTo>
                <a:lnTo>
                  <a:pt x="590" y="891"/>
                </a:lnTo>
                <a:lnTo>
                  <a:pt x="595" y="908"/>
                </a:lnTo>
                <a:lnTo>
                  <a:pt x="607" y="926"/>
                </a:lnTo>
                <a:lnTo>
                  <a:pt x="613" y="943"/>
                </a:lnTo>
                <a:lnTo>
                  <a:pt x="618" y="960"/>
                </a:lnTo>
                <a:lnTo>
                  <a:pt x="630" y="978"/>
                </a:lnTo>
                <a:lnTo>
                  <a:pt x="636" y="995"/>
                </a:lnTo>
                <a:lnTo>
                  <a:pt x="642" y="1012"/>
                </a:lnTo>
                <a:lnTo>
                  <a:pt x="647" y="1030"/>
                </a:lnTo>
                <a:lnTo>
                  <a:pt x="653" y="1047"/>
                </a:lnTo>
                <a:lnTo>
                  <a:pt x="659" y="1064"/>
                </a:lnTo>
                <a:lnTo>
                  <a:pt x="665" y="1082"/>
                </a:lnTo>
                <a:lnTo>
                  <a:pt x="665" y="1099"/>
                </a:lnTo>
                <a:lnTo>
                  <a:pt x="665" y="1116"/>
                </a:lnTo>
                <a:lnTo>
                  <a:pt x="665" y="1134"/>
                </a:lnTo>
                <a:lnTo>
                  <a:pt x="665" y="1151"/>
                </a:lnTo>
                <a:lnTo>
                  <a:pt x="671" y="1168"/>
                </a:lnTo>
                <a:lnTo>
                  <a:pt x="671" y="1186"/>
                </a:lnTo>
                <a:lnTo>
                  <a:pt x="676" y="1203"/>
                </a:lnTo>
                <a:lnTo>
                  <a:pt x="676" y="1220"/>
                </a:lnTo>
                <a:lnTo>
                  <a:pt x="682" y="1244"/>
                </a:lnTo>
                <a:lnTo>
                  <a:pt x="688" y="1261"/>
                </a:lnTo>
                <a:lnTo>
                  <a:pt x="694" y="1278"/>
                </a:lnTo>
                <a:lnTo>
                  <a:pt x="699" y="1296"/>
                </a:lnTo>
                <a:lnTo>
                  <a:pt x="699" y="1313"/>
                </a:lnTo>
                <a:lnTo>
                  <a:pt x="705" y="1330"/>
                </a:lnTo>
                <a:lnTo>
                  <a:pt x="711" y="1348"/>
                </a:lnTo>
                <a:lnTo>
                  <a:pt x="717" y="1365"/>
                </a:lnTo>
                <a:lnTo>
                  <a:pt x="723" y="1382"/>
                </a:lnTo>
                <a:lnTo>
                  <a:pt x="728" y="1400"/>
                </a:lnTo>
                <a:lnTo>
                  <a:pt x="728" y="1417"/>
                </a:lnTo>
                <a:lnTo>
                  <a:pt x="734" y="1434"/>
                </a:lnTo>
                <a:lnTo>
                  <a:pt x="734" y="144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38760" y="1822320"/>
            <a:ext cx="992160" cy="1874880"/>
          </a:xfrm>
          <a:custGeom>
            <a:avLst/>
            <a:gdLst/>
            <a:ahLst/>
            <a:rect l="l" t="t" r="r" b="b"/>
            <a:pathLst>
              <a:path w="625" h="1181">
                <a:moveTo>
                  <a:pt x="0" y="0"/>
                </a:moveTo>
                <a:lnTo>
                  <a:pt x="23" y="17"/>
                </a:lnTo>
                <a:lnTo>
                  <a:pt x="29" y="35"/>
                </a:lnTo>
                <a:lnTo>
                  <a:pt x="34" y="52"/>
                </a:lnTo>
                <a:lnTo>
                  <a:pt x="40" y="69"/>
                </a:lnTo>
                <a:lnTo>
                  <a:pt x="52" y="87"/>
                </a:lnTo>
                <a:lnTo>
                  <a:pt x="57" y="104"/>
                </a:lnTo>
                <a:lnTo>
                  <a:pt x="69" y="121"/>
                </a:lnTo>
                <a:lnTo>
                  <a:pt x="75" y="139"/>
                </a:lnTo>
                <a:lnTo>
                  <a:pt x="86" y="156"/>
                </a:lnTo>
                <a:lnTo>
                  <a:pt x="104" y="174"/>
                </a:lnTo>
                <a:lnTo>
                  <a:pt x="121" y="191"/>
                </a:lnTo>
                <a:lnTo>
                  <a:pt x="138" y="208"/>
                </a:lnTo>
                <a:lnTo>
                  <a:pt x="150" y="226"/>
                </a:lnTo>
                <a:lnTo>
                  <a:pt x="167" y="243"/>
                </a:lnTo>
                <a:lnTo>
                  <a:pt x="173" y="260"/>
                </a:lnTo>
                <a:lnTo>
                  <a:pt x="190" y="272"/>
                </a:lnTo>
                <a:lnTo>
                  <a:pt x="202" y="289"/>
                </a:lnTo>
                <a:lnTo>
                  <a:pt x="219" y="307"/>
                </a:lnTo>
                <a:lnTo>
                  <a:pt x="237" y="324"/>
                </a:lnTo>
                <a:lnTo>
                  <a:pt x="254" y="341"/>
                </a:lnTo>
                <a:lnTo>
                  <a:pt x="271" y="359"/>
                </a:lnTo>
                <a:lnTo>
                  <a:pt x="283" y="376"/>
                </a:lnTo>
                <a:lnTo>
                  <a:pt x="300" y="387"/>
                </a:lnTo>
                <a:lnTo>
                  <a:pt x="323" y="405"/>
                </a:lnTo>
                <a:lnTo>
                  <a:pt x="347" y="416"/>
                </a:lnTo>
                <a:lnTo>
                  <a:pt x="358" y="434"/>
                </a:lnTo>
                <a:lnTo>
                  <a:pt x="376" y="445"/>
                </a:lnTo>
                <a:lnTo>
                  <a:pt x="399" y="457"/>
                </a:lnTo>
                <a:lnTo>
                  <a:pt x="422" y="474"/>
                </a:lnTo>
                <a:lnTo>
                  <a:pt x="439" y="480"/>
                </a:lnTo>
                <a:lnTo>
                  <a:pt x="457" y="480"/>
                </a:lnTo>
                <a:lnTo>
                  <a:pt x="480" y="503"/>
                </a:lnTo>
                <a:lnTo>
                  <a:pt x="497" y="515"/>
                </a:lnTo>
                <a:lnTo>
                  <a:pt x="509" y="532"/>
                </a:lnTo>
                <a:lnTo>
                  <a:pt x="514" y="549"/>
                </a:lnTo>
                <a:lnTo>
                  <a:pt x="520" y="567"/>
                </a:lnTo>
                <a:lnTo>
                  <a:pt x="532" y="584"/>
                </a:lnTo>
                <a:lnTo>
                  <a:pt x="543" y="630"/>
                </a:lnTo>
                <a:lnTo>
                  <a:pt x="549" y="648"/>
                </a:lnTo>
                <a:lnTo>
                  <a:pt x="566" y="671"/>
                </a:lnTo>
                <a:lnTo>
                  <a:pt x="578" y="688"/>
                </a:lnTo>
                <a:lnTo>
                  <a:pt x="584" y="706"/>
                </a:lnTo>
                <a:lnTo>
                  <a:pt x="590" y="723"/>
                </a:lnTo>
                <a:lnTo>
                  <a:pt x="595" y="758"/>
                </a:lnTo>
                <a:lnTo>
                  <a:pt x="601" y="775"/>
                </a:lnTo>
                <a:lnTo>
                  <a:pt x="601" y="792"/>
                </a:lnTo>
                <a:lnTo>
                  <a:pt x="601" y="810"/>
                </a:lnTo>
                <a:lnTo>
                  <a:pt x="607" y="827"/>
                </a:lnTo>
                <a:lnTo>
                  <a:pt x="607" y="844"/>
                </a:lnTo>
                <a:lnTo>
                  <a:pt x="607" y="862"/>
                </a:lnTo>
                <a:lnTo>
                  <a:pt x="607" y="879"/>
                </a:lnTo>
                <a:lnTo>
                  <a:pt x="607" y="896"/>
                </a:lnTo>
                <a:lnTo>
                  <a:pt x="613" y="914"/>
                </a:lnTo>
                <a:lnTo>
                  <a:pt x="613" y="931"/>
                </a:lnTo>
                <a:lnTo>
                  <a:pt x="618" y="948"/>
                </a:lnTo>
                <a:lnTo>
                  <a:pt x="618" y="983"/>
                </a:lnTo>
                <a:lnTo>
                  <a:pt x="624" y="1000"/>
                </a:lnTo>
                <a:lnTo>
                  <a:pt x="624" y="1018"/>
                </a:lnTo>
                <a:lnTo>
                  <a:pt x="624" y="1035"/>
                </a:lnTo>
                <a:lnTo>
                  <a:pt x="624" y="1052"/>
                </a:lnTo>
                <a:lnTo>
                  <a:pt x="613" y="1070"/>
                </a:lnTo>
                <a:lnTo>
                  <a:pt x="595" y="1076"/>
                </a:lnTo>
                <a:lnTo>
                  <a:pt x="578" y="1087"/>
                </a:lnTo>
                <a:lnTo>
                  <a:pt x="561" y="1093"/>
                </a:lnTo>
                <a:lnTo>
                  <a:pt x="538" y="1116"/>
                </a:lnTo>
                <a:lnTo>
                  <a:pt x="526" y="1133"/>
                </a:lnTo>
                <a:lnTo>
                  <a:pt x="509" y="1139"/>
                </a:lnTo>
                <a:lnTo>
                  <a:pt x="509" y="1174"/>
                </a:lnTo>
                <a:lnTo>
                  <a:pt x="509" y="11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4160" y="1785960"/>
            <a:ext cx="2287800" cy="1792440"/>
          </a:xfrm>
          <a:custGeom>
            <a:avLst/>
            <a:gdLst/>
            <a:ahLst/>
            <a:rect l="l" t="t" r="r" b="b"/>
            <a:pathLst>
              <a:path w="1441" h="1129">
                <a:moveTo>
                  <a:pt x="0" y="0"/>
                </a:moveTo>
                <a:lnTo>
                  <a:pt x="0" y="23"/>
                </a:lnTo>
                <a:lnTo>
                  <a:pt x="5" y="40"/>
                </a:lnTo>
                <a:lnTo>
                  <a:pt x="11" y="58"/>
                </a:lnTo>
                <a:lnTo>
                  <a:pt x="17" y="75"/>
                </a:lnTo>
                <a:lnTo>
                  <a:pt x="17" y="92"/>
                </a:lnTo>
                <a:lnTo>
                  <a:pt x="23" y="110"/>
                </a:lnTo>
                <a:lnTo>
                  <a:pt x="34" y="127"/>
                </a:lnTo>
                <a:lnTo>
                  <a:pt x="46" y="150"/>
                </a:lnTo>
                <a:lnTo>
                  <a:pt x="52" y="168"/>
                </a:lnTo>
                <a:lnTo>
                  <a:pt x="63" y="185"/>
                </a:lnTo>
                <a:lnTo>
                  <a:pt x="75" y="202"/>
                </a:lnTo>
                <a:lnTo>
                  <a:pt x="92" y="220"/>
                </a:lnTo>
                <a:lnTo>
                  <a:pt x="104" y="237"/>
                </a:lnTo>
                <a:lnTo>
                  <a:pt x="115" y="254"/>
                </a:lnTo>
                <a:lnTo>
                  <a:pt x="133" y="272"/>
                </a:lnTo>
                <a:lnTo>
                  <a:pt x="138" y="289"/>
                </a:lnTo>
                <a:lnTo>
                  <a:pt x="150" y="306"/>
                </a:lnTo>
                <a:lnTo>
                  <a:pt x="161" y="324"/>
                </a:lnTo>
                <a:lnTo>
                  <a:pt x="173" y="341"/>
                </a:lnTo>
                <a:lnTo>
                  <a:pt x="185" y="358"/>
                </a:lnTo>
                <a:lnTo>
                  <a:pt x="190" y="376"/>
                </a:lnTo>
                <a:lnTo>
                  <a:pt x="202" y="393"/>
                </a:lnTo>
                <a:lnTo>
                  <a:pt x="214" y="410"/>
                </a:lnTo>
                <a:lnTo>
                  <a:pt x="225" y="428"/>
                </a:lnTo>
                <a:lnTo>
                  <a:pt x="231" y="445"/>
                </a:lnTo>
                <a:lnTo>
                  <a:pt x="237" y="468"/>
                </a:lnTo>
                <a:lnTo>
                  <a:pt x="237" y="486"/>
                </a:lnTo>
                <a:lnTo>
                  <a:pt x="242" y="503"/>
                </a:lnTo>
                <a:lnTo>
                  <a:pt x="248" y="520"/>
                </a:lnTo>
                <a:lnTo>
                  <a:pt x="254" y="538"/>
                </a:lnTo>
                <a:lnTo>
                  <a:pt x="254" y="555"/>
                </a:lnTo>
                <a:lnTo>
                  <a:pt x="254" y="572"/>
                </a:lnTo>
                <a:lnTo>
                  <a:pt x="266" y="590"/>
                </a:lnTo>
                <a:lnTo>
                  <a:pt x="271" y="607"/>
                </a:lnTo>
                <a:lnTo>
                  <a:pt x="277" y="624"/>
                </a:lnTo>
                <a:lnTo>
                  <a:pt x="289" y="665"/>
                </a:lnTo>
                <a:lnTo>
                  <a:pt x="289" y="682"/>
                </a:lnTo>
                <a:lnTo>
                  <a:pt x="295" y="700"/>
                </a:lnTo>
                <a:lnTo>
                  <a:pt x="300" y="717"/>
                </a:lnTo>
                <a:lnTo>
                  <a:pt x="306" y="734"/>
                </a:lnTo>
                <a:lnTo>
                  <a:pt x="318" y="752"/>
                </a:lnTo>
                <a:lnTo>
                  <a:pt x="323" y="769"/>
                </a:lnTo>
                <a:lnTo>
                  <a:pt x="329" y="786"/>
                </a:lnTo>
                <a:lnTo>
                  <a:pt x="335" y="804"/>
                </a:lnTo>
                <a:lnTo>
                  <a:pt x="341" y="821"/>
                </a:lnTo>
                <a:lnTo>
                  <a:pt x="347" y="838"/>
                </a:lnTo>
                <a:lnTo>
                  <a:pt x="352" y="862"/>
                </a:lnTo>
                <a:lnTo>
                  <a:pt x="364" y="896"/>
                </a:lnTo>
                <a:lnTo>
                  <a:pt x="364" y="914"/>
                </a:lnTo>
                <a:lnTo>
                  <a:pt x="370" y="931"/>
                </a:lnTo>
                <a:lnTo>
                  <a:pt x="381" y="948"/>
                </a:lnTo>
                <a:lnTo>
                  <a:pt x="399" y="966"/>
                </a:lnTo>
                <a:lnTo>
                  <a:pt x="404" y="983"/>
                </a:lnTo>
                <a:lnTo>
                  <a:pt x="416" y="1000"/>
                </a:lnTo>
                <a:lnTo>
                  <a:pt x="422" y="1018"/>
                </a:lnTo>
                <a:lnTo>
                  <a:pt x="433" y="1035"/>
                </a:lnTo>
                <a:lnTo>
                  <a:pt x="445" y="1052"/>
                </a:lnTo>
                <a:lnTo>
                  <a:pt x="462" y="1064"/>
                </a:lnTo>
                <a:lnTo>
                  <a:pt x="480" y="1081"/>
                </a:lnTo>
                <a:lnTo>
                  <a:pt x="497" y="1087"/>
                </a:lnTo>
                <a:lnTo>
                  <a:pt x="514" y="1099"/>
                </a:lnTo>
                <a:lnTo>
                  <a:pt x="532" y="1099"/>
                </a:lnTo>
                <a:lnTo>
                  <a:pt x="549" y="1104"/>
                </a:lnTo>
                <a:lnTo>
                  <a:pt x="566" y="1104"/>
                </a:lnTo>
                <a:lnTo>
                  <a:pt x="584" y="1110"/>
                </a:lnTo>
                <a:lnTo>
                  <a:pt x="601" y="1110"/>
                </a:lnTo>
                <a:lnTo>
                  <a:pt x="618" y="1116"/>
                </a:lnTo>
                <a:lnTo>
                  <a:pt x="636" y="1122"/>
                </a:lnTo>
                <a:lnTo>
                  <a:pt x="653" y="1122"/>
                </a:lnTo>
                <a:lnTo>
                  <a:pt x="676" y="1128"/>
                </a:lnTo>
                <a:lnTo>
                  <a:pt x="699" y="1128"/>
                </a:lnTo>
                <a:lnTo>
                  <a:pt x="717" y="1128"/>
                </a:lnTo>
                <a:lnTo>
                  <a:pt x="734" y="1128"/>
                </a:lnTo>
                <a:lnTo>
                  <a:pt x="775" y="1128"/>
                </a:lnTo>
                <a:lnTo>
                  <a:pt x="792" y="1116"/>
                </a:lnTo>
                <a:lnTo>
                  <a:pt x="809" y="1116"/>
                </a:lnTo>
                <a:lnTo>
                  <a:pt x="827" y="1110"/>
                </a:lnTo>
                <a:lnTo>
                  <a:pt x="844" y="1099"/>
                </a:lnTo>
                <a:lnTo>
                  <a:pt x="867" y="1093"/>
                </a:lnTo>
                <a:lnTo>
                  <a:pt x="890" y="1087"/>
                </a:lnTo>
                <a:lnTo>
                  <a:pt x="925" y="1081"/>
                </a:lnTo>
                <a:lnTo>
                  <a:pt x="942" y="1070"/>
                </a:lnTo>
                <a:lnTo>
                  <a:pt x="977" y="1070"/>
                </a:lnTo>
                <a:lnTo>
                  <a:pt x="994" y="1058"/>
                </a:lnTo>
                <a:lnTo>
                  <a:pt x="1012" y="1052"/>
                </a:lnTo>
                <a:lnTo>
                  <a:pt x="1029" y="1047"/>
                </a:lnTo>
                <a:lnTo>
                  <a:pt x="1046" y="1035"/>
                </a:lnTo>
                <a:lnTo>
                  <a:pt x="1064" y="1029"/>
                </a:lnTo>
                <a:lnTo>
                  <a:pt x="1081" y="1023"/>
                </a:lnTo>
                <a:lnTo>
                  <a:pt x="1099" y="1018"/>
                </a:lnTo>
                <a:lnTo>
                  <a:pt x="1116" y="1012"/>
                </a:lnTo>
                <a:lnTo>
                  <a:pt x="1133" y="1006"/>
                </a:lnTo>
                <a:lnTo>
                  <a:pt x="1156" y="1000"/>
                </a:lnTo>
                <a:lnTo>
                  <a:pt x="1179" y="995"/>
                </a:lnTo>
                <a:lnTo>
                  <a:pt x="1197" y="989"/>
                </a:lnTo>
                <a:lnTo>
                  <a:pt x="1214" y="989"/>
                </a:lnTo>
                <a:lnTo>
                  <a:pt x="1232" y="977"/>
                </a:lnTo>
                <a:lnTo>
                  <a:pt x="1249" y="971"/>
                </a:lnTo>
                <a:lnTo>
                  <a:pt x="1266" y="954"/>
                </a:lnTo>
                <a:lnTo>
                  <a:pt x="1284" y="942"/>
                </a:lnTo>
                <a:lnTo>
                  <a:pt x="1301" y="931"/>
                </a:lnTo>
                <a:lnTo>
                  <a:pt x="1318" y="914"/>
                </a:lnTo>
                <a:lnTo>
                  <a:pt x="1336" y="902"/>
                </a:lnTo>
                <a:lnTo>
                  <a:pt x="1353" y="890"/>
                </a:lnTo>
                <a:lnTo>
                  <a:pt x="1365" y="873"/>
                </a:lnTo>
                <a:lnTo>
                  <a:pt x="1382" y="862"/>
                </a:lnTo>
                <a:lnTo>
                  <a:pt x="1388" y="844"/>
                </a:lnTo>
                <a:lnTo>
                  <a:pt x="1393" y="827"/>
                </a:lnTo>
                <a:lnTo>
                  <a:pt x="1399" y="809"/>
                </a:lnTo>
                <a:lnTo>
                  <a:pt x="1405" y="792"/>
                </a:lnTo>
                <a:lnTo>
                  <a:pt x="1411" y="775"/>
                </a:lnTo>
                <a:lnTo>
                  <a:pt x="1417" y="757"/>
                </a:lnTo>
                <a:lnTo>
                  <a:pt x="1422" y="740"/>
                </a:lnTo>
                <a:lnTo>
                  <a:pt x="1422" y="723"/>
                </a:lnTo>
                <a:lnTo>
                  <a:pt x="1422" y="705"/>
                </a:lnTo>
                <a:lnTo>
                  <a:pt x="1422" y="688"/>
                </a:lnTo>
                <a:lnTo>
                  <a:pt x="1428" y="671"/>
                </a:lnTo>
                <a:lnTo>
                  <a:pt x="1434" y="653"/>
                </a:lnTo>
                <a:lnTo>
                  <a:pt x="1440" y="65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68960" y="1803240"/>
            <a:ext cx="1214640" cy="1177920"/>
          </a:xfrm>
          <a:custGeom>
            <a:avLst/>
            <a:gdLst/>
            <a:ahLst/>
            <a:rect l="l" t="t" r="r" b="b"/>
            <a:pathLst>
              <a:path w="765" h="742">
                <a:moveTo>
                  <a:pt x="0" y="18"/>
                </a:moveTo>
                <a:lnTo>
                  <a:pt x="6" y="41"/>
                </a:lnTo>
                <a:lnTo>
                  <a:pt x="12" y="58"/>
                </a:lnTo>
                <a:lnTo>
                  <a:pt x="18" y="76"/>
                </a:lnTo>
                <a:lnTo>
                  <a:pt x="18" y="93"/>
                </a:lnTo>
                <a:lnTo>
                  <a:pt x="18" y="110"/>
                </a:lnTo>
                <a:lnTo>
                  <a:pt x="23" y="128"/>
                </a:lnTo>
                <a:lnTo>
                  <a:pt x="23" y="145"/>
                </a:lnTo>
                <a:lnTo>
                  <a:pt x="29" y="162"/>
                </a:lnTo>
                <a:lnTo>
                  <a:pt x="35" y="180"/>
                </a:lnTo>
                <a:lnTo>
                  <a:pt x="47" y="197"/>
                </a:lnTo>
                <a:lnTo>
                  <a:pt x="52" y="220"/>
                </a:lnTo>
                <a:lnTo>
                  <a:pt x="58" y="238"/>
                </a:lnTo>
                <a:lnTo>
                  <a:pt x="58" y="255"/>
                </a:lnTo>
                <a:lnTo>
                  <a:pt x="64" y="272"/>
                </a:lnTo>
                <a:lnTo>
                  <a:pt x="70" y="290"/>
                </a:lnTo>
                <a:lnTo>
                  <a:pt x="70" y="307"/>
                </a:lnTo>
                <a:lnTo>
                  <a:pt x="70" y="324"/>
                </a:lnTo>
                <a:lnTo>
                  <a:pt x="70" y="342"/>
                </a:lnTo>
                <a:lnTo>
                  <a:pt x="75" y="359"/>
                </a:lnTo>
                <a:lnTo>
                  <a:pt x="75" y="376"/>
                </a:lnTo>
                <a:lnTo>
                  <a:pt x="81" y="394"/>
                </a:lnTo>
                <a:lnTo>
                  <a:pt x="87" y="411"/>
                </a:lnTo>
                <a:lnTo>
                  <a:pt x="93" y="428"/>
                </a:lnTo>
                <a:lnTo>
                  <a:pt x="99" y="446"/>
                </a:lnTo>
                <a:lnTo>
                  <a:pt x="104" y="463"/>
                </a:lnTo>
                <a:lnTo>
                  <a:pt x="110" y="486"/>
                </a:lnTo>
                <a:lnTo>
                  <a:pt x="122" y="504"/>
                </a:lnTo>
                <a:lnTo>
                  <a:pt x="128" y="521"/>
                </a:lnTo>
                <a:lnTo>
                  <a:pt x="133" y="538"/>
                </a:lnTo>
                <a:lnTo>
                  <a:pt x="145" y="556"/>
                </a:lnTo>
                <a:lnTo>
                  <a:pt x="156" y="573"/>
                </a:lnTo>
                <a:lnTo>
                  <a:pt x="168" y="596"/>
                </a:lnTo>
                <a:lnTo>
                  <a:pt x="174" y="613"/>
                </a:lnTo>
                <a:lnTo>
                  <a:pt x="191" y="631"/>
                </a:lnTo>
                <a:lnTo>
                  <a:pt x="197" y="648"/>
                </a:lnTo>
                <a:lnTo>
                  <a:pt x="209" y="665"/>
                </a:lnTo>
                <a:lnTo>
                  <a:pt x="226" y="671"/>
                </a:lnTo>
                <a:lnTo>
                  <a:pt x="243" y="677"/>
                </a:lnTo>
                <a:lnTo>
                  <a:pt x="261" y="683"/>
                </a:lnTo>
                <a:lnTo>
                  <a:pt x="272" y="700"/>
                </a:lnTo>
                <a:lnTo>
                  <a:pt x="295" y="712"/>
                </a:lnTo>
                <a:lnTo>
                  <a:pt x="313" y="729"/>
                </a:lnTo>
                <a:lnTo>
                  <a:pt x="330" y="735"/>
                </a:lnTo>
                <a:lnTo>
                  <a:pt x="347" y="735"/>
                </a:lnTo>
                <a:lnTo>
                  <a:pt x="365" y="735"/>
                </a:lnTo>
                <a:lnTo>
                  <a:pt x="382" y="741"/>
                </a:lnTo>
                <a:lnTo>
                  <a:pt x="399" y="741"/>
                </a:lnTo>
                <a:lnTo>
                  <a:pt x="417" y="741"/>
                </a:lnTo>
                <a:lnTo>
                  <a:pt x="451" y="741"/>
                </a:lnTo>
                <a:lnTo>
                  <a:pt x="469" y="741"/>
                </a:lnTo>
                <a:lnTo>
                  <a:pt x="486" y="741"/>
                </a:lnTo>
                <a:lnTo>
                  <a:pt x="503" y="741"/>
                </a:lnTo>
                <a:lnTo>
                  <a:pt x="538" y="741"/>
                </a:lnTo>
                <a:lnTo>
                  <a:pt x="556" y="741"/>
                </a:lnTo>
                <a:lnTo>
                  <a:pt x="573" y="735"/>
                </a:lnTo>
                <a:lnTo>
                  <a:pt x="590" y="735"/>
                </a:lnTo>
                <a:lnTo>
                  <a:pt x="608" y="729"/>
                </a:lnTo>
                <a:lnTo>
                  <a:pt x="625" y="723"/>
                </a:lnTo>
                <a:lnTo>
                  <a:pt x="642" y="718"/>
                </a:lnTo>
                <a:lnTo>
                  <a:pt x="654" y="700"/>
                </a:lnTo>
                <a:lnTo>
                  <a:pt x="671" y="689"/>
                </a:lnTo>
                <a:lnTo>
                  <a:pt x="689" y="671"/>
                </a:lnTo>
                <a:lnTo>
                  <a:pt x="706" y="665"/>
                </a:lnTo>
                <a:lnTo>
                  <a:pt x="718" y="648"/>
                </a:lnTo>
                <a:lnTo>
                  <a:pt x="729" y="631"/>
                </a:lnTo>
                <a:lnTo>
                  <a:pt x="735" y="613"/>
                </a:lnTo>
                <a:lnTo>
                  <a:pt x="752" y="596"/>
                </a:lnTo>
                <a:lnTo>
                  <a:pt x="764" y="579"/>
                </a:lnTo>
                <a:lnTo>
                  <a:pt x="764" y="561"/>
                </a:lnTo>
                <a:lnTo>
                  <a:pt x="764" y="544"/>
                </a:lnTo>
                <a:lnTo>
                  <a:pt x="764" y="527"/>
                </a:lnTo>
                <a:lnTo>
                  <a:pt x="764" y="509"/>
                </a:lnTo>
                <a:lnTo>
                  <a:pt x="764" y="492"/>
                </a:lnTo>
                <a:lnTo>
                  <a:pt x="764" y="475"/>
                </a:lnTo>
                <a:lnTo>
                  <a:pt x="764" y="457"/>
                </a:lnTo>
                <a:lnTo>
                  <a:pt x="764" y="440"/>
                </a:lnTo>
                <a:lnTo>
                  <a:pt x="764" y="423"/>
                </a:lnTo>
                <a:lnTo>
                  <a:pt x="758" y="405"/>
                </a:lnTo>
                <a:lnTo>
                  <a:pt x="752" y="388"/>
                </a:lnTo>
                <a:lnTo>
                  <a:pt x="741" y="371"/>
                </a:lnTo>
                <a:lnTo>
                  <a:pt x="735" y="353"/>
                </a:lnTo>
                <a:lnTo>
                  <a:pt x="723" y="336"/>
                </a:lnTo>
                <a:lnTo>
                  <a:pt x="712" y="319"/>
                </a:lnTo>
                <a:lnTo>
                  <a:pt x="706" y="301"/>
                </a:lnTo>
                <a:lnTo>
                  <a:pt x="700" y="284"/>
                </a:lnTo>
                <a:lnTo>
                  <a:pt x="694" y="266"/>
                </a:lnTo>
                <a:lnTo>
                  <a:pt x="683" y="249"/>
                </a:lnTo>
                <a:lnTo>
                  <a:pt x="671" y="232"/>
                </a:lnTo>
                <a:lnTo>
                  <a:pt x="654" y="214"/>
                </a:lnTo>
                <a:lnTo>
                  <a:pt x="637" y="197"/>
                </a:lnTo>
                <a:lnTo>
                  <a:pt x="619" y="186"/>
                </a:lnTo>
                <a:lnTo>
                  <a:pt x="602" y="168"/>
                </a:lnTo>
                <a:lnTo>
                  <a:pt x="584" y="151"/>
                </a:lnTo>
                <a:lnTo>
                  <a:pt x="567" y="133"/>
                </a:lnTo>
                <a:lnTo>
                  <a:pt x="550" y="116"/>
                </a:lnTo>
                <a:lnTo>
                  <a:pt x="532" y="110"/>
                </a:lnTo>
                <a:lnTo>
                  <a:pt x="515" y="99"/>
                </a:lnTo>
                <a:lnTo>
                  <a:pt x="498" y="93"/>
                </a:lnTo>
                <a:lnTo>
                  <a:pt x="480" y="81"/>
                </a:lnTo>
                <a:lnTo>
                  <a:pt x="463" y="70"/>
                </a:lnTo>
                <a:lnTo>
                  <a:pt x="451" y="53"/>
                </a:lnTo>
                <a:lnTo>
                  <a:pt x="434" y="47"/>
                </a:lnTo>
                <a:lnTo>
                  <a:pt x="417" y="41"/>
                </a:lnTo>
                <a:lnTo>
                  <a:pt x="399" y="29"/>
                </a:lnTo>
                <a:lnTo>
                  <a:pt x="376" y="18"/>
                </a:lnTo>
                <a:lnTo>
                  <a:pt x="359" y="6"/>
                </a:lnTo>
                <a:lnTo>
                  <a:pt x="353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70920" y="1795320"/>
            <a:ext cx="608040" cy="1084320"/>
          </a:xfrm>
          <a:custGeom>
            <a:avLst/>
            <a:gdLst/>
            <a:ahLst/>
            <a:rect l="l" t="t" r="r" b="b"/>
            <a:pathLst>
              <a:path w="383" h="683">
                <a:moveTo>
                  <a:pt x="0" y="0"/>
                </a:moveTo>
                <a:lnTo>
                  <a:pt x="24" y="5"/>
                </a:lnTo>
                <a:lnTo>
                  <a:pt x="41" y="17"/>
                </a:lnTo>
                <a:lnTo>
                  <a:pt x="58" y="23"/>
                </a:lnTo>
                <a:lnTo>
                  <a:pt x="76" y="34"/>
                </a:lnTo>
                <a:lnTo>
                  <a:pt x="93" y="46"/>
                </a:lnTo>
                <a:lnTo>
                  <a:pt x="110" y="52"/>
                </a:lnTo>
                <a:lnTo>
                  <a:pt x="128" y="58"/>
                </a:lnTo>
                <a:lnTo>
                  <a:pt x="145" y="69"/>
                </a:lnTo>
                <a:lnTo>
                  <a:pt x="162" y="81"/>
                </a:lnTo>
                <a:lnTo>
                  <a:pt x="180" y="92"/>
                </a:lnTo>
                <a:lnTo>
                  <a:pt x="197" y="104"/>
                </a:lnTo>
                <a:lnTo>
                  <a:pt x="214" y="121"/>
                </a:lnTo>
                <a:lnTo>
                  <a:pt x="232" y="133"/>
                </a:lnTo>
                <a:lnTo>
                  <a:pt x="249" y="144"/>
                </a:lnTo>
                <a:lnTo>
                  <a:pt x="266" y="156"/>
                </a:lnTo>
                <a:lnTo>
                  <a:pt x="284" y="167"/>
                </a:lnTo>
                <a:lnTo>
                  <a:pt x="301" y="173"/>
                </a:lnTo>
                <a:lnTo>
                  <a:pt x="313" y="191"/>
                </a:lnTo>
                <a:lnTo>
                  <a:pt x="330" y="208"/>
                </a:lnTo>
                <a:lnTo>
                  <a:pt x="342" y="225"/>
                </a:lnTo>
                <a:lnTo>
                  <a:pt x="353" y="243"/>
                </a:lnTo>
                <a:lnTo>
                  <a:pt x="365" y="260"/>
                </a:lnTo>
                <a:lnTo>
                  <a:pt x="365" y="277"/>
                </a:lnTo>
                <a:lnTo>
                  <a:pt x="365" y="295"/>
                </a:lnTo>
                <a:lnTo>
                  <a:pt x="371" y="312"/>
                </a:lnTo>
                <a:lnTo>
                  <a:pt x="376" y="329"/>
                </a:lnTo>
                <a:lnTo>
                  <a:pt x="376" y="347"/>
                </a:lnTo>
                <a:lnTo>
                  <a:pt x="376" y="364"/>
                </a:lnTo>
                <a:lnTo>
                  <a:pt x="376" y="381"/>
                </a:lnTo>
                <a:lnTo>
                  <a:pt x="382" y="399"/>
                </a:lnTo>
                <a:lnTo>
                  <a:pt x="382" y="416"/>
                </a:lnTo>
                <a:lnTo>
                  <a:pt x="382" y="433"/>
                </a:lnTo>
                <a:lnTo>
                  <a:pt x="376" y="451"/>
                </a:lnTo>
                <a:lnTo>
                  <a:pt x="376" y="468"/>
                </a:lnTo>
                <a:lnTo>
                  <a:pt x="376" y="485"/>
                </a:lnTo>
                <a:lnTo>
                  <a:pt x="376" y="503"/>
                </a:lnTo>
                <a:lnTo>
                  <a:pt x="376" y="520"/>
                </a:lnTo>
                <a:lnTo>
                  <a:pt x="376" y="537"/>
                </a:lnTo>
                <a:lnTo>
                  <a:pt x="371" y="555"/>
                </a:lnTo>
                <a:lnTo>
                  <a:pt x="371" y="572"/>
                </a:lnTo>
                <a:lnTo>
                  <a:pt x="365" y="590"/>
                </a:lnTo>
                <a:lnTo>
                  <a:pt x="365" y="607"/>
                </a:lnTo>
                <a:lnTo>
                  <a:pt x="365" y="624"/>
                </a:lnTo>
                <a:lnTo>
                  <a:pt x="365" y="642"/>
                </a:lnTo>
                <a:lnTo>
                  <a:pt x="365" y="659"/>
                </a:lnTo>
                <a:lnTo>
                  <a:pt x="365" y="676"/>
                </a:lnTo>
                <a:lnTo>
                  <a:pt x="359" y="68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59520" y="3603600"/>
            <a:ext cx="2673360" cy="974880"/>
          </a:xfrm>
          <a:custGeom>
            <a:avLst/>
            <a:gdLst/>
            <a:ahLst/>
            <a:rect l="l" t="t" r="r" b="b"/>
            <a:pathLst>
              <a:path w="1684" h="614">
                <a:moveTo>
                  <a:pt x="1683" y="0"/>
                </a:moveTo>
                <a:lnTo>
                  <a:pt x="1660" y="23"/>
                </a:lnTo>
                <a:lnTo>
                  <a:pt x="1643" y="35"/>
                </a:lnTo>
                <a:lnTo>
                  <a:pt x="1625" y="40"/>
                </a:lnTo>
                <a:lnTo>
                  <a:pt x="1608" y="52"/>
                </a:lnTo>
                <a:lnTo>
                  <a:pt x="1591" y="63"/>
                </a:lnTo>
                <a:lnTo>
                  <a:pt x="1573" y="69"/>
                </a:lnTo>
                <a:lnTo>
                  <a:pt x="1556" y="75"/>
                </a:lnTo>
                <a:lnTo>
                  <a:pt x="1539" y="81"/>
                </a:lnTo>
                <a:lnTo>
                  <a:pt x="1521" y="81"/>
                </a:lnTo>
                <a:lnTo>
                  <a:pt x="1498" y="92"/>
                </a:lnTo>
                <a:lnTo>
                  <a:pt x="1481" y="92"/>
                </a:lnTo>
                <a:lnTo>
                  <a:pt x="1463" y="98"/>
                </a:lnTo>
                <a:lnTo>
                  <a:pt x="1446" y="104"/>
                </a:lnTo>
                <a:lnTo>
                  <a:pt x="1423" y="104"/>
                </a:lnTo>
                <a:lnTo>
                  <a:pt x="1406" y="104"/>
                </a:lnTo>
                <a:lnTo>
                  <a:pt x="1388" y="104"/>
                </a:lnTo>
                <a:lnTo>
                  <a:pt x="1371" y="104"/>
                </a:lnTo>
                <a:lnTo>
                  <a:pt x="1354" y="104"/>
                </a:lnTo>
                <a:lnTo>
                  <a:pt x="1336" y="110"/>
                </a:lnTo>
                <a:lnTo>
                  <a:pt x="1313" y="110"/>
                </a:lnTo>
                <a:lnTo>
                  <a:pt x="1296" y="116"/>
                </a:lnTo>
                <a:lnTo>
                  <a:pt x="1278" y="116"/>
                </a:lnTo>
                <a:lnTo>
                  <a:pt x="1261" y="121"/>
                </a:lnTo>
                <a:lnTo>
                  <a:pt x="1244" y="127"/>
                </a:lnTo>
                <a:lnTo>
                  <a:pt x="1226" y="127"/>
                </a:lnTo>
                <a:lnTo>
                  <a:pt x="1209" y="133"/>
                </a:lnTo>
                <a:lnTo>
                  <a:pt x="1192" y="133"/>
                </a:lnTo>
                <a:lnTo>
                  <a:pt x="1174" y="139"/>
                </a:lnTo>
                <a:lnTo>
                  <a:pt x="1151" y="144"/>
                </a:lnTo>
                <a:lnTo>
                  <a:pt x="1134" y="150"/>
                </a:lnTo>
                <a:lnTo>
                  <a:pt x="1116" y="156"/>
                </a:lnTo>
                <a:lnTo>
                  <a:pt x="1099" y="156"/>
                </a:lnTo>
                <a:lnTo>
                  <a:pt x="1082" y="168"/>
                </a:lnTo>
                <a:lnTo>
                  <a:pt x="1059" y="168"/>
                </a:lnTo>
                <a:lnTo>
                  <a:pt x="1041" y="168"/>
                </a:lnTo>
                <a:lnTo>
                  <a:pt x="1024" y="173"/>
                </a:lnTo>
                <a:lnTo>
                  <a:pt x="1006" y="185"/>
                </a:lnTo>
                <a:lnTo>
                  <a:pt x="989" y="202"/>
                </a:lnTo>
                <a:lnTo>
                  <a:pt x="972" y="214"/>
                </a:lnTo>
                <a:lnTo>
                  <a:pt x="954" y="220"/>
                </a:lnTo>
                <a:lnTo>
                  <a:pt x="937" y="237"/>
                </a:lnTo>
                <a:lnTo>
                  <a:pt x="920" y="249"/>
                </a:lnTo>
                <a:lnTo>
                  <a:pt x="902" y="260"/>
                </a:lnTo>
                <a:lnTo>
                  <a:pt x="891" y="277"/>
                </a:lnTo>
                <a:lnTo>
                  <a:pt x="885" y="295"/>
                </a:lnTo>
                <a:lnTo>
                  <a:pt x="868" y="312"/>
                </a:lnTo>
                <a:lnTo>
                  <a:pt x="845" y="324"/>
                </a:lnTo>
                <a:lnTo>
                  <a:pt x="821" y="329"/>
                </a:lnTo>
                <a:lnTo>
                  <a:pt x="804" y="341"/>
                </a:lnTo>
                <a:lnTo>
                  <a:pt x="787" y="353"/>
                </a:lnTo>
                <a:lnTo>
                  <a:pt x="764" y="364"/>
                </a:lnTo>
                <a:lnTo>
                  <a:pt x="746" y="382"/>
                </a:lnTo>
                <a:lnTo>
                  <a:pt x="729" y="387"/>
                </a:lnTo>
                <a:lnTo>
                  <a:pt x="711" y="405"/>
                </a:lnTo>
                <a:lnTo>
                  <a:pt x="700" y="422"/>
                </a:lnTo>
                <a:lnTo>
                  <a:pt x="683" y="434"/>
                </a:lnTo>
                <a:lnTo>
                  <a:pt x="665" y="439"/>
                </a:lnTo>
                <a:lnTo>
                  <a:pt x="648" y="445"/>
                </a:lnTo>
                <a:lnTo>
                  <a:pt x="630" y="457"/>
                </a:lnTo>
                <a:lnTo>
                  <a:pt x="590" y="462"/>
                </a:lnTo>
                <a:lnTo>
                  <a:pt x="573" y="468"/>
                </a:lnTo>
                <a:lnTo>
                  <a:pt x="550" y="474"/>
                </a:lnTo>
                <a:lnTo>
                  <a:pt x="532" y="474"/>
                </a:lnTo>
                <a:lnTo>
                  <a:pt x="509" y="474"/>
                </a:lnTo>
                <a:lnTo>
                  <a:pt x="492" y="480"/>
                </a:lnTo>
                <a:lnTo>
                  <a:pt x="474" y="491"/>
                </a:lnTo>
                <a:lnTo>
                  <a:pt x="457" y="503"/>
                </a:lnTo>
                <a:lnTo>
                  <a:pt x="440" y="515"/>
                </a:lnTo>
                <a:lnTo>
                  <a:pt x="422" y="520"/>
                </a:lnTo>
                <a:lnTo>
                  <a:pt x="405" y="526"/>
                </a:lnTo>
                <a:lnTo>
                  <a:pt x="388" y="526"/>
                </a:lnTo>
                <a:lnTo>
                  <a:pt x="370" y="543"/>
                </a:lnTo>
                <a:lnTo>
                  <a:pt x="353" y="549"/>
                </a:lnTo>
                <a:lnTo>
                  <a:pt x="295" y="590"/>
                </a:lnTo>
                <a:lnTo>
                  <a:pt x="283" y="607"/>
                </a:lnTo>
                <a:lnTo>
                  <a:pt x="266" y="613"/>
                </a:lnTo>
                <a:lnTo>
                  <a:pt x="249" y="613"/>
                </a:lnTo>
                <a:lnTo>
                  <a:pt x="226" y="613"/>
                </a:lnTo>
                <a:lnTo>
                  <a:pt x="208" y="607"/>
                </a:lnTo>
                <a:lnTo>
                  <a:pt x="185" y="595"/>
                </a:lnTo>
                <a:lnTo>
                  <a:pt x="168" y="578"/>
                </a:lnTo>
                <a:lnTo>
                  <a:pt x="150" y="567"/>
                </a:lnTo>
                <a:lnTo>
                  <a:pt x="133" y="561"/>
                </a:lnTo>
                <a:lnTo>
                  <a:pt x="116" y="555"/>
                </a:lnTo>
                <a:lnTo>
                  <a:pt x="98" y="549"/>
                </a:lnTo>
                <a:lnTo>
                  <a:pt x="81" y="532"/>
                </a:lnTo>
                <a:lnTo>
                  <a:pt x="69" y="515"/>
                </a:lnTo>
                <a:lnTo>
                  <a:pt x="58" y="497"/>
                </a:lnTo>
                <a:lnTo>
                  <a:pt x="41" y="486"/>
                </a:lnTo>
                <a:lnTo>
                  <a:pt x="35" y="468"/>
                </a:lnTo>
                <a:lnTo>
                  <a:pt x="29" y="451"/>
                </a:lnTo>
                <a:lnTo>
                  <a:pt x="17" y="434"/>
                </a:lnTo>
                <a:lnTo>
                  <a:pt x="17" y="416"/>
                </a:lnTo>
                <a:lnTo>
                  <a:pt x="12" y="399"/>
                </a:lnTo>
                <a:lnTo>
                  <a:pt x="6" y="382"/>
                </a:lnTo>
                <a:lnTo>
                  <a:pt x="0" y="364"/>
                </a:lnTo>
                <a:lnTo>
                  <a:pt x="0" y="347"/>
                </a:lnTo>
                <a:lnTo>
                  <a:pt x="0" y="329"/>
                </a:lnTo>
                <a:lnTo>
                  <a:pt x="0" y="312"/>
                </a:lnTo>
                <a:lnTo>
                  <a:pt x="0" y="295"/>
                </a:lnTo>
                <a:lnTo>
                  <a:pt x="0" y="277"/>
                </a:lnTo>
                <a:lnTo>
                  <a:pt x="0" y="260"/>
                </a:lnTo>
                <a:lnTo>
                  <a:pt x="0" y="243"/>
                </a:lnTo>
                <a:lnTo>
                  <a:pt x="0" y="225"/>
                </a:lnTo>
                <a:lnTo>
                  <a:pt x="12" y="208"/>
                </a:lnTo>
                <a:lnTo>
                  <a:pt x="29" y="191"/>
                </a:lnTo>
                <a:lnTo>
                  <a:pt x="46" y="179"/>
                </a:lnTo>
                <a:lnTo>
                  <a:pt x="64" y="168"/>
                </a:lnTo>
                <a:lnTo>
                  <a:pt x="81" y="156"/>
                </a:lnTo>
                <a:lnTo>
                  <a:pt x="98" y="139"/>
                </a:lnTo>
                <a:lnTo>
                  <a:pt x="121" y="127"/>
                </a:lnTo>
                <a:lnTo>
                  <a:pt x="145" y="110"/>
                </a:lnTo>
                <a:lnTo>
                  <a:pt x="162" y="98"/>
                </a:lnTo>
                <a:lnTo>
                  <a:pt x="179" y="87"/>
                </a:lnTo>
                <a:lnTo>
                  <a:pt x="197" y="75"/>
                </a:lnTo>
                <a:lnTo>
                  <a:pt x="214" y="63"/>
                </a:lnTo>
                <a:lnTo>
                  <a:pt x="231" y="58"/>
                </a:lnTo>
                <a:lnTo>
                  <a:pt x="249" y="46"/>
                </a:lnTo>
                <a:lnTo>
                  <a:pt x="266" y="40"/>
                </a:lnTo>
                <a:lnTo>
                  <a:pt x="289" y="35"/>
                </a:lnTo>
                <a:lnTo>
                  <a:pt x="301" y="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75560" y="4191120"/>
            <a:ext cx="1085760" cy="1074600"/>
          </a:xfrm>
          <a:custGeom>
            <a:avLst/>
            <a:gdLst/>
            <a:ahLst/>
            <a:rect l="l" t="t" r="r" b="b"/>
            <a:pathLst>
              <a:path w="684" h="677">
                <a:moveTo>
                  <a:pt x="619" y="6"/>
                </a:moveTo>
                <a:lnTo>
                  <a:pt x="596" y="0"/>
                </a:lnTo>
                <a:lnTo>
                  <a:pt x="578" y="6"/>
                </a:lnTo>
                <a:lnTo>
                  <a:pt x="561" y="17"/>
                </a:lnTo>
                <a:lnTo>
                  <a:pt x="544" y="35"/>
                </a:lnTo>
                <a:lnTo>
                  <a:pt x="526" y="46"/>
                </a:lnTo>
                <a:lnTo>
                  <a:pt x="509" y="52"/>
                </a:lnTo>
                <a:lnTo>
                  <a:pt x="492" y="69"/>
                </a:lnTo>
                <a:lnTo>
                  <a:pt x="474" y="81"/>
                </a:lnTo>
                <a:lnTo>
                  <a:pt x="457" y="87"/>
                </a:lnTo>
                <a:lnTo>
                  <a:pt x="440" y="98"/>
                </a:lnTo>
                <a:lnTo>
                  <a:pt x="416" y="110"/>
                </a:lnTo>
                <a:lnTo>
                  <a:pt x="399" y="110"/>
                </a:lnTo>
                <a:lnTo>
                  <a:pt x="382" y="116"/>
                </a:lnTo>
                <a:lnTo>
                  <a:pt x="364" y="121"/>
                </a:lnTo>
                <a:lnTo>
                  <a:pt x="347" y="133"/>
                </a:lnTo>
                <a:lnTo>
                  <a:pt x="330" y="145"/>
                </a:lnTo>
                <a:lnTo>
                  <a:pt x="312" y="156"/>
                </a:lnTo>
                <a:lnTo>
                  <a:pt x="295" y="162"/>
                </a:lnTo>
                <a:lnTo>
                  <a:pt x="278" y="168"/>
                </a:lnTo>
                <a:lnTo>
                  <a:pt x="260" y="173"/>
                </a:lnTo>
                <a:lnTo>
                  <a:pt x="243" y="179"/>
                </a:lnTo>
                <a:lnTo>
                  <a:pt x="231" y="197"/>
                </a:lnTo>
                <a:lnTo>
                  <a:pt x="214" y="202"/>
                </a:lnTo>
                <a:lnTo>
                  <a:pt x="197" y="208"/>
                </a:lnTo>
                <a:lnTo>
                  <a:pt x="179" y="214"/>
                </a:lnTo>
                <a:lnTo>
                  <a:pt x="162" y="220"/>
                </a:lnTo>
                <a:lnTo>
                  <a:pt x="145" y="231"/>
                </a:lnTo>
                <a:lnTo>
                  <a:pt x="127" y="243"/>
                </a:lnTo>
                <a:lnTo>
                  <a:pt x="116" y="260"/>
                </a:lnTo>
                <a:lnTo>
                  <a:pt x="98" y="272"/>
                </a:lnTo>
                <a:lnTo>
                  <a:pt x="87" y="289"/>
                </a:lnTo>
                <a:lnTo>
                  <a:pt x="69" y="295"/>
                </a:lnTo>
                <a:lnTo>
                  <a:pt x="58" y="312"/>
                </a:lnTo>
                <a:lnTo>
                  <a:pt x="41" y="324"/>
                </a:lnTo>
                <a:lnTo>
                  <a:pt x="35" y="341"/>
                </a:lnTo>
                <a:lnTo>
                  <a:pt x="23" y="358"/>
                </a:lnTo>
                <a:lnTo>
                  <a:pt x="12" y="376"/>
                </a:lnTo>
                <a:lnTo>
                  <a:pt x="12" y="393"/>
                </a:lnTo>
                <a:lnTo>
                  <a:pt x="0" y="411"/>
                </a:lnTo>
                <a:lnTo>
                  <a:pt x="0" y="428"/>
                </a:lnTo>
                <a:lnTo>
                  <a:pt x="0" y="445"/>
                </a:lnTo>
                <a:lnTo>
                  <a:pt x="0" y="463"/>
                </a:lnTo>
                <a:lnTo>
                  <a:pt x="0" y="480"/>
                </a:lnTo>
                <a:lnTo>
                  <a:pt x="6" y="497"/>
                </a:lnTo>
                <a:lnTo>
                  <a:pt x="17" y="515"/>
                </a:lnTo>
                <a:lnTo>
                  <a:pt x="35" y="532"/>
                </a:lnTo>
                <a:lnTo>
                  <a:pt x="46" y="549"/>
                </a:lnTo>
                <a:lnTo>
                  <a:pt x="64" y="561"/>
                </a:lnTo>
                <a:lnTo>
                  <a:pt x="69" y="578"/>
                </a:lnTo>
                <a:lnTo>
                  <a:pt x="87" y="590"/>
                </a:lnTo>
                <a:lnTo>
                  <a:pt x="104" y="601"/>
                </a:lnTo>
                <a:lnTo>
                  <a:pt x="121" y="607"/>
                </a:lnTo>
                <a:lnTo>
                  <a:pt x="139" y="613"/>
                </a:lnTo>
                <a:lnTo>
                  <a:pt x="156" y="624"/>
                </a:lnTo>
                <a:lnTo>
                  <a:pt x="174" y="636"/>
                </a:lnTo>
                <a:lnTo>
                  <a:pt x="191" y="653"/>
                </a:lnTo>
                <a:lnTo>
                  <a:pt x="208" y="659"/>
                </a:lnTo>
                <a:lnTo>
                  <a:pt x="226" y="671"/>
                </a:lnTo>
                <a:lnTo>
                  <a:pt x="243" y="676"/>
                </a:lnTo>
                <a:lnTo>
                  <a:pt x="260" y="676"/>
                </a:lnTo>
                <a:lnTo>
                  <a:pt x="278" y="676"/>
                </a:lnTo>
                <a:lnTo>
                  <a:pt x="295" y="676"/>
                </a:lnTo>
                <a:lnTo>
                  <a:pt x="312" y="676"/>
                </a:lnTo>
                <a:lnTo>
                  <a:pt x="330" y="676"/>
                </a:lnTo>
                <a:lnTo>
                  <a:pt x="347" y="676"/>
                </a:lnTo>
                <a:lnTo>
                  <a:pt x="364" y="671"/>
                </a:lnTo>
                <a:lnTo>
                  <a:pt x="382" y="659"/>
                </a:lnTo>
                <a:lnTo>
                  <a:pt x="393" y="642"/>
                </a:lnTo>
                <a:lnTo>
                  <a:pt x="411" y="630"/>
                </a:lnTo>
                <a:lnTo>
                  <a:pt x="428" y="619"/>
                </a:lnTo>
                <a:lnTo>
                  <a:pt x="445" y="607"/>
                </a:lnTo>
                <a:lnTo>
                  <a:pt x="463" y="596"/>
                </a:lnTo>
                <a:lnTo>
                  <a:pt x="480" y="596"/>
                </a:lnTo>
                <a:lnTo>
                  <a:pt x="497" y="584"/>
                </a:lnTo>
                <a:lnTo>
                  <a:pt x="515" y="572"/>
                </a:lnTo>
                <a:lnTo>
                  <a:pt x="532" y="561"/>
                </a:lnTo>
                <a:lnTo>
                  <a:pt x="538" y="544"/>
                </a:lnTo>
                <a:lnTo>
                  <a:pt x="555" y="538"/>
                </a:lnTo>
                <a:lnTo>
                  <a:pt x="573" y="526"/>
                </a:lnTo>
                <a:lnTo>
                  <a:pt x="578" y="509"/>
                </a:lnTo>
                <a:lnTo>
                  <a:pt x="584" y="491"/>
                </a:lnTo>
                <a:lnTo>
                  <a:pt x="602" y="474"/>
                </a:lnTo>
                <a:lnTo>
                  <a:pt x="619" y="457"/>
                </a:lnTo>
                <a:lnTo>
                  <a:pt x="630" y="439"/>
                </a:lnTo>
                <a:lnTo>
                  <a:pt x="642" y="422"/>
                </a:lnTo>
                <a:lnTo>
                  <a:pt x="654" y="405"/>
                </a:lnTo>
                <a:lnTo>
                  <a:pt x="659" y="387"/>
                </a:lnTo>
                <a:lnTo>
                  <a:pt x="677" y="376"/>
                </a:lnTo>
                <a:lnTo>
                  <a:pt x="683" y="39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67280" y="1803240"/>
            <a:ext cx="130320" cy="846360"/>
          </a:xfrm>
          <a:custGeom>
            <a:avLst/>
            <a:gdLst/>
            <a:ahLst/>
            <a:rect l="l" t="t" r="r" b="b"/>
            <a:pathLst>
              <a:path w="82" h="533">
                <a:moveTo>
                  <a:pt x="46" y="0"/>
                </a:moveTo>
                <a:lnTo>
                  <a:pt x="52" y="24"/>
                </a:lnTo>
                <a:lnTo>
                  <a:pt x="58" y="41"/>
                </a:lnTo>
                <a:lnTo>
                  <a:pt x="69" y="58"/>
                </a:lnTo>
                <a:lnTo>
                  <a:pt x="81" y="76"/>
                </a:lnTo>
                <a:lnTo>
                  <a:pt x="81" y="93"/>
                </a:lnTo>
                <a:lnTo>
                  <a:pt x="81" y="110"/>
                </a:lnTo>
                <a:lnTo>
                  <a:pt x="81" y="128"/>
                </a:lnTo>
                <a:lnTo>
                  <a:pt x="81" y="145"/>
                </a:lnTo>
                <a:lnTo>
                  <a:pt x="81" y="162"/>
                </a:lnTo>
                <a:lnTo>
                  <a:pt x="75" y="180"/>
                </a:lnTo>
                <a:lnTo>
                  <a:pt x="63" y="197"/>
                </a:lnTo>
                <a:lnTo>
                  <a:pt x="63" y="214"/>
                </a:lnTo>
                <a:lnTo>
                  <a:pt x="58" y="238"/>
                </a:lnTo>
                <a:lnTo>
                  <a:pt x="58" y="255"/>
                </a:lnTo>
                <a:lnTo>
                  <a:pt x="58" y="278"/>
                </a:lnTo>
                <a:lnTo>
                  <a:pt x="58" y="295"/>
                </a:lnTo>
                <a:lnTo>
                  <a:pt x="52" y="319"/>
                </a:lnTo>
                <a:lnTo>
                  <a:pt x="46" y="336"/>
                </a:lnTo>
                <a:lnTo>
                  <a:pt x="40" y="359"/>
                </a:lnTo>
                <a:lnTo>
                  <a:pt x="40" y="376"/>
                </a:lnTo>
                <a:lnTo>
                  <a:pt x="40" y="394"/>
                </a:lnTo>
                <a:lnTo>
                  <a:pt x="34" y="411"/>
                </a:lnTo>
                <a:lnTo>
                  <a:pt x="29" y="428"/>
                </a:lnTo>
                <a:lnTo>
                  <a:pt x="23" y="446"/>
                </a:lnTo>
                <a:lnTo>
                  <a:pt x="23" y="463"/>
                </a:lnTo>
                <a:lnTo>
                  <a:pt x="17" y="480"/>
                </a:lnTo>
                <a:lnTo>
                  <a:pt x="17" y="498"/>
                </a:lnTo>
                <a:lnTo>
                  <a:pt x="6" y="515"/>
                </a:lnTo>
                <a:lnTo>
                  <a:pt x="0" y="527"/>
                </a:lnTo>
                <a:lnTo>
                  <a:pt x="6" y="532"/>
                </a:lnTo>
                <a:lnTo>
                  <a:pt x="17" y="53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34200" y="5668920"/>
            <a:ext cx="1013040" cy="249120"/>
          </a:xfrm>
          <a:custGeom>
            <a:avLst/>
            <a:gdLst/>
            <a:ahLst/>
            <a:rect l="l" t="t" r="r" b="b"/>
            <a:pathLst>
              <a:path w="638" h="157">
                <a:moveTo>
                  <a:pt x="637" y="156"/>
                </a:moveTo>
                <a:lnTo>
                  <a:pt x="631" y="133"/>
                </a:lnTo>
                <a:lnTo>
                  <a:pt x="614" y="121"/>
                </a:lnTo>
                <a:lnTo>
                  <a:pt x="608" y="104"/>
                </a:lnTo>
                <a:lnTo>
                  <a:pt x="590" y="87"/>
                </a:lnTo>
                <a:lnTo>
                  <a:pt x="573" y="75"/>
                </a:lnTo>
                <a:lnTo>
                  <a:pt x="556" y="69"/>
                </a:lnTo>
                <a:lnTo>
                  <a:pt x="538" y="58"/>
                </a:lnTo>
                <a:lnTo>
                  <a:pt x="521" y="58"/>
                </a:lnTo>
                <a:lnTo>
                  <a:pt x="504" y="52"/>
                </a:lnTo>
                <a:lnTo>
                  <a:pt x="486" y="46"/>
                </a:lnTo>
                <a:lnTo>
                  <a:pt x="469" y="35"/>
                </a:lnTo>
                <a:lnTo>
                  <a:pt x="452" y="29"/>
                </a:lnTo>
                <a:lnTo>
                  <a:pt x="405" y="17"/>
                </a:lnTo>
                <a:lnTo>
                  <a:pt x="388" y="6"/>
                </a:lnTo>
                <a:lnTo>
                  <a:pt x="371" y="0"/>
                </a:lnTo>
                <a:lnTo>
                  <a:pt x="353" y="0"/>
                </a:lnTo>
                <a:lnTo>
                  <a:pt x="336" y="0"/>
                </a:lnTo>
                <a:lnTo>
                  <a:pt x="313" y="0"/>
                </a:lnTo>
                <a:lnTo>
                  <a:pt x="295" y="0"/>
                </a:lnTo>
                <a:lnTo>
                  <a:pt x="278" y="6"/>
                </a:lnTo>
                <a:lnTo>
                  <a:pt x="243" y="6"/>
                </a:lnTo>
                <a:lnTo>
                  <a:pt x="226" y="6"/>
                </a:lnTo>
                <a:lnTo>
                  <a:pt x="209" y="11"/>
                </a:lnTo>
                <a:lnTo>
                  <a:pt x="191" y="29"/>
                </a:lnTo>
                <a:lnTo>
                  <a:pt x="174" y="40"/>
                </a:lnTo>
                <a:lnTo>
                  <a:pt x="151" y="40"/>
                </a:lnTo>
                <a:lnTo>
                  <a:pt x="133" y="46"/>
                </a:lnTo>
                <a:lnTo>
                  <a:pt x="116" y="52"/>
                </a:lnTo>
                <a:lnTo>
                  <a:pt x="99" y="52"/>
                </a:lnTo>
                <a:lnTo>
                  <a:pt x="81" y="58"/>
                </a:lnTo>
                <a:lnTo>
                  <a:pt x="64" y="69"/>
                </a:lnTo>
                <a:lnTo>
                  <a:pt x="47" y="81"/>
                </a:lnTo>
                <a:lnTo>
                  <a:pt x="29" y="87"/>
                </a:lnTo>
                <a:lnTo>
                  <a:pt x="18" y="104"/>
                </a:lnTo>
                <a:lnTo>
                  <a:pt x="6" y="121"/>
                </a:lnTo>
                <a:lnTo>
                  <a:pt x="0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2098800"/>
            <a:ext cx="2667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00960" y="21430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0840" y="4557600"/>
            <a:ext cx="30312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83360" y="452592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11920" y="5018040"/>
            <a:ext cx="3589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7880" y="502452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08720" y="4411800"/>
            <a:ext cx="36684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18440" y="4340160"/>
            <a:ext cx="6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26280" y="3373560"/>
            <a:ext cx="3571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197840" y="338760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7040" y="2548080"/>
            <a:ext cx="4125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7320" y="257004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7720" y="4056120"/>
            <a:ext cx="441360" cy="2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39783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2760" y="3759120"/>
            <a:ext cx="3474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36560" y="3762360"/>
            <a:ext cx="327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9400" y="3778200"/>
            <a:ext cx="258840" cy="331920"/>
          </a:xfrm>
          <a:custGeom>
            <a:avLst/>
            <a:gdLst/>
            <a:ahLst/>
            <a:rect l="l" t="t" r="r" b="b"/>
            <a:pathLst>
              <a:path w="163" h="209">
                <a:moveTo>
                  <a:pt x="6" y="115"/>
                </a:moveTo>
                <a:lnTo>
                  <a:pt x="6" y="92"/>
                </a:lnTo>
                <a:lnTo>
                  <a:pt x="0" y="75"/>
                </a:lnTo>
                <a:lnTo>
                  <a:pt x="0" y="58"/>
                </a:lnTo>
                <a:lnTo>
                  <a:pt x="0" y="40"/>
                </a:lnTo>
                <a:lnTo>
                  <a:pt x="12" y="23"/>
                </a:lnTo>
                <a:lnTo>
                  <a:pt x="23" y="6"/>
                </a:lnTo>
                <a:lnTo>
                  <a:pt x="46" y="0"/>
                </a:lnTo>
                <a:lnTo>
                  <a:pt x="64" y="0"/>
                </a:lnTo>
                <a:lnTo>
                  <a:pt x="81" y="0"/>
                </a:lnTo>
                <a:lnTo>
                  <a:pt x="98" y="6"/>
                </a:lnTo>
                <a:lnTo>
                  <a:pt x="116" y="17"/>
                </a:lnTo>
                <a:lnTo>
                  <a:pt x="127" y="34"/>
                </a:lnTo>
                <a:lnTo>
                  <a:pt x="145" y="58"/>
                </a:lnTo>
                <a:lnTo>
                  <a:pt x="156" y="75"/>
                </a:lnTo>
                <a:lnTo>
                  <a:pt x="162" y="92"/>
                </a:lnTo>
                <a:lnTo>
                  <a:pt x="162" y="110"/>
                </a:lnTo>
                <a:lnTo>
                  <a:pt x="162" y="127"/>
                </a:lnTo>
                <a:lnTo>
                  <a:pt x="162" y="144"/>
                </a:lnTo>
                <a:lnTo>
                  <a:pt x="162" y="162"/>
                </a:lnTo>
                <a:lnTo>
                  <a:pt x="150" y="179"/>
                </a:lnTo>
                <a:lnTo>
                  <a:pt x="133" y="185"/>
                </a:lnTo>
                <a:lnTo>
                  <a:pt x="116" y="202"/>
                </a:lnTo>
                <a:lnTo>
                  <a:pt x="98" y="208"/>
                </a:lnTo>
                <a:lnTo>
                  <a:pt x="75" y="208"/>
                </a:lnTo>
                <a:lnTo>
                  <a:pt x="58" y="208"/>
                </a:lnTo>
                <a:lnTo>
                  <a:pt x="40" y="191"/>
                </a:lnTo>
                <a:lnTo>
                  <a:pt x="23" y="173"/>
                </a:lnTo>
                <a:lnTo>
                  <a:pt x="12" y="156"/>
                </a:lnTo>
                <a:lnTo>
                  <a:pt x="12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4840" y="39117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960" y="551988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60800" y="553392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40208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4952880"/>
            <a:ext cx="1020600" cy="518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45400" y="504036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4032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66840" y="5964120"/>
            <a:ext cx="708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 DEWPOINTS ARE FORECAST TO BE IN THE 60S ACROSS EASTERN COLORADO. YOUR IN THE LAST WEEK OF JULY. ARE ANY BELLS GOING OFF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Authorized User</dc:creator>
  <dc:description/>
  <dc:language>en-US</dc:language>
  <cp:lastModifiedBy>NCEP user</cp:lastModifiedBy>
  <dcterms:modified xsi:type="dcterms:W3CDTF">1999-08-30T14:45:34Z</dcterms:modified>
  <cp:revision>139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ep.noaa.gov/HPC/Homepage98/res2.html</vt:lpwstr>
  </property>
  <property fmtid="{D5CDD505-2E9C-101B-9397-08002B2CF9AE}" pid="9" name="LinkColor">
    <vt:r8>16711782</vt:r8>
  </property>
  <property fmtid="{D5CDD505-2E9C-101B-9397-08002B2CF9AE}" pid="10" name="MailAddress">
    <vt:lpwstr>norman.junker@noaa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slis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