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2D8C14-F98C-4A76-AB3E-33B624CB9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a low pressure center SE of the Falkland Islands, with the thickness gradient showing a cold front that extends into Patagonia-southern Cuyo.  Thickness values equal and less then 5400 GPM are highlighted in aqua, while values greater than 5400 GPM were plotted in r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Warm front also extends from this low, however due to the storm track, warm fronts are limited to southern portions of Chile.  But as a cold front pushes northward across Argentina into Brasil-Paraguay, where it will lie quasistationary, the trailing end behaves as a warm front…frequently producing NS with embedded CB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e on the previous slide thickness values of 5340-5280 GPM over southern Chile/Patagonia.  However, the surface temperature plot generally shows temperatures above freezing for the same region…indicating the maritime characteristics of this air mass rather than continen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so, northern stream perturbations (crossing the pacific north of 35S) generally do not reflect at low levels, as they are masked by the broad South Pacific Hig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8240"/>
            <a:ext cx="5029200" cy="3767400"/>
          </a:xfrm>
          <a:prstGeom prst="rect">
            <a:avLst/>
          </a:prstGeom>
          <a:ln w="0">
            <a:noFill/>
          </a:ln>
        </p:spPr>
      </p:sp>
      <p:sp>
        <p:nvSpPr>
          <p:cNvPr id="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rgentine continental high is a mean wintertime surface feature tha occurs with the periodic influx of cold air into the South American interior.  This cold core and baroclinic high establishes itself after frontal passage;  the interval between polar surges determines its dur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8240"/>
            <a:ext cx="5029200" cy="3767400"/>
          </a:xfrm>
          <a:prstGeom prst="rect">
            <a:avLst/>
          </a:prstGeom>
          <a:ln w="0">
            <a:noFill/>
          </a:ln>
        </p:spPr>
      </p:sp>
      <p:sp>
        <p:nvSpPr>
          <p:cNvPr id="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CC/MCS are to be discussed under separate cover.  However, it is worthwhile to mention at this time that as the surface front moves under the southern fringes of the Subtropical Ridge, Paraguay-Northwestern Argentina-Eastern Bolivia-Mato Grosso do Sul are in high risk for an MCC to devel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8240"/>
            <a:ext cx="5029200" cy="3767400"/>
          </a:xfrm>
          <a:prstGeom prst="rect">
            <a:avLst/>
          </a:prstGeom>
          <a:ln w="0">
            <a:noFill/>
          </a:ln>
        </p:spPr>
      </p:sp>
      <p:sp>
        <p:nvSpPr>
          <p:cNvPr id="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tandard set of stability indices, for middle latitudes forecasting, work well over South America south of 20S.  Their effectiveness over Amazonia-Peru is question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ability indices such a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S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TI</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k well over the southern portions of the continent.  In addition, consider height fal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preparation for this module, forecasters/meteorologists need to first review USAFETAC/TN--92/004, PAG: 2-37 to 2-66</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ecasters working the Southern and Northern Hemispheres should avoid using positive vorticity advection (PVA) and negative vorticity advection (NVA).  Instead, forecasters and meteorologists should use cyclonic vorticity advection and anticyclonic vorticity adv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age 25 January 1983.  It shows a progressive front streaking across southern Argentina, in the process triggering a squall line (</a:t>
            </a:r>
            <a:r>
              <a:rPr b="0" i="1" lang="en-US" sz="1200" spc="-1" strike="noStrike">
                <a:solidFill>
                  <a:srgbClr val="000000"/>
                </a:solidFill>
                <a:latin typeface="Times New Roman"/>
                <a:ea typeface="Times New Roman"/>
              </a:rPr>
              <a:t>linea de inestabilidad</a:t>
            </a:r>
            <a:r>
              <a:rPr b="0" lang="en-US" sz="1200" spc="-1" strike="noStrike">
                <a:solidFill>
                  <a:srgbClr val="000000"/>
                </a:solidFill>
                <a:latin typeface="Times New Roman"/>
                <a:ea typeface="Times New Roman"/>
              </a:rPr>
              <a:t>) over Buenos Aires-Southern Cordoba.  Although the front is a synoptic feature, the squall line is a meso-scale phenom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ice that the temperatures decrease as we move towards the center of the trough, as you approach from either the east or the w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cyclonic maxima (vorticity minima/negative values) lies along the trough axis… with highest values concentrating over Patagoni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positive (anticyclonic) voriticity values east and west of the trough, extending into the South Pacific and South Atlantic blocking ri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cross section along 48W showing a cold core center along 73W (temperatures decrease towards the center of the trough).  Cyclonic relative vorticity is shown in red.  Notice how the cyclonic vorticity increases with height (becomes more negative) peaking around 300 hPa, and then decreases as the trough becomes warm core (strat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West to East cross section along 50S.  Notice that the trough originates at 1000 hPa near 50S 60W, and at 300 hPa it lies along 50S 73W.  It is a positively tilted trough extending from east-to-west with heigh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tential temperatures (degrees Kelvin) clearly show a cold core trough below 300 hPa, as the horizontal temperatures gradually decrease as we approach the center of the troug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rtical cross section of a polar trough…along 48S.  Notice area of low level convergence (negative values/red) between 65W-57W and below 700 hPa, along and ahead of the trough. Aloft note divergence (positive values/blue) ahead of the troug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trough, as expected, upper convergence dominates, with low level divergence evident below 600 hP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2475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Middle-Upper Latitude Systems</a:t>
            </a:r>
            <a:br>
              <a:rPr sz="4400"/>
            </a:br>
            <a:r>
              <a:rPr b="0" lang="en-US" sz="4400" spc="-1" strike="noStrike">
                <a:solidFill>
                  <a:srgbClr val="000000"/>
                </a:solidFill>
                <a:latin typeface="Times New Roman"/>
                <a:ea typeface="Times New Roman"/>
              </a:rPr>
              <a:t>Over</a:t>
            </a:r>
            <a:br>
              <a:rPr sz="4400"/>
            </a:br>
            <a:r>
              <a:rPr b="0" lang="en-US" sz="4400" spc="-1" strike="noStrike">
                <a:solidFill>
                  <a:srgbClr val="000000"/>
                </a:solidFill>
                <a:latin typeface="Times New Roman"/>
                <a:ea typeface="Times New Roman"/>
              </a:rPr>
              <a:t>South America</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0"/>
            <a:ext cx="777240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a:t>
            </a:r>
            <a:endParaRPr b="0" lang="en-US" sz="2800" spc="-1" strike="noStrike">
              <a:solidFill>
                <a:srgbClr val="000000"/>
              </a:solidFill>
              <a:latin typeface="Arial"/>
            </a:endParaRPr>
          </a:p>
        </p:txBody>
      </p:sp>
      <p:pic>
        <p:nvPicPr>
          <p:cNvPr id="70" name="" descr=""/>
          <p:cNvPicPr/>
          <p:nvPr/>
        </p:nvPicPr>
        <p:blipFill>
          <a:blip r:embed="rId1"/>
          <a:stretch/>
        </p:blipFill>
        <p:spPr>
          <a:xfrm>
            <a:off x="609480" y="609480"/>
            <a:ext cx="7924680" cy="594036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Temperatures</a:t>
            </a:r>
            <a:endParaRPr b="0" lang="en-US" sz="2800" spc="-1" strike="noStrike">
              <a:solidFill>
                <a:srgbClr val="000000"/>
              </a:solidFill>
              <a:latin typeface="Arial"/>
            </a:endParaRPr>
          </a:p>
        </p:txBody>
      </p:sp>
      <p:pic>
        <p:nvPicPr>
          <p:cNvPr id="73" name="" descr=""/>
          <p:cNvPicPr/>
          <p:nvPr/>
        </p:nvPicPr>
        <p:blipFill>
          <a:blip r:embed="rId1"/>
          <a:stretch/>
        </p:blipFill>
        <p:spPr>
          <a:xfrm>
            <a:off x="533520" y="608040"/>
            <a:ext cx="8031240" cy="6019920"/>
          </a:xfrm>
          <a:prstGeom prst="rect">
            <a:avLst/>
          </a:prstGeom>
          <a:ln w="0">
            <a:noFill/>
          </a:ln>
        </p:spPr>
      </p:pic>
      <p:pic>
        <p:nvPicPr>
          <p:cNvPr id="74"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a front moves along the southern Andes it will become diffuse on the Eastern Pacific  as it crosses north of 40S…with Andes rapidly towering above 4000 met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well organized long wave trough will rapidly push the surface front north across Argentina…moving from southern Patagonia to Rio de la Plata within 24 hrs. </a:t>
            </a:r>
            <a:endParaRPr b="0" lang="en-US" sz="3200" spc="-1" strike="noStrike">
              <a:solidFill>
                <a:srgbClr val="000000"/>
              </a:solidFill>
              <a:latin typeface="Arial"/>
            </a:endParaRPr>
          </a:p>
        </p:txBody>
      </p:sp>
      <p:pic>
        <p:nvPicPr>
          <p:cNvPr id="77"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0"/>
            <a:ext cx="739152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Polar High</a:t>
            </a:r>
            <a:endParaRPr b="0" lang="en-US" sz="2800" spc="-1" strike="noStrike">
              <a:solidFill>
                <a:srgbClr val="000000"/>
              </a:solidFill>
              <a:latin typeface="Arial"/>
            </a:endParaRPr>
          </a:p>
        </p:txBody>
      </p:sp>
      <p:pic>
        <p:nvPicPr>
          <p:cNvPr id="79" name="" descr=""/>
          <p:cNvPicPr/>
          <p:nvPr/>
        </p:nvPicPr>
        <p:blipFill>
          <a:blip r:embed="rId1"/>
          <a:stretch/>
        </p:blipFill>
        <p:spPr>
          <a:xfrm>
            <a:off x="685800" y="533520"/>
            <a:ext cx="7848720" cy="5883120"/>
          </a:xfrm>
          <a:prstGeom prst="rect">
            <a:avLst/>
          </a:prstGeom>
          <a:ln w="0">
            <a:noFill/>
          </a:ln>
        </p:spPr>
      </p:pic>
      <p:pic>
        <p:nvPicPr>
          <p:cNvPr id="80"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 far north the front reaches will depend on the Bolivian Hig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Winter, when the High is weak, the polar front will easily cruise across Sao Paulo-Mato Grosso do Sul-Peruvian Jungle within 72 hrs after making landfall over southern Chile</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n lag as a frontal shearline as it loses its temperature gradient…drifting across Rio de Janeiro-Minas Ge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mm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the summer months, the Bolivian High will block the polar troughs to no farther north than 30S/35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urface fronts then stall across southern Brasil (Rio Grande do Sul)-Paraguay-Bolivia.</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trailing/quasistationary front will undulate back and fort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it a favorable area for MCC/MCS.</a:t>
            </a:r>
            <a:endParaRPr b="0" lang="en-US" sz="2400" spc="-1" strike="noStrike">
              <a:solidFill>
                <a:srgbClr val="000000"/>
              </a:solidFill>
              <a:latin typeface="Arial"/>
            </a:endParaRPr>
          </a:p>
        </p:txBody>
      </p:sp>
      <p:pic>
        <p:nvPicPr>
          <p:cNvPr id="85" name="" descr=""/>
          <p:cNvPicPr/>
          <p:nvPr/>
        </p:nvPicPr>
        <p:blipFill>
          <a:blip r:embed="rId1"/>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Temperature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zing and below freezing temperatures are generally limited to the Andes/Altiplano de Bolivia and south of 35S/40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ever, 2-5 times per winter season a strong polar intrusion will bring near freezing temperatures to Rio de la Plata and Southern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e to the Andes, most polar systems crossing the southern portions of South America remain positively tilted, with most of the polar energy diverted southward by the South Pacific High.  Freezing precipitation is then limited to southern Chile/Patagonia and higher ele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1" name=""/>
          <p:cNvSpPr txBox="1"/>
          <p:nvPr/>
        </p:nvSpPr>
        <p:spPr>
          <a:xfrm>
            <a:off x="685800" y="1981080"/>
            <a:ext cx="7772400" cy="4124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ganized rainfall initially is confined to Chile south of 35S</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ntal and Pre-frontal heavy convective rainfall between Puerto Montt-Tierra del Fuego</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light stratiform rainfall continues in the same area, as westerly flow behind the front leads to orographic lif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 southern Argentina (Patagonia) little moisture is available in support of organized convection…mainly along coastal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the front moves north of 30S/35S, and if warm/moist air is available from Amazonia, deep convection will develop.</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eorologist needs to consider indicators/stability indices (observed/forecasted) for potential for severe weather/squall lines.  Tornados, Hail, Heavy rainfall affects Central Argentina-Rio de la Plata-Paraguay-Southern Brasil. </a:t>
            </a:r>
            <a:endParaRPr b="0" lang="en-US" sz="2400" spc="-1" strike="noStrike">
              <a:solidFill>
                <a:srgbClr val="000000"/>
              </a:solidFill>
              <a:latin typeface="Arial"/>
            </a:endParaRPr>
          </a:p>
        </p:txBody>
      </p:sp>
      <p:pic>
        <p:nvPicPr>
          <p:cNvPr id="94"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ference:  USAFETAC/TN--92/004, PAG: 2-37</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in the Northern Hemisphere, Southern Hemisphere extratropical cyclones/troughs follow a west-to-east trajectory.</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lar troughs are cold core systems, with cyclonic vorticity increasing with height.</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yclonic circulation is clockwise (Negative Vortic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ticyclonic circulation is counter clockwise (Positive Vorticity)</a:t>
            </a:r>
            <a:endParaRPr b="0" lang="en-US" sz="2400" spc="-1" strike="noStrike">
              <a:solidFill>
                <a:srgbClr val="000000"/>
              </a:solidFill>
              <a:latin typeface="Arial"/>
            </a:endParaRPr>
          </a:p>
        </p:txBody>
      </p:sp>
      <p:pic>
        <p:nvPicPr>
          <p:cNvPr id="49" name="" descr=""/>
          <p:cNvPicPr/>
          <p:nvPr/>
        </p:nvPicPr>
        <p:blipFill>
          <a:blip r:embed="rId1"/>
          <a:stretch/>
        </p:blipFill>
        <p:spPr>
          <a:xfrm>
            <a:off x="80010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905120" y="76320"/>
            <a:ext cx="5791320" cy="990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ront/Squall Line</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96" name="" descr=""/>
          <p:cNvPicPr/>
          <p:nvPr/>
        </p:nvPicPr>
        <p:blipFill>
          <a:blip r:embed="rId1"/>
          <a:stretch/>
        </p:blipFill>
        <p:spPr>
          <a:xfrm>
            <a:off x="233280" y="781200"/>
            <a:ext cx="8755200" cy="5619600"/>
          </a:xfrm>
          <a:prstGeom prst="rect">
            <a:avLst/>
          </a:prstGeom>
          <a:ln w="0">
            <a:noFill/>
          </a:ln>
        </p:spPr>
      </p:pic>
      <p:pic>
        <p:nvPicPr>
          <p:cNvPr id="97"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ll Organized Front:</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20-40mm/day (SCT-Numerous)</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05-15mm/day (ISLD-SC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05-10mm/day (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50-10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25-5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ak Front (polar energy sheared south):</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10-20mm/day (SCT)</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Trac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Light/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05-2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05-2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ry Front</a:t>
            </a:r>
            <a:endParaRPr b="0" lang="en-US" sz="4400" spc="-1" strike="noStrike">
              <a:solidFill>
                <a:srgbClr val="000000"/>
              </a:solidFill>
              <a:latin typeface="Arial"/>
            </a:endParaRPr>
          </a:p>
        </p:txBody>
      </p:sp>
      <p:sp>
        <p:nvSpPr>
          <p:cNvPr id="103" name=""/>
          <p:cNvSpPr txBox="1"/>
          <p:nvPr/>
        </p:nvSpPr>
        <p:spPr>
          <a:xfrm>
            <a:off x="533520" y="1219320"/>
            <a:ext cx="7772400" cy="446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a well organized polar front stalls over southern Brasil-Paraguay-Bolivia, it will block moisture transport to the southern portions of the contin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ubsequent polar perturbations then lack enough moisture to trigger convec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infall limited to southern Chile and coastal areas of Argentin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front generally ends up merging with and/or replacing the old front to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olar Trough at 500 hPa</a:t>
            </a:r>
            <a:endParaRPr b="0" lang="en-US" sz="3600" spc="-1" strike="noStrike">
              <a:solidFill>
                <a:srgbClr val="000000"/>
              </a:solidFill>
              <a:latin typeface="Arial"/>
            </a:endParaRPr>
          </a:p>
        </p:txBody>
      </p:sp>
      <p:pic>
        <p:nvPicPr>
          <p:cNvPr id="51" name="" descr=""/>
          <p:cNvPicPr/>
          <p:nvPr/>
        </p:nvPicPr>
        <p:blipFill>
          <a:blip r:embed="rId1"/>
          <a:stretch/>
        </p:blipFill>
        <p:spPr>
          <a:xfrm>
            <a:off x="609480" y="685800"/>
            <a:ext cx="7848720" cy="5883120"/>
          </a:xfrm>
          <a:prstGeom prst="rect">
            <a:avLst/>
          </a:prstGeom>
          <a:ln w="0">
            <a:noFill/>
          </a:ln>
        </p:spPr>
      </p:pic>
      <p:pic>
        <p:nvPicPr>
          <p:cNvPr id="52"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0"/>
            <a:ext cx="762012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olar Trough at 500 hPa</a:t>
            </a:r>
            <a:endParaRPr b="0" lang="en-US" sz="3200" spc="-1" strike="noStrike">
              <a:solidFill>
                <a:srgbClr val="000000"/>
              </a:solidFill>
              <a:latin typeface="Arial"/>
            </a:endParaRPr>
          </a:p>
        </p:txBody>
      </p:sp>
      <p:pic>
        <p:nvPicPr>
          <p:cNvPr id="54" name="" descr=""/>
          <p:cNvPicPr/>
          <p:nvPr/>
        </p:nvPicPr>
        <p:blipFill>
          <a:blip r:embed="rId1"/>
          <a:stretch/>
        </p:blipFill>
        <p:spPr>
          <a:xfrm>
            <a:off x="609480" y="533520"/>
            <a:ext cx="7848720" cy="5883120"/>
          </a:xfrm>
          <a:prstGeom prst="rect">
            <a:avLst/>
          </a:prstGeom>
          <a:ln w="0">
            <a:noFill/>
          </a:ln>
        </p:spPr>
      </p:pic>
      <p:pic>
        <p:nvPicPr>
          <p:cNvPr id="5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0"/>
            <a:ext cx="746748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Polar Trough</a:t>
            </a:r>
            <a:endParaRPr b="0" lang="en-US" sz="2800" spc="-1" strike="noStrike">
              <a:solidFill>
                <a:srgbClr val="000000"/>
              </a:solidFill>
              <a:latin typeface="Arial"/>
            </a:endParaRPr>
          </a:p>
        </p:txBody>
      </p:sp>
      <p:pic>
        <p:nvPicPr>
          <p:cNvPr id="57" name="" descr=""/>
          <p:cNvPicPr/>
          <p:nvPr/>
        </p:nvPicPr>
        <p:blipFill>
          <a:blip r:embed="rId1"/>
          <a:stretch/>
        </p:blipFill>
        <p:spPr>
          <a:xfrm>
            <a:off x="685800" y="533520"/>
            <a:ext cx="8031240" cy="6019920"/>
          </a:xfrm>
          <a:prstGeom prst="rect">
            <a:avLst/>
          </a:prstGeom>
          <a:ln w="0">
            <a:noFill/>
          </a:ln>
        </p:spPr>
      </p:pic>
      <p:pic>
        <p:nvPicPr>
          <p:cNvPr id="58"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tically, the trough tilts westward with heigh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ivergence (positive value) is expected ahead (ea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negative value) is expected behind (we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is expected along/ahead of the surface front, and divergence beh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0"/>
            <a:ext cx="731520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of a Polar Trough</a:t>
            </a:r>
            <a:endParaRPr b="0" lang="en-US" sz="2800" spc="-1" strike="noStrike">
              <a:solidFill>
                <a:srgbClr val="000000"/>
              </a:solidFill>
              <a:latin typeface="Arial"/>
            </a:endParaRPr>
          </a:p>
        </p:txBody>
      </p:sp>
      <p:pic>
        <p:nvPicPr>
          <p:cNvPr id="62" name="" descr=""/>
          <p:cNvPicPr/>
          <p:nvPr/>
        </p:nvPicPr>
        <p:blipFill>
          <a:blip r:embed="rId1"/>
          <a:stretch/>
        </p:blipFill>
        <p:spPr>
          <a:xfrm>
            <a:off x="685800" y="533520"/>
            <a:ext cx="8028000" cy="6018120"/>
          </a:xfrm>
          <a:prstGeom prst="rect">
            <a:avLst/>
          </a:prstGeom>
          <a:ln w="0">
            <a:noFill/>
          </a:ln>
        </p:spPr>
      </p:pic>
      <p:pic>
        <p:nvPicPr>
          <p:cNvPr id="6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0"/>
            <a:ext cx="7620120" cy="762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Divergence/Convergence on a Cross Section</a:t>
            </a:r>
            <a:endParaRPr b="0" lang="en-US" sz="2800" spc="-1" strike="noStrike">
              <a:solidFill>
                <a:srgbClr val="000000"/>
              </a:solidFill>
              <a:latin typeface="Arial"/>
            </a:endParaRPr>
          </a:p>
        </p:txBody>
      </p:sp>
      <p:pic>
        <p:nvPicPr>
          <p:cNvPr id="65" name="" descr=""/>
          <p:cNvPicPr/>
          <p:nvPr/>
        </p:nvPicPr>
        <p:blipFill>
          <a:blip r:embed="rId1"/>
          <a:stretch/>
        </p:blipFill>
        <p:spPr>
          <a:xfrm>
            <a:off x="685800" y="608040"/>
            <a:ext cx="7929720" cy="5943600"/>
          </a:xfrm>
          <a:prstGeom prst="rect">
            <a:avLst/>
          </a:prstGeom>
          <a:ln w="0">
            <a:noFill/>
          </a:ln>
        </p:spPr>
      </p:pic>
      <p:pic>
        <p:nvPicPr>
          <p:cNvPr id="6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s</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lar air masses generally have maritime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5400 GPM 1000-500 hPa thickness line does not correlate well with the 0C isotherm. </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lthough rare, an Antarctic connection is occasionally established, with dry continental polar air diverted northward by the South Pacific High…and the Andes then funneling this air mass across Patagonia-La Pam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No Slide Title</dc:title>
</cp:coreProperties>
</file>